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8257-AE5B-434E-AF72-1092C0A4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82DD-B8F9-4A23-AAD8-EE438637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066F-842A-44BB-AEE9-715BA404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4E0F-12BB-4847-877B-E669FC1D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00B7-BE60-412A-98AC-06EA283A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6B13-0C79-457C-92FD-E4789EDA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7D56-3E1A-4A1B-95A6-15030D01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E78D-7015-4F90-AD9A-E0E402E0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98FC-8DF7-447C-AF40-D0F35C20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1565-CEC7-4C0D-A4EB-8257356B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8D6D-1B1B-4A0A-9181-45F1DF69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C7C6-F81F-4B49-8500-02C058AE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A7FE-7D89-4A2C-8390-E56FE29C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6778-3039-4D28-BC77-5CCA2782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2A04-ABD8-48B6-9B6E-9E0165EE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20DA-3726-43EC-8D22-30BE9372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D7D1-4467-4B1C-B5C1-0C9EDF5B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C90E-D77F-40C8-8CC1-7B8F3861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EE32-D7F0-4E02-BC96-24AE5C41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9FDA-E93A-4093-B6EC-4E473E37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9590-E777-4D15-B33E-E18943E2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6B0C-27FC-445D-8946-54CD5C55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E6D8-B874-4072-B4A4-87712204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B577-48C9-4BBC-B3BE-73C3CBDA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7432-13FD-46BF-ABF8-8BDAC506698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AF85-4B6B-421F-B9B6-90021D6C30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Verdana"/>
              </a:rPr>
              <a:t>Такая разная бумага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исследовательский проек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ичуева Н.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00200" y="37339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именение бумаг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оделочный материал (папье-маше, оригами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800600" y="3276720"/>
            <a:ext cx="3733920" cy="2681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371600" y="29718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именение бумаг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паковочный материал (фантики, коробки, мешки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80880" y="3333600"/>
            <a:ext cx="3200400" cy="2633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952880" y="3886200"/>
            <a:ext cx="3810240" cy="2143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971800" y="3581280"/>
            <a:ext cx="32004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именение бумаг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Чистящий материал (салфетки, туалетная бумаг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62120" y="335268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267080" y="2895480"/>
            <a:ext cx="445788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именение бумаг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оизводство дене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09480" y="2895480"/>
            <a:ext cx="4648320" cy="3098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572000" y="2514600"/>
            <a:ext cx="434340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Этапы производства бумаг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Сырьем для производства бумаги является древесная целлюлоза из ели, сосны и березы. На фабрике машины сдирают с деревьев кору, измельчают её в щепки и варя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hello_html_m7139bfba.jpg"/>
          <p:cNvPicPr/>
          <p:nvPr/>
        </p:nvPicPr>
        <p:blipFill>
          <a:blip r:embed="rId2"/>
          <a:stretch/>
        </p:blipFill>
        <p:spPr>
          <a:xfrm>
            <a:off x="838080" y="3505320"/>
            <a:ext cx="3353040" cy="2198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hello_html_662cb438.jpg"/>
          <p:cNvPicPr/>
          <p:nvPr/>
        </p:nvPicPr>
        <p:blipFill>
          <a:blip r:embed="rId3"/>
          <a:stretch/>
        </p:blipFill>
        <p:spPr>
          <a:xfrm>
            <a:off x="4800600" y="3505320"/>
            <a:ext cx="3352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Этапы производства бумаг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Разваренную древесину фильтруют, промывают и окрашиваю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hello_html_56d70e36.jpg"/>
          <p:cNvPicPr/>
          <p:nvPr/>
        </p:nvPicPr>
        <p:blipFill>
          <a:blip r:embed="rId2"/>
          <a:stretch/>
        </p:blipFill>
        <p:spPr>
          <a:xfrm>
            <a:off x="914400" y="3581280"/>
            <a:ext cx="3352680" cy="2162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hello_html_m167c3d4d.jpg"/>
          <p:cNvPicPr/>
          <p:nvPr/>
        </p:nvPicPr>
        <p:blipFill>
          <a:blip r:embed="rId3"/>
          <a:stretch/>
        </p:blipFill>
        <p:spPr>
          <a:xfrm>
            <a:off x="4800600" y="3581280"/>
            <a:ext cx="33526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Этапы производства бумаг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Бумажная масса, превращенная в кашицу, попадает в бумагоделательную машину, где происходит отжим воды, сушка и полирован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hello_html_2f152993.jpg"/>
          <p:cNvPicPr/>
          <p:nvPr/>
        </p:nvPicPr>
        <p:blipFill>
          <a:blip r:embed="rId2"/>
          <a:stretch/>
        </p:blipFill>
        <p:spPr>
          <a:xfrm>
            <a:off x="304920" y="3809880"/>
            <a:ext cx="2590560" cy="2033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hello_html_7ead61f.jpg"/>
          <p:cNvPicPr/>
          <p:nvPr/>
        </p:nvPicPr>
        <p:blipFill>
          <a:blip r:embed="rId3"/>
          <a:stretch/>
        </p:blipFill>
        <p:spPr>
          <a:xfrm>
            <a:off x="3124080" y="3809880"/>
            <a:ext cx="2819520" cy="2057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hello_html_48f58c18.jpg"/>
          <p:cNvPicPr/>
          <p:nvPr/>
        </p:nvPicPr>
        <p:blipFill>
          <a:blip r:embed="rId4"/>
          <a:stretch/>
        </p:blipFill>
        <p:spPr>
          <a:xfrm>
            <a:off x="6248520" y="3809880"/>
            <a:ext cx="259056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Значение деревьев в жизни люде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Дерево – не только материал для создания бумаги. Это «природный кондиционер», очищающий воздух от пыли и регулирующий климат. Плоды, выращиваемые на деревьях, делают нашу жизнь ещё более вкусной. Из древесины строят дома, используют ее как топливо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971800" y="3581280"/>
            <a:ext cx="3314880" cy="2616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28600" y="428616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6248520" y="436248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Значение деревьев в жизни люде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о зачастую, люди, думая о собственном благе, забывают о природе. Вырубка лесов негативно сказывается на здоровье нашей планеты и является серьезной экологической проблемо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09480" y="4267080"/>
            <a:ext cx="3505320" cy="18399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312408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Значение деревьев в жизни люде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оэтому каждое посаженное деревце, как в городском парке, так и на приусадебном участке, это невероятная польза для нас и наших будущих поколени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971800" y="4191120"/>
            <a:ext cx="3105000" cy="2070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943600" y="3886200"/>
            <a:ext cx="3009960" cy="27338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52280" y="4470480"/>
            <a:ext cx="30481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Цель и задач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Цель проектной деятельност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Формировать у детей знания о бумаге и её свойствах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Задач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. Расширить знания детей о значении деревьев в жизни людей, дать представление о разнообразии бумаги и её свойствах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.Развивать  у детей познавательную активность в процессе  практических опытов с бумагой, мелкую моторику рук, логическое мышление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.Воспитывать бережное отношение к природе, уважение к труду люд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666880" y="1905120"/>
            <a:ext cx="3124440" cy="1757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676520" y="3200400"/>
            <a:ext cx="3028680" cy="2468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5257800" y="3200400"/>
            <a:ext cx="2806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Актуальность проек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Бумага это доступный и универсальный материал для детей, с которым они встречаются ежедневно. Бумага- неизвестный материал, который притягивает их, потому что шуршит, его можно смять, порвать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562720" y="4343400"/>
            <a:ext cx="29718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76212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История бумаг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05 г. – изобретение бумаги из хлопка в Кита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600 г. – проникновение бумаги в Корею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625 г. – проникновение бумаги в Японию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751 г. – проникновение бумаги на Запа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799 г. – патент на изобретение бумагоделательной машин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803 г. – установка этой машины в Англ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827 г. – появление бумагоделательных машин в СШ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857 г. – технология получения бумаги из древесин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867280" y="152280"/>
            <a:ext cx="26672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Основные свойства бумаг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 Прозрачнос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Бумага непрозрачн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ем она толще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ем меньше свет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пуск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267080" y="2311560"/>
            <a:ext cx="44960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Основные свойства бумаг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. Легко сгибаетс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Бумагу легко складывать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иния сгиба сохраняе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038480" y="26290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Основные свойства бумаг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. Прочнос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сле намока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бумажный лист теряе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форму, неравномерно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меньшается в размер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 короби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886200" y="2359080"/>
            <a:ext cx="477216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именение бумаг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ля письма и печати (книги, журналы, газеты, тетради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3200400" cy="2335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257800" y="2895480"/>
            <a:ext cx="3562200" cy="3224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3429000" y="3276720"/>
            <a:ext cx="2568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именение бумаг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тделочный материал (обои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905120" y="2819520"/>
            <a:ext cx="61722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3T05:18:28Z</dcterms:created>
  <dc:creator>User</dc:creator>
  <dc:description/>
  <dc:language>en-US</dc:language>
  <cp:lastModifiedBy>User</cp:lastModifiedBy>
  <dcterms:modified xsi:type="dcterms:W3CDTF">2018-06-18T10:49:5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