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21E-27CD-49FB-BCC0-1653620F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6121-1823-4893-BA55-C4EF11C8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B0DB-B37C-427B-90F0-1EEFA806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67B-02E5-487E-A1E2-C89A6FA6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2FA8-113B-49C2-B095-28725499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5683-6588-435F-B1A6-3ED79E36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B149-F2FE-4F2C-8826-905BA32F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760D-DDE0-4A87-8804-B06DB479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EB2B-7968-408B-A12F-54771BD5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8848-4778-4720-874C-421B8A1A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2DA3-1D92-46C7-BB0B-922098FD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2346-2FC4-41D0-8C65-8FD92B05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1C2D-9E7B-401C-9369-1A2FDDE7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78DC-B58B-4AA9-AE09-ACA7BF7B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D128-E2A8-4F4C-A9B7-3318BB09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1224-040B-4E5F-B06D-90D3ADD9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6FE5-CADE-49AB-87CF-5D942526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762-A060-4E41-A9A2-A910EF75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C294-F61B-488D-ACE3-E65E7940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F288-FA24-4C5E-BBDE-8988E11D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E5D8-7FB4-4027-8BF5-59D3DC7A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4D48-C7EB-428A-9243-F82630C6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429-CBD5-44E3-86A0-6D1EAC69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4CA-8958-4EB0-B850-DE70B5B4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971D-353A-4C9C-B465-66EF33292E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07D3-FB6C-4752-876E-CF419D035A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8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Verdana"/>
              </a:rPr>
              <a:t>Такая разная бумага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исследовательский проек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ичуева Н.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00200" y="3733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именение бумаг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оделочный материал (папье-маше, оригами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800600" y="3276720"/>
            <a:ext cx="3733920" cy="2681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371600" y="29718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именение бумаг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паковочный материал (фантики, коробки, мешки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80880" y="3333600"/>
            <a:ext cx="3200400" cy="2633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952880" y="3886200"/>
            <a:ext cx="381024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971800" y="3581280"/>
            <a:ext cx="32004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именение бумаг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истящий материал (салфетки, туалетная бумаг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62120" y="335268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267080" y="2895480"/>
            <a:ext cx="445788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именение бумаг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оизводство дене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09480" y="2895480"/>
            <a:ext cx="4648320" cy="3098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572000" y="2514600"/>
            <a:ext cx="434340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Этапы производства бумаг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Сырьем для производства бумаги является древесная целлюлоза из ели, сосны и березы. На фабрике машины сдирают с деревьев кору, измельчают её в щепки и варя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hello_html_m7139bfba.jpg"/>
          <p:cNvPicPr/>
          <p:nvPr/>
        </p:nvPicPr>
        <p:blipFill>
          <a:blip r:embed="rId2"/>
          <a:stretch/>
        </p:blipFill>
        <p:spPr>
          <a:xfrm>
            <a:off x="838080" y="3505320"/>
            <a:ext cx="3353040" cy="2198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hello_html_662cb438.jpg"/>
          <p:cNvPicPr/>
          <p:nvPr/>
        </p:nvPicPr>
        <p:blipFill>
          <a:blip r:embed="rId3"/>
          <a:stretch/>
        </p:blipFill>
        <p:spPr>
          <a:xfrm>
            <a:off x="4800600" y="3505320"/>
            <a:ext cx="3352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Этапы производства бумаг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азваренную древесину фильтруют, промывают и окрашиваю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hello_html_56d70e36.jpg"/>
          <p:cNvPicPr/>
          <p:nvPr/>
        </p:nvPicPr>
        <p:blipFill>
          <a:blip r:embed="rId2"/>
          <a:stretch/>
        </p:blipFill>
        <p:spPr>
          <a:xfrm>
            <a:off x="914400" y="3581280"/>
            <a:ext cx="3352680" cy="2162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hello_html_m167c3d4d.jpg"/>
          <p:cNvPicPr/>
          <p:nvPr/>
        </p:nvPicPr>
        <p:blipFill>
          <a:blip r:embed="rId3"/>
          <a:stretch/>
        </p:blipFill>
        <p:spPr>
          <a:xfrm>
            <a:off x="4800600" y="3581280"/>
            <a:ext cx="33526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Этапы производства бумаг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умажная масса, превращенная в кашицу, попадает в бумагоделательную машину, где происходит отжим воды, сушка и полирова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hello_html_2f152993.jpg"/>
          <p:cNvPicPr/>
          <p:nvPr/>
        </p:nvPicPr>
        <p:blipFill>
          <a:blip r:embed="rId2"/>
          <a:stretch/>
        </p:blipFill>
        <p:spPr>
          <a:xfrm>
            <a:off x="304920" y="3809880"/>
            <a:ext cx="2590560" cy="2033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hello_html_7ead61f.jpg"/>
          <p:cNvPicPr/>
          <p:nvPr/>
        </p:nvPicPr>
        <p:blipFill>
          <a:blip r:embed="rId3"/>
          <a:stretch/>
        </p:blipFill>
        <p:spPr>
          <a:xfrm>
            <a:off x="3124080" y="3809880"/>
            <a:ext cx="2819520" cy="2057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hello_html_48f58c18.jpg"/>
          <p:cNvPicPr/>
          <p:nvPr/>
        </p:nvPicPr>
        <p:blipFill>
          <a:blip r:embed="rId4"/>
          <a:stretch/>
        </p:blipFill>
        <p:spPr>
          <a:xfrm>
            <a:off x="6248520" y="3809880"/>
            <a:ext cx="259056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Значение деревьев в жизни люде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Дерево – не только материал для создания бумаги. Это «природный кондиционер», очищающий воздух от пыли и регулирующий климат. Плоды, выращиваемые на деревьях, делают нашу жизнь ещё более вкусной. Из древесины строят дома, используют ее как топливо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971800" y="3581280"/>
            <a:ext cx="3314880" cy="2616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28600" y="428616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248520" y="436248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Значение деревьев в жизни люде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о зачастую, люди, думая о собственном благе, забывают о природе. Вырубка лесов негативно сказывается на здоровье нашей планеты и является серьезной экологической проблемо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09480" y="4267080"/>
            <a:ext cx="3505320" cy="1839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312408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Значение деревьев в жизни люде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оэтому каждое посаженное деревце, как в городском парке, так и на приусадебном участке, это невероятная польза для нас и наших будущих поколени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971800" y="4191120"/>
            <a:ext cx="3105000" cy="2070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943600" y="3886200"/>
            <a:ext cx="3009960" cy="2733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52280" y="4470480"/>
            <a:ext cx="30481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Цель и задач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Цель проектной деятельност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Формировать у детей знания о бумаге и её свойствах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. Расширить знания детей о значении деревьев в жизни людей, дать представление о разнообразии бумаги и её свойствах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.Развивать  у детей познавательную активность в процессе  практических опытов с бумагой, мелкую моторику рук, логическое мышление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.Воспитывать бережное отношение к природе, уважение к труду люд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3124440" cy="1757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676520" y="3200400"/>
            <a:ext cx="3028680" cy="2468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5257800" y="3200400"/>
            <a:ext cx="2806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Актуальность проек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умага это доступный и универсальный материал для детей, с которым они встречаются ежедневно. Бумага- неизвестный материал, который притягивает их, потому что шуршит, его можно смять, порвать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562720" y="4343400"/>
            <a:ext cx="29718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76212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История бумаг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05 г. – изобретение бумаги из хлопка в Кита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600 г. – проникновение бумаги в Корею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625 г. – проникновение бумаги в Японию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751 г. – проникновение бумаги на Запа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799 г. – патент на изобретение бумагоделательной машин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803 г. – установка этой машины в Англ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827 г. – появление бумагоделательных машин в СШ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857 г. – технология получения бумаги из древесин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867280" y="152280"/>
            <a:ext cx="26672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Основные свойства бумаг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 Прозрачнос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Бумага непрозрачн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ем она толще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м меньше свет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пуск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267080" y="2311560"/>
            <a:ext cx="44960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Основные свойства бумаг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 Легко сгибаетс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Бумагу легко складывать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иния сгиба сохраняе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038480" y="26290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Основные свойства бумаг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. Прочнос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сле намока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бумажный лист теряе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форму, неравномерн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меньшается в размер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 короби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86200" y="2359080"/>
            <a:ext cx="477216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именение бумаг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ля письма и печати (книги, журналы, газеты, тетради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3200400" cy="2335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257800" y="2895480"/>
            <a:ext cx="3562200" cy="3224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429000" y="3276720"/>
            <a:ext cx="2568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именение бумаг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тделочный материал (обои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905120" y="2819520"/>
            <a:ext cx="61722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3T05:18:28Z</dcterms:created>
  <dc:creator>User</dc:creator>
  <dc:description/>
  <dc:language>en-US</dc:language>
  <cp:lastModifiedBy>User</cp:lastModifiedBy>
  <dcterms:modified xsi:type="dcterms:W3CDTF">2018-06-18T10:49:5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