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213A-FAA7-4B55-A3A8-AB1C315CE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AF15-A8AC-4FB9-9010-A457E9819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04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BB15-8124-4983-8208-D76211CBE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00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844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00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844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BE93-7D04-4A71-93C3-97DE75F63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03B7-6872-46C1-BF36-BEE3B2728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9617-5C34-45E5-BBB7-9C0BD3D8E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57AF-1915-4704-928A-08DB4FCAF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CECFD-69C2-42C0-A2F8-189442FA3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216360"/>
            <a:ext cx="578952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F497-D33C-43B2-9A44-14F3086B2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80E5-F472-45BA-8E22-48B67DF9F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04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A56F-2280-4D48-AA32-DA2C31C9B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E66D-1CF4-4469-819F-8CFECA339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1722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57200" y="6492960"/>
            <a:ext cx="3429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54760" y="6726240"/>
            <a:ext cx="1314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d1282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648B8B-17DE-4CE3-987F-C2A94D6F0540}" type="slidenum">
              <a:rPr b="1" lang="ru-RU" sz="2400" spc="-1" strike="noStrike">
                <a:solidFill>
                  <a:srgbClr val="d1282e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38360" y="3092400"/>
            <a:ext cx="4067280" cy="85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2852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Королевство</a:t>
            </a:r>
            <a:br>
              <a:rPr sz="2800"/>
            </a:br>
            <a:r>
              <a:rPr b="0" lang="en-US" sz="2800" spc="-1" strike="noStrike">
                <a:solidFill>
                  <a:srgbClr val="d1282e"/>
                </a:solidFill>
                <a:latin typeface="Arial Black"/>
              </a:rPr>
              <a:t>The Present Simple Tense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de by Shevelko Svetla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1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Petersb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2340000" y="0"/>
            <a:ext cx="4103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457200" y="-30240"/>
            <a:ext cx="5791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1282e"/>
                </a:solidFill>
                <a:latin typeface="Arial Black"/>
              </a:rPr>
              <a:t>WH-QUESTIONS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СПЕЦИАЛЬНЫЕ ВОПРО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57200" y="175248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вопросы, которые начинаются со специальных  вопросительных слов – что, где, когда, почему, сколь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ется к определенному слову в утвердительном предлож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ует ответа полным предлож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ВОПРОСИТЕЛЬНЫЕ СЛ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75248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What –  Чт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Where –  Где, куда, отку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When –  Ког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Why –  Почем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How –  К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How many - Скольк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-30240"/>
            <a:ext cx="8002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1282e"/>
                </a:solidFill>
                <a:latin typeface="Arial Black"/>
              </a:rPr>
              <a:t>PRESENT SIMPLE (INDEFINITE)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НАСТОЯЩЕЕ ПРОСТОЕ (НЕОПРЕДЕЛЕННОЕ)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68360" y="198900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V (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помогательные глаголы –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do\ d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d1282e"/>
                </a:solidFill>
                <a:latin typeface="Arial"/>
              </a:rPr>
              <a:t>Слова подсказ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every da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usu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ч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oft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alwa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someti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ог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СПЕЦИАЛЬНЫЙ ВОПРОС К УТВЕРДИТЕЛЬНОМУ ПРЕДЛОЖЕНИЮ С СИЛЬНЫМ ГЛАГОЛОМ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            am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, ч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     +    i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остало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          are      +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л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+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тверди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              hav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пред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(кром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 the bag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is the cat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   + can +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+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лабый  +  все, ч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.                остало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тверди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ром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 can draw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a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n Ann draw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15228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СПЕЦИАЛЬНЫЙ ВОПРОС К УТВЕРДИТЕЛЬНОМУ ПРЕДЛОЖЕНИЮ СО СЛАБЫМ ГЛАГОЛОМ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75248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hat                                                                все, что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hen      +   do                                                 остало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here           does   +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л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+       V  +  в утвердит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?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ow                                                                  пред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ром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y like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appl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do they lik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nn runs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in the park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here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oes Ann ru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152280"/>
            <a:ext cx="80755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1282e"/>
                </a:solidFill>
                <a:latin typeface="Times New Roman"/>
                <a:ea typeface="Times New Roman"/>
              </a:rPr>
              <a:t>ВОПРОС К ПОДЛЕЖАЩЕМУ</a:t>
            </a:r>
            <a:br>
              <a:rPr sz="26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052640"/>
            <a:ext cx="84358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ходим (+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Заменяем подлежащее на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ho –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кто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Гл. требует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–S (is, has, plays, runs),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искл. –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охраняем порядок слов в (+), в конце - 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Ann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has got a cat.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ot a cat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We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are at home.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at home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My friends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un well.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runs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well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y frien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an run well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un well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150840"/>
            <a:ext cx="8218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Д\З  </a:t>
            </a: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WRITE (-), 4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75248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in Russ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have got a pupp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play tenn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get up at 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12:55Z</dcterms:created>
  <dc:creator>User</dc:creator>
  <dc:description/>
  <dc:language>en-US</dc:language>
  <cp:lastModifiedBy>ЫФВАЫФВАФЫВ</cp:lastModifiedBy>
  <dcterms:modified xsi:type="dcterms:W3CDTF">2018-06-15T09:50:54Z</dcterms:modified>
  <cp:revision>28</cp:revision>
  <dc:subject/>
  <dc:title>Слайд 1</dc:title>
</cp:coreProperties>
</file>