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E550-7EF0-4016-BE84-3EB2CDAE9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3596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68D7D-2436-4D8F-BC23-8B25E1738A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04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F944-CB23-4077-AFE0-F7C46B486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00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8440" y="175212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00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8440" y="4035960"/>
            <a:ext cx="245268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F75D7-314E-4104-BCD4-E521869050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02588-04D4-4374-8327-05C065F35E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C7B2-E98D-48C4-807B-2339B3FCB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C7493-48AC-4344-95F9-874F27AD9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8E0B8-7549-4EA2-B233-53B72BFC7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216360"/>
            <a:ext cx="5789520" cy="80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4768-7C2A-498D-A6CF-5CFBC52B6E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364E-9BCD-4E88-9453-76627D3AF4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040" y="403596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34E78-7830-4872-BBDB-FD9367438B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040" y="1752120"/>
            <a:ext cx="37177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35960"/>
            <a:ext cx="7618320" cy="20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1C93-41AD-4FF5-A616-C5DBFAC96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16360"/>
            <a:ext cx="578952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120"/>
            <a:ext cx="761832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172200"/>
            <a:ext cx="342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457200" y="6492960"/>
            <a:ext cx="3429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654760" y="6726240"/>
            <a:ext cx="1314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2400" spc="-1" strike="noStrike">
                <a:solidFill>
                  <a:srgbClr val="d1282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CC685BE-B184-454C-AC57-219E7279931B}" type="slidenum">
              <a:rPr b="1" lang="ru-RU" sz="2400" spc="-1" strike="noStrike">
                <a:solidFill>
                  <a:srgbClr val="d1282e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538360" y="3092400"/>
            <a:ext cx="4067280" cy="854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285228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d1282e"/>
                </a:solidFill>
                <a:latin typeface="Arial Black"/>
              </a:rPr>
              <a:t>Королевство</a:t>
            </a:r>
            <a:br>
              <a:rPr sz="2800"/>
            </a:br>
            <a:r>
              <a:rPr b="0" lang="en-US" sz="2800" spc="-1" strike="noStrike">
                <a:solidFill>
                  <a:srgbClr val="d1282e"/>
                </a:solidFill>
                <a:latin typeface="Arial Black"/>
              </a:rPr>
              <a:t>The Present Simple Tense</a:t>
            </a:r>
            <a:endParaRPr b="0" lang="en-US" sz="28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4868640"/>
            <a:ext cx="64008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de by Shevelko Svetla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ool 1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 Petersb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2340000" y="0"/>
            <a:ext cx="4103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457200" y="-30240"/>
            <a:ext cx="57913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1282e"/>
                </a:solidFill>
                <a:latin typeface="Arial Black"/>
              </a:rPr>
              <a:t>WH-QUESTIONS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СПЕЦИАЛЬНЫЕ ВОПРОС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457200" y="175248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вопросы, которые начинаются со специальных  вопросительных слов – что, где, когда, почему, скольк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ется к определенному слову в утвердительном предложен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ебует ответа полным предлож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ВОПРОСИТЕЛЬНЫЕ СЛОВ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175248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What –  Чт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Where –  Где, куда, отку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When –  Когд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Why –  Почем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How –  Как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How many - Сколько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-30240"/>
            <a:ext cx="8002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d1282e"/>
                </a:solidFill>
                <a:latin typeface="Arial Black"/>
              </a:rPr>
              <a:t>PRESENT SIMPLE (INDEFINITE)</a:t>
            </a:r>
            <a:br>
              <a:rPr sz="3200"/>
            </a:br>
            <a:r>
              <a:rPr b="0" lang="ru-RU" sz="3200" spc="-1" strike="noStrike">
                <a:solidFill>
                  <a:srgbClr val="d1282e"/>
                </a:solidFill>
                <a:latin typeface="Arial Black"/>
              </a:rPr>
              <a:t>НАСТОЯЩЕЕ ПРОСТОЕ (НЕОПРЕДЕЛЕННОЕ) ВРЕМ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468360" y="198900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V (V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помогательные глаголы –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do\ do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d1282e"/>
                </a:solidFill>
                <a:latin typeface="Arial"/>
              </a:rPr>
              <a:t>Слова подсказки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every day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ден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usual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ыч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ofte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а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alway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г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sometim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ог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d1282e"/>
                </a:solidFill>
                <a:latin typeface="Arial Black"/>
              </a:rPr>
              <a:t>СПЕЦИАЛЬНЫЙ ВОПРОС К УТВЕРДИТЕЛЬНОМУ ПРЕДЛОЖЕНИЮ С СИЛЬНЫМ ГЛАГОЛОМ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57200" y="1413000"/>
            <a:ext cx="82296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            am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, ч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     +    i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остало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          are      +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л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+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утверди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              have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t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пред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(кром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t i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 the bag.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is the cat?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   + can +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+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лабый  +  все, что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.                остало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утвердит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ром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а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 can draw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ca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an Ann draw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57200" y="152280"/>
            <a:ext cx="757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d1282e"/>
                </a:solidFill>
                <a:latin typeface="Arial Black"/>
              </a:rPr>
              <a:t>СПЕЦИАЛЬНЫЙ ВОПРОС К УТВЕРДИТЕЛЬНОМУ ПРЕДЛОЖЕНИЮ СО СЛАБЫМ ГЛАГОЛОМ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457200" y="175248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hat                                                                все, что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hen      +   do                                                 осталос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here           does   +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дл.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+       V  +  в утвердит.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?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How                                                                  пред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ром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а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They like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appl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do they like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nn runs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in the park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Where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does Ann run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152280"/>
            <a:ext cx="807552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d1282e"/>
                </a:solidFill>
                <a:latin typeface="Times New Roman"/>
                <a:ea typeface="Times New Roman"/>
              </a:rPr>
              <a:t>ВОПРОС К ПОДЛЕЖАЩЕМУ</a:t>
            </a:r>
            <a:br>
              <a:rPr sz="26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052640"/>
            <a:ext cx="84358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Находим (+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Заменяем подлежащее на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ho –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кто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Гл. требует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–S (is, has, plays, runs),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 искл. –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охраняем порядок слов в (+), в конце - 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Ann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has got a cat.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has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ot a cat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We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are at home.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at home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26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My friends 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run well.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runs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well?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569880" indent="-5698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628280"/>
                <a:tab algn="l" pos="107823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My friends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can run well. 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run well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457200" y="150840"/>
            <a:ext cx="8218440" cy="9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d1282e"/>
                </a:solidFill>
                <a:latin typeface="Arial Black"/>
              </a:rPr>
              <a:t>Д\З  </a:t>
            </a: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WRITE (-), 4 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457200" y="1752480"/>
            <a:ext cx="7620120" cy="43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are in Russi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have got a pupp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y play tenni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get up at 7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12:55Z</dcterms:created>
  <dc:creator>User</dc:creator>
  <dc:description/>
  <dc:language>en-US</dc:language>
  <cp:lastModifiedBy>ЫФВАЫФВАФЫВ</cp:lastModifiedBy>
  <dcterms:modified xsi:type="dcterms:W3CDTF">2018-06-15T09:50:54Z</dcterms:modified>
  <cp:revision>28</cp:revision>
  <dc:subject/>
  <dc:title>Слайд 1</dc:title>
</cp:coreProperties>
</file>