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4.png" ContentType="image/png"/>
  <Override PartName="/ppt/media/image3.png" ContentType="image/png"/>
  <Override PartName="/ppt/media/image26.jpeg" ContentType="image/jpeg"/>
  <Override PartName="/ppt/media/image25.jpeg" ContentType="image/jpeg"/>
  <Override PartName="/ppt/media/image24.wmf" ContentType="image/x-wmf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0376-1A7C-4578-8A54-CDF507019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6DCF-73F6-4A88-997C-4497067E2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B4A1-C827-4E75-B88C-FDC91083F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9E9-A88D-47A5-8B24-D34941D1D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3194-DD45-467F-907C-E8AD1E88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0E0C-CC34-4112-B1A2-803AE718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22C5-003F-41CE-8726-25E9A55FB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75BB-E77A-4451-AC31-409D275F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61C4-2356-428F-8103-C74C28EF9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68E8-FE79-48A0-B195-0D3EAC52F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8A4-5EA8-4D95-A65A-B776F8C0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D5A-83E4-4FB5-B37F-D60DB73C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CBA-8A7E-4363-8F1C-DEC8D07D0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7D4F-0815-4BEA-AEF7-D453266F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14BC-121C-4412-9837-9D9C7910BB6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6800" y="1071360"/>
            <a:ext cx="7572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Arial"/>
              </a:rPr>
              <a:t>История вычислительной тех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C:\Documents and Settings\Ольга\Local Settings\Temporary Internet Files\Content.IE5\1QYHJ6UQ\j0424178[1].wmf"/>
          <p:cNvPicPr/>
          <p:nvPr/>
        </p:nvPicPr>
        <p:blipFill>
          <a:blip r:embed="rId1"/>
          <a:stretch/>
        </p:blipFill>
        <p:spPr>
          <a:xfrm>
            <a:off x="5929200" y="3500280"/>
            <a:ext cx="281016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571680" y="63579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496800" y="500040"/>
            <a:ext cx="98640" cy="592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Program Files\Microsoft Office\MEDIA\OFFICE11\Lines\BD14539_.gif"/>
          <p:cNvPicPr/>
          <p:nvPr/>
        </p:nvPicPr>
        <p:blipFill>
          <a:blip r:embed="rId4"/>
          <a:stretch/>
        </p:blipFill>
        <p:spPr>
          <a:xfrm>
            <a:off x="571680" y="496800"/>
            <a:ext cx="8072280" cy="1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Program Files\Microsoft Office\MEDIA\OFFICE11\Lines\BD14539_.gif"/>
          <p:cNvPicPr/>
          <p:nvPr/>
        </p:nvPicPr>
        <p:blipFill>
          <a:blip r:embed="rId5"/>
          <a:stretch/>
        </p:blipFill>
        <p:spPr>
          <a:xfrm>
            <a:off x="8623440" y="500040"/>
            <a:ext cx="91800" cy="3000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642960" y="5143680"/>
            <a:ext cx="521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я Азаренковой Дар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и 2 кур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ПОУ МССУОР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00040" y="1428840"/>
            <a:ext cx="36432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эббидж работал над созданием программно управляемой Аналитической машины в период с 1820 по 1856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066E-6D27-4E48-8CDF-D5D2662148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286160" y="1357200"/>
            <a:ext cx="4495680" cy="4191120"/>
            <a:chOff x="4286160" y="1357200"/>
            <a:chExt cx="4495680" cy="4191120"/>
          </a:xfrm>
        </p:grpSpPr>
        <p:pic>
          <p:nvPicPr>
            <p:cNvPr id="106" name="Picture 23" descr=""/>
            <p:cNvPicPr/>
            <p:nvPr/>
          </p:nvPicPr>
          <p:blipFill>
            <a:blip r:embed="rId1"/>
            <a:stretch/>
          </p:blipFill>
          <p:spPr>
            <a:xfrm>
              <a:off x="4514760" y="1441440"/>
              <a:ext cx="4190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24"/>
            <p:cNvSpPr/>
            <p:nvPr/>
          </p:nvSpPr>
          <p:spPr>
            <a:xfrm>
              <a:off x="4286160" y="1357200"/>
              <a:ext cx="4495680" cy="4191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3"/>
          <p:cNvSpPr/>
          <p:nvPr/>
        </p:nvSpPr>
        <p:spPr>
          <a:xfrm>
            <a:off x="1214280" y="5716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Аналитическая машина Бэбби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00240" y="2214720"/>
            <a:ext cx="5686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ограммы для этой машины были написаны. Их составила в 1846 году Ада Лавлейс – дочь великого английского поэта Джорджа Байрона. Она считается первой женщиной-программистом. В её честь назван язык программирования 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B64-22DF-4C39-9AC9-4FD283BA3C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0"/>
          <p:cNvGrpSpPr/>
          <p:nvPr/>
        </p:nvGrpSpPr>
        <p:grpSpPr>
          <a:xfrm>
            <a:off x="1000080" y="2786040"/>
            <a:ext cx="2057400" cy="2184120"/>
            <a:chOff x="1000080" y="2786040"/>
            <a:chExt cx="2057400" cy="2184120"/>
          </a:xfrm>
        </p:grpSpPr>
        <p:pic>
          <p:nvPicPr>
            <p:cNvPr id="112" name="Picture 11" descr=""/>
            <p:cNvPicPr/>
            <p:nvPr/>
          </p:nvPicPr>
          <p:blipFill>
            <a:blip r:embed="rId1"/>
            <a:stretch/>
          </p:blipFill>
          <p:spPr>
            <a:xfrm>
              <a:off x="1076040" y="2862000"/>
              <a:ext cx="19814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12"/>
            <p:cNvSpPr/>
            <p:nvPr/>
          </p:nvSpPr>
          <p:spPr>
            <a:xfrm>
              <a:off x="1000080" y="2786040"/>
              <a:ext cx="2031840" cy="2184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7"/>
          <p:cNvSpPr/>
          <p:nvPr/>
        </p:nvSpPr>
        <p:spPr>
          <a:xfrm>
            <a:off x="714240" y="64296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сложности и механического износа деталей проект Бэббиджа, опережавший технические возможности своего времени, так и остался нереализов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785880" y="5643720"/>
            <a:ext cx="771516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B24-006F-4B00-A8DF-2F81873506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642960" y="214200"/>
            <a:ext cx="3581280" cy="2742840"/>
            <a:chOff x="642960" y="214200"/>
            <a:chExt cx="3581280" cy="27428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709200" y="214200"/>
              <a:ext cx="34484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3"/>
            <p:cNvSpPr/>
            <p:nvPr/>
          </p:nvSpPr>
          <p:spPr>
            <a:xfrm>
              <a:off x="642960" y="297360"/>
              <a:ext cx="3581280" cy="259308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4786200" y="2714760"/>
            <a:ext cx="4057920" cy="3786120"/>
            <a:chOff x="4786200" y="2714760"/>
            <a:chExt cx="4057920" cy="3786120"/>
          </a:xfrm>
        </p:grpSpPr>
        <p:pic>
          <p:nvPicPr>
            <p:cNvPr id="121" name="Picture 13" descr=""/>
            <p:cNvPicPr/>
            <p:nvPr/>
          </p:nvPicPr>
          <p:blipFill>
            <a:blip r:embed="rId2"/>
            <a:stretch/>
          </p:blipFill>
          <p:spPr>
            <a:xfrm>
              <a:off x="4850640" y="2785320"/>
              <a:ext cx="3928680" cy="36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2"/>
            <p:cNvSpPr/>
            <p:nvPr/>
          </p:nvSpPr>
          <p:spPr>
            <a:xfrm>
              <a:off x="4786200" y="2714760"/>
              <a:ext cx="4057920" cy="3786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0"/>
          <p:cNvSpPr/>
          <p:nvPr/>
        </p:nvSpPr>
        <p:spPr>
          <a:xfrm>
            <a:off x="4572000" y="7142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фокарты для «Аналитической маш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57120" y="3286080"/>
            <a:ext cx="421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 по  изготовлению «Аналитической машины» были прерваны смертью  Ч. Бэббиджа. Полностью «Разностная машина»  Бэббиджа была достроена только в наше время в 1991 г. двумя инженерами Р. Криком и Б. Холловеем в Лондонском научном музее к  200-летию со дня рождения её ав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состоит из 4000 деталей и может вычислять разности 7-го 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осредственными предшественниками ЭВМ был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лейные вычислительные маш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еханическое реле – это двухпозиционный переключатель, который имеет два состояния: включено и выключено. Это свойство позволяет использовать реле для кодирования информации в двоич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работы релейной машины происходят переключения тысяч реле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A1F-3BA0-4044-92C9-50494DC4D1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928800" y="5400720"/>
            <a:ext cx="74293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00040" y="128592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йная машина «Марк-2» (1947г.) содержала около 13 000 реле. Одной из наиболее совершенных релейных машин была машина советского конструктора Н.И. Бессонова – РВМ-1.  Она была построена в1956 году и проработала почти 10 лет, конкурируя с существовавшими уже в то время ЭВ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 сильно ограничивало скорость работы таких машин. Скорость РВМ-1 составляла 50 сложений или 20 умножен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7EC7-1FC7-42C2-8E2B-BF88266F74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857160" y="5500800"/>
            <a:ext cx="742968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785880" y="714240"/>
            <a:ext cx="757224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B8D-176F-41D0-BC31-F906552892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http://evm-story.narod.ru/Lampa.gif"/>
          <p:cNvPicPr/>
          <p:nvPr/>
        </p:nvPicPr>
        <p:blipFill>
          <a:blip r:embed="rId1"/>
          <a:stretch/>
        </p:blipFill>
        <p:spPr>
          <a:xfrm>
            <a:off x="1285920" y="1214280"/>
            <a:ext cx="2090520" cy="4214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3857760" y="1285920"/>
            <a:ext cx="36432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рвой половине ХХ века бурно развивалась радиоэлектроника. Основным элементом радиоэлектроники были электронно-вакуумные лам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лампы стали технической основой первых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928800" y="6215040"/>
            <a:ext cx="7286400" cy="12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714240" y="857160"/>
            <a:ext cx="76438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Начало эпохи 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ервая ЭВ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универсальная машина на электронных лампах - была построена в 1945 году в С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машина называлась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N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цифровой интегратор и вычислител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корость счёта этой машины превосходила скорость релейных машин того времени в тысячу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ш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около 18 000 электронных ламп. При работе она так разогревалась, что требовалось специальное охлаждение. Машина весила 30 тонн и потребляла мощность 150 кВ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8F20-74E9-47BB-B120-0F162BFBDC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785880" y="5686560"/>
            <a:ext cx="74293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064C-79C9-4EC4-8D13-B135C9ABC0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4" descr="en02.jpg"/>
          <p:cNvPicPr/>
          <p:nvPr/>
        </p:nvPicPr>
        <p:blipFill>
          <a:blip r:embed="rId1"/>
          <a:stretch/>
        </p:blipFill>
        <p:spPr>
          <a:xfrm>
            <a:off x="803160" y="1143000"/>
            <a:ext cx="74120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лектронный компьюте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граммировался штекерно-коммунитационным способом. Программа набиралась при помощи штекеров, вручную, «навтыкивалась». На коммутационной доске соединялись проводниками отдельные блоки маш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42AB-33D9-4910-8970-892D9F426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5500800" y="3500280"/>
            <a:ext cx="2320920" cy="213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 rot="12130800">
            <a:off x="716040" y="4924440"/>
            <a:ext cx="4147920" cy="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7E6C5-4B05-4125-8CF5-F482AD2D07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4" descr="eniac.jpg"/>
          <p:cNvPicPr/>
          <p:nvPr/>
        </p:nvPicPr>
        <p:blipFill>
          <a:blip r:embed="rId1"/>
          <a:stretch/>
        </p:blipFill>
        <p:spPr>
          <a:xfrm>
            <a:off x="1071720" y="1176480"/>
            <a:ext cx="73580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0A34-743B-4F7F-B872-746EEA88383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6072120" y="2714760"/>
            <a:ext cx="2413080" cy="1109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71680" y="1928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счётным средством для человека были ег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ь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инструмент всегда под ру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71424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стория средств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1500120" y="4143240"/>
          <a:ext cx="122076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143240"/>
                    <a:ext cx="12207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1643040" y="3643200"/>
          <a:ext cx="1311120" cy="78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3040" y="3643200"/>
                    <a:ext cx="1311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5"/>
          <p:cNvGraphicFramePr/>
          <p:nvPr/>
        </p:nvGraphicFramePr>
        <p:xfrm>
          <a:off x="500040" y="4143240"/>
          <a:ext cx="142704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4143240"/>
                    <a:ext cx="14270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Box 9"/>
          <p:cNvSpPr/>
          <p:nvPr/>
        </p:nvSpPr>
        <p:spPr>
          <a:xfrm>
            <a:off x="500040" y="307188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лись и другие способы сч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3071880" y="4143240"/>
          <a:ext cx="2162160" cy="2362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71880" y="4143240"/>
                    <a:ext cx="2162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"/>
          <p:cNvGraphicFramePr/>
          <p:nvPr/>
        </p:nvGraphicFramePr>
        <p:xfrm>
          <a:off x="5581800" y="4238640"/>
          <a:ext cx="1352520" cy="58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1800" y="4238640"/>
                    <a:ext cx="13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8"/>
          <p:cNvGraphicFramePr/>
          <p:nvPr/>
        </p:nvGraphicFramePr>
        <p:xfrm>
          <a:off x="5429160" y="5000760"/>
          <a:ext cx="164808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29160" y="5000760"/>
                    <a:ext cx="1648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9"/>
          <p:cNvGraphicFramePr/>
          <p:nvPr/>
        </p:nvGraphicFramePr>
        <p:xfrm>
          <a:off x="5734080" y="5686560"/>
          <a:ext cx="1228680" cy="29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3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34080" y="5686560"/>
                    <a:ext cx="1228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0"/>
          <p:cNvGraphicFramePr/>
          <p:nvPr/>
        </p:nvGraphicFramePr>
        <p:xfrm>
          <a:off x="5734080" y="6067440"/>
          <a:ext cx="124776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34080" y="6067440"/>
                    <a:ext cx="1247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Принципы работы ЭВ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идеи, по которым долгие годы развивалась вычислительная техника, были разработаны крупнейшим американским математиком 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Джоном фон Нейман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ринцип программного управ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инцип двоичного кодирования, арифметическое устройство должно работать в двоичной системе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инцип хранимой в памяти  программы (программа должна храниться в памяти вместе с числам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память должна иметь иерархическую структуру (невозможно при включении ЭВМ вводить в машину программу, её надо хранить на внешних носителя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4EE5-163F-4482-9542-4F6C52246E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идеями Неймана современные вычислительные машины состоят из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цесс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рифметического устр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устройств ввода-выв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хранения данных и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была построена первая ЭВМ с архитектурой Неймана – английская маш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S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оявилась американская ЭВ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машины существовали в единственных экземплярах. Серийное производство ЭВМ началось в развитых странах в 50-х годах ХХ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C07E-BDA2-494F-BB3C-8CBD70E06F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571680" y="5857920"/>
            <a:ext cx="79293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ДСАК 194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F44F-8DE9-4076-86F9-5DE24CF8B1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30"/>
          <p:cNvGrpSpPr/>
          <p:nvPr/>
        </p:nvGrpSpPr>
        <p:grpSpPr>
          <a:xfrm>
            <a:off x="1857240" y="2143080"/>
            <a:ext cx="5572440" cy="3502080"/>
            <a:chOff x="1857240" y="2143080"/>
            <a:chExt cx="5572440" cy="3502080"/>
          </a:xfrm>
        </p:grpSpPr>
        <p:pic>
          <p:nvPicPr>
            <p:cNvPr id="161" name="Picture 1027" descr="D:\слровождение диска\страница история ВТ\007 цвет.JPG"/>
            <p:cNvPicPr/>
            <p:nvPr/>
          </p:nvPicPr>
          <p:blipFill>
            <a:blip r:embed="rId1"/>
            <a:stretch/>
          </p:blipFill>
          <p:spPr>
            <a:xfrm>
              <a:off x="1932480" y="2143080"/>
              <a:ext cx="5496840" cy="35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1029"/>
            <p:cNvSpPr/>
            <p:nvPr/>
          </p:nvSpPr>
          <p:spPr>
            <a:xfrm>
              <a:off x="1857240" y="2143080"/>
              <a:ext cx="5572440" cy="348120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усская вычислительная тех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ей стране первая ЭВМ была создана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Называлась она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МЭ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лая электронная счётная машина. Конструктором МЭСМ был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ергей Алексе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нститут электротехники АН УССР возглавляемый С.А. Лебедевым находился в Кие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С.А. Лебедева в 50-х годах в СССР были построены серийные ламповые ЭВМ БЭСМ-1 (быстродействующая электронная счётная машина), БЭСМ -2 , М-20. В то время эти машины были одними из лучших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62C5-4143-4CE6-9B20-D3FBC77E1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ЭСМ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8189-C72E-4F4C-8DE5-1D9D6323BD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4" descr="besm6_1.jpg"/>
          <p:cNvPicPr/>
          <p:nvPr/>
        </p:nvPicPr>
        <p:blipFill>
          <a:blip r:embed="rId1"/>
          <a:stretch/>
        </p:blipFill>
        <p:spPr>
          <a:xfrm>
            <a:off x="857160" y="1476360"/>
            <a:ext cx="74995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60-х годах ХХ века С.А. Лебедев руководил разработкой полупроводниковых ЭВМ БЭСМ-3М, БЭСМ-4, М-220, М-222. Выдающимся достижением того периода была маши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ЭСМ-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первая отечественная и одна из первых в мире ЭВМ с быстродействием 1 миллион операц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8737-8D14-4DFD-AB63-4726269FB7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Program Files\Microsoft Office\MEDIA\CAGCAT10\j0292982.wmf"/>
          <p:cNvPicPr/>
          <p:nvPr/>
        </p:nvPicPr>
        <p:blipFill>
          <a:blip r:embed="rId1"/>
          <a:stretch/>
        </p:blipFill>
        <p:spPr>
          <a:xfrm>
            <a:off x="5857920" y="3714840"/>
            <a:ext cx="1843200" cy="1819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642960" y="6072120"/>
            <a:ext cx="778680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00040" y="71388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 нашей эры в Греции и Египте получил распространение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водится он как «счётная доска».  Слово это греческое и означает буквально «пыль». При чём тут пыль? Очень просто: на специальной доске в определённом порядке раскладывались камешки, а чтобы они не скатывались, доска покрывалась слоем песка или п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A605-16BA-4F96-8B18-0192332748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186000" cy="2090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857160" y="39290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ствии вместо пыли на доске выдалбливали желобки, по которым перемещали кам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6215040" y="5857920"/>
            <a:ext cx="1227240" cy="753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6633"/>
                  </a:solidFill>
                  <a:miter/>
                </a:ln>
                <a:solidFill>
                  <a:srgbClr val="26267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бак</a:t>
            </a:r>
            <a:endParaRPr b="0" lang="en-US" sz="1800" spc="1" strike="noStrike">
              <a:ln w="12600">
                <a:solidFill>
                  <a:srgbClr val="996633"/>
                </a:solidFill>
                <a:miter/>
              </a:ln>
              <a:solidFill>
                <a:srgbClr val="26267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ёты с костяшк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оже абак, только модернизированный, вместо пыли – проволочные сп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е инструменты счёта распространились и развивались по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 китайские, римские счёты. А вот русские счёты до сих пор пытаются конкурировать с современной вычислительной техн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5596-D380-4269-8C8D-BB5025284E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86040" y="3500280"/>
            <a:ext cx="3583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929120" y="1214280"/>
            <a:ext cx="342900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 китайцев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суан-пан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 япон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серобян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России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щоты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500040" y="285840"/>
          <a:ext cx="43624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85840"/>
                    <a:ext cx="4362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29160" y="571680"/>
            <a:ext cx="32292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5 го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-летний французский физик и математик Блез Паскаль создал первую счётную машину. Эта машина выполняла сложение и вычитание многозначных чисе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A8D4-EFDF-4268-8C5F-F3546915B6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571680" y="428760"/>
          <a:ext cx="4705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4705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зубчатая передача.png"/>
          <p:cNvPicPr/>
          <p:nvPr/>
        </p:nvPicPr>
        <p:blipFill>
          <a:blip r:embed="rId1"/>
          <a:stretch/>
        </p:blipFill>
        <p:spPr>
          <a:xfrm>
            <a:off x="1500120" y="1785960"/>
            <a:ext cx="6143760" cy="420372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DE61-6487-4EAC-96C3-9E03D0938B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071720" y="7858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ельные операции машина производила с помощью зубчатых кол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713880"/>
            <a:ext cx="3900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73 году немецкий учёный Вильгельм Лейбниц создал арифметическую машину (механический арифмометр), которая механически выполняла все четыре арифметических  операции с многознач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E18D-59E3-4BF1-8893-7BF292EBF8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4786200" y="785880"/>
          <a:ext cx="3743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785880"/>
                    <a:ext cx="3743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5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642960" y="6000840"/>
            <a:ext cx="700092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Машина Бэббиджа – предшественница ЭВ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07172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23 году Чарльзом Бэббиджем, профессором Кембриджского  университета, была выдвинута идея создания универсальной программируемой счётной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манный им проект машины содержал все основные устройства вычислительных маши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 (память), где хранятся исходные числа и промежуточные результа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ЛЬНИЦА (арифметическое устройство), в которой осуществляются операции над числами, взятыми из скл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ОРА (устройство управления), производит управление последовательностью операций над числами соответственно заданной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ВВОДА исходных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ПЕЧАТИ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77C6-B500-4B52-898F-2E067EA297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11:08Z</dcterms:created>
  <dc:creator>-</dc:creator>
  <dc:description/>
  <dc:language>en-US</dc:language>
  <cp:lastModifiedBy>User</cp:lastModifiedBy>
  <dcterms:modified xsi:type="dcterms:W3CDTF">2018-06-18T07:20:22Z</dcterms:modified>
  <cp:revision>83</cp:revision>
  <dc:subject/>
  <dc:title>ГОСТы оформления документов</dc:title>
</cp:coreProperties>
</file>