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27.jpeg" ContentType="image/jpeg"/>
  <Override PartName="/ppt/media/image28.wmf" ContentType="image/x-wmf"/>
  <Override PartName="/ppt/media/image4.png" ContentType="image/png"/>
  <Override PartName="/ppt/media/image3.png" ContentType="image/png"/>
  <Override PartName="/ppt/media/image26.jpeg" ContentType="image/jpeg"/>
  <Override PartName="/ppt/media/image25.jpeg" ContentType="image/jpeg"/>
  <Override PartName="/ppt/media/image24.wmf" ContentType="image/x-wmf"/>
  <Override PartName="/ppt/media/image22.png" ContentType="image/png"/>
  <Override PartName="/ppt/media/image19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wmf" ContentType="image/x-wmf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B000-523C-4FB0-BD3F-3A431F2A83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5D44-9920-4CFA-B840-FACB80393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735-DFED-4250-9A22-B523450D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B6F2-4D41-4BB3-A36B-49D88574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D1D9-1640-4F86-8E70-5FAF06817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9CD-B2EC-4099-AF87-410C97B77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ECB-6D56-45D1-BFD0-488CD2D90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04B2-B250-4211-8759-08405D76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C5F-E4B6-4084-B41C-F5D87C77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1282-E2A1-47E6-9AFA-4E9C30F1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6171-02AF-47DA-B300-ED2ECB6A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32D-81A5-45C0-986E-59B0C554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9D6-24C6-4526-8437-E11A9938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1969-9757-435A-8572-2C5289FCB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E77C6-93BC-4088-9ECA-7046DC3665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1.png"/><Relationship Id="rId1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56800" y="1071360"/>
            <a:ext cx="7572600" cy="221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a50021"/>
                </a:solidFill>
                <a:latin typeface="Arial"/>
              </a:rPr>
              <a:t>История вычислительной техн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5" descr="C:\Documents and Settings\Ольга\Local Settings\Temporary Internet Files\Content.IE5\1QYHJ6UQ\j0424178[1].wmf"/>
          <p:cNvPicPr/>
          <p:nvPr/>
        </p:nvPicPr>
        <p:blipFill>
          <a:blip r:embed="rId1"/>
          <a:stretch/>
        </p:blipFill>
        <p:spPr>
          <a:xfrm>
            <a:off x="5929200" y="3500280"/>
            <a:ext cx="2810160" cy="2909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571680" y="635796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C:\Program Files\Microsoft Office\MEDIA\OFFICE11\Lines\BD14539_.gif"/>
          <p:cNvPicPr/>
          <p:nvPr/>
        </p:nvPicPr>
        <p:blipFill>
          <a:blip r:embed="rId3"/>
          <a:stretch/>
        </p:blipFill>
        <p:spPr>
          <a:xfrm>
            <a:off x="496800" y="500040"/>
            <a:ext cx="98640" cy="5929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Program Files\Microsoft Office\MEDIA\OFFICE11\Lines\BD14539_.gif"/>
          <p:cNvPicPr/>
          <p:nvPr/>
        </p:nvPicPr>
        <p:blipFill>
          <a:blip r:embed="rId4"/>
          <a:stretch/>
        </p:blipFill>
        <p:spPr>
          <a:xfrm>
            <a:off x="571680" y="496800"/>
            <a:ext cx="8072280" cy="13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C:\Program Files\Microsoft Office\MEDIA\OFFICE11\Lines\BD14539_.gif"/>
          <p:cNvPicPr/>
          <p:nvPr/>
        </p:nvPicPr>
        <p:blipFill>
          <a:blip r:embed="rId5"/>
          <a:stretch/>
        </p:blipFill>
        <p:spPr>
          <a:xfrm>
            <a:off x="8623440" y="500040"/>
            <a:ext cx="91800" cy="300024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642960" y="5143680"/>
            <a:ext cx="5214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езентация Азаренковой Дарь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удентки 2 кур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БПОУ МССУОР №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500040" y="1428840"/>
            <a:ext cx="364320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эббидж работал над созданием программно управляемой Аналитической машины в период с 1820 по 1856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54FE-360A-491A-BA06-E5A96488F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22"/>
          <p:cNvGrpSpPr/>
          <p:nvPr/>
        </p:nvGrpSpPr>
        <p:grpSpPr>
          <a:xfrm>
            <a:off x="4286160" y="1357200"/>
            <a:ext cx="4495680" cy="4191120"/>
            <a:chOff x="4286160" y="1357200"/>
            <a:chExt cx="4495680" cy="4191120"/>
          </a:xfrm>
        </p:grpSpPr>
        <p:pic>
          <p:nvPicPr>
            <p:cNvPr id="106" name="Picture 23" descr=""/>
            <p:cNvPicPr/>
            <p:nvPr/>
          </p:nvPicPr>
          <p:blipFill>
            <a:blip r:embed="rId1"/>
            <a:stretch/>
          </p:blipFill>
          <p:spPr>
            <a:xfrm>
              <a:off x="4514760" y="1441440"/>
              <a:ext cx="4190760" cy="405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Rectangle 24"/>
            <p:cNvSpPr/>
            <p:nvPr/>
          </p:nvSpPr>
          <p:spPr>
            <a:xfrm>
              <a:off x="4286160" y="1357200"/>
              <a:ext cx="4495680" cy="41911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TextBox 13"/>
          <p:cNvSpPr/>
          <p:nvPr/>
        </p:nvSpPr>
        <p:spPr>
          <a:xfrm>
            <a:off x="1214280" y="571680"/>
            <a:ext cx="728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Аналитическая машина Бэббид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000240" y="2214720"/>
            <a:ext cx="5686560" cy="34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программы для этой машины были написаны. Их составила в 1846 году Ада Лавлейс – дочь великого английского поэта Джорджа Байрона. Она считается первой женщиной-программистом. В её честь назван язык программирования 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CE9E8-CA87-462C-922D-0AEF6C25F3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0"/>
          <p:cNvGrpSpPr/>
          <p:nvPr/>
        </p:nvGrpSpPr>
        <p:grpSpPr>
          <a:xfrm>
            <a:off x="1000080" y="2786040"/>
            <a:ext cx="2057400" cy="2184120"/>
            <a:chOff x="1000080" y="2786040"/>
            <a:chExt cx="2057400" cy="2184120"/>
          </a:xfrm>
        </p:grpSpPr>
        <p:pic>
          <p:nvPicPr>
            <p:cNvPr id="112" name="Picture 11" descr=""/>
            <p:cNvPicPr/>
            <p:nvPr/>
          </p:nvPicPr>
          <p:blipFill>
            <a:blip r:embed="rId1"/>
            <a:stretch/>
          </p:blipFill>
          <p:spPr>
            <a:xfrm>
              <a:off x="1076040" y="2862000"/>
              <a:ext cx="1981440" cy="20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Rectangle 12"/>
            <p:cNvSpPr/>
            <p:nvPr/>
          </p:nvSpPr>
          <p:spPr>
            <a:xfrm>
              <a:off x="1000080" y="2786040"/>
              <a:ext cx="2031840" cy="21841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Box 7"/>
          <p:cNvSpPr/>
          <p:nvPr/>
        </p:nvSpPr>
        <p:spPr>
          <a:xfrm>
            <a:off x="714240" y="642960"/>
            <a:ext cx="764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-за сложности и механического износа деталей проект Бэббиджа, опережавший технические возможности своего времени, так и остался нереализованн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785880" y="5643720"/>
            <a:ext cx="7715160" cy="1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44D-EA3B-4DD6-B67F-B13359A63EB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5"/>
          <p:cNvGrpSpPr/>
          <p:nvPr/>
        </p:nvGrpSpPr>
        <p:grpSpPr>
          <a:xfrm>
            <a:off x="642960" y="214200"/>
            <a:ext cx="3581280" cy="2742840"/>
            <a:chOff x="642960" y="214200"/>
            <a:chExt cx="3581280" cy="2742840"/>
          </a:xfrm>
        </p:grpSpPr>
        <p:pic>
          <p:nvPicPr>
            <p:cNvPr id="118" name="Picture 2" descr=""/>
            <p:cNvPicPr/>
            <p:nvPr/>
          </p:nvPicPr>
          <p:blipFill>
            <a:blip r:embed="rId1"/>
            <a:stretch/>
          </p:blipFill>
          <p:spPr>
            <a:xfrm>
              <a:off x="709200" y="214200"/>
              <a:ext cx="3448440" cy="274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3"/>
            <p:cNvSpPr/>
            <p:nvPr/>
          </p:nvSpPr>
          <p:spPr>
            <a:xfrm>
              <a:off x="642960" y="297360"/>
              <a:ext cx="3581280" cy="259308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4"/>
          <p:cNvGrpSpPr/>
          <p:nvPr/>
        </p:nvGrpSpPr>
        <p:grpSpPr>
          <a:xfrm>
            <a:off x="4786200" y="2714760"/>
            <a:ext cx="4057920" cy="3786120"/>
            <a:chOff x="4786200" y="2714760"/>
            <a:chExt cx="4057920" cy="3786120"/>
          </a:xfrm>
        </p:grpSpPr>
        <p:pic>
          <p:nvPicPr>
            <p:cNvPr id="121" name="Picture 13" descr=""/>
            <p:cNvPicPr/>
            <p:nvPr/>
          </p:nvPicPr>
          <p:blipFill>
            <a:blip r:embed="rId2"/>
            <a:stretch/>
          </p:blipFill>
          <p:spPr>
            <a:xfrm>
              <a:off x="4850640" y="2785320"/>
              <a:ext cx="3928680" cy="36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Rectangle 12"/>
            <p:cNvSpPr/>
            <p:nvPr/>
          </p:nvSpPr>
          <p:spPr>
            <a:xfrm>
              <a:off x="4786200" y="2714760"/>
              <a:ext cx="4057920" cy="378612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TextBox 10"/>
          <p:cNvSpPr/>
          <p:nvPr/>
        </p:nvSpPr>
        <p:spPr>
          <a:xfrm>
            <a:off x="4572000" y="71424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фокарты для «Аналитической машин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1"/>
          <p:cNvSpPr/>
          <p:nvPr/>
        </p:nvSpPr>
        <p:spPr>
          <a:xfrm>
            <a:off x="357120" y="3286080"/>
            <a:ext cx="42148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боты по  изготовлению «Аналитической машины» были прерваны смертью  Ч. Бэббиджа. Полностью «Разностная машина»  Бэббиджа была достроена только в наше время в 1991 г. двумя инженерами Р. Криком и Б. Холловеем в Лондонском научном музее к  200-летию со дня рождения её авто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а состоит из 4000 деталей и может вычислять разности 7-го поряд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осредственными предшественниками ЭВМ были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елейные вычислительные маши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механическое реле – это двухпозиционный переключатель, который имеет два состояния: включено и выключено. Это свойство позволяет использовать реле для кодирования информации в двоичном вид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оцессе работы релейной машины происходят переключения тысяч реле из одного состояния в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D3B33-0603-4189-BD07-0038BFD5667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928800" y="5400720"/>
            <a:ext cx="742932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00040" y="1285920"/>
            <a:ext cx="822960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йная машина «Марк-2» (1947г.) содержала около 13 000 реле. Одной из наиболее совершенных релейных машин была машина советского конструктора Н.И. Бессонова – РВМ-1.  Она была построена в1956 году и проработала почти 10 лет, конкурируя с существовавшими уже в то время ЭВ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ле сильно ограничивало скорость работы таких машин. Скорость РВМ-1 составляла 50 сложений или 20 умножен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EDD5-BFEE-4589-A1EE-73AF60BB95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857160" y="5500800"/>
            <a:ext cx="7429680" cy="123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785880" y="714240"/>
            <a:ext cx="7572240" cy="1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2152A-D248-47C6-A3FE-FA7F5D9EE8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2" descr="http://evm-story.narod.ru/Lampa.gif"/>
          <p:cNvPicPr/>
          <p:nvPr/>
        </p:nvPicPr>
        <p:blipFill>
          <a:blip r:embed="rId1"/>
          <a:stretch/>
        </p:blipFill>
        <p:spPr>
          <a:xfrm>
            <a:off x="1285920" y="1214280"/>
            <a:ext cx="2090520" cy="42148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3857760" y="1285920"/>
            <a:ext cx="3643200" cy="42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первой половине ХХ века бурно развивалась радиоэлектроника. Основным элементом радиоэлектроники были электронно-вакуумные ламп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ые лампы стали технической основой первых ЭВ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928800" y="6215040"/>
            <a:ext cx="7286400" cy="1224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C:\Program Files\Microsoft Office\MEDIA\OFFICE11\Lines\BD14539_.gif"/>
          <p:cNvPicPr/>
          <p:nvPr/>
        </p:nvPicPr>
        <p:blipFill>
          <a:blip r:embed="rId3"/>
          <a:stretch/>
        </p:blipFill>
        <p:spPr>
          <a:xfrm>
            <a:off x="714240" y="857160"/>
            <a:ext cx="7643880" cy="1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Начало эпохи Э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Первая ЭВМ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универсальная машина на электронных лампах - была построена в 1945 году в СШ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а машина называлась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ENI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ктронный цифровой интегратор и вычислитель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Скорость счёта этой машины превосходила скорость релейных машин того времени в тысячу ра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машин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около 18 000 электронных ламп. При работе она так разогревалась, что требовалось специальное охлаждение. Машина весила 30 тонн и потребляла мощность 150 кВ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2DE2A-897D-4BDD-BCD5-32C5F29ECB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785880" y="5686560"/>
            <a:ext cx="742932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5BD5-6812-4474-B0DE-2834926292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Содержимое 4" descr="en02.jpg"/>
          <p:cNvPicPr/>
          <p:nvPr/>
        </p:nvPicPr>
        <p:blipFill>
          <a:blip r:embed="rId1"/>
          <a:stretch/>
        </p:blipFill>
        <p:spPr>
          <a:xfrm>
            <a:off x="803160" y="1143000"/>
            <a:ext cx="741204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500040" y="642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ервый электронный компьюте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IAC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ограммировался штекерно-коммунитационным способом. Программа набиралась при помощи штекеров, вручную, «навтыкивалась». На коммутационной доске соединялись проводниками отдельные блоки маши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3B4D1-6896-4F08-9089-1AB8163079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C:\Program Files\Microsoft Office\MEDIA\CAGCAT10\j0205582.wmf"/>
          <p:cNvPicPr/>
          <p:nvPr/>
        </p:nvPicPr>
        <p:blipFill>
          <a:blip r:embed="rId1"/>
          <a:stretch/>
        </p:blipFill>
        <p:spPr>
          <a:xfrm>
            <a:off x="5500800" y="3500280"/>
            <a:ext cx="2320920" cy="21304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 rot="12130800">
            <a:off x="716040" y="4924440"/>
            <a:ext cx="4147920" cy="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I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C44F-E3D2-4160-B825-B50120C911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4" descr="eniac.jpg"/>
          <p:cNvPicPr/>
          <p:nvPr/>
        </p:nvPicPr>
        <p:blipFill>
          <a:blip r:embed="rId1"/>
          <a:stretch/>
        </p:blipFill>
        <p:spPr>
          <a:xfrm>
            <a:off x="1071720" y="1176480"/>
            <a:ext cx="7358040" cy="51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4606-563A-41A7-9B71-BA6D191E4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Object 2" descr=""/>
          <p:cNvPicPr/>
          <p:nvPr/>
        </p:nvPicPr>
        <p:blipFill>
          <a:blip r:embed="rId1"/>
          <a:stretch/>
        </p:blipFill>
        <p:spPr>
          <a:xfrm>
            <a:off x="6072120" y="2714760"/>
            <a:ext cx="2413080" cy="110952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571680" y="192888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вым счётным средством для человека были его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альц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от инструмент всегда под руко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714240" y="35712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Arial"/>
              </a:rPr>
              <a:t>История средств обработ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Object 3"/>
          <p:cNvGraphicFramePr/>
          <p:nvPr/>
        </p:nvGraphicFramePr>
        <p:xfrm>
          <a:off x="1500120" y="4143240"/>
          <a:ext cx="1220760" cy="72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00120" y="4143240"/>
                    <a:ext cx="1220760" cy="7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Object 4"/>
          <p:cNvGraphicFramePr/>
          <p:nvPr/>
        </p:nvGraphicFramePr>
        <p:xfrm>
          <a:off x="1643040" y="3643200"/>
          <a:ext cx="1311120" cy="78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3040" y="3643200"/>
                    <a:ext cx="131112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5"/>
          <p:cNvGraphicFramePr/>
          <p:nvPr/>
        </p:nvGraphicFramePr>
        <p:xfrm>
          <a:off x="500040" y="4143240"/>
          <a:ext cx="142704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0040" y="4143240"/>
                    <a:ext cx="142704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Box 9"/>
          <p:cNvSpPr/>
          <p:nvPr/>
        </p:nvSpPr>
        <p:spPr>
          <a:xfrm>
            <a:off x="500040" y="307188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лись и другие способы сч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Object 6"/>
          <p:cNvGraphicFramePr/>
          <p:nvPr/>
        </p:nvGraphicFramePr>
        <p:xfrm>
          <a:off x="3071880" y="4143240"/>
          <a:ext cx="2162160" cy="2362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67" name="Object 6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071880" y="4143240"/>
                    <a:ext cx="216216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Object 7"/>
          <p:cNvGraphicFramePr/>
          <p:nvPr/>
        </p:nvGraphicFramePr>
        <p:xfrm>
          <a:off x="5581800" y="4238640"/>
          <a:ext cx="1352520" cy="5810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69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5581800" y="4238640"/>
                    <a:ext cx="135252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Object 8"/>
          <p:cNvGraphicFramePr/>
          <p:nvPr/>
        </p:nvGraphicFramePr>
        <p:xfrm>
          <a:off x="5429160" y="5000760"/>
          <a:ext cx="1648080" cy="5904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71" name="Object 8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429160" y="5000760"/>
                    <a:ext cx="16480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9"/>
          <p:cNvGraphicFramePr/>
          <p:nvPr/>
        </p:nvGraphicFramePr>
        <p:xfrm>
          <a:off x="5734080" y="5686560"/>
          <a:ext cx="1228680" cy="2952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73" name="Object 9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734080" y="5686560"/>
                    <a:ext cx="122868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10"/>
          <p:cNvGraphicFramePr/>
          <p:nvPr/>
        </p:nvGraphicFramePr>
        <p:xfrm>
          <a:off x="5734080" y="6067440"/>
          <a:ext cx="1247760" cy="3906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75" name="Object 10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734080" y="6067440"/>
                    <a:ext cx="124776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73"/>
                </a:solidFill>
                <a:latin typeface="Arial"/>
              </a:rPr>
              <a:t>Принципы работы ЭВ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ные идеи, по которым долгие годы развивалась вычислительная техника, были разработаны крупнейшим американским математиком </a:t>
            </a:r>
            <a:r>
              <a:rPr b="0" lang="ru-RU" sz="2200" spc="-1" strike="noStrike">
                <a:solidFill>
                  <a:srgbClr val="262673"/>
                </a:solidFill>
                <a:latin typeface="Arial"/>
              </a:rPr>
              <a:t>Джоном фон Нейманом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ринцип программного управ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принцип двоичного кодирования, арифметическое устройство должно работать в двоичной системе счис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ринцип хранимой в памяти  программы (программа должна храниться в памяти вместе с числами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память должна иметь иерархическую структуру (невозможно при включении ЭВМ вводить в машину программу, её надо хранить на внешних носителях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0EF0C-85CF-4DE7-8E8D-34EA143E850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571320"/>
            <a:ext cx="822960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ответствии с идеями Неймана современные вычислительные машины состоят из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роцесс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арифметического устройст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устройств ввода-вывод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памя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для хранения данных и програм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была построена первая ЭВМ с архитектурой Неймана – английская маши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S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 появилась американская ЭВ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VA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Эти машины существовали в единственных экземплярах. Серийное производство ЭВМ началось в развитых странах в 50-х годах ХХ 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0683-C6BC-4870-AA84-50DEC89AE1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C:\Program Files\Microsoft Office\MEDIA\OFFICE11\Lines\BD14539_.gif"/>
          <p:cNvPicPr/>
          <p:nvPr/>
        </p:nvPicPr>
        <p:blipFill>
          <a:blip r:embed="rId1"/>
          <a:stretch/>
        </p:blipFill>
        <p:spPr>
          <a:xfrm>
            <a:off x="571680" y="5857920"/>
            <a:ext cx="7929360" cy="13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ДСАК 1949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CBDD-678E-49F3-934A-0129A12266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030"/>
          <p:cNvGrpSpPr/>
          <p:nvPr/>
        </p:nvGrpSpPr>
        <p:grpSpPr>
          <a:xfrm>
            <a:off x="1857240" y="2143080"/>
            <a:ext cx="5572440" cy="3502080"/>
            <a:chOff x="1857240" y="2143080"/>
            <a:chExt cx="5572440" cy="3502080"/>
          </a:xfrm>
        </p:grpSpPr>
        <p:pic>
          <p:nvPicPr>
            <p:cNvPr id="161" name="Picture 1027" descr="D:\слровождение диска\страница история ВТ\007 цвет.JPG"/>
            <p:cNvPicPr/>
            <p:nvPr/>
          </p:nvPicPr>
          <p:blipFill>
            <a:blip r:embed="rId1"/>
            <a:stretch/>
          </p:blipFill>
          <p:spPr>
            <a:xfrm>
              <a:off x="1932480" y="2143080"/>
              <a:ext cx="5496840" cy="350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Rectangle 1029"/>
            <p:cNvSpPr/>
            <p:nvPr/>
          </p:nvSpPr>
          <p:spPr>
            <a:xfrm>
              <a:off x="1857240" y="2143080"/>
              <a:ext cx="5572440" cy="3481200"/>
            </a:xfrm>
            <a:prstGeom prst="rect">
              <a:avLst/>
            </a:prstGeom>
            <a:noFill/>
            <a:ln w="101520">
              <a:solidFill>
                <a:srgbClr val="996633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Arial"/>
              </a:rPr>
              <a:t>Русская вычислительная тех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ей стране первая ЭВМ была создана 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5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ду. Называлась она 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МЭС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малая электронная счётная машина. Конструктором МЭСМ был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Сергей Алексеевич Лебед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Институт электротехники АН УССР возглавляемый С.А. Лебедевым находился в Кие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 руководством С.А. Лебедева в 50-х годах в СССР были построены серийные ламповые ЭВМ БЭСМ-1 (быстродействующая электронная счётная машина), БЭСМ -2 , М-20. В то время эти машины были одними из лучших в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9234A-4EA4-44EC-90E5-C9308E9140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ЭСМ -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B92B-F71C-4527-8086-BDC99C8EB3A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Содержимое 4" descr="besm6_1.jpg"/>
          <p:cNvPicPr/>
          <p:nvPr/>
        </p:nvPicPr>
        <p:blipFill>
          <a:blip r:embed="rId1"/>
          <a:stretch/>
        </p:blipFill>
        <p:spPr>
          <a:xfrm>
            <a:off x="857160" y="1476360"/>
            <a:ext cx="7499520" cy="43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2876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60-х годах ХХ века С.А. Лебедев руководил разработкой полупроводниковых ЭВМ БЭСМ-3М, БЭСМ-4, М-220, М-222. Выдающимся достижением того периода была маши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ЭСМ-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 первая отечественная и одна из первых в мире ЭВМ с быстродействием 1 миллион операций в секу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481B-DB06-4155-96C5-EA3E4123F5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C:\Program Files\Microsoft Office\MEDIA\CAGCAT10\j0292982.wmf"/>
          <p:cNvPicPr/>
          <p:nvPr/>
        </p:nvPicPr>
        <p:blipFill>
          <a:blip r:embed="rId1"/>
          <a:stretch/>
        </p:blipFill>
        <p:spPr>
          <a:xfrm>
            <a:off x="5857920" y="3714840"/>
            <a:ext cx="1843200" cy="1819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C:\Program Files\Microsoft Office\MEDIA\OFFICE11\Lines\BD14539_.gif"/>
          <p:cNvPicPr/>
          <p:nvPr/>
        </p:nvPicPr>
        <p:blipFill>
          <a:blip r:embed="rId2"/>
          <a:stretch/>
        </p:blipFill>
        <p:spPr>
          <a:xfrm>
            <a:off x="642960" y="6072120"/>
            <a:ext cx="7786800" cy="1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00040" y="71388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еке нашей эры в Греции и Египте получил распространение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б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Переводится он как «счётная доска».  Слово это греческое и означает буквально «пыль». При чём тут пыль? Очень просто: на специальной доске в определённом порядке раскладывались камешки, а чтобы они не скатывались, доска покрывалась слоем песка или пы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7259-6E56-41BC-92C9-FFF17C8F5E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5143680" y="3786120"/>
            <a:ext cx="3186000" cy="2090880"/>
          </a:xfrm>
          <a:prstGeom prst="rect">
            <a:avLst/>
          </a:prstGeom>
          <a:ln w="0">
            <a:noFill/>
          </a:ln>
        </p:spPr>
      </p:pic>
      <p:sp>
        <p:nvSpPr>
          <p:cNvPr id="79" name="TextBox 8"/>
          <p:cNvSpPr/>
          <p:nvPr/>
        </p:nvSpPr>
        <p:spPr>
          <a:xfrm>
            <a:off x="857160" y="3929040"/>
            <a:ext cx="421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оследствии вместо пыли на доске выдалбливали желобки, по которым перемещали каме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5"/>
          <p:cNvSpPr txBox="1"/>
          <p:nvPr/>
        </p:nvSpPr>
        <p:spPr>
          <a:xfrm>
            <a:off x="6215040" y="5857920"/>
            <a:ext cx="1227240" cy="75384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6633"/>
                  </a:solidFill>
                  <a:miter/>
                </a:ln>
                <a:solidFill>
                  <a:srgbClr val="262673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Arial"/>
              </a:rPr>
              <a:t>абак</a:t>
            </a:r>
            <a:endParaRPr b="0" lang="en-US" sz="1800" spc="1" strike="noStrike">
              <a:ln w="12600">
                <a:solidFill>
                  <a:srgbClr val="996633"/>
                </a:solidFill>
                <a:miter/>
              </a:ln>
              <a:solidFill>
                <a:srgbClr val="262673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чёты с костяшкам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 тоже абак, только модернизированный, вместо пыли – проволочные сп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000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обные инструменты счёта распространились и развивались по всему ми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 китайские, римские счёты. А вот русские счёты до сих пор пытаются конкурировать с современной вычислительной техн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127A-5BA6-42BE-B98C-B988737B9E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2786040" y="3500280"/>
            <a:ext cx="35830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3"/>
          <p:cNvSpPr/>
          <p:nvPr/>
        </p:nvSpPr>
        <p:spPr>
          <a:xfrm>
            <a:off x="4929120" y="1214280"/>
            <a:ext cx="342900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 китайцев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суан-пан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у японц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серобян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России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– </a:t>
            </a: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«щоты»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2"/>
          <p:cNvGraphicFramePr/>
          <p:nvPr/>
        </p:nvGraphicFramePr>
        <p:xfrm>
          <a:off x="500040" y="285840"/>
          <a:ext cx="4362480" cy="632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285840"/>
                    <a:ext cx="4362480" cy="63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429160" y="571680"/>
            <a:ext cx="3229200" cy="56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1800"/>
            </a:br>
            <a:br>
              <a:rPr sz="18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45 год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-летний французский физик и математик Блез Паскаль создал первую счётную машину. Эта машина выполняла сложение и вычитание многозначных чисел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04A05-0ECF-41C1-B418-08AFB6DF7C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2"/>
          <p:cNvGraphicFramePr/>
          <p:nvPr/>
        </p:nvGraphicFramePr>
        <p:xfrm>
          <a:off x="571680" y="428760"/>
          <a:ext cx="4705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428760"/>
                    <a:ext cx="4705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Содержимое 4" descr="зубчатая передача.png"/>
          <p:cNvPicPr/>
          <p:nvPr/>
        </p:nvPicPr>
        <p:blipFill>
          <a:blip r:embed="rId1"/>
          <a:stretch/>
        </p:blipFill>
        <p:spPr>
          <a:xfrm>
            <a:off x="1500120" y="1785960"/>
            <a:ext cx="6143760" cy="4203720"/>
          </a:xfrm>
          <a:prstGeom prst="rect">
            <a:avLst/>
          </a:prstGeom>
          <a:ln w="0">
            <a:noFill/>
          </a:ln>
        </p:spPr>
      </p:pic>
      <p:sp>
        <p:nvSpPr>
          <p:cNvPr id="93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B349-7F70-4138-9C25-CDE981DBD5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5"/>
          <p:cNvSpPr/>
          <p:nvPr/>
        </p:nvSpPr>
        <p:spPr>
          <a:xfrm>
            <a:off x="1071720" y="78588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числительные операции машина производила с помощью зубчатых колё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56840" y="713880"/>
            <a:ext cx="3900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1673 году немецкий учёный Вильгельм Лейбниц создал арифметическую машину (механический арифмометр), которая механически выполняла все четыре арифметических  операции с многозначными числ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06BF-A6BF-4B95-91DE-15AB7414C1C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2"/>
          <p:cNvGraphicFramePr/>
          <p:nvPr/>
        </p:nvGraphicFramePr>
        <p:xfrm>
          <a:off x="4786200" y="785880"/>
          <a:ext cx="374328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6200" y="785880"/>
                    <a:ext cx="37432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Picture 5" descr="C:\Program Files\Microsoft Office\MEDIA\OFFICE11\Lines\BD14539_.gif"/>
          <p:cNvPicPr/>
          <p:nvPr/>
        </p:nvPicPr>
        <p:blipFill>
          <a:blip r:embed="rId3"/>
          <a:stretch/>
        </p:blipFill>
        <p:spPr>
          <a:xfrm>
            <a:off x="642960" y="6000840"/>
            <a:ext cx="7000920" cy="11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Машина Бэббиджа – предшественница ЭВ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8760" y="1071720"/>
            <a:ext cx="8229600" cy="47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823 году Чарльзом Бэббиджем, профессором Кембриджского  университета, была выдвинута идея создания универсальной программируемой счётной маш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думанный им проект машины содержал все основные устройства вычислительных машин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КЛАД (память), где хранятся исходные числа и промежуточные результат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ЛЬНИЦА (арифметическое устройство), в которой осуществляются операции над числами, взятыми из склад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ОРА (устройство управления), производит управление последовательностью операций над числами соответственно заданной программ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 ВВОДА исходных данны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К ПЕЧАТИ РЕЗУЛЬТА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29A-ABA1-47E5-BE90-6E98D3B266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9T04:11:08Z</dcterms:created>
  <dc:creator>-</dc:creator>
  <dc:description/>
  <dc:language>en-US</dc:language>
  <cp:lastModifiedBy>User</cp:lastModifiedBy>
  <dcterms:modified xsi:type="dcterms:W3CDTF">2018-06-18T07:20:22Z</dcterms:modified>
  <cp:revision>83</cp:revision>
  <dc:subject/>
  <dc:title>ГОСТы оформления документов</dc:title>
</cp:coreProperties>
</file>