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7774-E285-4027-B055-5D32023D6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0745-ACBF-46AF-B4ED-9C94BA04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98D7-596F-4F85-805D-FE393BDA8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D6EB-B368-4B41-919D-5E86985CC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DD91-A849-42EE-A306-E5D0617C6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C307-84E6-4FF1-ABD4-4A24FAF09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4D6B-EB50-4B7A-BD8E-1BAAEE01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320E-9D46-46F3-80FD-E0798213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7BC1-4879-4613-9BEE-5E548FAD8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CC8D-47DE-46A1-A70E-2D5DFE81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54B6-96C4-4134-ABDE-2CA3EBFE2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CDC3-70C2-4FE3-8AA1-3E6E32EA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7476-D324-4E02-AC50-24D3CC5D007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53"/>
          <p:cNvSpPr/>
          <p:nvPr/>
        </p:nvSpPr>
        <p:spPr>
          <a:xfrm>
            <a:off x="477720" y="1138320"/>
            <a:ext cx="1086120" cy="2485800"/>
          </a:xfrm>
          <a:custGeom>
            <a:avLst/>
            <a:gdLst>
              <a:gd name="textAreaLeft" fmla="*/ 0 w 1086120"/>
              <a:gd name="textAreaRight" fmla="*/ 1086480 w 1086120"/>
              <a:gd name="textAreaTop" fmla="*/ 0 h 2485800"/>
              <a:gd name="textAreaBottom" fmla="*/ 2486160 h 2485800"/>
            </a:gdLst>
            <a:ahLst/>
            <a:rect l="textAreaLeft" t="textAreaTop" r="textAreaRight" b="textAreaBottom"/>
            <a:pathLst>
              <a:path w="1270" h="1859">
                <a:moveTo>
                  <a:pt x="0" y="0"/>
                </a:moveTo>
                <a:cubicBezTo>
                  <a:pt x="144" y="553"/>
                  <a:pt x="288" y="1108"/>
                  <a:pt x="409" y="1417"/>
                </a:cubicBezTo>
                <a:cubicBezTo>
                  <a:pt x="530" y="1726"/>
                  <a:pt x="630" y="1859"/>
                  <a:pt x="726" y="1859"/>
                </a:cubicBezTo>
                <a:cubicBezTo>
                  <a:pt x="822" y="1859"/>
                  <a:pt x="897" y="1729"/>
                  <a:pt x="988" y="1419"/>
                </a:cubicBezTo>
                <a:cubicBezTo>
                  <a:pt x="1079" y="1109"/>
                  <a:pt x="1211" y="296"/>
                  <a:pt x="1270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Прямая со стрелкой 2"/>
          <p:cNvCxnSpPr/>
          <p:nvPr/>
        </p:nvCxnSpPr>
        <p:spPr>
          <a:xfrm>
            <a:off x="298440" y="2604600"/>
            <a:ext cx="2448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3" name="Прямая со стрелкой 54"/>
          <p:cNvCxnSpPr/>
          <p:nvPr/>
        </p:nvCxnSpPr>
        <p:spPr>
          <a:xfrm>
            <a:off x="3362400" y="2604600"/>
            <a:ext cx="2449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4" name="Прямая со стрелкой 55"/>
          <p:cNvCxnSpPr/>
          <p:nvPr/>
        </p:nvCxnSpPr>
        <p:spPr>
          <a:xfrm>
            <a:off x="298440" y="5086080"/>
            <a:ext cx="2448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5" name="Прямая со стрелкой 56"/>
          <p:cNvCxnSpPr/>
          <p:nvPr/>
        </p:nvCxnSpPr>
        <p:spPr>
          <a:xfrm>
            <a:off x="3362400" y="5128920"/>
            <a:ext cx="2449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6" name="Прямая со стрелкой 57"/>
          <p:cNvCxnSpPr/>
          <p:nvPr/>
        </p:nvCxnSpPr>
        <p:spPr>
          <a:xfrm>
            <a:off x="6202440" y="5128920"/>
            <a:ext cx="2448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" name="Прямая со стрелкой 58"/>
          <p:cNvCxnSpPr/>
          <p:nvPr/>
        </p:nvCxnSpPr>
        <p:spPr>
          <a:xfrm>
            <a:off x="6346800" y="2604600"/>
            <a:ext cx="2448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8" name="Прямая со стрелкой 59"/>
          <p:cNvCxnSpPr/>
          <p:nvPr/>
        </p:nvCxnSpPr>
        <p:spPr>
          <a:xfrm flipV="1">
            <a:off x="1501560" y="1464480"/>
            <a:ext cx="1080" cy="2159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9" name="Прямая со стрелкой 62"/>
          <p:cNvCxnSpPr/>
          <p:nvPr/>
        </p:nvCxnSpPr>
        <p:spPr>
          <a:xfrm flipV="1">
            <a:off x="7570440" y="1464480"/>
            <a:ext cx="1080" cy="2159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0" name="Прямая со стрелкой 69"/>
          <p:cNvCxnSpPr/>
          <p:nvPr/>
        </p:nvCxnSpPr>
        <p:spPr>
          <a:xfrm flipV="1">
            <a:off x="4586040" y="1523880"/>
            <a:ext cx="1080" cy="216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1" name="Прямая со стрелкой 76"/>
          <p:cNvCxnSpPr/>
          <p:nvPr/>
        </p:nvCxnSpPr>
        <p:spPr>
          <a:xfrm flipV="1">
            <a:off x="1541160" y="3929040"/>
            <a:ext cx="1080" cy="216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2" name="Прямая со стрелкой 77"/>
          <p:cNvCxnSpPr/>
          <p:nvPr/>
        </p:nvCxnSpPr>
        <p:spPr>
          <a:xfrm flipV="1">
            <a:off x="4586040" y="3929040"/>
            <a:ext cx="1080" cy="216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3" name="Прямая со стрелкой 78"/>
          <p:cNvCxnSpPr/>
          <p:nvPr/>
        </p:nvCxnSpPr>
        <p:spPr>
          <a:xfrm flipV="1">
            <a:off x="7414920" y="4006800"/>
            <a:ext cx="1080" cy="216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4" name="Freeform 53"/>
          <p:cNvSpPr/>
          <p:nvPr/>
        </p:nvSpPr>
        <p:spPr>
          <a:xfrm>
            <a:off x="1720800" y="3929040"/>
            <a:ext cx="720720" cy="2486160"/>
          </a:xfrm>
          <a:custGeom>
            <a:avLst/>
            <a:gdLst>
              <a:gd name="textAreaLeft" fmla="*/ 0 w 720720"/>
              <a:gd name="textAreaRight" fmla="*/ 721080 w 720720"/>
              <a:gd name="textAreaTop" fmla="*/ 0 h 2486160"/>
              <a:gd name="textAreaBottom" fmla="*/ 2486520 h 2486160"/>
            </a:gdLst>
            <a:ahLst/>
            <a:rect l="textAreaLeft" t="textAreaTop" r="textAreaRight" b="textAreaBottom"/>
            <a:pathLst>
              <a:path w="1270" h="1859">
                <a:moveTo>
                  <a:pt x="0" y="0"/>
                </a:moveTo>
                <a:cubicBezTo>
                  <a:pt x="144" y="553"/>
                  <a:pt x="288" y="1108"/>
                  <a:pt x="409" y="1417"/>
                </a:cubicBezTo>
                <a:cubicBezTo>
                  <a:pt x="530" y="1726"/>
                  <a:pt x="630" y="1859"/>
                  <a:pt x="726" y="1859"/>
                </a:cubicBezTo>
                <a:cubicBezTo>
                  <a:pt x="822" y="1859"/>
                  <a:pt x="897" y="1729"/>
                  <a:pt x="988" y="1419"/>
                </a:cubicBezTo>
                <a:cubicBezTo>
                  <a:pt x="1079" y="1109"/>
                  <a:pt x="1211" y="296"/>
                  <a:pt x="1270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Freeform 53"/>
          <p:cNvSpPr/>
          <p:nvPr/>
        </p:nvSpPr>
        <p:spPr>
          <a:xfrm>
            <a:off x="6346800" y="1138320"/>
            <a:ext cx="2154240" cy="2485800"/>
          </a:xfrm>
          <a:custGeom>
            <a:avLst/>
            <a:gdLst>
              <a:gd name="textAreaLeft" fmla="*/ 0 w 2154240"/>
              <a:gd name="textAreaRight" fmla="*/ 2154240 w 2154240"/>
              <a:gd name="textAreaTop" fmla="*/ 0 h 2485800"/>
              <a:gd name="textAreaBottom" fmla="*/ 2486160 h 2485800"/>
            </a:gdLst>
            <a:ahLst/>
            <a:rect l="textAreaLeft" t="textAreaTop" r="textAreaRight" b="textAreaBottom"/>
            <a:pathLst>
              <a:path w="1270" h="1859">
                <a:moveTo>
                  <a:pt x="0" y="0"/>
                </a:moveTo>
                <a:cubicBezTo>
                  <a:pt x="144" y="553"/>
                  <a:pt x="288" y="1108"/>
                  <a:pt x="409" y="1417"/>
                </a:cubicBezTo>
                <a:cubicBezTo>
                  <a:pt x="530" y="1726"/>
                  <a:pt x="630" y="1859"/>
                  <a:pt x="726" y="1859"/>
                </a:cubicBezTo>
                <a:cubicBezTo>
                  <a:pt x="822" y="1859"/>
                  <a:pt x="897" y="1729"/>
                  <a:pt x="988" y="1419"/>
                </a:cubicBezTo>
                <a:cubicBezTo>
                  <a:pt x="1079" y="1109"/>
                  <a:pt x="1211" y="296"/>
                  <a:pt x="1270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53"/>
          <p:cNvSpPr/>
          <p:nvPr/>
        </p:nvSpPr>
        <p:spPr>
          <a:xfrm rot="10800000">
            <a:off x="3505320" y="4263840"/>
            <a:ext cx="1085760" cy="1903320"/>
          </a:xfrm>
          <a:custGeom>
            <a:avLst/>
            <a:gdLst>
              <a:gd name="textAreaLeft" fmla="*/ 0 w 1085760"/>
              <a:gd name="textAreaRight" fmla="*/ 1086120 w 1085760"/>
              <a:gd name="textAreaTop" fmla="*/ 0 h 1903320"/>
              <a:gd name="textAreaBottom" fmla="*/ 1903680 h 1903320"/>
            </a:gdLst>
            <a:ahLst/>
            <a:rect l="textAreaLeft" t="textAreaTop" r="textAreaRight" b="textAreaBottom"/>
            <a:pathLst>
              <a:path w="1270" h="1859">
                <a:moveTo>
                  <a:pt x="0" y="0"/>
                </a:moveTo>
                <a:cubicBezTo>
                  <a:pt x="144" y="553"/>
                  <a:pt x="288" y="1108"/>
                  <a:pt x="409" y="1417"/>
                </a:cubicBezTo>
                <a:cubicBezTo>
                  <a:pt x="530" y="1726"/>
                  <a:pt x="630" y="1859"/>
                  <a:pt x="726" y="1859"/>
                </a:cubicBezTo>
                <a:cubicBezTo>
                  <a:pt x="822" y="1859"/>
                  <a:pt x="897" y="1729"/>
                  <a:pt x="988" y="1419"/>
                </a:cubicBezTo>
                <a:cubicBezTo>
                  <a:pt x="1079" y="1109"/>
                  <a:pt x="1211" y="296"/>
                  <a:pt x="1270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ая соединительная линия 17"/>
          <p:cNvSpPr/>
          <p:nvPr/>
        </p:nvSpPr>
        <p:spPr>
          <a:xfrm flipV="1">
            <a:off x="3362400" y="1523520"/>
            <a:ext cx="2047680" cy="18766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Дуга 18"/>
          <p:cNvSpPr/>
          <p:nvPr/>
        </p:nvSpPr>
        <p:spPr>
          <a:xfrm rot="5400000">
            <a:off x="5257800" y="2984400"/>
            <a:ext cx="1890720" cy="2160720"/>
          </a:xfrm>
          <a:custGeom>
            <a:avLst/>
            <a:gdLst/>
            <a:ahLst/>
            <a:rect l="l" t="t" r="r" b="b"/>
            <a:pathLst>
              <a:path stroke="0" w="1890712" h="2160587">
                <a:moveTo>
                  <a:pt x="945356" y="0"/>
                </a:moveTo>
                <a:cubicBezTo>
                  <a:pt x="1220686" y="0"/>
                  <a:pt x="1482335" y="137166"/>
                  <a:pt x="1661925" y="375652"/>
                </a:cubicBezTo>
                <a:cubicBezTo>
                  <a:pt x="1812652" y="575810"/>
                  <a:pt x="1894004" y="832123"/>
                  <a:pt x="1890610" y="1096160"/>
                </a:cubicBezTo>
                <a:lnTo>
                  <a:pt x="945356" y="1080294"/>
                </a:lnTo>
                <a:lnTo>
                  <a:pt x="945356" y="0"/>
                </a:lnTo>
                <a:close/>
              </a:path>
              <a:path fill="none" w="1890712" h="2160587">
                <a:moveTo>
                  <a:pt x="945356" y="0"/>
                </a:moveTo>
                <a:cubicBezTo>
                  <a:pt x="1220686" y="0"/>
                  <a:pt x="1482335" y="137166"/>
                  <a:pt x="1661925" y="375652"/>
                </a:cubicBezTo>
                <a:cubicBezTo>
                  <a:pt x="1812652" y="575810"/>
                  <a:pt x="1894004" y="832123"/>
                  <a:pt x="1890610" y="1096160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Дуга 84"/>
          <p:cNvSpPr/>
          <p:nvPr/>
        </p:nvSpPr>
        <p:spPr>
          <a:xfrm rot="16200000">
            <a:off x="7624080" y="4683600"/>
            <a:ext cx="1890360" cy="2158920"/>
          </a:xfrm>
          <a:custGeom>
            <a:avLst/>
            <a:gdLst/>
            <a:ahLst/>
            <a:rect l="l" t="t" r="r" b="b"/>
            <a:pathLst>
              <a:path stroke="0" w="1890712" h="2159000">
                <a:moveTo>
                  <a:pt x="945356" y="0"/>
                </a:moveTo>
                <a:cubicBezTo>
                  <a:pt x="1220566" y="0"/>
                  <a:pt x="1482114" y="136947"/>
                  <a:pt x="1661700" y="375079"/>
                </a:cubicBezTo>
                <a:cubicBezTo>
                  <a:pt x="1812570" y="575133"/>
                  <a:pt x="1894008" y="831385"/>
                  <a:pt x="1890610" y="1095367"/>
                </a:cubicBezTo>
                <a:lnTo>
                  <a:pt x="945356" y="1079500"/>
                </a:lnTo>
                <a:lnTo>
                  <a:pt x="945356" y="0"/>
                </a:lnTo>
                <a:close/>
              </a:path>
              <a:path fill="none" w="1890712" h="2159000">
                <a:moveTo>
                  <a:pt x="945356" y="0"/>
                </a:moveTo>
                <a:cubicBezTo>
                  <a:pt x="1220566" y="0"/>
                  <a:pt x="1482114" y="136947"/>
                  <a:pt x="1661700" y="375079"/>
                </a:cubicBezTo>
                <a:cubicBezTo>
                  <a:pt x="1812570" y="575133"/>
                  <a:pt x="1894008" y="831385"/>
                  <a:pt x="1890610" y="1095367"/>
                </a:cubicBezTo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6"/>
          <p:cNvSpPr/>
          <p:nvPr/>
        </p:nvSpPr>
        <p:spPr>
          <a:xfrm>
            <a:off x="2461680" y="5086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36"/>
          <p:cNvSpPr/>
          <p:nvPr/>
        </p:nvSpPr>
        <p:spPr>
          <a:xfrm>
            <a:off x="7581240" y="126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6"/>
          <p:cNvSpPr/>
          <p:nvPr/>
        </p:nvSpPr>
        <p:spPr>
          <a:xfrm>
            <a:off x="5476320" y="5129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6"/>
          <p:cNvSpPr/>
          <p:nvPr/>
        </p:nvSpPr>
        <p:spPr>
          <a:xfrm>
            <a:off x="7467120" y="3792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6"/>
          <p:cNvSpPr/>
          <p:nvPr/>
        </p:nvSpPr>
        <p:spPr>
          <a:xfrm>
            <a:off x="8335440" y="5079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36"/>
          <p:cNvSpPr/>
          <p:nvPr/>
        </p:nvSpPr>
        <p:spPr>
          <a:xfrm>
            <a:off x="4250520" y="3833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6"/>
          <p:cNvSpPr/>
          <p:nvPr/>
        </p:nvSpPr>
        <p:spPr>
          <a:xfrm>
            <a:off x="2453760" y="250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6"/>
          <p:cNvSpPr/>
          <p:nvPr/>
        </p:nvSpPr>
        <p:spPr>
          <a:xfrm>
            <a:off x="1566360" y="387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6"/>
          <p:cNvSpPr/>
          <p:nvPr/>
        </p:nvSpPr>
        <p:spPr>
          <a:xfrm>
            <a:off x="5644440" y="2581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6"/>
          <p:cNvSpPr/>
          <p:nvPr/>
        </p:nvSpPr>
        <p:spPr>
          <a:xfrm>
            <a:off x="4602960" y="13795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6"/>
          <p:cNvSpPr/>
          <p:nvPr/>
        </p:nvSpPr>
        <p:spPr>
          <a:xfrm>
            <a:off x="8532000" y="2544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6"/>
          <p:cNvSpPr/>
          <p:nvPr/>
        </p:nvSpPr>
        <p:spPr>
          <a:xfrm>
            <a:off x="1537560" y="135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Овал 106"/>
          <p:cNvSpPr/>
          <p:nvPr/>
        </p:nvSpPr>
        <p:spPr>
          <a:xfrm>
            <a:off x="6537240" y="1052640"/>
            <a:ext cx="720720" cy="711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Овал 107"/>
          <p:cNvSpPr/>
          <p:nvPr/>
        </p:nvSpPr>
        <p:spPr>
          <a:xfrm>
            <a:off x="117360" y="3708360"/>
            <a:ext cx="720720" cy="7113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Овал 108"/>
          <p:cNvSpPr/>
          <p:nvPr/>
        </p:nvSpPr>
        <p:spPr>
          <a:xfrm>
            <a:off x="3168720" y="3792600"/>
            <a:ext cx="720720" cy="7128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Овал 109"/>
          <p:cNvSpPr/>
          <p:nvPr/>
        </p:nvSpPr>
        <p:spPr>
          <a:xfrm>
            <a:off x="6176880" y="3673440"/>
            <a:ext cx="720720" cy="7113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110"/>
          <p:cNvSpPr/>
          <p:nvPr/>
        </p:nvSpPr>
        <p:spPr>
          <a:xfrm>
            <a:off x="155520" y="1052640"/>
            <a:ext cx="719280" cy="711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111"/>
          <p:cNvSpPr/>
          <p:nvPr/>
        </p:nvSpPr>
        <p:spPr>
          <a:xfrm>
            <a:off x="3343320" y="1052640"/>
            <a:ext cx="720720" cy="711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432640" cy="47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Овал 1"/>
          <p:cNvSpPr/>
          <p:nvPr/>
        </p:nvSpPr>
        <p:spPr>
          <a:xfrm>
            <a:off x="682560" y="1628640"/>
            <a:ext cx="2232000" cy="2087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Овал 2"/>
          <p:cNvSpPr/>
          <p:nvPr/>
        </p:nvSpPr>
        <p:spPr>
          <a:xfrm>
            <a:off x="3203640" y="1628640"/>
            <a:ext cx="2232000" cy="2087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Овал 3"/>
          <p:cNvSpPr/>
          <p:nvPr/>
        </p:nvSpPr>
        <p:spPr>
          <a:xfrm>
            <a:off x="5796000" y="1633680"/>
            <a:ext cx="2232000" cy="208728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Овал 4"/>
          <p:cNvSpPr/>
          <p:nvPr/>
        </p:nvSpPr>
        <p:spPr>
          <a:xfrm>
            <a:off x="1187280" y="2205000"/>
            <a:ext cx="360360" cy="36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Овал 5"/>
          <p:cNvSpPr/>
          <p:nvPr/>
        </p:nvSpPr>
        <p:spPr>
          <a:xfrm>
            <a:off x="1908000" y="2205000"/>
            <a:ext cx="360360" cy="36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6"/>
          <p:cNvSpPr/>
          <p:nvPr/>
        </p:nvSpPr>
        <p:spPr>
          <a:xfrm>
            <a:off x="3780000" y="2205000"/>
            <a:ext cx="360360" cy="36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7"/>
          <p:cNvSpPr/>
          <p:nvPr/>
        </p:nvSpPr>
        <p:spPr>
          <a:xfrm>
            <a:off x="4500720" y="2205000"/>
            <a:ext cx="358560" cy="36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Овал 8"/>
          <p:cNvSpPr/>
          <p:nvPr/>
        </p:nvSpPr>
        <p:spPr>
          <a:xfrm>
            <a:off x="6372360" y="2205000"/>
            <a:ext cx="360360" cy="36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Овал 9"/>
          <p:cNvSpPr/>
          <p:nvPr/>
        </p:nvSpPr>
        <p:spPr>
          <a:xfrm>
            <a:off x="7093080" y="2205000"/>
            <a:ext cx="358560" cy="3603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Дуга 10"/>
          <p:cNvSpPr/>
          <p:nvPr/>
        </p:nvSpPr>
        <p:spPr>
          <a:xfrm rot="18472800">
            <a:off x="6343200" y="3154680"/>
            <a:ext cx="1245960" cy="1123920"/>
          </a:xfrm>
          <a:custGeom>
            <a:avLst/>
            <a:gdLst/>
            <a:ahLst/>
            <a:rect l="l" t="t" r="r" b="b"/>
            <a:pathLst>
              <a:path stroke="0" w="1246187" h="1123950">
                <a:moveTo>
                  <a:pt x="623093" y="0"/>
                </a:moveTo>
                <a:cubicBezTo>
                  <a:pt x="801974" y="0"/>
                  <a:pt x="972226" y="69338"/>
                  <a:pt x="1090513" y="190365"/>
                </a:cubicBezTo>
                <a:cubicBezTo>
                  <a:pt x="1226940" y="329952"/>
                  <a:pt x="1277912" y="521396"/>
                  <a:pt x="1226640" y="701635"/>
                </a:cubicBezTo>
                <a:lnTo>
                  <a:pt x="623094" y="561975"/>
                </a:lnTo>
                <a:cubicBezTo>
                  <a:pt x="623094" y="374650"/>
                  <a:pt x="623093" y="187325"/>
                  <a:pt x="623093" y="0"/>
                </a:cubicBezTo>
                <a:close/>
              </a:path>
              <a:path fill="none" w="1246187" h="1123950">
                <a:moveTo>
                  <a:pt x="623093" y="0"/>
                </a:moveTo>
                <a:cubicBezTo>
                  <a:pt x="801974" y="0"/>
                  <a:pt x="972226" y="69338"/>
                  <a:pt x="1090513" y="190365"/>
                </a:cubicBezTo>
                <a:cubicBezTo>
                  <a:pt x="1226940" y="329952"/>
                  <a:pt x="1277912" y="521396"/>
                  <a:pt x="1226640" y="701635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Дуга 11"/>
          <p:cNvSpPr/>
          <p:nvPr/>
        </p:nvSpPr>
        <p:spPr>
          <a:xfrm rot="7773600">
            <a:off x="1174320" y="2158560"/>
            <a:ext cx="1247760" cy="1123920"/>
          </a:xfrm>
          <a:custGeom>
            <a:avLst/>
            <a:gdLst/>
            <a:ahLst/>
            <a:rect l="l" t="t" r="r" b="b"/>
            <a:pathLst>
              <a:path stroke="0" w="1247775" h="1123950">
                <a:moveTo>
                  <a:pt x="623887" y="0"/>
                </a:moveTo>
                <a:cubicBezTo>
                  <a:pt x="802858" y="0"/>
                  <a:pt x="973211" y="69232"/>
                  <a:pt x="1091642" y="190099"/>
                </a:cubicBezTo>
                <a:cubicBezTo>
                  <a:pt x="1228478" y="329749"/>
                  <a:pt x="1279606" y="521396"/>
                  <a:pt x="1228155" y="701802"/>
                </a:cubicBezTo>
                <a:lnTo>
                  <a:pt x="623888" y="561975"/>
                </a:lnTo>
                <a:cubicBezTo>
                  <a:pt x="623888" y="374650"/>
                  <a:pt x="623887" y="187325"/>
                  <a:pt x="623887" y="0"/>
                </a:cubicBezTo>
                <a:close/>
              </a:path>
              <a:path fill="none" w="1247775" h="1123950">
                <a:moveTo>
                  <a:pt x="623887" y="0"/>
                </a:moveTo>
                <a:cubicBezTo>
                  <a:pt x="802858" y="0"/>
                  <a:pt x="973211" y="69232"/>
                  <a:pt x="1091642" y="190099"/>
                </a:cubicBezTo>
                <a:cubicBezTo>
                  <a:pt x="1228478" y="329749"/>
                  <a:pt x="1279606" y="521396"/>
                  <a:pt x="1228155" y="701802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ая соединительная линия 13"/>
          <p:cNvSpPr/>
          <p:nvPr/>
        </p:nvSpPr>
        <p:spPr>
          <a:xfrm>
            <a:off x="3959280" y="3141720"/>
            <a:ext cx="7207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4"/>
          <p:cNvSpPr/>
          <p:nvPr/>
        </p:nvSpPr>
        <p:spPr>
          <a:xfrm>
            <a:off x="3003120" y="549360"/>
            <a:ext cx="222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стро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5"/>
          <p:cNvSpPr/>
          <p:nvPr/>
        </p:nvSpPr>
        <p:spPr>
          <a:xfrm>
            <a:off x="861480" y="3968640"/>
            <a:ext cx="167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орош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6"/>
          <p:cNvSpPr/>
          <p:nvPr/>
        </p:nvSpPr>
        <p:spPr>
          <a:xfrm>
            <a:off x="3488400" y="3968640"/>
            <a:ext cx="153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редне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7"/>
          <p:cNvSpPr/>
          <p:nvPr/>
        </p:nvSpPr>
        <p:spPr>
          <a:xfrm>
            <a:off x="6136560" y="3981600"/>
            <a:ext cx="139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ох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2"/>
          <p:cNvSpPr/>
          <p:nvPr/>
        </p:nvSpPr>
        <p:spPr>
          <a:xfrm>
            <a:off x="984600" y="595440"/>
            <a:ext cx="705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машнее зада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 « Проверь себя»    стр. 1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 Сделать свой рисунок из параб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"/>
          <p:cNvPicPr/>
          <p:nvPr/>
        </p:nvPicPr>
        <p:blipFill>
          <a:blip r:embed="rId1"/>
          <a:stretch/>
        </p:blipFill>
        <p:spPr>
          <a:xfrm>
            <a:off x="2195640" y="2165400"/>
            <a:ext cx="677844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reeform 53"/>
          <p:cNvSpPr/>
          <p:nvPr/>
        </p:nvSpPr>
        <p:spPr>
          <a:xfrm>
            <a:off x="477720" y="1138320"/>
            <a:ext cx="1086120" cy="2485800"/>
          </a:xfrm>
          <a:custGeom>
            <a:avLst/>
            <a:gdLst>
              <a:gd name="textAreaLeft" fmla="*/ 0 w 1086120"/>
              <a:gd name="textAreaRight" fmla="*/ 1086480 w 1086120"/>
              <a:gd name="textAreaTop" fmla="*/ 0 h 2485800"/>
              <a:gd name="textAreaBottom" fmla="*/ 2486160 h 2485800"/>
            </a:gdLst>
            <a:ahLst/>
            <a:rect l="textAreaLeft" t="textAreaTop" r="textAreaRight" b="textAreaBottom"/>
            <a:pathLst>
              <a:path w="1270" h="1859">
                <a:moveTo>
                  <a:pt x="0" y="0"/>
                </a:moveTo>
                <a:cubicBezTo>
                  <a:pt x="144" y="553"/>
                  <a:pt x="288" y="1108"/>
                  <a:pt x="409" y="1417"/>
                </a:cubicBezTo>
                <a:cubicBezTo>
                  <a:pt x="530" y="1726"/>
                  <a:pt x="630" y="1859"/>
                  <a:pt x="726" y="1859"/>
                </a:cubicBezTo>
                <a:cubicBezTo>
                  <a:pt x="822" y="1859"/>
                  <a:pt x="897" y="1729"/>
                  <a:pt x="988" y="1419"/>
                </a:cubicBezTo>
                <a:cubicBezTo>
                  <a:pt x="1079" y="1109"/>
                  <a:pt x="1211" y="296"/>
                  <a:pt x="1270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Прямая со стрелкой 2"/>
          <p:cNvCxnSpPr/>
          <p:nvPr/>
        </p:nvCxnSpPr>
        <p:spPr>
          <a:xfrm>
            <a:off x="298440" y="2604600"/>
            <a:ext cx="2448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0" name="Прямая со стрелкой 4"/>
          <p:cNvCxnSpPr/>
          <p:nvPr/>
        </p:nvCxnSpPr>
        <p:spPr>
          <a:xfrm>
            <a:off x="298440" y="5086080"/>
            <a:ext cx="2448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1" name="Прямая со стрелкой 5"/>
          <p:cNvCxnSpPr/>
          <p:nvPr/>
        </p:nvCxnSpPr>
        <p:spPr>
          <a:xfrm>
            <a:off x="3362400" y="5128920"/>
            <a:ext cx="244980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2" name="Прямая со стрелкой 7"/>
          <p:cNvCxnSpPr/>
          <p:nvPr/>
        </p:nvCxnSpPr>
        <p:spPr>
          <a:xfrm>
            <a:off x="6346800" y="2604600"/>
            <a:ext cx="2448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" name="Прямая со стрелкой 8"/>
          <p:cNvCxnSpPr/>
          <p:nvPr/>
        </p:nvCxnSpPr>
        <p:spPr>
          <a:xfrm flipV="1">
            <a:off x="1501560" y="1464480"/>
            <a:ext cx="1080" cy="2159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4" name="Прямая со стрелкой 9"/>
          <p:cNvCxnSpPr/>
          <p:nvPr/>
        </p:nvCxnSpPr>
        <p:spPr>
          <a:xfrm flipV="1">
            <a:off x="7570440" y="1464480"/>
            <a:ext cx="1080" cy="2159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5" name="Прямая со стрелкой 11"/>
          <p:cNvCxnSpPr/>
          <p:nvPr/>
        </p:nvCxnSpPr>
        <p:spPr>
          <a:xfrm flipV="1">
            <a:off x="1541160" y="3929040"/>
            <a:ext cx="1080" cy="216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6" name="Прямая со стрелкой 12"/>
          <p:cNvCxnSpPr/>
          <p:nvPr/>
        </p:nvCxnSpPr>
        <p:spPr>
          <a:xfrm flipV="1">
            <a:off x="4586040" y="3929040"/>
            <a:ext cx="1080" cy="216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7" name="Freeform 53"/>
          <p:cNvSpPr/>
          <p:nvPr/>
        </p:nvSpPr>
        <p:spPr>
          <a:xfrm>
            <a:off x="1720800" y="3929040"/>
            <a:ext cx="720720" cy="2486160"/>
          </a:xfrm>
          <a:custGeom>
            <a:avLst/>
            <a:gdLst>
              <a:gd name="textAreaLeft" fmla="*/ 0 w 720720"/>
              <a:gd name="textAreaRight" fmla="*/ 721080 w 720720"/>
              <a:gd name="textAreaTop" fmla="*/ 0 h 2486160"/>
              <a:gd name="textAreaBottom" fmla="*/ 2486520 h 2486160"/>
            </a:gdLst>
            <a:ahLst/>
            <a:rect l="textAreaLeft" t="textAreaTop" r="textAreaRight" b="textAreaBottom"/>
            <a:pathLst>
              <a:path w="1270" h="1859">
                <a:moveTo>
                  <a:pt x="0" y="0"/>
                </a:moveTo>
                <a:cubicBezTo>
                  <a:pt x="144" y="553"/>
                  <a:pt x="288" y="1108"/>
                  <a:pt x="409" y="1417"/>
                </a:cubicBezTo>
                <a:cubicBezTo>
                  <a:pt x="530" y="1726"/>
                  <a:pt x="630" y="1859"/>
                  <a:pt x="726" y="1859"/>
                </a:cubicBezTo>
                <a:cubicBezTo>
                  <a:pt x="822" y="1859"/>
                  <a:pt x="897" y="1729"/>
                  <a:pt x="988" y="1419"/>
                </a:cubicBezTo>
                <a:cubicBezTo>
                  <a:pt x="1079" y="1109"/>
                  <a:pt x="1211" y="296"/>
                  <a:pt x="1270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53"/>
          <p:cNvSpPr/>
          <p:nvPr/>
        </p:nvSpPr>
        <p:spPr>
          <a:xfrm>
            <a:off x="6346800" y="1138320"/>
            <a:ext cx="2154240" cy="2485800"/>
          </a:xfrm>
          <a:custGeom>
            <a:avLst/>
            <a:gdLst>
              <a:gd name="textAreaLeft" fmla="*/ 0 w 2154240"/>
              <a:gd name="textAreaRight" fmla="*/ 2154240 w 2154240"/>
              <a:gd name="textAreaTop" fmla="*/ 0 h 2485800"/>
              <a:gd name="textAreaBottom" fmla="*/ 2486160 h 2485800"/>
            </a:gdLst>
            <a:ahLst/>
            <a:rect l="textAreaLeft" t="textAreaTop" r="textAreaRight" b="textAreaBottom"/>
            <a:pathLst>
              <a:path w="1270" h="1859">
                <a:moveTo>
                  <a:pt x="0" y="0"/>
                </a:moveTo>
                <a:cubicBezTo>
                  <a:pt x="144" y="553"/>
                  <a:pt x="288" y="1108"/>
                  <a:pt x="409" y="1417"/>
                </a:cubicBezTo>
                <a:cubicBezTo>
                  <a:pt x="530" y="1726"/>
                  <a:pt x="630" y="1859"/>
                  <a:pt x="726" y="1859"/>
                </a:cubicBezTo>
                <a:cubicBezTo>
                  <a:pt x="822" y="1859"/>
                  <a:pt x="897" y="1729"/>
                  <a:pt x="988" y="1419"/>
                </a:cubicBezTo>
                <a:cubicBezTo>
                  <a:pt x="1079" y="1109"/>
                  <a:pt x="1211" y="296"/>
                  <a:pt x="1270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53"/>
          <p:cNvSpPr/>
          <p:nvPr/>
        </p:nvSpPr>
        <p:spPr>
          <a:xfrm rot="10800000">
            <a:off x="3505320" y="4263840"/>
            <a:ext cx="1085760" cy="1903320"/>
          </a:xfrm>
          <a:custGeom>
            <a:avLst/>
            <a:gdLst>
              <a:gd name="textAreaLeft" fmla="*/ 0 w 1085760"/>
              <a:gd name="textAreaRight" fmla="*/ 1086120 w 1085760"/>
              <a:gd name="textAreaTop" fmla="*/ 0 h 1903320"/>
              <a:gd name="textAreaBottom" fmla="*/ 1903680 h 1903320"/>
            </a:gdLst>
            <a:ahLst/>
            <a:rect l="textAreaLeft" t="textAreaTop" r="textAreaRight" b="textAreaBottom"/>
            <a:pathLst>
              <a:path w="1270" h="1859">
                <a:moveTo>
                  <a:pt x="0" y="0"/>
                </a:moveTo>
                <a:cubicBezTo>
                  <a:pt x="144" y="553"/>
                  <a:pt x="288" y="1108"/>
                  <a:pt x="409" y="1417"/>
                </a:cubicBezTo>
                <a:cubicBezTo>
                  <a:pt x="530" y="1726"/>
                  <a:pt x="630" y="1859"/>
                  <a:pt x="726" y="1859"/>
                </a:cubicBezTo>
                <a:cubicBezTo>
                  <a:pt x="822" y="1859"/>
                  <a:pt x="897" y="1729"/>
                  <a:pt x="988" y="1419"/>
                </a:cubicBezTo>
                <a:cubicBezTo>
                  <a:pt x="1079" y="1109"/>
                  <a:pt x="1211" y="296"/>
                  <a:pt x="1270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6"/>
          <p:cNvSpPr/>
          <p:nvPr/>
        </p:nvSpPr>
        <p:spPr>
          <a:xfrm>
            <a:off x="2461680" y="5086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6"/>
          <p:cNvSpPr/>
          <p:nvPr/>
        </p:nvSpPr>
        <p:spPr>
          <a:xfrm>
            <a:off x="7581240" y="1263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6"/>
          <p:cNvSpPr/>
          <p:nvPr/>
        </p:nvSpPr>
        <p:spPr>
          <a:xfrm>
            <a:off x="5476320" y="5129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6"/>
          <p:cNvSpPr/>
          <p:nvPr/>
        </p:nvSpPr>
        <p:spPr>
          <a:xfrm>
            <a:off x="4250520" y="3833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6"/>
          <p:cNvSpPr/>
          <p:nvPr/>
        </p:nvSpPr>
        <p:spPr>
          <a:xfrm>
            <a:off x="2453760" y="2506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6"/>
          <p:cNvSpPr/>
          <p:nvPr/>
        </p:nvSpPr>
        <p:spPr>
          <a:xfrm>
            <a:off x="1566360" y="3879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6"/>
          <p:cNvSpPr/>
          <p:nvPr/>
        </p:nvSpPr>
        <p:spPr>
          <a:xfrm>
            <a:off x="8532000" y="2544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6"/>
          <p:cNvSpPr/>
          <p:nvPr/>
        </p:nvSpPr>
        <p:spPr>
          <a:xfrm>
            <a:off x="1537560" y="135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31"/>
          <p:cNvSpPr/>
          <p:nvPr/>
        </p:nvSpPr>
        <p:spPr>
          <a:xfrm>
            <a:off x="-25560" y="1130400"/>
            <a:ext cx="720720" cy="711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33"/>
          <p:cNvSpPr/>
          <p:nvPr/>
        </p:nvSpPr>
        <p:spPr>
          <a:xfrm>
            <a:off x="6537240" y="1052640"/>
            <a:ext cx="720720" cy="711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34"/>
          <p:cNvSpPr/>
          <p:nvPr/>
        </p:nvSpPr>
        <p:spPr>
          <a:xfrm>
            <a:off x="117360" y="3708360"/>
            <a:ext cx="720720" cy="7113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35"/>
          <p:cNvSpPr/>
          <p:nvPr/>
        </p:nvSpPr>
        <p:spPr>
          <a:xfrm>
            <a:off x="3168720" y="3792600"/>
            <a:ext cx="720720" cy="7128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вадратичная функция и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её граф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793440" y="2460600"/>
            <a:ext cx="752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вайте посмотрим небольшое виде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reeform 53"/>
          <p:cNvSpPr/>
          <p:nvPr/>
        </p:nvSpPr>
        <p:spPr>
          <a:xfrm>
            <a:off x="235080" y="1573200"/>
            <a:ext cx="1395360" cy="2486160"/>
          </a:xfrm>
          <a:custGeom>
            <a:avLst/>
            <a:gdLst>
              <a:gd name="textAreaLeft" fmla="*/ 0 w 1395360"/>
              <a:gd name="textAreaRight" fmla="*/ 1395720 w 1395360"/>
              <a:gd name="textAreaTop" fmla="*/ 0 h 2486160"/>
              <a:gd name="textAreaBottom" fmla="*/ 2486520 h 2486160"/>
            </a:gdLst>
            <a:ahLst/>
            <a:rect l="textAreaLeft" t="textAreaTop" r="textAreaRight" b="textAreaBottom"/>
            <a:pathLst>
              <a:path w="1270" h="1859">
                <a:moveTo>
                  <a:pt x="0" y="0"/>
                </a:moveTo>
                <a:cubicBezTo>
                  <a:pt x="144" y="553"/>
                  <a:pt x="288" y="1108"/>
                  <a:pt x="409" y="1417"/>
                </a:cubicBezTo>
                <a:cubicBezTo>
                  <a:pt x="530" y="1726"/>
                  <a:pt x="630" y="1859"/>
                  <a:pt x="726" y="1859"/>
                </a:cubicBezTo>
                <a:cubicBezTo>
                  <a:pt x="822" y="1859"/>
                  <a:pt x="897" y="1729"/>
                  <a:pt x="988" y="1419"/>
                </a:cubicBezTo>
                <a:cubicBezTo>
                  <a:pt x="1079" y="1109"/>
                  <a:pt x="1211" y="296"/>
                  <a:pt x="1270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Прямая со стрелкой 2"/>
          <p:cNvCxnSpPr/>
          <p:nvPr/>
        </p:nvCxnSpPr>
        <p:spPr>
          <a:xfrm>
            <a:off x="55440" y="3068280"/>
            <a:ext cx="21535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7" name="Прямая со стрелкой 3"/>
          <p:cNvCxnSpPr/>
          <p:nvPr/>
        </p:nvCxnSpPr>
        <p:spPr>
          <a:xfrm flipV="1">
            <a:off x="1258560" y="1899720"/>
            <a:ext cx="1080" cy="2160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8" name="TextBox 26"/>
          <p:cNvSpPr/>
          <p:nvPr/>
        </p:nvSpPr>
        <p:spPr>
          <a:xfrm>
            <a:off x="2210760" y="29415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36"/>
          <p:cNvSpPr/>
          <p:nvPr/>
        </p:nvSpPr>
        <p:spPr>
          <a:xfrm>
            <a:off x="1294920" y="1795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53"/>
          <p:cNvSpPr/>
          <p:nvPr/>
        </p:nvSpPr>
        <p:spPr>
          <a:xfrm>
            <a:off x="2376360" y="1824120"/>
            <a:ext cx="959040" cy="1623960"/>
          </a:xfrm>
          <a:custGeom>
            <a:avLst/>
            <a:gdLst>
              <a:gd name="textAreaLeft" fmla="*/ 0 w 959040"/>
              <a:gd name="textAreaRight" fmla="*/ 959400 w 959040"/>
              <a:gd name="textAreaTop" fmla="*/ 0 h 1623960"/>
              <a:gd name="textAreaBottom" fmla="*/ 1624320 h 1623960"/>
            </a:gdLst>
            <a:ahLst/>
            <a:rect l="textAreaLeft" t="textAreaTop" r="textAreaRight" b="textAreaBottom"/>
            <a:pathLst>
              <a:path w="1270" h="1859">
                <a:moveTo>
                  <a:pt x="0" y="0"/>
                </a:moveTo>
                <a:cubicBezTo>
                  <a:pt x="144" y="553"/>
                  <a:pt x="288" y="1108"/>
                  <a:pt x="409" y="1417"/>
                </a:cubicBezTo>
                <a:cubicBezTo>
                  <a:pt x="530" y="1726"/>
                  <a:pt x="630" y="1859"/>
                  <a:pt x="726" y="1859"/>
                </a:cubicBezTo>
                <a:cubicBezTo>
                  <a:pt x="822" y="1859"/>
                  <a:pt x="897" y="1729"/>
                  <a:pt x="988" y="1419"/>
                </a:cubicBezTo>
                <a:cubicBezTo>
                  <a:pt x="1079" y="1109"/>
                  <a:pt x="1211" y="296"/>
                  <a:pt x="1270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Прямая со стрелкой 7"/>
          <p:cNvCxnSpPr/>
          <p:nvPr/>
        </p:nvCxnSpPr>
        <p:spPr>
          <a:xfrm>
            <a:off x="2274480" y="3039840"/>
            <a:ext cx="1631160" cy="147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2" name="Прямая со стрелкой 8"/>
          <p:cNvCxnSpPr/>
          <p:nvPr/>
        </p:nvCxnSpPr>
        <p:spPr>
          <a:xfrm flipV="1">
            <a:off x="3184200" y="1885320"/>
            <a:ext cx="1080" cy="216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3" name="TextBox 26"/>
          <p:cNvSpPr/>
          <p:nvPr/>
        </p:nvSpPr>
        <p:spPr>
          <a:xfrm>
            <a:off x="3639600" y="2992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6"/>
          <p:cNvSpPr/>
          <p:nvPr/>
        </p:nvSpPr>
        <p:spPr>
          <a:xfrm>
            <a:off x="3322080" y="1781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53"/>
          <p:cNvSpPr/>
          <p:nvPr/>
        </p:nvSpPr>
        <p:spPr>
          <a:xfrm rot="10800000">
            <a:off x="4776480" y="1779120"/>
            <a:ext cx="1235160" cy="2264040"/>
          </a:xfrm>
          <a:custGeom>
            <a:avLst/>
            <a:gdLst>
              <a:gd name="textAreaLeft" fmla="*/ 0 w 1235160"/>
              <a:gd name="textAreaRight" fmla="*/ 1235520 w 1235160"/>
              <a:gd name="textAreaTop" fmla="*/ 0 h 2264040"/>
              <a:gd name="textAreaBottom" fmla="*/ 2264400 h 2264040"/>
            </a:gdLst>
            <a:ahLst/>
            <a:rect l="textAreaLeft" t="textAreaTop" r="textAreaRight" b="textAreaBottom"/>
            <a:pathLst>
              <a:path w="1270" h="1859">
                <a:moveTo>
                  <a:pt x="0" y="0"/>
                </a:moveTo>
                <a:cubicBezTo>
                  <a:pt x="144" y="553"/>
                  <a:pt x="288" y="1108"/>
                  <a:pt x="409" y="1417"/>
                </a:cubicBezTo>
                <a:cubicBezTo>
                  <a:pt x="530" y="1726"/>
                  <a:pt x="630" y="1859"/>
                  <a:pt x="726" y="1859"/>
                </a:cubicBezTo>
                <a:cubicBezTo>
                  <a:pt x="822" y="1859"/>
                  <a:pt x="897" y="1729"/>
                  <a:pt x="988" y="1419"/>
                </a:cubicBezTo>
                <a:cubicBezTo>
                  <a:pt x="1079" y="1109"/>
                  <a:pt x="1211" y="296"/>
                  <a:pt x="1270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Прямая со стрелкой 12"/>
          <p:cNvCxnSpPr/>
          <p:nvPr/>
        </p:nvCxnSpPr>
        <p:spPr>
          <a:xfrm flipV="1">
            <a:off x="4446360" y="2963160"/>
            <a:ext cx="1973880" cy="29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7" name="Прямая со стрелкой 13"/>
          <p:cNvCxnSpPr/>
          <p:nvPr/>
        </p:nvCxnSpPr>
        <p:spPr>
          <a:xfrm flipV="1">
            <a:off x="5640120" y="1883880"/>
            <a:ext cx="1080" cy="21600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8" name="TextBox 26"/>
          <p:cNvSpPr/>
          <p:nvPr/>
        </p:nvSpPr>
        <p:spPr>
          <a:xfrm>
            <a:off x="6252480" y="3051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6"/>
          <p:cNvSpPr/>
          <p:nvPr/>
        </p:nvSpPr>
        <p:spPr>
          <a:xfrm>
            <a:off x="5676120" y="1779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53"/>
          <p:cNvSpPr/>
          <p:nvPr/>
        </p:nvSpPr>
        <p:spPr>
          <a:xfrm rot="10800000">
            <a:off x="7648560" y="3171960"/>
            <a:ext cx="1109520" cy="1123920"/>
          </a:xfrm>
          <a:custGeom>
            <a:avLst/>
            <a:gdLst>
              <a:gd name="textAreaLeft" fmla="*/ 0 w 1109520"/>
              <a:gd name="textAreaRight" fmla="*/ 1109880 w 110952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1270" h="1859">
                <a:moveTo>
                  <a:pt x="0" y="0"/>
                </a:moveTo>
                <a:cubicBezTo>
                  <a:pt x="144" y="553"/>
                  <a:pt x="288" y="1108"/>
                  <a:pt x="409" y="1417"/>
                </a:cubicBezTo>
                <a:cubicBezTo>
                  <a:pt x="530" y="1726"/>
                  <a:pt x="630" y="1859"/>
                  <a:pt x="726" y="1859"/>
                </a:cubicBezTo>
                <a:cubicBezTo>
                  <a:pt x="822" y="1859"/>
                  <a:pt x="897" y="1729"/>
                  <a:pt x="988" y="1419"/>
                </a:cubicBezTo>
                <a:cubicBezTo>
                  <a:pt x="1079" y="1109"/>
                  <a:pt x="1211" y="296"/>
                  <a:pt x="1270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Прямая со стрелкой 17"/>
          <p:cNvCxnSpPr/>
          <p:nvPr/>
        </p:nvCxnSpPr>
        <p:spPr>
          <a:xfrm>
            <a:off x="6648480" y="2941200"/>
            <a:ext cx="2448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Прямая со стрелкой 18"/>
          <p:cNvCxnSpPr/>
          <p:nvPr/>
        </p:nvCxnSpPr>
        <p:spPr>
          <a:xfrm flipV="1">
            <a:off x="7808400" y="1928160"/>
            <a:ext cx="1080" cy="216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3" name="TextBox 26"/>
          <p:cNvSpPr/>
          <p:nvPr/>
        </p:nvSpPr>
        <p:spPr>
          <a:xfrm>
            <a:off x="8760600" y="2838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36"/>
          <p:cNvSpPr/>
          <p:nvPr/>
        </p:nvSpPr>
        <p:spPr>
          <a:xfrm>
            <a:off x="7844760" y="1824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6"/>
          <p:cNvSpPr/>
          <p:nvPr/>
        </p:nvSpPr>
        <p:spPr>
          <a:xfrm>
            <a:off x="951840" y="2978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6"/>
          <p:cNvSpPr/>
          <p:nvPr/>
        </p:nvSpPr>
        <p:spPr>
          <a:xfrm>
            <a:off x="3153600" y="2949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6"/>
          <p:cNvSpPr/>
          <p:nvPr/>
        </p:nvSpPr>
        <p:spPr>
          <a:xfrm>
            <a:off x="5346000" y="2849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6"/>
          <p:cNvSpPr/>
          <p:nvPr/>
        </p:nvSpPr>
        <p:spPr>
          <a:xfrm>
            <a:off x="7798680" y="2822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Овал 29"/>
          <p:cNvSpPr/>
          <p:nvPr/>
        </p:nvSpPr>
        <p:spPr>
          <a:xfrm>
            <a:off x="771480" y="1165320"/>
            <a:ext cx="719280" cy="7110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30"/>
          <p:cNvSpPr/>
          <p:nvPr/>
        </p:nvSpPr>
        <p:spPr>
          <a:xfrm>
            <a:off x="2790720" y="1123920"/>
            <a:ext cx="720720" cy="7113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31"/>
          <p:cNvSpPr/>
          <p:nvPr/>
        </p:nvSpPr>
        <p:spPr>
          <a:xfrm>
            <a:off x="5280120" y="1123920"/>
            <a:ext cx="720720" cy="71136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32"/>
          <p:cNvSpPr/>
          <p:nvPr/>
        </p:nvSpPr>
        <p:spPr>
          <a:xfrm>
            <a:off x="7518240" y="1066680"/>
            <a:ext cx="719280" cy="712800"/>
          </a:xfrm>
          <a:prstGeom prst="ellipse">
            <a:avLst/>
          </a:prstGeom>
          <a:solidFill>
            <a:srgbClr val="00b0f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33"/>
          <p:cNvSpPr/>
          <p:nvPr/>
        </p:nvSpPr>
        <p:spPr>
          <a:xfrm>
            <a:off x="337680" y="333360"/>
            <a:ext cx="811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ите соответствие между коэффициентам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ками функций  вида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ax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bx +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34"/>
          <p:cNvSpPr/>
          <p:nvPr/>
        </p:nvSpPr>
        <p:spPr>
          <a:xfrm>
            <a:off x="411120" y="4295880"/>
            <a:ext cx="831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0, c &lt; 0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0, c &lt; 0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lt; 0, c &gt; 0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Группа 48"/>
          <p:cNvGrpSpPr/>
          <p:nvPr/>
        </p:nvGrpSpPr>
        <p:grpSpPr>
          <a:xfrm>
            <a:off x="1912320" y="4924080"/>
            <a:ext cx="2939400" cy="1094400"/>
            <a:chOff x="1912320" y="4924080"/>
            <a:chExt cx="2939400" cy="1094400"/>
          </a:xfrm>
        </p:grpSpPr>
        <p:sp>
          <p:nvSpPr>
            <p:cNvPr id="136" name="Прямая соединительная линия 36"/>
            <p:cNvSpPr/>
            <p:nvPr/>
          </p:nvSpPr>
          <p:spPr>
            <a:xfrm>
              <a:off x="1983600" y="4947840"/>
              <a:ext cx="2868120" cy="6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Прямая соединительная линия 37"/>
            <p:cNvSpPr/>
            <p:nvPr/>
          </p:nvSpPr>
          <p:spPr>
            <a:xfrm>
              <a:off x="1936080" y="5449680"/>
              <a:ext cx="286812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Прямая соединительная линия 38"/>
            <p:cNvSpPr/>
            <p:nvPr/>
          </p:nvSpPr>
          <p:spPr>
            <a:xfrm>
              <a:off x="1912320" y="5956560"/>
              <a:ext cx="2868480" cy="6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Прямая соединительная линия 40"/>
            <p:cNvSpPr/>
            <p:nvPr/>
          </p:nvSpPr>
          <p:spPr>
            <a:xfrm flipH="1">
              <a:off x="1936440" y="4950360"/>
              <a:ext cx="46800" cy="100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Прямая соединительная линия 41"/>
            <p:cNvSpPr/>
            <p:nvPr/>
          </p:nvSpPr>
          <p:spPr>
            <a:xfrm flipH="1">
              <a:off x="4780800" y="5007240"/>
              <a:ext cx="46800" cy="100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Прямая соединительная линия 42"/>
            <p:cNvSpPr/>
            <p:nvPr/>
          </p:nvSpPr>
          <p:spPr>
            <a:xfrm flipH="1">
              <a:off x="2817000" y="4991760"/>
              <a:ext cx="46800" cy="100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Прямая соединительная линия 43"/>
            <p:cNvSpPr/>
            <p:nvPr/>
          </p:nvSpPr>
          <p:spPr>
            <a:xfrm flipH="1">
              <a:off x="3835440" y="4999320"/>
              <a:ext cx="46800" cy="100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Box 45"/>
            <p:cNvSpPr/>
            <p:nvPr/>
          </p:nvSpPr>
          <p:spPr>
            <a:xfrm rot="159600">
              <a:off x="2247840" y="4933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Box 46"/>
            <p:cNvSpPr/>
            <p:nvPr/>
          </p:nvSpPr>
          <p:spPr>
            <a:xfrm rot="159600">
              <a:off x="3223800" y="4962600"/>
              <a:ext cx="41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47"/>
            <p:cNvSpPr/>
            <p:nvPr/>
          </p:nvSpPr>
          <p:spPr>
            <a:xfrm rot="159600">
              <a:off x="4110840" y="495000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1"/>
          <p:cNvSpPr/>
          <p:nvPr/>
        </p:nvSpPr>
        <p:spPr>
          <a:xfrm>
            <a:off x="362160" y="1287360"/>
            <a:ext cx="808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график функции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x – 3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 промежутки возрастания и убывания функции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Box 1"/>
          <p:cNvSpPr/>
          <p:nvPr/>
        </p:nvSpPr>
        <p:spPr>
          <a:xfrm>
            <a:off x="328680" y="333360"/>
            <a:ext cx="808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ить график функции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2x – 3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ажите промежутки возрастания и убывания функции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Прямая со стрелкой 2"/>
          <p:cNvCxnSpPr/>
          <p:nvPr/>
        </p:nvCxnSpPr>
        <p:spPr>
          <a:xfrm>
            <a:off x="1592280" y="2793600"/>
            <a:ext cx="492984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Прямая со стрелкой 3"/>
          <p:cNvCxnSpPr/>
          <p:nvPr/>
        </p:nvCxnSpPr>
        <p:spPr>
          <a:xfrm flipV="1">
            <a:off x="4448520" y="1390320"/>
            <a:ext cx="2520" cy="52156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" name="Прямая соединительная линия 4"/>
          <p:cNvSpPr/>
          <p:nvPr/>
        </p:nvSpPr>
        <p:spPr>
          <a:xfrm>
            <a:off x="5187240" y="2735280"/>
            <a:ext cx="11160" cy="15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ая соединительная линия 5"/>
          <p:cNvSpPr/>
          <p:nvPr/>
        </p:nvSpPr>
        <p:spPr>
          <a:xfrm>
            <a:off x="5884920" y="2735280"/>
            <a:ext cx="0" cy="158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ая соединительная линия 6"/>
          <p:cNvSpPr/>
          <p:nvPr/>
        </p:nvSpPr>
        <p:spPr>
          <a:xfrm>
            <a:off x="3747240" y="2716200"/>
            <a:ext cx="9720" cy="198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ая соединительная линия 7"/>
          <p:cNvSpPr/>
          <p:nvPr/>
        </p:nvSpPr>
        <p:spPr>
          <a:xfrm>
            <a:off x="3001320" y="2685960"/>
            <a:ext cx="20520" cy="20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8"/>
          <p:cNvSpPr/>
          <p:nvPr/>
        </p:nvSpPr>
        <p:spPr>
          <a:xfrm>
            <a:off x="2316240" y="2685960"/>
            <a:ext cx="9360" cy="20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9"/>
          <p:cNvSpPr/>
          <p:nvPr/>
        </p:nvSpPr>
        <p:spPr>
          <a:xfrm flipH="1">
            <a:off x="4366800" y="4913280"/>
            <a:ext cx="19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0"/>
          <p:cNvSpPr/>
          <p:nvPr/>
        </p:nvSpPr>
        <p:spPr>
          <a:xfrm flipH="1" flipV="1">
            <a:off x="4354200" y="2755440"/>
            <a:ext cx="23796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11"/>
          <p:cNvSpPr/>
          <p:nvPr/>
        </p:nvSpPr>
        <p:spPr>
          <a:xfrm flipH="1" flipV="1">
            <a:off x="4363560" y="2030040"/>
            <a:ext cx="21924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24"/>
          <p:cNvSpPr/>
          <p:nvPr/>
        </p:nvSpPr>
        <p:spPr>
          <a:xfrm>
            <a:off x="5023800" y="2793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25"/>
          <p:cNvSpPr/>
          <p:nvPr/>
        </p:nvSpPr>
        <p:spPr>
          <a:xfrm>
            <a:off x="5738040" y="2793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26"/>
          <p:cNvSpPr/>
          <p:nvPr/>
        </p:nvSpPr>
        <p:spPr>
          <a:xfrm>
            <a:off x="6309720" y="272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27"/>
          <p:cNvSpPr/>
          <p:nvPr/>
        </p:nvSpPr>
        <p:spPr>
          <a:xfrm>
            <a:off x="3524040" y="27939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Box 28"/>
          <p:cNvSpPr/>
          <p:nvPr/>
        </p:nvSpPr>
        <p:spPr>
          <a:xfrm>
            <a:off x="2809440" y="27939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30"/>
          <p:cNvSpPr/>
          <p:nvPr/>
        </p:nvSpPr>
        <p:spPr>
          <a:xfrm>
            <a:off x="4533480" y="32749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31"/>
          <p:cNvSpPr/>
          <p:nvPr/>
        </p:nvSpPr>
        <p:spPr>
          <a:xfrm>
            <a:off x="4508280" y="39844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32"/>
          <p:cNvSpPr/>
          <p:nvPr/>
        </p:nvSpPr>
        <p:spPr>
          <a:xfrm>
            <a:off x="4555800" y="468144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33"/>
          <p:cNvSpPr/>
          <p:nvPr/>
        </p:nvSpPr>
        <p:spPr>
          <a:xfrm>
            <a:off x="4585680" y="1781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37"/>
          <p:cNvSpPr/>
          <p:nvPr/>
        </p:nvSpPr>
        <p:spPr>
          <a:xfrm>
            <a:off x="4452120" y="2793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24"/>
          <p:cNvSpPr/>
          <p:nvPr/>
        </p:nvSpPr>
        <p:spPr>
          <a:xfrm flipH="1">
            <a:off x="4377960" y="3462480"/>
            <a:ext cx="19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25"/>
          <p:cNvSpPr/>
          <p:nvPr/>
        </p:nvSpPr>
        <p:spPr>
          <a:xfrm flipH="1">
            <a:off x="4377960" y="5605560"/>
            <a:ext cx="19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26"/>
          <p:cNvSpPr/>
          <p:nvPr/>
        </p:nvSpPr>
        <p:spPr>
          <a:xfrm flipH="1">
            <a:off x="4377960" y="6319800"/>
            <a:ext cx="19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53"/>
          <p:cNvSpPr/>
          <p:nvPr/>
        </p:nvSpPr>
        <p:spPr>
          <a:xfrm rot="188400">
            <a:off x="1801440" y="1363320"/>
            <a:ext cx="3637080" cy="4282920"/>
          </a:xfrm>
          <a:custGeom>
            <a:avLst/>
            <a:gdLst>
              <a:gd name="textAreaLeft" fmla="*/ 0 w 3637080"/>
              <a:gd name="textAreaRight" fmla="*/ 3637440 w 3637080"/>
              <a:gd name="textAreaTop" fmla="*/ 0 h 4282920"/>
              <a:gd name="textAreaBottom" fmla="*/ 4283280 h 4282920"/>
            </a:gdLst>
            <a:ahLst/>
            <a:rect l="textAreaLeft" t="textAreaTop" r="textAreaRight" b="textAreaBottom"/>
            <a:pathLst>
              <a:path w="1270" h="1859">
                <a:moveTo>
                  <a:pt x="0" y="0"/>
                </a:moveTo>
                <a:cubicBezTo>
                  <a:pt x="144" y="553"/>
                  <a:pt x="288" y="1108"/>
                  <a:pt x="409" y="1417"/>
                </a:cubicBezTo>
                <a:cubicBezTo>
                  <a:pt x="530" y="1726"/>
                  <a:pt x="630" y="1859"/>
                  <a:pt x="726" y="1859"/>
                </a:cubicBezTo>
                <a:cubicBezTo>
                  <a:pt x="822" y="1859"/>
                  <a:pt x="897" y="1729"/>
                  <a:pt x="988" y="1419"/>
                </a:cubicBezTo>
                <a:cubicBezTo>
                  <a:pt x="1079" y="1109"/>
                  <a:pt x="1211" y="296"/>
                  <a:pt x="1270" y="0"/>
                </a:cubicBezTo>
              </a:path>
            </a:pathLst>
          </a:custGeom>
          <a:noFill/>
          <a:ln w="2844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6"/>
          <p:cNvSpPr/>
          <p:nvPr/>
        </p:nvSpPr>
        <p:spPr>
          <a:xfrm>
            <a:off x="4627080" y="1319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32"/>
          <p:cNvSpPr/>
          <p:nvPr/>
        </p:nvSpPr>
        <p:spPr>
          <a:xfrm>
            <a:off x="4597200" y="53737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32"/>
          <p:cNvSpPr/>
          <p:nvPr/>
        </p:nvSpPr>
        <p:spPr>
          <a:xfrm>
            <a:off x="2098440" y="29145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Прямая соединительная линия 2"/>
          <p:cNvSpPr/>
          <p:nvPr/>
        </p:nvSpPr>
        <p:spPr>
          <a:xfrm>
            <a:off x="6012000" y="692280"/>
            <a:ext cx="0" cy="367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Прямая соединительная линия 3"/>
          <p:cNvSpPr/>
          <p:nvPr/>
        </p:nvSpPr>
        <p:spPr>
          <a:xfrm>
            <a:off x="395280" y="122724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ая соединительная линия 4"/>
          <p:cNvSpPr/>
          <p:nvPr/>
        </p:nvSpPr>
        <p:spPr>
          <a:xfrm>
            <a:off x="3132000" y="692280"/>
            <a:ext cx="0" cy="367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7"/>
          <p:cNvSpPr/>
          <p:nvPr/>
        </p:nvSpPr>
        <p:spPr>
          <a:xfrm>
            <a:off x="358920" y="4365720"/>
            <a:ext cx="849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8"/>
          <p:cNvSpPr/>
          <p:nvPr/>
        </p:nvSpPr>
        <p:spPr>
          <a:xfrm>
            <a:off x="509760" y="3357720"/>
            <a:ext cx="849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9"/>
          <p:cNvSpPr/>
          <p:nvPr/>
        </p:nvSpPr>
        <p:spPr>
          <a:xfrm>
            <a:off x="360360" y="227664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0"/>
          <p:cNvSpPr/>
          <p:nvPr/>
        </p:nvSpPr>
        <p:spPr>
          <a:xfrm>
            <a:off x="1187640" y="662040"/>
            <a:ext cx="186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1"/>
          <p:cNvSpPr/>
          <p:nvPr/>
        </p:nvSpPr>
        <p:spPr>
          <a:xfrm>
            <a:off x="3430080" y="684360"/>
            <a:ext cx="186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2"/>
          <p:cNvSpPr/>
          <p:nvPr/>
        </p:nvSpPr>
        <p:spPr>
          <a:xfrm>
            <a:off x="6037560" y="684360"/>
            <a:ext cx="186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ая соединительная линия 2"/>
          <p:cNvSpPr/>
          <p:nvPr/>
        </p:nvSpPr>
        <p:spPr>
          <a:xfrm>
            <a:off x="6012000" y="692280"/>
            <a:ext cx="0" cy="367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3"/>
          <p:cNvSpPr/>
          <p:nvPr/>
        </p:nvSpPr>
        <p:spPr>
          <a:xfrm>
            <a:off x="395280" y="122724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ая соединительная линия 4"/>
          <p:cNvSpPr/>
          <p:nvPr/>
        </p:nvSpPr>
        <p:spPr>
          <a:xfrm>
            <a:off x="3132000" y="692280"/>
            <a:ext cx="0" cy="3673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Прямая соединительная линия 7"/>
          <p:cNvSpPr/>
          <p:nvPr/>
        </p:nvSpPr>
        <p:spPr>
          <a:xfrm>
            <a:off x="358920" y="4365720"/>
            <a:ext cx="849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Прямая соединительная линия 8"/>
          <p:cNvSpPr/>
          <p:nvPr/>
        </p:nvSpPr>
        <p:spPr>
          <a:xfrm>
            <a:off x="509760" y="3357720"/>
            <a:ext cx="849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ая соединительная линия 9"/>
          <p:cNvSpPr/>
          <p:nvPr/>
        </p:nvSpPr>
        <p:spPr>
          <a:xfrm>
            <a:off x="360360" y="2276640"/>
            <a:ext cx="8497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0"/>
          <p:cNvSpPr/>
          <p:nvPr/>
        </p:nvSpPr>
        <p:spPr>
          <a:xfrm>
            <a:off x="1187640" y="662040"/>
            <a:ext cx="186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1"/>
          <p:cNvSpPr/>
          <p:nvPr/>
        </p:nvSpPr>
        <p:spPr>
          <a:xfrm>
            <a:off x="3430080" y="684360"/>
            <a:ext cx="186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2"/>
          <p:cNvSpPr/>
          <p:nvPr/>
        </p:nvSpPr>
        <p:spPr>
          <a:xfrm>
            <a:off x="6037560" y="684360"/>
            <a:ext cx="186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 вариа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3"/>
          <p:cNvSpPr/>
          <p:nvPr/>
        </p:nvSpPr>
        <p:spPr>
          <a:xfrm>
            <a:off x="1505160" y="13064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4"/>
          <p:cNvSpPr/>
          <p:nvPr/>
        </p:nvSpPr>
        <p:spPr>
          <a:xfrm>
            <a:off x="4397400" y="13190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5"/>
          <p:cNvSpPr/>
          <p:nvPr/>
        </p:nvSpPr>
        <p:spPr>
          <a:xfrm>
            <a:off x="7167600" y="133524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6"/>
          <p:cNvSpPr/>
          <p:nvPr/>
        </p:nvSpPr>
        <p:spPr>
          <a:xfrm>
            <a:off x="1523160" y="23716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7"/>
          <p:cNvSpPr/>
          <p:nvPr/>
        </p:nvSpPr>
        <p:spPr>
          <a:xfrm>
            <a:off x="4384800" y="238608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18"/>
          <p:cNvSpPr/>
          <p:nvPr/>
        </p:nvSpPr>
        <p:spPr>
          <a:xfrm>
            <a:off x="6973200" y="2386080"/>
            <a:ext cx="98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9"/>
          <p:cNvSpPr/>
          <p:nvPr/>
        </p:nvSpPr>
        <p:spPr>
          <a:xfrm>
            <a:off x="1523160" y="33847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0"/>
          <p:cNvSpPr/>
          <p:nvPr/>
        </p:nvSpPr>
        <p:spPr>
          <a:xfrm>
            <a:off x="4361040" y="33847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1"/>
          <p:cNvSpPr/>
          <p:nvPr/>
        </p:nvSpPr>
        <p:spPr>
          <a:xfrm>
            <a:off x="7159680" y="3357720"/>
            <a:ext cx="49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2"/>
          <p:cNvSpPr/>
          <p:nvPr/>
        </p:nvSpPr>
        <p:spPr>
          <a:xfrm>
            <a:off x="2700360" y="4365720"/>
            <a:ext cx="590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0 ошибок  - «5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ошибка – «4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 ошибки – «3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3T18:28:05Z</dcterms:created>
  <dc:creator>Admin</dc:creator>
  <dc:description/>
  <dc:language>en-US</dc:language>
  <cp:lastModifiedBy>User</cp:lastModifiedBy>
  <dcterms:modified xsi:type="dcterms:W3CDTF">2016-12-11T11:42:57Z</dcterms:modified>
  <cp:revision>23</cp:revision>
  <dc:subject/>
  <dc:title>Исследование функции</dc:title>
</cp:coreProperties>
</file>