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5703-AAE5-43E4-A3DD-C4FCF43A55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6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42A-4922-4ECB-8BEC-95DAD2B4F2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B9A-EAEA-48F1-B1CC-27DF77C5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6B5-E201-461B-A966-C487C9AC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DDC-BBF9-4A17-A527-420DF891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85F-B43C-4BB9-9A7C-DAE360B0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C566-3605-4914-9E0C-6B20CCD1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7427-1A70-4BE8-A28F-D1C4BE05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B052-7EE9-4306-941A-E91186E5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76E8-ED93-4FAA-97B9-2ABBEA93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0499-C061-4513-897D-907735FE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8AF6-0269-4495-A24C-D8DE28B8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997A-C405-46F0-8502-0807D86F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594-CDF4-4A69-929A-D14EB04B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3B63-E2DD-4455-A4CE-151FF09A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CFFE-C4DD-405D-98FD-457CF17D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784-B861-433A-A1DB-8A98C229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5203-74DF-446B-AEC0-F5C0DE65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E68E-1B9B-4787-AFAE-8286A719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DA782-51D4-48B2-BB79-98F6A80E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351F-DA5A-42F6-8381-B461F893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8C60-BEBF-4334-A20A-3A27E2B7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4EDC-D540-4A33-AE1E-EF74733E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03779-8C1D-4734-8440-F97C03C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E8F-B887-4459-B5EE-E99F4C2B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9177-85FB-4308-A363-5843BF71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F322-6CAF-4CC5-85AF-A3B97CD3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12DF-08A2-4513-ACF0-2F2E788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46A7-E1DB-47E6-B673-BE23A985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CBF4-8845-4F86-8859-AD8C3837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0F11-EE3E-4F9E-9BAC-49211E02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37E5-6474-4711-A5E1-48CCA24C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219B-2BA7-4841-B588-92BAC774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FB9AE-2607-426E-BA2D-F2C8722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51B6-A5B8-4E91-A5E1-37604B74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10B-236D-4204-87E4-96FDB60B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02E0F-199B-48BF-A3CC-F9AA7CDD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16571-E11F-404F-9647-0CE6DFDC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22C45-9C60-4CBB-9C45-7CB6652B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3DC09-0DC0-4A15-9293-7DF089B3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A7D7-645A-4E54-9E4E-CD840442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B9D2-2EA8-4B47-A0CC-92B5A8C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9FCA-2A3A-4051-A0CF-5EBEAF42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9CE7D-8848-4C10-A418-020D0C2C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E1DB-4F33-451B-863C-5D54DC35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2A9-F7BD-4EC5-B8C2-0E043FF2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A7D-D0C0-4D31-BA2E-B310A905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BF6-F02F-4A73-A961-6A11DD97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E19-6798-4B1C-A5E7-8F37232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8FE-81C6-4781-A835-7926103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1442-EBDC-45AB-AB94-C338E57C11E7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D3A8-1BED-48C3-8951-6779349AB95C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2FDC-7A05-427F-A4A3-4533692F842C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35A0-857C-42EB-A782-E96CA7AA41B0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6D5E-6726-4A0D-9D32-FB8D30F58A09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292B-C5D2-416E-8CAE-2D128CB069F8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AA1E-4A79-4180-B14F-781AAE0979E9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66A6-FFE3-4AD8-BD20-D30EB40F99A2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Прямоугольник 4" descr=""/>
          <p:cNvPicPr/>
          <p:nvPr/>
        </p:nvPicPr>
        <p:blipFill>
          <a:blip r:embed="rId1"/>
          <a:stretch/>
        </p:blipFill>
        <p:spPr>
          <a:xfrm>
            <a:off x="1133640" y="914400"/>
            <a:ext cx="6589440" cy="385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k"/>
          <p:cNvPicPr/>
          <p:nvPr/>
        </p:nvPicPr>
        <p:blipFill>
          <a:blip r:embed="rId2"/>
          <a:stretch/>
        </p:blipFill>
        <p:spPr>
          <a:xfrm>
            <a:off x="7500960" y="642960"/>
            <a:ext cx="1028520" cy="2055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Рис_4"/>
          <p:cNvPicPr/>
          <p:nvPr/>
        </p:nvPicPr>
        <p:blipFill>
          <a:blip r:embed="rId3"/>
          <a:stretch/>
        </p:blipFill>
        <p:spPr>
          <a:xfrm>
            <a:off x="826920" y="386064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185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F1EC-FE1F-4C97-80C5-FB3A5156B773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186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1" lang="ru-RU" sz="4200" spc="-1" strike="noStrike">
                <a:solidFill>
                  <a:srgbClr val="8a2e4e"/>
                </a:solidFill>
                <a:latin typeface="Verdana"/>
              </a:rPr>
              <a:t>Размещение в документе графики</a:t>
            </a:r>
            <a:endParaRPr b="1" lang="en-US" sz="42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текстовом редакторе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имеется возможность для создания рисунков с помощью панели инструментов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Рисовани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8a2e4e"/>
                </a:solidFill>
                <a:latin typeface="Verdana"/>
              </a:rPr>
              <a:t>Для выделения  объекта нужно щёлкнуть по нему левой кнопкой мыш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a2e4e"/>
                </a:solidFill>
                <a:latin typeface="Verdana"/>
              </a:rPr>
              <a:t>Изменение размеров объекта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) выделить объект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) потянуть за любой квадратный маркер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) снять выделени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8059-D837-4E46-A688-FB4DD3425224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12m6"/>
          <p:cNvPicPr/>
          <p:nvPr/>
        </p:nvPicPr>
        <p:blipFill>
          <a:blip r:embed="rId5"/>
          <a:stretch/>
        </p:blipFill>
        <p:spPr>
          <a:xfrm>
            <a:off x="7286760" y="928800"/>
            <a:ext cx="1630080" cy="1380960"/>
          </a:xfrm>
          <a:prstGeom prst="rect">
            <a:avLst/>
          </a:prstGeom>
          <a:ln w="0">
            <a:noFill/>
          </a:ln>
        </p:spPr>
      </p:pic>
      <p:sp>
        <p:nvSpPr>
          <p:cNvPr id="191" name="Сердце 5"/>
          <p:cNvSpPr/>
          <p:nvPr/>
        </p:nvSpPr>
        <p:spPr>
          <a:xfrm rot="1084800">
            <a:off x="7667280" y="3357720"/>
            <a:ext cx="927000" cy="936360"/>
          </a:xfrm>
          <a:custGeom>
            <a:avLst/>
            <a:gdLst>
              <a:gd name="textAreaLeft" fmla="*/ 154440 w 927000"/>
              <a:gd name="textAreaRight" fmla="*/ 772560 w 927000"/>
              <a:gd name="textAreaTop" fmla="*/ 234000 h 936360"/>
              <a:gd name="textAreaBottom" fmla="*/ 624240 h 936360"/>
            </a:gdLst>
            <a:ahLst/>
            <a:rect l="textAreaLeft" t="textAreaTop" r="textAreaRight" b="textAreaBottom"/>
            <a:pathLst>
              <a:path w="927100" h="936625">
                <a:moveTo>
                  <a:pt x="463550" y="234156"/>
                </a:moveTo>
                <a:cubicBezTo>
                  <a:pt x="656696" y="-312208"/>
                  <a:pt x="1409965" y="234156"/>
                  <a:pt x="463550" y="936625"/>
                </a:cubicBezTo>
                <a:cubicBezTo>
                  <a:pt x="-482865" y="234156"/>
                  <a:pt x="270404" y="-312208"/>
                  <a:pt x="463550" y="234156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5e0e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2e4e"/>
                </a:solidFill>
                <a:latin typeface="Verdana"/>
              </a:rPr>
              <a:t>Копирование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объек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жать клавишу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trl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 перемещать объект в нужном  направле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ять выде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2e4e"/>
                </a:solidFill>
                <a:latin typeface="Verdana"/>
              </a:rPr>
              <a:t>Перемещ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объек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мещать объект в нужном  направле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ять выде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2e4e"/>
                </a:solidFill>
                <a:latin typeface="Verdana"/>
              </a:rPr>
              <a:t>Удал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объек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жать клавиш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lete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ли правой кнопкой мыши вызвать контекстное меню и выбрать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Удали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ять выде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82D5-8862-4743-8975-242406F4E78A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лнце 2"/>
          <p:cNvSpPr/>
          <p:nvPr/>
        </p:nvSpPr>
        <p:spPr>
          <a:xfrm>
            <a:off x="6084720" y="1557360"/>
            <a:ext cx="1057320" cy="920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лнце 2"/>
          <p:cNvSpPr/>
          <p:nvPr/>
        </p:nvSpPr>
        <p:spPr>
          <a:xfrm>
            <a:off x="4859280" y="1844640"/>
            <a:ext cx="1057320" cy="920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лнце 2"/>
          <p:cNvSpPr/>
          <p:nvPr/>
        </p:nvSpPr>
        <p:spPr>
          <a:xfrm>
            <a:off x="7308720" y="1989000"/>
            <a:ext cx="1057320" cy="920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2e4e"/>
                </a:solidFill>
                <a:latin typeface="Verdana"/>
              </a:rPr>
              <a:t>           </a:t>
            </a:r>
            <a:r>
              <a:rPr b="1" lang="ru-RU" sz="3600" spc="-1" strike="noStrike">
                <a:solidFill>
                  <a:srgbClr val="8a2e4e"/>
                </a:solidFill>
                <a:latin typeface="Verdana"/>
              </a:rPr>
              <a:t>Вставка рисунка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557360"/>
            <a:ext cx="8183520" cy="497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ля вставки в документ рисунков используется команда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Вставка→Рисунок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1026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пример, для того чтобы вставить рисунок из коллекции картинок Microsoft Office необходимо дать команду</a:t>
            </a:r>
            <a:r>
              <a:rPr b="0" lang="ru-RU" sz="2200" spc="-1" strike="noStrike">
                <a:solidFill>
                  <a:srgbClr val="2c1026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a2e4e"/>
                </a:solidFill>
                <a:latin typeface="Verdana"/>
              </a:rPr>
              <a:t>  </a:t>
            </a:r>
            <a:r>
              <a:rPr b="0" i="1" lang="ru-RU" sz="2200" spc="-1" strike="noStrike">
                <a:solidFill>
                  <a:srgbClr val="8a2e4e"/>
                </a:solidFill>
                <a:latin typeface="Verdana"/>
              </a:rPr>
              <a:t>Вставка→Рисунок→Картинки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ллекция картинок (Microsof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держит рисунки, фотографи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вуки, видео и другие файлы мультимедиа, называемые клипами, которые можно вставлять и использовать в документах Microsoft Office. Найдите нужный клип (рисунок) и, щелкнув по нему левой кнопкой мыши, вставьте в докумен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05AA-2C8A-49E9-8519-F49F5E24025A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7715160" y="571680"/>
            <a:ext cx="1100160" cy="1804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2"/>
          <a:stretch/>
        </p:blipFill>
        <p:spPr>
          <a:xfrm>
            <a:off x="5508720" y="2852640"/>
            <a:ext cx="3200400" cy="102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2e4e"/>
                </a:solidFill>
                <a:latin typeface="Verdana"/>
              </a:rPr>
              <a:t>             </a:t>
            </a:r>
            <a:r>
              <a:rPr b="1" lang="ru-RU" sz="3600" spc="-1" strike="noStrike">
                <a:solidFill>
                  <a:srgbClr val="8a2e4e"/>
                </a:solidFill>
                <a:latin typeface="Verdana"/>
              </a:rPr>
              <a:t>Вставка рисунка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8760" y="1500120"/>
            <a:ext cx="8183520" cy="3944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ставки рисунка из файла выберите команду </a:t>
            </a:r>
            <a:r>
              <a:rPr b="0" i="1" lang="ru-RU" sz="2800" spc="-1" strike="noStrike">
                <a:solidFill>
                  <a:srgbClr val="8a2e4e"/>
                </a:solidFill>
                <a:latin typeface="Verdana"/>
              </a:rPr>
              <a:t>Вставка→Рисунок→Из фай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Появится окно Добавление рисунка. Найдите на диске нужный рисунок, выделите его и нажмите кнопку вставить (или просто сделайте двойной щелчок по файлу рисунка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9DE2-A90D-43AE-86BB-42EE35498C88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1" descr="ychen.gif"/>
          <p:cNvPicPr/>
          <p:nvPr/>
        </p:nvPicPr>
        <p:blipFill>
          <a:blip r:embed="rId1"/>
          <a:stretch/>
        </p:blipFill>
        <p:spPr>
          <a:xfrm>
            <a:off x="6372360" y="4149720"/>
            <a:ext cx="1711080" cy="1625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643880" cy="102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8a2e4e"/>
                </a:solidFill>
                <a:latin typeface="Verdana"/>
              </a:rPr>
              <a:t>Вставка символов </a:t>
            </a:r>
            <a:br>
              <a:rPr sz="2900"/>
            </a:br>
            <a:endParaRPr b="1" lang="en-US" sz="29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999720"/>
            <a:ext cx="8472600" cy="509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ументах часто применяются знаки, для ввода которых не существует клавиш на клавиатуре. Word позволяет вводить многие из специальных символов либо нажатием комбинации клавиш, либо с помощью команды </a:t>
            </a:r>
            <a:r>
              <a:rPr b="0" i="1" lang="ru-RU" sz="2000" spc="-1" strike="noStrike">
                <a:solidFill>
                  <a:srgbClr val="8a2e4e"/>
                </a:solidFill>
                <a:latin typeface="Verdana"/>
              </a:rPr>
              <a:t>Вставка→Символ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открыть таблицу символов перейдите на вкладку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имвол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специальны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мволы находятся на вклад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8a2e4e"/>
                </a:solidFill>
                <a:latin typeface="Verdana"/>
              </a:rPr>
              <a:t>Специальные знак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го ж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тавки символа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 выберите его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бора символов и щелкни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нопке </a:t>
            </a:r>
            <a:r>
              <a:rPr b="0" i="1" lang="ru-RU" sz="2000" spc="-1" strike="noStrike">
                <a:solidFill>
                  <a:srgbClr val="8a2e4e"/>
                </a:solidFill>
                <a:latin typeface="Verdana"/>
              </a:rPr>
              <a:t>Встави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E729-15C1-4273-BF9B-7F4F814CAFF3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3640" y="2997360"/>
            <a:ext cx="3562560" cy="291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915920"/>
            <a:ext cx="8183520" cy="388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бавление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гурного текс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тавка-Рисунок-Объект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ерите нужный текстовый эффект и нажмите </a:t>
            </a:r>
            <a:r>
              <a:rPr b="0" i="1" lang="ru-RU" sz="2400" spc="-1" strike="noStrike">
                <a:solidFill>
                  <a:srgbClr val="8a2e4e"/>
                </a:solidFill>
                <a:latin typeface="Verdana"/>
              </a:rPr>
              <a:t>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текст, который необходимо сделать фигурным, выбери необходимые параметры, а затем нажмите </a:t>
            </a:r>
            <a:r>
              <a:rPr b="0" i="1" lang="ru-RU" sz="2400" spc="-1" strike="noStrike">
                <a:solidFill>
                  <a:srgbClr val="8a2e4e"/>
                </a:solidFill>
                <a:latin typeface="Verdana"/>
              </a:rPr>
              <a:t>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изменения фигурного текста используйте кнопки на панелях инструментов </a:t>
            </a:r>
            <a:r>
              <a:rPr b="0" i="1" lang="en-US" sz="2400" spc="-1" strike="noStrike">
                <a:solidFill>
                  <a:srgbClr val="8a2e4e"/>
                </a:solidFill>
                <a:latin typeface="Verdana"/>
              </a:rPr>
              <a:t>Word Art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400" spc="-1" strike="noStrike">
                <a:solidFill>
                  <a:srgbClr val="8a2e4e"/>
                </a:solidFill>
                <a:latin typeface="Verdana"/>
              </a:rPr>
              <a:t>Рис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8B03-3AB9-410A-B810-2746B77A7C70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Прямоугольник 5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7381800" cy="1444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12000" y="1700280"/>
            <a:ext cx="2652480" cy="1271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2e4e"/>
                </a:solidFill>
                <a:latin typeface="Verdana"/>
              </a:rPr>
              <a:t>Задание для самостоятельной работы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28760" y="1285920"/>
            <a:ext cx="8183520" cy="5572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устите Word, выберите альбомную ориентацию листа  и создайте рекламный лист туристического агентства.  Вставьте рисунок, таблицу, фигурный текс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ите файл в свою папку под именем «Реклама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CB39-CCE8-47F0-B226-9495B15BAB7F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1357200" y="2214720"/>
            <a:ext cx="6715080" cy="3643200"/>
          </a:xfrm>
          <a:prstGeom prst="rect">
            <a:avLst/>
          </a:prstGeom>
          <a:solidFill>
            <a:srgbClr val="ffffff"/>
          </a:solidFill>
          <a:ln w="42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Прекрасный отдых на бере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                                                                                 </a:t>
            </a: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Индийск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                                                                              </a:t>
            </a: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по сказочно низким ц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Прямоугольник 6" descr=""/>
          <p:cNvPicPr/>
          <p:nvPr/>
        </p:nvPicPr>
        <p:blipFill>
          <a:blip r:embed="rId1"/>
          <a:stretch/>
        </p:blipFill>
        <p:spPr>
          <a:xfrm>
            <a:off x="4857840" y="3486240"/>
            <a:ext cx="3109680" cy="9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428840" y="3857760"/>
          <a:ext cx="3214440" cy="1036440"/>
        </p:xfrm>
        <a:graphic>
          <a:graphicData uri="http://schemas.openxmlformats.org/drawingml/2006/table">
            <a:tbl>
              <a:tblPr/>
              <a:tblGrid>
                <a:gridCol w="1608120"/>
                <a:gridCol w="1606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номестный 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rgbClr val="fde2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 у.е. 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rgbClr val="fde2b0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уместный 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de2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 у.е. 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de2b0"/>
                    </a:solidFill>
                  </a:tcPr>
                </a:tc>
              </a:tr>
            </a:tbl>
          </a:graphicData>
        </a:graphic>
      </p:graphicFrame>
      <p:sp>
        <p:nvSpPr>
          <p:cNvPr id="227" name="TextBox 12"/>
          <p:cNvSpPr/>
          <p:nvPr/>
        </p:nvSpPr>
        <p:spPr>
          <a:xfrm>
            <a:off x="1688040" y="535788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302ae"/>
                </a:solidFill>
                <a:latin typeface="Verdana"/>
              </a:rPr>
              <a:t>Наш телефон: 123-45-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5846400" y="542916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02ae"/>
                </a:solidFill>
                <a:latin typeface="Verdana"/>
              </a:rPr>
              <a:t>Мы ждем Вас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5-конечная звезда 14"/>
          <p:cNvSpPr/>
          <p:nvPr/>
        </p:nvSpPr>
        <p:spPr>
          <a:xfrm>
            <a:off x="3214800" y="3429000"/>
            <a:ext cx="357120" cy="285840"/>
          </a:xfrm>
          <a:custGeom>
            <a:avLst/>
            <a:gdLst>
              <a:gd name="textAreaLeft" fmla="*/ 110160 w 357120"/>
              <a:gd name="textAreaRight" fmla="*/ 246960 w 35712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357187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6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5-конечная звезда 15"/>
          <p:cNvSpPr/>
          <p:nvPr/>
        </p:nvSpPr>
        <p:spPr>
          <a:xfrm>
            <a:off x="3500280" y="3000240"/>
            <a:ext cx="357480" cy="285840"/>
          </a:xfrm>
          <a:custGeom>
            <a:avLst/>
            <a:gdLst>
              <a:gd name="textAreaLeft" fmla="*/ 110520 w 357480"/>
              <a:gd name="textAreaRight" fmla="*/ 246960 w 35748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357187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6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5-конечная звезда 16"/>
          <p:cNvSpPr/>
          <p:nvPr/>
        </p:nvSpPr>
        <p:spPr>
          <a:xfrm>
            <a:off x="3786120" y="3357720"/>
            <a:ext cx="357120" cy="285480"/>
          </a:xfrm>
          <a:custGeom>
            <a:avLst/>
            <a:gdLst>
              <a:gd name="textAreaLeft" fmla="*/ 110160 w 357120"/>
              <a:gd name="textAreaRight" fmla="*/ 246960 w 35712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357187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6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Прямоугольник 18" descr=""/>
          <p:cNvPicPr/>
          <p:nvPr/>
        </p:nvPicPr>
        <p:blipFill>
          <a:blip r:embed="rId2"/>
          <a:stretch/>
        </p:blipFill>
        <p:spPr>
          <a:xfrm>
            <a:off x="1255680" y="1994040"/>
            <a:ext cx="2809800" cy="1815840"/>
          </a:xfrm>
          <a:prstGeom prst="rect">
            <a:avLst/>
          </a:prstGeom>
          <a:ln w="0">
            <a:noFill/>
          </a:ln>
        </p:spPr>
      </p:pic>
      <p:sp>
        <p:nvSpPr>
          <p:cNvPr id="233" name="5-конечная звезда 19"/>
          <p:cNvSpPr/>
          <p:nvPr/>
        </p:nvSpPr>
        <p:spPr>
          <a:xfrm>
            <a:off x="2714760" y="3357720"/>
            <a:ext cx="357120" cy="285480"/>
          </a:xfrm>
          <a:custGeom>
            <a:avLst/>
            <a:gdLst>
              <a:gd name="textAreaLeft" fmla="*/ 110160 w 357120"/>
              <a:gd name="textAreaRight" fmla="*/ 246960 w 35712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357188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6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5-конечная звезда 20"/>
          <p:cNvSpPr/>
          <p:nvPr/>
        </p:nvSpPr>
        <p:spPr>
          <a:xfrm>
            <a:off x="4000680" y="2857680"/>
            <a:ext cx="357120" cy="285480"/>
          </a:xfrm>
          <a:custGeom>
            <a:avLst/>
            <a:gdLst>
              <a:gd name="textAreaLeft" fmla="*/ 110160 w 357120"/>
              <a:gd name="textAreaRight" fmla="*/ 246960 w 35712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357188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6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0" descr="MCj01919270000[1]"/>
          <p:cNvPicPr/>
          <p:nvPr/>
        </p:nvPicPr>
        <p:blipFill>
          <a:blip r:embed="rId3"/>
          <a:stretch/>
        </p:blipFill>
        <p:spPr>
          <a:xfrm>
            <a:off x="5148360" y="2349360"/>
            <a:ext cx="1689120" cy="147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3:58:05Z</dcterms:created>
  <dc:creator>D@Rk$</dc:creator>
  <dc:description/>
  <dc:language>en-US</dc:language>
  <cp:lastModifiedBy>5</cp:lastModifiedBy>
  <dcterms:modified xsi:type="dcterms:W3CDTF">2016-12-20T10:51:19Z</dcterms:modified>
  <cp:revision>42</cp:revision>
  <dc:subject/>
  <dc:title>Слайд 1</dc:title>
</cp:coreProperties>
</file>