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3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5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9A89-9C1F-42F7-9609-2008102B0B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6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E59C-169A-4299-A4A6-67F223498B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17EB-7C2C-4BB7-A6B5-887AB02E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5C3-4B5A-4E07-B1FC-9B82F0CE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01F-EB05-4D45-B4AA-696F91BA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CBE-C3BD-4020-B782-BB0B995A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7403-2730-410E-8AD2-E62DD309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AEFC-F1FC-4535-A948-0CBC60B8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F4CF-71B7-4967-91D0-470C5FDC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2D61-0F65-4AA7-A55D-9B275EB4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4605-40FB-4E52-99EB-8D35EF06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2F38-EAC4-4595-B871-FEC9198F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FDAE-EB58-41FD-B26D-E6EF5098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E37-11F8-436E-849F-3E31ADEF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CA90-081C-481B-8E98-76C62F8F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AA16-3F97-4247-B20B-EF742B79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C24A-949C-4C67-B20F-6F285797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1E12-B325-4FB4-822A-EE780435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9012-AB07-4B13-BE71-A767D5EB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85778-4EC1-4A6D-9AD7-E64A2097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24735-EB67-44C1-B102-24FF0D3E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5E5B4-BB68-4E7A-86C6-E7341CB4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4F4F4-2004-4DB2-84A6-62277874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166A-85CD-4DD3-B8CF-F760A62E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61A3-C3AE-4574-99BE-38CE920C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216FD-A089-4A4A-8986-CE87EF71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DB32-42E2-4E09-88B7-CB6311E5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45572-99D6-416B-A3D5-875BABF4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8CB9-E47C-4C1E-ACD0-1659C6B8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DF9C8-94CC-405C-9E69-012BF601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25DD-9226-43AC-B1FA-7F0426BA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18204-6732-4B03-8E6B-C3E4DCF9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1599F-2207-4BBB-8A67-07C81927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DE447-F7CA-4DE6-BF2C-86A8E205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5331D-F22E-4A83-BF34-C293000A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1FF-EEF7-4095-B16F-03097AA9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AF5B4-56E8-4362-ABA2-791F6BD9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0CF8C-C04D-40A9-86A8-8B88A976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D3E78-06D1-43F9-A1F7-C4202088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F2166-D8B4-4EB4-A018-98B9EF8B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3CD08-5CBC-4052-B1CC-B6850BFA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2DD7A-0C40-404F-8D05-42FE4491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50DC6-54BB-442B-94A6-E94D8A7E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DADB9-2C7E-4E1F-90CA-D3779839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8E270-D905-4400-9A46-A57C9D2A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466-8768-462D-9804-0BC556C9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FD6-3A8D-483B-A0D7-F6893219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BFE-1D5C-48AC-9CFC-8D5526F2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495-F859-4317-80D4-9287659B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3A51-6B91-4FDF-9B05-3FB44CC4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52AD-0F02-46AB-BE99-C8CDB911CCB9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322E-7595-4DA5-A7A8-3D1DF7904B12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70B7-77F9-47EF-9440-B22B9CA73F86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9D42-7B26-4FC9-879D-F7AAF8E56626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9A92-EE47-42AF-BA83-ADDE50ECC0EB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BE17-954B-47AC-8ECE-B9A445BE77D1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BD1D-BACD-4155-BEF0-E9C0EFD57FDC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BB10-2E40-4647-A539-669E6CD4D623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Прямоугольник 4" descr=""/>
          <p:cNvPicPr/>
          <p:nvPr/>
        </p:nvPicPr>
        <p:blipFill>
          <a:blip r:embed="rId1"/>
          <a:stretch/>
        </p:blipFill>
        <p:spPr>
          <a:xfrm>
            <a:off x="1133640" y="914400"/>
            <a:ext cx="6589440" cy="3859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k"/>
          <p:cNvPicPr/>
          <p:nvPr/>
        </p:nvPicPr>
        <p:blipFill>
          <a:blip r:embed="rId2"/>
          <a:stretch/>
        </p:blipFill>
        <p:spPr>
          <a:xfrm>
            <a:off x="7500960" y="642960"/>
            <a:ext cx="1028520" cy="2055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Рис_4"/>
          <p:cNvPicPr/>
          <p:nvPr/>
        </p:nvPicPr>
        <p:blipFill>
          <a:blip r:embed="rId3"/>
          <a:stretch/>
        </p:blipFill>
        <p:spPr>
          <a:xfrm>
            <a:off x="826920" y="386064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185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075D-6707-4EE6-9416-58CFAD51CDB4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ижний колонтитул 1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00" y="357120"/>
            <a:ext cx="8186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r>
              <a:rPr b="1" lang="ru-RU" sz="4200" spc="-1" strike="noStrike">
                <a:solidFill>
                  <a:srgbClr val="8a2e4e"/>
                </a:solidFill>
                <a:latin typeface="Verdana"/>
              </a:rPr>
              <a:t>Размещение в документе графики</a:t>
            </a:r>
            <a:endParaRPr b="1" lang="en-US" sz="42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920" y="1557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текстовом редакторе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имеется возможность для создания рисунков с помощью панели инструментов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Рисовани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8a2e4e"/>
                </a:solidFill>
                <a:latin typeface="Verdana"/>
              </a:rPr>
              <a:t>Для выделения  объекта нужно щёлкнуть по нему левой кнопкой мыш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a2e4e"/>
                </a:solidFill>
                <a:latin typeface="Verdana"/>
              </a:rPr>
              <a:t>Изменение размеров объекта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) выделить объект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) потянуть за любой квадратный маркер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) снять выделени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C828-0D26-4DED-8E6D-EFB4E6767B34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9" descr="12m6"/>
          <p:cNvPicPr/>
          <p:nvPr/>
        </p:nvPicPr>
        <p:blipFill>
          <a:blip r:embed="rId5"/>
          <a:stretch/>
        </p:blipFill>
        <p:spPr>
          <a:xfrm>
            <a:off x="7286760" y="928800"/>
            <a:ext cx="1630080" cy="1380960"/>
          </a:xfrm>
          <a:prstGeom prst="rect">
            <a:avLst/>
          </a:prstGeom>
          <a:ln w="0">
            <a:noFill/>
          </a:ln>
        </p:spPr>
      </p:pic>
      <p:sp>
        <p:nvSpPr>
          <p:cNvPr id="191" name="Сердце 5"/>
          <p:cNvSpPr/>
          <p:nvPr/>
        </p:nvSpPr>
        <p:spPr>
          <a:xfrm rot="1084800">
            <a:off x="7667280" y="3357720"/>
            <a:ext cx="927000" cy="936360"/>
          </a:xfrm>
          <a:custGeom>
            <a:avLst/>
            <a:gdLst>
              <a:gd name="textAreaLeft" fmla="*/ 154440 w 927000"/>
              <a:gd name="textAreaRight" fmla="*/ 772560 w 927000"/>
              <a:gd name="textAreaTop" fmla="*/ 234000 h 936360"/>
              <a:gd name="textAreaBottom" fmla="*/ 624240 h 936360"/>
            </a:gdLst>
            <a:ahLst/>
            <a:rect l="textAreaLeft" t="textAreaTop" r="textAreaRight" b="textAreaBottom"/>
            <a:pathLst>
              <a:path w="927100" h="936625">
                <a:moveTo>
                  <a:pt x="463550" y="234156"/>
                </a:moveTo>
                <a:cubicBezTo>
                  <a:pt x="656696" y="-312208"/>
                  <a:pt x="1409965" y="234156"/>
                  <a:pt x="463550" y="936625"/>
                </a:cubicBezTo>
                <a:cubicBezTo>
                  <a:pt x="-482865" y="234156"/>
                  <a:pt x="270404" y="-312208"/>
                  <a:pt x="463550" y="234156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5e0e5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ижний колонтитул 1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a2e4e"/>
                </a:solidFill>
                <a:latin typeface="Verdana"/>
              </a:rPr>
              <a:t>Копирование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объек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жать клавишу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trl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 перемещать объект в нужном  направлен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нять выделе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2e4e"/>
                </a:solidFill>
                <a:latin typeface="Verdana"/>
              </a:rPr>
              <a:t>Перемещени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объек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мещать объект в нужном  направлен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нять выделе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a2e4e"/>
                </a:solidFill>
                <a:latin typeface="Verdana"/>
              </a:rPr>
              <a:t>Удалени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объек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жать клавиш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lete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ли правой кнопкой мыши вызвать контекстное меню и выбрать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Удали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8a2e4e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нять выделе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3823-A1A2-406F-ADE4-932F33F7E2E1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олнце 2"/>
          <p:cNvSpPr/>
          <p:nvPr/>
        </p:nvSpPr>
        <p:spPr>
          <a:xfrm>
            <a:off x="6084720" y="1557360"/>
            <a:ext cx="1057320" cy="9208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олнце 2"/>
          <p:cNvSpPr/>
          <p:nvPr/>
        </p:nvSpPr>
        <p:spPr>
          <a:xfrm>
            <a:off x="4859280" y="1844640"/>
            <a:ext cx="1057320" cy="9208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олнце 2"/>
          <p:cNvSpPr/>
          <p:nvPr/>
        </p:nvSpPr>
        <p:spPr>
          <a:xfrm>
            <a:off x="7308720" y="1989000"/>
            <a:ext cx="1057320" cy="9208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1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2e4e"/>
                </a:solidFill>
                <a:latin typeface="Verdana"/>
              </a:rPr>
              <a:t>           </a:t>
            </a:r>
            <a:r>
              <a:rPr b="1" lang="ru-RU" sz="3600" spc="-1" strike="noStrike">
                <a:solidFill>
                  <a:srgbClr val="8a2e4e"/>
                </a:solidFill>
                <a:latin typeface="Verdana"/>
              </a:rPr>
              <a:t>Вставка рисунка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557360"/>
            <a:ext cx="8183520" cy="497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ля вставки в документ рисунков используется команда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Вставка→Рисунок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1026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пример, для того чтобы вставить рисунок из коллекции картинок Microsoft Office необходимо дать команду</a:t>
            </a:r>
            <a:r>
              <a:rPr b="0" lang="ru-RU" sz="2200" spc="-1" strike="noStrike">
                <a:solidFill>
                  <a:srgbClr val="2c1026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a2e4e"/>
                </a:solidFill>
                <a:latin typeface="Verdana"/>
              </a:rPr>
              <a:t>  </a:t>
            </a:r>
            <a:r>
              <a:rPr b="0" i="1" lang="ru-RU" sz="2200" spc="-1" strike="noStrike">
                <a:solidFill>
                  <a:srgbClr val="8a2e4e"/>
                </a:solidFill>
                <a:latin typeface="Verdana"/>
              </a:rPr>
              <a:t>Вставка→Рисунок→Картинки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ллекция картинок (Microsof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держит рисунки, фотографи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вуки, видео и другие файлы мультимедиа, называемые клипами, которые можно вставлять и использовать в документах Microsoft Office. Найдите нужный клип (рисунок) и, щелкнув по нему левой кнопкой мыши, вставьте в докумен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78E2-FB0D-4266-9099-1F99B0153974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7715160" y="571680"/>
            <a:ext cx="1100160" cy="1804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2"/>
          <a:stretch/>
        </p:blipFill>
        <p:spPr>
          <a:xfrm>
            <a:off x="5508720" y="2852640"/>
            <a:ext cx="3200400" cy="102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ижний колонтитул 1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a2e4e"/>
                </a:solidFill>
                <a:latin typeface="Verdana"/>
              </a:rPr>
              <a:t>             </a:t>
            </a:r>
            <a:r>
              <a:rPr b="1" lang="ru-RU" sz="3600" spc="-1" strike="noStrike">
                <a:solidFill>
                  <a:srgbClr val="8a2e4e"/>
                </a:solidFill>
                <a:latin typeface="Verdana"/>
              </a:rPr>
              <a:t>Вставка рисунка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28760" y="1500120"/>
            <a:ext cx="8183520" cy="3944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ставки рисунка из файла выберите команду </a:t>
            </a:r>
            <a:r>
              <a:rPr b="0" i="1" lang="ru-RU" sz="2800" spc="-1" strike="noStrike">
                <a:solidFill>
                  <a:srgbClr val="8a2e4e"/>
                </a:solidFill>
                <a:latin typeface="Verdana"/>
              </a:rPr>
              <a:t>Вставка→Рисунок→Из файл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Появится окно Добавление рисунка. Найдите на диске нужный рисунок, выделите его и нажмите кнопку вставить (или просто сделайте двойной щелчок по файлу рисунка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FB07-9FEB-4197-AB83-27EFBE3B8A97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11" descr="ychen.gif"/>
          <p:cNvPicPr/>
          <p:nvPr/>
        </p:nvPicPr>
        <p:blipFill>
          <a:blip r:embed="rId1"/>
          <a:stretch/>
        </p:blipFill>
        <p:spPr>
          <a:xfrm>
            <a:off x="6372360" y="4149720"/>
            <a:ext cx="1711080" cy="1625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ижний колонтитул 1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643880" cy="102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8a2e4e"/>
                </a:solidFill>
                <a:latin typeface="Verdana"/>
              </a:rPr>
              <a:t>Вставка символов </a:t>
            </a:r>
            <a:br>
              <a:rPr sz="2900"/>
            </a:br>
            <a:endParaRPr b="1" lang="en-US" sz="29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999720"/>
            <a:ext cx="8472600" cy="5095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ументах часто применяются знаки, для ввода которых не существует клавиш на клавиатуре. Word позволяет вводить многие из специальных символов либо нажатием комбинации клавиш, либо с помощью команды </a:t>
            </a:r>
            <a:r>
              <a:rPr b="0" i="1" lang="ru-RU" sz="2000" spc="-1" strike="noStrike">
                <a:solidFill>
                  <a:srgbClr val="8a2e4e"/>
                </a:solidFill>
                <a:latin typeface="Verdana"/>
              </a:rPr>
              <a:t>Вставка→Символ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открыть таблицу символов перейдите на вкладку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имвол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специальны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мволы находятся на вклад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8a2e4e"/>
                </a:solidFill>
                <a:latin typeface="Verdana"/>
              </a:rPr>
              <a:t>Специальные знак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го ж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тавки символа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умент выберите его из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бора символов и щелкни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кнопке </a:t>
            </a:r>
            <a:r>
              <a:rPr b="0" i="1" lang="ru-RU" sz="2000" spc="-1" strike="noStrike">
                <a:solidFill>
                  <a:srgbClr val="8a2e4e"/>
                </a:solidFill>
                <a:latin typeface="Verdana"/>
              </a:rPr>
              <a:t>Встави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6421-CB69-43FC-AB3C-E980EDA7BC79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003640" y="2997360"/>
            <a:ext cx="3562560" cy="291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ижний колонтитул 1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915920"/>
            <a:ext cx="8183520" cy="388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бавление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игурного текст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тавка-Рисунок-Объект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 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ерите нужный текстовый эффект и нажмите </a:t>
            </a:r>
            <a:r>
              <a:rPr b="0" i="1" lang="ru-RU" sz="2400" spc="-1" strike="noStrike">
                <a:solidFill>
                  <a:srgbClr val="8a2e4e"/>
                </a:solidFill>
                <a:latin typeface="Verdana"/>
              </a:rPr>
              <a:t>О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текст, который необходимо сделать фигурным, выбери необходимые параметры, а затем нажмите </a:t>
            </a:r>
            <a:r>
              <a:rPr b="0" i="1" lang="ru-RU" sz="2400" spc="-1" strike="noStrike">
                <a:solidFill>
                  <a:srgbClr val="8a2e4e"/>
                </a:solidFill>
                <a:latin typeface="Verdana"/>
              </a:rPr>
              <a:t>О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изменения фигурного текста используйте кнопки на панелях инструментов </a:t>
            </a:r>
            <a:r>
              <a:rPr b="0" i="1" lang="en-US" sz="2400" spc="-1" strike="noStrike">
                <a:solidFill>
                  <a:srgbClr val="8a2e4e"/>
                </a:solidFill>
                <a:latin typeface="Verdana"/>
              </a:rPr>
              <a:t>Word Art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2400" spc="-1" strike="noStrike">
                <a:solidFill>
                  <a:srgbClr val="8a2e4e"/>
                </a:solidFill>
                <a:latin typeface="Verdana"/>
              </a:rPr>
              <a:t>Рис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420B-1ED6-4E92-96C0-4C0B64B0153F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Прямоугольник 5" descr=""/>
          <p:cNvPicPr/>
          <p:nvPr/>
        </p:nvPicPr>
        <p:blipFill>
          <a:blip r:embed="rId1"/>
          <a:stretch/>
        </p:blipFill>
        <p:spPr>
          <a:xfrm>
            <a:off x="566640" y="420840"/>
            <a:ext cx="7381800" cy="1444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12000" y="1700280"/>
            <a:ext cx="2652480" cy="1271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ижний колонтитул 1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Иванова Надежда Валериановна - учитель МОУ СОШ №10 г.Йошкар-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a2e4e"/>
                </a:solidFill>
                <a:latin typeface="Verdana"/>
              </a:rPr>
              <a:t>Задание для самостоятельной работы</a:t>
            </a:r>
            <a:endParaRPr b="1" lang="en-US" sz="32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28760" y="1285920"/>
            <a:ext cx="8183520" cy="5572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устите Word, выберите альбомную ориентацию листа  и создайте рекламный лист туристического агентства.  Вставьте рисунок, таблицу, фигурный текс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храните файл в свою папку под именем «Реклама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E728-D8C2-412E-88A9-DAFA9286A21E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4"/>
          <p:cNvSpPr/>
          <p:nvPr/>
        </p:nvSpPr>
        <p:spPr>
          <a:xfrm>
            <a:off x="1357200" y="2214720"/>
            <a:ext cx="6715080" cy="3643200"/>
          </a:xfrm>
          <a:prstGeom prst="rect">
            <a:avLst/>
          </a:prstGeom>
          <a:solidFill>
            <a:srgbClr val="ffffff"/>
          </a:solidFill>
          <a:ln w="424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52f74"/>
                </a:solidFill>
                <a:latin typeface="Verdana"/>
              </a:rPr>
              <a:t>                                                                      </a:t>
            </a:r>
            <a:r>
              <a:rPr b="1" lang="ru-RU" sz="1200" spc="-1" strike="noStrike">
                <a:solidFill>
                  <a:srgbClr val="852f74"/>
                </a:solidFill>
                <a:latin typeface="Verdana"/>
              </a:rPr>
              <a:t>Прекрасный отдых на бере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52f74"/>
                </a:solidFill>
                <a:latin typeface="Verdana"/>
              </a:rPr>
              <a:t>                                                                                 </a:t>
            </a:r>
            <a:r>
              <a:rPr b="1" lang="ru-RU" sz="1200" spc="-1" strike="noStrike">
                <a:solidFill>
                  <a:srgbClr val="852f74"/>
                </a:solidFill>
                <a:latin typeface="Verdana"/>
              </a:rPr>
              <a:t>Индийск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52f74"/>
                </a:solidFill>
                <a:latin typeface="Verdana"/>
              </a:rPr>
              <a:t>                                                                              </a:t>
            </a:r>
            <a:r>
              <a:rPr b="1" lang="ru-RU" sz="1200" spc="-1" strike="noStrike">
                <a:solidFill>
                  <a:srgbClr val="852f74"/>
                </a:solidFill>
                <a:latin typeface="Verdana"/>
              </a:rPr>
              <a:t>по сказочно низким ц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Прямоугольник 6" descr=""/>
          <p:cNvPicPr/>
          <p:nvPr/>
        </p:nvPicPr>
        <p:blipFill>
          <a:blip r:embed="rId1"/>
          <a:stretch/>
        </p:blipFill>
        <p:spPr>
          <a:xfrm>
            <a:off x="4857840" y="3486240"/>
            <a:ext cx="3109680" cy="98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428840" y="3857760"/>
          <a:ext cx="3214440" cy="1036440"/>
        </p:xfrm>
        <a:graphic>
          <a:graphicData uri="http://schemas.openxmlformats.org/drawingml/2006/table">
            <a:tbl>
              <a:tblPr/>
              <a:tblGrid>
                <a:gridCol w="1608120"/>
                <a:gridCol w="16063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номестный но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solidFill>
                      <a:srgbClr val="fde2b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 у.е. в су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576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solidFill>
                      <a:srgbClr val="fde2b0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уместный но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de2b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 у.е. в су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9b639"/>
                      </a:solidFill>
                    </a:lnL>
                    <a:lnR w="576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5760">
                      <a:solidFill>
                        <a:srgbClr val="f9b639"/>
                      </a:solidFill>
                    </a:lnB>
                    <a:solidFill>
                      <a:srgbClr val="fde2b0"/>
                    </a:solidFill>
                  </a:tcPr>
                </a:tc>
              </a:tr>
            </a:tbl>
          </a:graphicData>
        </a:graphic>
      </p:graphicFrame>
      <p:sp>
        <p:nvSpPr>
          <p:cNvPr id="227" name="TextBox 12"/>
          <p:cNvSpPr/>
          <p:nvPr/>
        </p:nvSpPr>
        <p:spPr>
          <a:xfrm>
            <a:off x="1688040" y="535788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302ae"/>
                </a:solidFill>
                <a:latin typeface="Verdana"/>
              </a:rPr>
              <a:t>Наш телефон: 123-45-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5846400" y="542916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02ae"/>
                </a:solidFill>
                <a:latin typeface="Verdana"/>
              </a:rPr>
              <a:t>Мы ждем Вас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5-конечная звезда 14"/>
          <p:cNvSpPr/>
          <p:nvPr/>
        </p:nvSpPr>
        <p:spPr>
          <a:xfrm>
            <a:off x="3214800" y="3429000"/>
            <a:ext cx="357120" cy="285840"/>
          </a:xfrm>
          <a:custGeom>
            <a:avLst/>
            <a:gdLst>
              <a:gd name="textAreaLeft" fmla="*/ 110160 w 357120"/>
              <a:gd name="textAreaRight" fmla="*/ 246960 w 35712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357187" h="285750">
                <a:moveTo>
                  <a:pt x="0" y="109146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3" y="109147"/>
                </a:lnTo>
                <a:lnTo>
                  <a:pt x="357187" y="109146"/>
                </a:lnTo>
                <a:lnTo>
                  <a:pt x="246809" y="176602"/>
                </a:lnTo>
                <a:lnTo>
                  <a:pt x="288970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close/>
              </a:path>
            </a:pathLst>
          </a:custGeom>
          <a:solidFill>
            <a:srgbClr val="b83d68"/>
          </a:solidFill>
          <a:ln w="4248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5-конечная звезда 15"/>
          <p:cNvSpPr/>
          <p:nvPr/>
        </p:nvSpPr>
        <p:spPr>
          <a:xfrm>
            <a:off x="3500280" y="3000240"/>
            <a:ext cx="357480" cy="285840"/>
          </a:xfrm>
          <a:custGeom>
            <a:avLst/>
            <a:gdLst>
              <a:gd name="textAreaLeft" fmla="*/ 110520 w 357480"/>
              <a:gd name="textAreaRight" fmla="*/ 246960 w 35748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357187" h="285750">
                <a:moveTo>
                  <a:pt x="0" y="109146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3" y="109147"/>
                </a:lnTo>
                <a:lnTo>
                  <a:pt x="357187" y="109146"/>
                </a:lnTo>
                <a:lnTo>
                  <a:pt x="246809" y="176602"/>
                </a:lnTo>
                <a:lnTo>
                  <a:pt x="288970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close/>
              </a:path>
            </a:pathLst>
          </a:custGeom>
          <a:solidFill>
            <a:srgbClr val="b83d68"/>
          </a:solidFill>
          <a:ln w="4248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5-конечная звезда 16"/>
          <p:cNvSpPr/>
          <p:nvPr/>
        </p:nvSpPr>
        <p:spPr>
          <a:xfrm>
            <a:off x="3786120" y="3357720"/>
            <a:ext cx="357120" cy="285480"/>
          </a:xfrm>
          <a:custGeom>
            <a:avLst/>
            <a:gdLst>
              <a:gd name="textAreaLeft" fmla="*/ 110160 w 357120"/>
              <a:gd name="textAreaRight" fmla="*/ 246960 w 357120"/>
              <a:gd name="textAreaTop" fmla="*/ 109080 h 285480"/>
              <a:gd name="textAreaBottom" fmla="*/ 218160 h 285480"/>
            </a:gdLst>
            <a:ahLst/>
            <a:rect l="textAreaLeft" t="textAreaTop" r="textAreaRight" b="textAreaBottom"/>
            <a:pathLst>
              <a:path w="357187" h="285750">
                <a:moveTo>
                  <a:pt x="0" y="109146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3" y="109147"/>
                </a:lnTo>
                <a:lnTo>
                  <a:pt x="357187" y="109146"/>
                </a:lnTo>
                <a:lnTo>
                  <a:pt x="246809" y="176602"/>
                </a:lnTo>
                <a:lnTo>
                  <a:pt x="288970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close/>
              </a:path>
            </a:pathLst>
          </a:custGeom>
          <a:solidFill>
            <a:srgbClr val="b83d68"/>
          </a:solidFill>
          <a:ln w="4248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Прямоугольник 18" descr=""/>
          <p:cNvPicPr/>
          <p:nvPr/>
        </p:nvPicPr>
        <p:blipFill>
          <a:blip r:embed="rId2"/>
          <a:stretch/>
        </p:blipFill>
        <p:spPr>
          <a:xfrm>
            <a:off x="1255680" y="1994040"/>
            <a:ext cx="2809800" cy="1815840"/>
          </a:xfrm>
          <a:prstGeom prst="rect">
            <a:avLst/>
          </a:prstGeom>
          <a:ln w="0">
            <a:noFill/>
          </a:ln>
        </p:spPr>
      </p:pic>
      <p:sp>
        <p:nvSpPr>
          <p:cNvPr id="233" name="5-конечная звезда 19"/>
          <p:cNvSpPr/>
          <p:nvPr/>
        </p:nvSpPr>
        <p:spPr>
          <a:xfrm>
            <a:off x="2714760" y="3357720"/>
            <a:ext cx="357120" cy="285480"/>
          </a:xfrm>
          <a:custGeom>
            <a:avLst/>
            <a:gdLst>
              <a:gd name="textAreaLeft" fmla="*/ 110160 w 357120"/>
              <a:gd name="textAreaRight" fmla="*/ 246960 w 357120"/>
              <a:gd name="textAreaTop" fmla="*/ 109080 h 285480"/>
              <a:gd name="textAreaBottom" fmla="*/ 218160 h 285480"/>
            </a:gdLst>
            <a:ahLst/>
            <a:rect l="textAreaLeft" t="textAreaTop" r="textAreaRight" b="textAreaBottom"/>
            <a:pathLst>
              <a:path w="357188" h="285750">
                <a:moveTo>
                  <a:pt x="0" y="109146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4" y="109147"/>
                </a:lnTo>
                <a:lnTo>
                  <a:pt x="357188" y="109146"/>
                </a:lnTo>
                <a:lnTo>
                  <a:pt x="246810" y="176602"/>
                </a:lnTo>
                <a:lnTo>
                  <a:pt x="288971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close/>
              </a:path>
            </a:pathLst>
          </a:custGeom>
          <a:solidFill>
            <a:srgbClr val="b83d68"/>
          </a:solidFill>
          <a:ln w="4248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5-конечная звезда 20"/>
          <p:cNvSpPr/>
          <p:nvPr/>
        </p:nvSpPr>
        <p:spPr>
          <a:xfrm>
            <a:off x="4000680" y="2857680"/>
            <a:ext cx="357120" cy="285480"/>
          </a:xfrm>
          <a:custGeom>
            <a:avLst/>
            <a:gdLst>
              <a:gd name="textAreaLeft" fmla="*/ 110160 w 357120"/>
              <a:gd name="textAreaRight" fmla="*/ 246960 w 357120"/>
              <a:gd name="textAreaTop" fmla="*/ 109080 h 285480"/>
              <a:gd name="textAreaBottom" fmla="*/ 218160 h 285480"/>
            </a:gdLst>
            <a:ahLst/>
            <a:rect l="textAreaLeft" t="textAreaTop" r="textAreaRight" b="textAreaBottom"/>
            <a:pathLst>
              <a:path w="357188" h="285750">
                <a:moveTo>
                  <a:pt x="0" y="109146"/>
                </a:moveTo>
                <a:lnTo>
                  <a:pt x="136434" y="109147"/>
                </a:lnTo>
                <a:lnTo>
                  <a:pt x="178594" y="0"/>
                </a:lnTo>
                <a:lnTo>
                  <a:pt x="220754" y="109147"/>
                </a:lnTo>
                <a:lnTo>
                  <a:pt x="357188" y="109146"/>
                </a:lnTo>
                <a:lnTo>
                  <a:pt x="246810" y="176602"/>
                </a:lnTo>
                <a:lnTo>
                  <a:pt x="288971" y="285749"/>
                </a:lnTo>
                <a:lnTo>
                  <a:pt x="178594" y="218292"/>
                </a:lnTo>
                <a:lnTo>
                  <a:pt x="68217" y="285749"/>
                </a:lnTo>
                <a:lnTo>
                  <a:pt x="110378" y="176602"/>
                </a:lnTo>
                <a:close/>
              </a:path>
            </a:pathLst>
          </a:custGeom>
          <a:solidFill>
            <a:srgbClr val="b83d68"/>
          </a:solidFill>
          <a:ln w="4248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0" descr="MCj01919270000[1]"/>
          <p:cNvPicPr/>
          <p:nvPr/>
        </p:nvPicPr>
        <p:blipFill>
          <a:blip r:embed="rId3"/>
          <a:stretch/>
        </p:blipFill>
        <p:spPr>
          <a:xfrm>
            <a:off x="5148360" y="2349360"/>
            <a:ext cx="1689120" cy="1476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3:58:05Z</dcterms:created>
  <dc:creator>D@Rk$</dc:creator>
  <dc:description/>
  <dc:language>en-US</dc:language>
  <cp:lastModifiedBy>5</cp:lastModifiedBy>
  <dcterms:modified xsi:type="dcterms:W3CDTF">2016-12-20T10:51:19Z</dcterms:modified>
  <cp:revision>42</cp:revision>
  <dc:subject/>
  <dc:title>Слайд 1</dc:title>
</cp:coreProperties>
</file>