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B8474-BFD1-4581-88F0-995CF50DF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F8FC4-159B-4B43-99A7-A8380D49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1EF0-A02A-4873-A505-AF03BB3F7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1B23-3591-4AE1-9C87-C0B88DF34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369C02-8875-46F0-9A34-F5750E084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816542-D870-41F7-9A32-EC2E500B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21BE2B-FEA2-4AD0-A413-6900F8562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CEFE66-916D-4FAE-858C-C4168610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F8C28E-07C8-471F-A42E-D5816671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5094B2-F234-49B1-ACB8-08A4EA31F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D8A73-6611-4F0E-AA29-EF6CDEBA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6C2DD-8C2C-4EBC-883F-1EC29E30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35CAB-9B0E-4F38-991E-1FA0A203C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7CC39-BBD2-451C-B7F8-A17F40E9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2B00E1-11E4-4F5E-A6AA-8D07B5ADB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31F306-5C52-4E09-9A70-313232E9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2C5B0D-3233-4DD4-B39F-76A80355D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B1CF86-8569-4D26-B2D7-0374ABFB5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AF81A-CFA6-4318-866F-A015F79E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6FECE2-BB61-444F-91D8-51BB6FC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C532E8-84AE-4CF6-A8EF-8786FE7B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DE8DDE-52BF-49C0-BF57-83B24C5F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0EF79-99E0-4F9F-AFA4-AF183417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35991B-45B2-4963-81A2-A3EEE584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A0F0C8-B125-4D5B-A43A-D86DEF64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D9B23-4AED-4ABF-BE8F-EA937E00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B4F641-E8D6-4BF2-AF3C-D858ADF9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F5FE5A-96EE-4804-AE10-178F8F02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B2072-F5BD-4B47-A957-8ECA041A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5B16B7-3F8E-47F8-8570-3969CC48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FB44E-53F2-477C-BDC8-64D7A97CA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120B-69A4-4D41-94B3-A0F1DCFD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67498-8F09-4802-A7E4-7E68144C6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D8181-FD94-4D57-8A36-5A7F5309F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BBFA40-12DB-4ADA-ACB1-D211D7CA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DB06E-85B6-47B0-A388-E1F5AC80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64631-00CB-4CDE-9952-52929D8D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126F-2087-4900-A961-4948E9D1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4235D-D991-444F-A936-5B9A8220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37B9B-8DF3-4BBC-966F-11BD72D1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10E35-9DDF-4F13-A61A-96DF46AA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6CF2C-F0AC-4874-83BC-45B7A27DB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2018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4169880"/>
            <a:ext cx="264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E79DB-BD9A-4DF2-BEC6-9595535B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449AD-5905-4E4D-A679-6EA6B0282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600" y="974520"/>
            <a:ext cx="4114800" cy="325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4F7FA-9E08-4F19-A59E-278312A7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90EC8-DC57-4DC0-96C7-6B811F6F0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169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9CDF1-C5EA-43A2-ABDC-4CD9B0C5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018880"/>
            <a:ext cx="40158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69880"/>
            <a:ext cx="8229600" cy="19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FE17-BC45-460C-82B8-569E1BE4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0"/>
            <a:ext cx="9144000" cy="2933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17"/>
          <p:cNvSpPr/>
          <p:nvPr/>
        </p:nvSpPr>
        <p:spPr>
          <a:xfrm>
            <a:off x="0" y="2925720"/>
            <a:ext cx="9144000" cy="1800"/>
          </a:xfrm>
          <a:prstGeom prst="line">
            <a:avLst/>
          </a:prstGeom>
          <a:ln w="12600">
            <a:solidFill>
              <a:srgbClr val="6f6f7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2514600" y="2362320"/>
            <a:ext cx="4114800" cy="112716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FF78-FC8E-459B-8ABC-0CA3A9B79573}" type="slidenum">
              <a:rPr b="1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7"/>
          <p:cNvSpPr/>
          <p:nvPr/>
        </p:nvSpPr>
        <p:spPr>
          <a:xfrm>
            <a:off x="0" y="3922560"/>
            <a:ext cx="9144000" cy="293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10"/>
          <p:cNvSpPr/>
          <p:nvPr/>
        </p:nvSpPr>
        <p:spPr>
          <a:xfrm>
            <a:off x="0" y="3921120"/>
            <a:ext cx="9144000" cy="1440"/>
          </a:xfrm>
          <a:prstGeom prst="line">
            <a:avLst/>
          </a:prstGeom>
          <a:ln w="12600">
            <a:solidFill>
              <a:srgbClr val="3535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514600" y="3368520"/>
            <a:ext cx="4114800" cy="112716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000000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0000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6828-2C55-40E2-ADF7-4EA07DEF251B}" type="slidenum">
              <a:rPr b="1" lang="en-US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7A9C-3499-45FD-A857-06E7F666A1DC}" type="slidenum">
              <a:rPr b="1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traight Connector 8"/>
          <p:cNvSpPr/>
          <p:nvPr/>
        </p:nvSpPr>
        <p:spPr>
          <a:xfrm flipH="1">
            <a:off x="7694280" y="1440"/>
            <a:ext cx="3240" cy="6858000"/>
          </a:xfrm>
          <a:prstGeom prst="line">
            <a:avLst/>
          </a:prstGeom>
          <a:ln w="12600">
            <a:solidFill>
              <a:srgbClr val="bba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0"/>
            <a:ext cx="769608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2018880"/>
            <a:ext cx="8229600" cy="411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1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2" algn="ctr">
              <a:spcBef>
                <a:spcPts val="601"/>
              </a:spcBef>
              <a:buClr>
                <a:srgbClr val="6f6f74"/>
              </a:buClr>
              <a:buFont typeface="Constanti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3" algn="ctr">
              <a:spcBef>
                <a:spcPts val="601"/>
              </a:spcBef>
              <a:buClr>
                <a:srgbClr val="6f6f74"/>
              </a:buClr>
              <a:buFont typeface="Constanti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4" algn="ctr">
              <a:spcBef>
                <a:spcPts val="601"/>
              </a:spcBef>
              <a:buClr>
                <a:srgbClr val="6f6f74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5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lvl="6" algn="ctr">
              <a:spcBef>
                <a:spcPts val="601"/>
              </a:spcBef>
              <a:buClr>
                <a:srgbClr val="ffffff"/>
              </a:buClr>
              <a:buFont typeface="Constanti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2514600" y="974520"/>
            <a:ext cx="4114800" cy="70164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onstantia"/>
              </a:rPr>
              <a:t>Click to edit the title text format</a:t>
            </a:r>
            <a:endParaRPr b="1" lang="en-US" sz="1800" spc="-1" strike="noStrike">
              <a:solidFill>
                <a:srgbClr val="40404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2981160" y="272880"/>
            <a:ext cx="318168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1447920" y="6486480"/>
            <a:ext cx="62481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4038480" y="6171840"/>
            <a:ext cx="10670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18B9C-6371-4DF7-977F-CE4BA8408639}" type="slidenum">
              <a:rPr b="1" lang="en-US" sz="12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561440" cy="17290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ТВОРЧЕСКИЙ ПРОЕКТ: ВЕТР</a:t>
            </a:r>
            <a:r>
              <a:rPr b="1" lang="ru-RU" sz="1800" spc="-1" strike="noStrike">
                <a:solidFill>
                  <a:srgbClr val="404040"/>
                </a:solidFill>
                <a:latin typeface="Arial"/>
              </a:rPr>
              <a:t>Я</a:t>
            </a:r>
            <a:r>
              <a:rPr b="1" lang="ru-RU" sz="1800" spc="-1" strike="noStrike">
                <a:solidFill>
                  <a:srgbClr val="404040"/>
                </a:solidFill>
                <a:latin typeface="Constantia"/>
              </a:rPr>
              <a:t>НАЯ МЕЛЬНИЦА</a:t>
            </a:r>
            <a:br>
              <a:rPr sz="18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ВЫПОЛНИЛ: УЧЕНИК 7 «В» КЛАССА МБОУ «СОШ № 23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им. С.В. Астраханцева »   АХМЕДОВ ИЛЬЯ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РУКОВОДИТЕЛЬ: УЧИТЕЛЬ ТЕХНОЛОГИИ МБОУ «СОШ № 23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им. С.В. Астраханцева »  ТАЛАЛОВ А.П</a:t>
            </a:r>
            <a:br>
              <a:rPr sz="1600"/>
            </a:br>
            <a:r>
              <a:rPr b="1" lang="ru-RU" sz="1600" spc="-1" strike="noStrike">
                <a:solidFill>
                  <a:srgbClr val="404040"/>
                </a:solidFill>
                <a:latin typeface="Constantia"/>
              </a:rPr>
              <a:t>г. САРАТОВ 2018 г.</a:t>
            </a:r>
            <a:endParaRPr b="1" lang="en-US" sz="1600" spc="-1" strike="noStrike">
              <a:solidFill>
                <a:srgbClr val="404040"/>
              </a:solidFill>
              <a:latin typeface="Constanti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5148360" y="2637000"/>
            <a:ext cx="2552760" cy="339228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1692360" y="2565360"/>
            <a:ext cx="2487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0T16:44:48Z</dcterms:created>
  <dc:creator>Admin</dc:creator>
  <dc:description/>
  <dc:language>en-US</dc:language>
  <cp:lastModifiedBy>User</cp:lastModifiedBy>
  <dcterms:modified xsi:type="dcterms:W3CDTF">2018-06-19T13:24:37Z</dcterms:modified>
  <cp:revision>50</cp:revision>
  <dc:subject/>
  <dc:title>Творческий проект: Ветреная мельница Выполнил ученик 7 «В» класса МОУ СОШ №23 Ахмедов Илья Руководитель: учитель технологии МОУ СОШ №23 Талалов А.П г. Саратов 2017 г.</dc:title>
</cp:coreProperties>
</file>