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ACF2C-7079-48DC-A4C4-03453D89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19455-11B3-44BF-87D8-4D3968FD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DACD9-AAE4-4BA7-90A2-8CA2E0FB1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5031A-2420-4C77-AD87-FA3E25C11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1446F-5F59-45A8-B5E3-62EF99480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44FA8-B0F4-4662-B90B-EAA0A0D4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1009AC-021B-4F90-9860-BA673FA9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9120-98DB-4503-B98C-284DA637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DCA56-3F27-411B-B742-47A3BBC4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13799-F138-4107-8D33-13413610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865A9-2313-479C-B879-2B051FE8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FCE64-3E65-4A08-82F5-54437C4D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60168-CA00-4336-BA62-50572964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15F49-95A6-49D8-B0DF-688A7E7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3545-0DF9-4BA7-8A9E-F04ECD68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AAFF25-C344-4EC5-920E-00959269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4CD19-6CC3-4860-9503-519F18B08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17AB2-F6E7-409C-B384-77465DE2F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F163FC-6011-482E-B67C-9BF2BF26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96D84F-17EC-4565-9A44-C2F55A2D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837EC-15DB-489D-A7F2-219F23B3E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414C5A-BA17-4A56-A33F-A0C5A3E5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9C45F-F3F3-445B-8453-3D894569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09C0A-CCFC-49BC-85D3-0BE3DF92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7ED104-DF47-436F-8D49-B26CA79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9BEEA-7DF4-4C50-85D0-D31EDF83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517ECD-9E75-4CB7-8FDE-89C5D816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49608D-4D8C-4AD4-B206-4F4CFF0F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39DA46-DAE9-4673-A2AF-53F59180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B74761-A822-4A70-83CF-8C9F9CFA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F2A05-A23E-457A-8F28-429496ED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8E069-C98E-418F-829C-9DFB9C68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F31B-8218-41DC-BA30-37E35571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96736-7F6A-40F2-8D39-B3CCF08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CD46F-BB35-47C1-B02B-D0664663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E3F59-B76F-4DDE-8358-99F512E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9AAAF-453E-447D-B38B-03387EC6C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2F1F5-69D4-4054-B9FB-6DFC80CD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EE0DA-F83C-4A90-A39C-3ECEA25A1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229A3-7F3A-4A70-8EAB-F2A25205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8DC38-2FD5-4C2D-A6BB-05C5A257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19C1A-5F38-43BB-B1CF-894FF2CE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F4EF2-77A6-44C3-B7E7-F4B86C74B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B062E4-6028-4270-93C4-BC817227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5FC6F-047F-470B-B3CF-C4091C45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F5AE-365D-407C-BC91-3A9C376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A5D5F-328E-4EA4-A5CC-5A2CC81E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60DC-8A2C-469E-A0A3-550CBBE9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17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8F7E-B55E-4BD5-9A60-C306A09C8E12}" type="slidenum">
              <a:rPr b="1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DD11-FF06-4FD1-AA2F-1CD5C8169348}" type="slidenum">
              <a:rPr b="1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98DC-8637-4736-9B77-293878A58A9F}" type="slidenum">
              <a:rPr b="1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EE46-F85C-491F-81D5-41F22244C57D}" type="slidenum">
              <a:rPr b="1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61440" cy="172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ТВОРЧЕСКИЙ ПРОЕКТ: ВЕТР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НАЯ МЕЛЬНИЦА</a:t>
            </a:r>
            <a:br>
              <a:rPr sz="18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ВЫПОЛНИЛ: УЧЕНИК 7 «В» КЛАССА МБОУ «СОШ № 23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им. С.В. Астраханцева »   АХМЕДОВ ИЛЬЯ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РУКОВОДИТЕЛЬ: УЧИТЕЛЬ ТЕХНОЛОГИИ МБОУ «СОШ № 23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им. С.В. Астраханцева »  ТАЛАЛОВ А.П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г. САРАТОВ 2018 г.</a:t>
            </a:r>
            <a:endParaRPr b="1" lang="en-US" sz="1600" spc="-1" strike="noStrike">
              <a:solidFill>
                <a:srgbClr val="404040"/>
              </a:solidFill>
              <a:latin typeface="Constanti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2552760" cy="339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2487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6:44:48Z</dcterms:created>
  <dc:creator>Admin</dc:creator>
  <dc:description/>
  <dc:language>en-US</dc:language>
  <cp:lastModifiedBy>User</cp:lastModifiedBy>
  <dcterms:modified xsi:type="dcterms:W3CDTF">2018-06-19T13:24:37Z</dcterms:modified>
  <cp:revision>50</cp:revision>
  <dc:subject/>
  <dc:title>Творческий проект: Ветреная мельница Выполнил ученик 7 «В» класса МОУ СОШ №23 Ахмедов Илья Руководитель: учитель технологии МОУ СОШ №23 Талалов А.П г. Саратов 2017 г.</dc:title>
</cp:coreProperties>
</file>