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F40-D8AE-4128-BA6B-C2755306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479-17FB-4F89-81E2-DF3B05F9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17D-A273-4FBE-87B6-31A38650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BAF-55A3-4616-AC01-6D9B1ADA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05F-0458-49BD-A122-D4576E96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E53-B289-453C-A690-861F7C3D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3C2-F802-44D9-A9F9-50A65B0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602-4DE2-48E6-A172-78BB1B74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8ED-358D-4C30-84C5-6C995529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FB2-7B18-4D96-AB40-831C8D8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933-0841-4246-8701-EB587E85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BCB-7242-4F39-B5E9-416C764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244F-45AA-4961-866A-1A0E47A71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469800"/>
            <a:ext cx="7489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айте будем вежливыми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5" descr="58351445_831ya_001"/>
          <p:cNvPicPr/>
          <p:nvPr/>
        </p:nvPicPr>
        <p:blipFill>
          <a:blip r:embed="rId1"/>
          <a:stretch/>
        </p:blipFill>
        <p:spPr>
          <a:xfrm>
            <a:off x="3419640" y="1822320"/>
            <a:ext cx="3284280" cy="4657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" name="Picture 6" descr="46035943"/>
          <p:cNvPicPr/>
          <p:nvPr/>
        </p:nvPicPr>
        <p:blipFill>
          <a:blip r:embed="rId2"/>
          <a:stretch/>
        </p:blipFill>
        <p:spPr>
          <a:xfrm rot="1065000">
            <a:off x="906120" y="2959200"/>
            <a:ext cx="2443320" cy="3197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461792c2-9c37-cc81-e7fd-99d57b802132"/>
          <p:cNvPicPr/>
          <p:nvPr/>
        </p:nvPicPr>
        <p:blipFill>
          <a:blip r:embed="rId3"/>
          <a:stretch/>
        </p:blipFill>
        <p:spPr>
          <a:xfrm rot="779400">
            <a:off x="6662880" y="4809960"/>
            <a:ext cx="1635120" cy="16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643280" y="476280"/>
            <a:ext cx="352908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ежливость – это умение вести себя так, чтобы другим было приятно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4000" y="404640"/>
            <a:ext cx="3528720" cy="19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евежество –нарушающий правила вежливости, некультур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мышка"/>
          <p:cNvPicPr/>
          <p:nvPr/>
        </p:nvPicPr>
        <p:blipFill>
          <a:blip r:embed="rId1"/>
          <a:stretch/>
        </p:blipFill>
        <p:spPr>
          <a:xfrm>
            <a:off x="4284720" y="2624040"/>
            <a:ext cx="4319640" cy="423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злой"/>
          <p:cNvPicPr/>
          <p:nvPr/>
        </p:nvPicPr>
        <p:blipFill>
          <a:blip r:embed="rId2"/>
          <a:stretch/>
        </p:blipFill>
        <p:spPr>
          <a:xfrm>
            <a:off x="611280" y="2924280"/>
            <a:ext cx="2685960" cy="335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763640" y="18900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лшебные слов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11280" y="234936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солнышко"/>
          <p:cNvPicPr/>
          <p:nvPr/>
        </p:nvPicPr>
        <p:blipFill>
          <a:blip r:embed="rId1"/>
          <a:stretch/>
        </p:blipFill>
        <p:spPr>
          <a:xfrm>
            <a:off x="1258920" y="549360"/>
            <a:ext cx="5832360" cy="5832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1477800" y="30686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пас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 rot="18923400">
            <a:off x="1838880" y="4365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жалуй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 rot="18188400">
            <a:off x="3106800" y="4967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с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 rot="3368400">
            <a:off x="2054160" y="177012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ш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 rot="5101800">
            <a:off x="3289680" y="1470600"/>
            <a:ext cx="13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ви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 rot="17343000">
            <a:off x="4529520" y="145476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драв-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 rot="20461800">
            <a:off x="5437080" y="242064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я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ппет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511240" y="36450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лагода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 rot="264000">
            <a:off x="4428360" y="501300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дачно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a9ffd6d061f9f7cb8d548a4108bc12a6_2b43ca68f444f81483357f7dc0d96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692360" y="90792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ловицы и поговорк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" name="Picture 5" descr="1249672630_0_ed9b_93689af_l"/>
          <p:cNvPicPr/>
          <p:nvPr/>
        </p:nvPicPr>
        <p:blipFill>
          <a:blip r:embed="rId1"/>
          <a:stretch/>
        </p:blipFill>
        <p:spPr>
          <a:xfrm>
            <a:off x="6227640" y="3463920"/>
            <a:ext cx="2729160" cy="33940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68360" y="2367000"/>
            <a:ext cx="89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де посадят, там и сиди, а где не велят, там не гля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42920" y="3284640"/>
            <a:ext cx="540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клониться, голова не отвал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жливость ничего не стоит, но много прино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0920" y="530064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вони, звони, да не перезвани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0" y="2852640"/>
            <a:ext cx="85518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Вежливость проявляется в отношениях с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Вежливый человек не причинит другому неприятностей и об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Будь вежлив со своими товарищами, не давай им прозвищ и кли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В разговоре и игре всегда помогай слабому, заступайся за него и не обижай млад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Не отвечай на грубость груб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comic"/>
              </a:rPr>
              <a:t>Приучи себя постоянно помнить об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Logo_Devochka580"/>
          <p:cNvPicPr/>
          <p:nvPr/>
        </p:nvPicPr>
        <p:blipFill>
          <a:blip r:embed="rId1"/>
          <a:stretch/>
        </p:blipFill>
        <p:spPr>
          <a:xfrm rot="20723400">
            <a:off x="395280" y="404280"/>
            <a:ext cx="1650960" cy="1845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9" name="Picture 7" descr="524358"/>
          <p:cNvPicPr/>
          <p:nvPr/>
        </p:nvPicPr>
        <p:blipFill>
          <a:blip r:embed="rId2"/>
          <a:stretch/>
        </p:blipFill>
        <p:spPr>
          <a:xfrm>
            <a:off x="7020000" y="1197000"/>
            <a:ext cx="1677960" cy="2217600"/>
          </a:xfrm>
          <a:prstGeom prst="rect">
            <a:avLst/>
          </a:prstGeom>
          <a:ln w="0">
            <a:noFill/>
          </a:ln>
        </p:spPr>
      </p:pic>
      <p:sp>
        <p:nvSpPr>
          <p:cNvPr id="70" name="WordArt 8"/>
          <p:cNvSpPr txBox="1"/>
          <p:nvPr/>
        </p:nvSpPr>
        <p:spPr>
          <a:xfrm>
            <a:off x="1692360" y="1700280"/>
            <a:ext cx="53053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а вежливос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468360" y="549360"/>
            <a:ext cx="76453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тепер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айте посмотрим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льтфиль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вежливости: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игрёнок в чайник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5" descr="default20_enl"/>
          <p:cNvPicPr/>
          <p:nvPr/>
        </p:nvPicPr>
        <p:blipFill>
          <a:blip r:embed="rId1"/>
          <a:stretch/>
        </p:blipFill>
        <p:spPr>
          <a:xfrm>
            <a:off x="2700360" y="3753000"/>
            <a:ext cx="3240000" cy="310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851280" y="1197000"/>
            <a:ext cx="4968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ята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вайт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е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жливыми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Picture 5" descr="orig"/>
          <p:cNvPicPr/>
          <p:nvPr/>
        </p:nvPicPr>
        <p:blipFill>
          <a:blip r:embed="rId1"/>
          <a:stretch/>
        </p:blipFill>
        <p:spPr>
          <a:xfrm>
            <a:off x="0" y="2833560"/>
            <a:ext cx="4809960" cy="40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8:37:21Z</dcterms:created>
  <dc:creator>Admin</dc:creator>
  <dc:description/>
  <dc:language>en-US</dc:language>
  <cp:lastModifiedBy>Коля</cp:lastModifiedBy>
  <dcterms:modified xsi:type="dcterms:W3CDTF">2013-04-03T21:01:28Z</dcterms:modified>
  <cp:revision>5</cp:revision>
  <dc:subject/>
  <dc:title>Слайд 1</dc:title>
</cp:coreProperties>
</file>