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2ECE-F714-490C-A97F-734CF78E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C9B4-E816-4FD4-B60D-7AD10704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4CF0-D3CE-428A-820F-F77367E6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376A-B257-4C08-9B8E-B009CC0E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7F90-1F1F-456C-B06B-C886DFA0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B529-B48D-44E5-BF3D-A2BCC020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481F-FA46-4E0F-A8D2-BB2946F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11E9-3219-4A11-8514-25F6226D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FE55-55E7-4370-B8E1-D270A078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8C5C-5600-4CCE-8886-E81F14A8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B2BC-C861-4BE2-AB3E-6DC2D8A2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5D1D-61CA-44ED-AD54-4A6647CA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CA48-7227-4399-8625-B14AEE7C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B753-0E1F-4DB5-8B47-23A8F96D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C55C-57DE-4BD1-A57E-56CD6756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C51B-BC7E-4224-988F-2DA87899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3B47-BB0C-447F-B812-8DF4A768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6D6B-CF95-4CBF-BA65-8E20DDD0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681B-1F08-47E6-AB98-184A44FF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BE61-7A29-48DB-B4F6-11C2873E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CF17-7CA6-47C5-949B-78B23376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B178-F780-49B1-B11F-C204DC33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DB7D-5504-4391-B9B6-E3EE1B5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A72E-DF66-48A2-A6B9-C522D52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671E-3EBF-478B-A7F9-88D2530F2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824E-8F42-4D25-B227-96441AEF9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Достопримечательности Лондона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0" y="502884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Выполнила  ученица 7 «А» класса , Москалева Александра, учитель Хусаинова А.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5f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Picture 9" descr="bb_03"/>
          <p:cNvPicPr/>
          <p:nvPr/>
        </p:nvPicPr>
        <p:blipFill>
          <a:blip r:embed="rId1"/>
          <a:stretch/>
        </p:blipFill>
        <p:spPr>
          <a:xfrm>
            <a:off x="609480" y="2514600"/>
            <a:ext cx="2438640" cy="3251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_2770"/>
          <p:cNvPicPr/>
          <p:nvPr/>
        </p:nvPicPr>
        <p:blipFill>
          <a:blip r:embed="rId2"/>
          <a:stretch/>
        </p:blipFill>
        <p:spPr>
          <a:xfrm>
            <a:off x="5791320" y="21337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adame Tussaud’s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2743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a famous museum of wax figur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have wax figures of all the famous people in the world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7" descr="kveen1658s"/>
          <p:cNvPicPr/>
          <p:nvPr/>
        </p:nvPicPr>
        <p:blipFill>
          <a:blip r:embed="rId1"/>
          <a:stretch/>
        </p:blipFill>
        <p:spPr>
          <a:xfrm>
            <a:off x="4267080" y="396252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1259827006_angelina_jolie_wax"/>
          <p:cNvPicPr/>
          <p:nvPr/>
        </p:nvPicPr>
        <p:blipFill>
          <a:blip r:embed="rId2"/>
          <a:stretch/>
        </p:blipFill>
        <p:spPr>
          <a:xfrm>
            <a:off x="6373800" y="0"/>
            <a:ext cx="2770200" cy="392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darwin_11"/>
          <p:cNvPicPr/>
          <p:nvPr/>
        </p:nvPicPr>
        <p:blipFill>
          <a:blip r:embed="rId3"/>
          <a:stretch/>
        </p:blipFill>
        <p:spPr>
          <a:xfrm>
            <a:off x="3048120" y="1143000"/>
            <a:ext cx="330012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e London Ey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’s the biggest observation wheel in the world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situated on the banks of the River Thames in Central Lond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’s height is 135 meter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Picture 8" descr="1245842278_london-eye"/>
          <p:cNvPicPr/>
          <p:nvPr/>
        </p:nvPicPr>
        <p:blipFill>
          <a:blip r:embed="rId1"/>
          <a:stretch/>
        </p:blipFill>
        <p:spPr>
          <a:xfrm>
            <a:off x="4267080" y="3124080"/>
            <a:ext cx="4762800" cy="327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london-eye-zoom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Thank for your attention!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rafalgar Squar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the central square of London and traditional place for people to mee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ll sorts of protest meetings are held ther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tatue of national hero Admiral Nelson stands  ther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7" name="Picture 7" descr="0_8c0d_c0d6fbc4_XL"/>
          <p:cNvPicPr/>
          <p:nvPr/>
        </p:nvPicPr>
        <p:blipFill>
          <a:blip r:embed="rId1"/>
          <a:stretch/>
        </p:blipFill>
        <p:spPr>
          <a:xfrm>
            <a:off x="3886200" y="16765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e Houses of Parliamen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a place where the British Government sit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consists of three parts: the Royal Apartments, the House of Lords and the House of Common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0" name="Picture 7" descr="img_2770"/>
          <p:cNvPicPr/>
          <p:nvPr/>
        </p:nvPicPr>
        <p:blipFill>
          <a:blip r:embed="rId1"/>
          <a:stretch/>
        </p:blipFill>
        <p:spPr>
          <a:xfrm>
            <a:off x="3886200" y="2743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Big Be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’s a clock in the tower and it is a big bell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u can hear it every hour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ople are allowed to get inside the Tower so that they can see the work of the clock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is no lift and there are three hundred and forty steps (340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weighs 13.5 ton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3" name="Picture 9" descr="bb_03"/>
          <p:cNvPicPr/>
          <p:nvPr/>
        </p:nvPicPr>
        <p:blipFill>
          <a:blip r:embed="rId1"/>
          <a:stretch/>
        </p:blipFill>
        <p:spPr>
          <a:xfrm>
            <a:off x="4492800" y="457200"/>
            <a:ext cx="46512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wer Bridg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the oldest and famous bridge across the Thame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riginally it was made of wood by the Romans, but it was often burnt down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ater it was made of ston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nally it was rebuilt and made of concret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7" descr="DigitalTowerBridge"/>
          <p:cNvPicPr/>
          <p:nvPr/>
        </p:nvPicPr>
        <p:blipFill>
          <a:blip r:embed="rId1"/>
          <a:stretch/>
        </p:blipFill>
        <p:spPr>
          <a:xfrm>
            <a:off x="4038480" y="1676520"/>
            <a:ext cx="5257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e Tower of Lond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has a long history. In the past it was a fortress, a prison, a castle and a zoo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was built to protect the city from the enemies. There are a lot of ravens at this plac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is a legend that without them the Tower will fall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wadays this building is a very popular  museum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9" name="Picture 7" descr="tower20of20london2"/>
          <p:cNvPicPr/>
          <p:nvPr/>
        </p:nvPicPr>
        <p:blipFill>
          <a:blip r:embed="rId1"/>
          <a:stretch/>
        </p:blipFill>
        <p:spPr>
          <a:xfrm>
            <a:off x="4267080" y="1600200"/>
            <a:ext cx="48769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Buckingham Palac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’s the London home of the Queen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ckingham Palace was built for John, first Duke of Buckingham, between 1702 and 1705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anging the guards takes place ther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alace is open to public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2" name="Picture 7" descr="173_full"/>
          <p:cNvPicPr/>
          <p:nvPr/>
        </p:nvPicPr>
        <p:blipFill>
          <a:blip r:embed="rId1"/>
          <a:stretch/>
        </p:blipFill>
        <p:spPr>
          <a:xfrm>
            <a:off x="4267080" y="1676520"/>
            <a:ext cx="4724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xford Stree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the biggest shopping street in London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are 548 shops in Oxford Stree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ach Christmas the street is decorated with festive light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mid- to late November a celebrity turns on the lights and they remain on until 6 Janua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7" descr="Oxford_Street_December_2006"/>
          <p:cNvPicPr/>
          <p:nvPr/>
        </p:nvPicPr>
        <p:blipFill>
          <a:blip r:embed="rId1"/>
          <a:stretch/>
        </p:blipFill>
        <p:spPr>
          <a:xfrm>
            <a:off x="4876920" y="152280"/>
            <a:ext cx="4267080" cy="284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ade_in_England"/>
          <p:cNvPicPr/>
          <p:nvPr/>
        </p:nvPicPr>
        <p:blipFill>
          <a:blip r:embed="rId2"/>
          <a:stretch/>
        </p:blipFill>
        <p:spPr>
          <a:xfrm>
            <a:off x="5010120" y="3035160"/>
            <a:ext cx="41338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beb3ac6d-c94b-4032-b12e-63a4d57e7e0f"/>
          <p:cNvPicPr/>
          <p:nvPr/>
        </p:nvPicPr>
        <p:blipFill>
          <a:blip r:embed="rId1"/>
          <a:stretch/>
        </p:blipFill>
        <p:spPr>
          <a:xfrm>
            <a:off x="5715000" y="0"/>
            <a:ext cx="2903400" cy="4343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Greenwic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Observatory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the centre of time and spac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rime meridian of the Earth, which divides east from west passes ther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7" descr="greenwich-observatory-8"/>
          <p:cNvPicPr/>
          <p:nvPr/>
        </p:nvPicPr>
        <p:blipFill>
          <a:blip r:embed="rId2"/>
          <a:stretch/>
        </p:blipFill>
        <p:spPr>
          <a:xfrm>
            <a:off x="6983280" y="3017880"/>
            <a:ext cx="21607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18-06-19T16:15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