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F4C7-ECA6-4818-ADF5-E7A8AC87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A6F87-21D1-4B85-9492-4A45DB99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FFD31-527A-475D-B7D3-AE4ACD85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76A7E-A560-4B00-BC1E-43AB7088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4971-D300-4E5A-8544-384AE793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F34A-6E53-45D1-8F94-0F903FB2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6B43-6DFB-476F-A5F2-C71B9C4C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7449-B437-4688-95C7-D4D5970F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4203-E6BA-400C-896E-C2001E1B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2740-FF95-446D-97EA-931A2D53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8FCF-544B-440A-A56D-1A2392CC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E8D35-0D29-430C-8857-0F39FBAB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6323-CF6C-4953-8810-0EE31903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BABE-2765-4CD2-BC61-C1AEDC61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F45C-4E0F-4AAD-B3F3-D8339A02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3976-76CF-4941-8508-62305816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0084-1EE2-42F0-82A3-6D7F0EA9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DC2E-190C-4D92-B229-D823CD9F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B6D28-99ED-4F88-8604-FD320579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81912-2BB0-49B6-A357-8839EC2B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9BDA5-6D23-45E4-8995-6A16D9D0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2F0D-3E45-4DCD-9638-DD6097CE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2FF4-39B5-4683-A2B2-A6FED5D8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CD295-917B-42ED-B064-D50D5BB8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31F0-935B-43BE-82DE-F2B0CD7F72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A25D-7861-4756-8CE8-278305666A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Достопримечательности Лондона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0" y="502884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Выполнила  ученица 7 «А» класса , Москалева Александра, учитель Хусаинова А.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5fb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3" name="Picture 9" descr="bb_03"/>
          <p:cNvPicPr/>
          <p:nvPr/>
        </p:nvPicPr>
        <p:blipFill>
          <a:blip r:embed="rId1"/>
          <a:stretch/>
        </p:blipFill>
        <p:spPr>
          <a:xfrm>
            <a:off x="609480" y="2514600"/>
            <a:ext cx="2438640" cy="3251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g_2770"/>
          <p:cNvPicPr/>
          <p:nvPr/>
        </p:nvPicPr>
        <p:blipFill>
          <a:blip r:embed="rId2"/>
          <a:stretch/>
        </p:blipFill>
        <p:spPr>
          <a:xfrm>
            <a:off x="5791320" y="21337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Madame Tussaud’s 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2743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is a famous museum of wax figure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y have wax figures of all the famous people in the world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3" name="Picture 7" descr="kveen1658s"/>
          <p:cNvPicPr/>
          <p:nvPr/>
        </p:nvPicPr>
        <p:blipFill>
          <a:blip r:embed="rId1"/>
          <a:stretch/>
        </p:blipFill>
        <p:spPr>
          <a:xfrm>
            <a:off x="4267080" y="3962520"/>
            <a:ext cx="4038840" cy="2692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1259827006_angelina_jolie_wax"/>
          <p:cNvPicPr/>
          <p:nvPr/>
        </p:nvPicPr>
        <p:blipFill>
          <a:blip r:embed="rId2"/>
          <a:stretch/>
        </p:blipFill>
        <p:spPr>
          <a:xfrm>
            <a:off x="6373800" y="0"/>
            <a:ext cx="2770200" cy="392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darwin_11"/>
          <p:cNvPicPr/>
          <p:nvPr/>
        </p:nvPicPr>
        <p:blipFill>
          <a:blip r:embed="rId3"/>
          <a:stretch/>
        </p:blipFill>
        <p:spPr>
          <a:xfrm>
            <a:off x="3048120" y="1143000"/>
            <a:ext cx="330012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he London Ey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’s the biggest observation wheel in the world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is situated on the banks of the River Thames in Central Lond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’s height is 135 meter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8" name="Picture 8" descr="1245842278_london-eye"/>
          <p:cNvPicPr/>
          <p:nvPr/>
        </p:nvPicPr>
        <p:blipFill>
          <a:blip r:embed="rId1"/>
          <a:stretch/>
        </p:blipFill>
        <p:spPr>
          <a:xfrm>
            <a:off x="4267080" y="3124080"/>
            <a:ext cx="4762800" cy="3276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london-eye-zoom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aramond"/>
              </a:rPr>
              <a:t>Thank for your attention!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rafalgar Squar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is the central square of London and traditional place for people to mee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ll sorts of protest meetings are held there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statue of national hero Admiral Nelson stands  ther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7" name="Picture 7" descr="0_8c0d_c0d6fbc4_XL"/>
          <p:cNvPicPr/>
          <p:nvPr/>
        </p:nvPicPr>
        <p:blipFill>
          <a:blip r:embed="rId1"/>
          <a:stretch/>
        </p:blipFill>
        <p:spPr>
          <a:xfrm>
            <a:off x="3886200" y="167652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he Houses of Parliamen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is a place where the British Government sits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consists of three parts: the Royal Apartments, the House of Lords and the House of Common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0" name="Picture 7" descr="img_2770"/>
          <p:cNvPicPr/>
          <p:nvPr/>
        </p:nvPicPr>
        <p:blipFill>
          <a:blip r:embed="rId1"/>
          <a:stretch/>
        </p:blipFill>
        <p:spPr>
          <a:xfrm>
            <a:off x="3886200" y="27432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Big Ben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’s a clock in the tower and it is a big bell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You can hear it every hour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ople are allowed to get inside the Tower so that they can see the work of the clock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re is no lift and there are three hundred and forty steps (340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weighs 13.5 ton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3" name="Picture 9" descr="bb_03"/>
          <p:cNvPicPr/>
          <p:nvPr/>
        </p:nvPicPr>
        <p:blipFill>
          <a:blip r:embed="rId1"/>
          <a:stretch/>
        </p:blipFill>
        <p:spPr>
          <a:xfrm>
            <a:off x="4492800" y="457200"/>
            <a:ext cx="465120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ower Bridg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is the oldest and famous bridge across the Thames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riginally it was made of wood by the Romans, but it was often burnt down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ater it was made of stone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nally it was rebuilt and made of concret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Picture 7" descr="DigitalTowerBridge"/>
          <p:cNvPicPr/>
          <p:nvPr/>
        </p:nvPicPr>
        <p:blipFill>
          <a:blip r:embed="rId1"/>
          <a:stretch/>
        </p:blipFill>
        <p:spPr>
          <a:xfrm>
            <a:off x="4038480" y="1676520"/>
            <a:ext cx="52578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The Tower of London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has a long history. In the past it was a fortress, a prison, a castle and a zoo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was built to protect the city from the enemies. There are a lot of ravens at this place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re is a legend that without them the Tower will fall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wadays this building is a very popular  museum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9" name="Picture 7" descr="tower20of20london2"/>
          <p:cNvPicPr/>
          <p:nvPr/>
        </p:nvPicPr>
        <p:blipFill>
          <a:blip r:embed="rId1"/>
          <a:stretch/>
        </p:blipFill>
        <p:spPr>
          <a:xfrm>
            <a:off x="4267080" y="1600200"/>
            <a:ext cx="48769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Buckingham Palac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’s the London home of the Queen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uckingham Palace was built for John, first Duke of Buckingham, between 1702 and 1705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hanging the guards takes place ther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palace is open to public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2" name="Picture 7" descr="173_full"/>
          <p:cNvPicPr/>
          <p:nvPr/>
        </p:nvPicPr>
        <p:blipFill>
          <a:blip r:embed="rId1"/>
          <a:stretch/>
        </p:blipFill>
        <p:spPr>
          <a:xfrm>
            <a:off x="4267080" y="1676520"/>
            <a:ext cx="4724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xford Stree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is the biggest shopping street in London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re are 548 shops in Oxford Stree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ach Christmas the street is decorated with festive lights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mid- to late November a celebrity turns on the lights and they remain on until 6 Januar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5" name="Picture 7" descr="Oxford_Street_December_2006"/>
          <p:cNvPicPr/>
          <p:nvPr/>
        </p:nvPicPr>
        <p:blipFill>
          <a:blip r:embed="rId1"/>
          <a:stretch/>
        </p:blipFill>
        <p:spPr>
          <a:xfrm>
            <a:off x="4876920" y="152280"/>
            <a:ext cx="4267080" cy="284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Made_in_England"/>
          <p:cNvPicPr/>
          <p:nvPr/>
        </p:nvPicPr>
        <p:blipFill>
          <a:blip r:embed="rId2"/>
          <a:stretch/>
        </p:blipFill>
        <p:spPr>
          <a:xfrm>
            <a:off x="5010120" y="3035160"/>
            <a:ext cx="413388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beb3ac6d-c94b-4032-b12e-63a4d57e7e0f"/>
          <p:cNvPicPr/>
          <p:nvPr/>
        </p:nvPicPr>
        <p:blipFill>
          <a:blip r:embed="rId1"/>
          <a:stretch/>
        </p:blipFill>
        <p:spPr>
          <a:xfrm>
            <a:off x="5715000" y="0"/>
            <a:ext cx="2903400" cy="43434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e Greenwic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Observatory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t is the centre of time and spac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prime meridian of the Earth, which divides east from west passes ther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0" name="Picture 7" descr="greenwich-observatory-8"/>
          <p:cNvPicPr/>
          <p:nvPr/>
        </p:nvPicPr>
        <p:blipFill>
          <a:blip r:embed="rId2"/>
          <a:stretch/>
        </p:blipFill>
        <p:spPr>
          <a:xfrm>
            <a:off x="6983280" y="3017880"/>
            <a:ext cx="21607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ST</cp:lastModifiedBy>
  <dcterms:modified xsi:type="dcterms:W3CDTF">2018-06-19T16:15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