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BDE-5D0A-44AA-A1DE-6DE23EAF7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7B55-CE9B-4AD5-AEF9-CFCEEBE1F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697-A4BD-46C7-8B14-66295E72B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0087-81D7-4755-811E-8B6943399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BE7-5BCA-4A5A-9AD1-3FB43E7D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4D1-2A2E-4FC5-AF6E-9E32B110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C11-87F4-40AA-9967-571A74C7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8E9-CB4C-4CD8-B0C4-D0059D9C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2A4-DAF2-4DD0-A298-4943EC5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448-9D87-4EBA-9998-9FFA2979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79F-7002-43EF-ADBA-39C85C0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F02-A172-45C3-BEEA-BF91601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F97-15D7-4B16-BA66-906C818F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25E-89F2-4747-AFE8-DD12238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CED-FA60-48FB-B583-B27A4E4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5FA-10F0-47AA-B463-EE911DA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867-2A77-46EA-A39F-BC13FF572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254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сные в приставка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43640" y="5659560"/>
            <a:ext cx="264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ы ГБОУ №6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обина Г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571840" y="2714760"/>
            <a:ext cx="38005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84360" y="18900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асные в приставках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9079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ое значение приставки при- не соответствует её напис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134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92436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90000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полн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лизость по значению к слову «оч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8472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900000" y="23716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дите слово, в котором приставка обозначает «присоедин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е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ивин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с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кажите слово с приставкой при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..увелич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..р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..бр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кажите слово с приставкой пре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..о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..обра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..под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 rot="17323800">
            <a:off x="3852720" y="206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7812000" y="112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940360" y="6308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12">
            <a:hlinkClick r:id="rId1" action="ppaction://hlinksldjump"/>
          </p:cNvPr>
          <p:cNvSpPr/>
          <p:nvPr/>
        </p:nvSpPr>
        <p:spPr>
          <a:xfrm>
            <a:off x="7429680" y="60008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684360" y="18900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асные в приставках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9079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ое значение приставки при- не соответствует её напис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00000" y="134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2436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0000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полн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) близость по значению к слову «оч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28472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00000" y="23716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дите слово, в котором приставка обозначает «присоедин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е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привин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с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кажите слово с приставкой при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еувелич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ер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) прибр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кажите слово с приставкой пре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о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преобра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под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 rot="17323800">
            <a:off x="3852720" y="206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812000" y="112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_________________________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олнце стало. 2. В полях тает, а в лесу ещё снег лежит плотными подушками. 3. Деревья стоят в снежном плену. 4.Тонкие стволики …………………………… к земле, примёрзли и ждут часа освоб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от пришёл этот час. 6. Снег подтаивает, и в полной тишине вдруг сама собой закачается еловая ветка. 7. А под ёлкой спит заяц.          8. В страхе просыпается он и ……………………………….. 9. Везде прыгают ветки, вырываются из снежного плена.10. Ве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М. Пришвин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ставьте на месте точек подходящие по смыслу глаголы с приставкой п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заглавьте тек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иль текста 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Тип речи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реди предложений 3 – 6 найдите эпитеты и укажите их в тек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реди предложений 4 – 9 найдите сложносочинённое предложение.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шите его но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642960" y="642960"/>
            <a:ext cx="81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кие слова спрятались на этой картинк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0052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71200" y="1499760"/>
            <a:ext cx="73724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ПАСИБО ЗА 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7640" y="836280"/>
            <a:ext cx="3816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"/>
          <p:cNvPicPr/>
          <p:nvPr/>
        </p:nvPicPr>
        <p:blipFill>
          <a:blip r:embed="rId1"/>
          <a:stretch/>
        </p:blipFill>
        <p:spPr>
          <a:xfrm>
            <a:off x="4788000" y="3330720"/>
            <a:ext cx="230508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19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230508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1" descr=""/>
          <p:cNvPicPr/>
          <p:nvPr/>
        </p:nvPicPr>
        <p:blipFill>
          <a:blip r:embed="rId3"/>
          <a:stretch/>
        </p:blipFill>
        <p:spPr>
          <a:xfrm>
            <a:off x="4788000" y="5084640"/>
            <a:ext cx="2305080" cy="157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Rectangle 11"/>
          <p:cNvSpPr/>
          <p:nvPr/>
        </p:nvSpPr>
        <p:spPr>
          <a:xfrm>
            <a:off x="1908000" y="544500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195640" y="3284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258920" y="1773360"/>
            <a:ext cx="35272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071800" y="620640"/>
            <a:ext cx="5164200" cy="63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бли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ч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9" descr=""/>
          <p:cNvPicPr/>
          <p:nvPr/>
        </p:nvPicPr>
        <p:blipFill>
          <a:blip r:embed="rId1"/>
          <a:stretch/>
        </p:blipFill>
        <p:spPr>
          <a:xfrm>
            <a:off x="4788000" y="5157720"/>
            <a:ext cx="235584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" name="Picture 14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228456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25" descr=""/>
          <p:cNvPicPr/>
          <p:nvPr/>
        </p:nvPicPr>
        <p:blipFill>
          <a:blip r:embed="rId3"/>
          <a:stretch/>
        </p:blipFill>
        <p:spPr>
          <a:xfrm>
            <a:off x="4859280" y="1428840"/>
            <a:ext cx="2284560" cy="153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340000" y="6206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7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2160720" cy="13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70" descr=""/>
          <p:cNvPicPr/>
          <p:nvPr/>
        </p:nvPicPr>
        <p:blipFill>
          <a:blip r:embed="rId2"/>
          <a:stretch/>
        </p:blipFill>
        <p:spPr>
          <a:xfrm>
            <a:off x="5292720" y="4941720"/>
            <a:ext cx="2232000" cy="1471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" name="Picture 61" descr=""/>
          <p:cNvPicPr/>
          <p:nvPr/>
        </p:nvPicPr>
        <p:blipFill>
          <a:blip r:embed="rId3"/>
          <a:stretch/>
        </p:blipFill>
        <p:spPr>
          <a:xfrm>
            <a:off x="5292720" y="1461960"/>
            <a:ext cx="2106720" cy="145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124000" y="620640"/>
            <a:ext cx="554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полное  действ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6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2232000" cy="138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9" name="Picture 82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2233800" cy="151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" name="Picture 85" descr=""/>
          <p:cNvPicPr/>
          <p:nvPr/>
        </p:nvPicPr>
        <p:blipFill>
          <a:blip r:embed="rId3"/>
          <a:stretch/>
        </p:blipFill>
        <p:spPr>
          <a:xfrm>
            <a:off x="4716360" y="5013360"/>
            <a:ext cx="2230560" cy="15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значении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080" y="1213920"/>
            <a:ext cx="657216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очень»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чень добрый)  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1143000" y="3916440"/>
            <a:ext cx="29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 flipV="1" rot="10800000">
            <a:off x="999720" y="44866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чень звонк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8" descr=""/>
          <p:cNvPicPr/>
          <p:nvPr/>
        </p:nvPicPr>
        <p:blipFill>
          <a:blip r:embed="rId1"/>
          <a:stretch/>
        </p:blipFill>
        <p:spPr>
          <a:xfrm>
            <a:off x="4714920" y="1785960"/>
            <a:ext cx="242892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0" descr=""/>
          <p:cNvPicPr/>
          <p:nvPr/>
        </p:nvPicPr>
        <p:blipFill>
          <a:blip r:embed="rId2"/>
          <a:stretch/>
        </p:blipFill>
        <p:spPr>
          <a:xfrm>
            <a:off x="4714920" y="4000680"/>
            <a:ext cx="242892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28840" y="7858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изка к пере -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ать    (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ить (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9" descr=""/>
          <p:cNvPicPr/>
          <p:nvPr/>
        </p:nvPicPr>
        <p:blipFill>
          <a:blip r:embed="rId1"/>
          <a:stretch/>
        </p:blipFill>
        <p:spPr>
          <a:xfrm>
            <a:off x="4356000" y="4292640"/>
            <a:ext cx="2952720" cy="201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103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2879640" cy="20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76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асные в приставках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042920" y="1700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26920" y="220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оеди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ить,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ить,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пить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03480" y="2770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5280" y="2637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ли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кать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чаться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е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95280" y="6093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52200" y="3016080"/>
            <a:ext cx="59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из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ой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73440" y="3429000"/>
            <a:ext cx="63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ть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900000" y="4221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зна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898200" y="4724280"/>
            <a:ext cx="77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чень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ый ( очень добрый)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онкий (очень звон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042920" y="4941720"/>
            <a:ext cx="7921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лизка к пере - 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вать (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вать)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32749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3635280" y="227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4356000" y="2276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4716360" y="227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55087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5867280" y="227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419640" y="27082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3059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572436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2484360" y="306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2843280" y="306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4140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4500720" y="306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558000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5867280" y="306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>
            <a:off x="6012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>
            <a:off x="3995640" y="2781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6156360" y="2708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6227640" y="27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4284720" y="2708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478800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5508720" y="4797360"/>
            <a:ext cx="358560" cy="71280"/>
            <a:chOff x="5508720" y="4797360"/>
            <a:chExt cx="358560" cy="71280"/>
          </a:xfrm>
        </p:grpSpPr>
        <p:sp>
          <p:nvSpPr>
            <p:cNvPr id="116" name="Line 36"/>
            <p:cNvSpPr/>
            <p:nvPr/>
          </p:nvSpPr>
          <p:spPr>
            <a:xfrm flipV="1">
              <a:off x="5867280" y="4797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4"/>
            <p:cNvSpPr/>
            <p:nvPr/>
          </p:nvSpPr>
          <p:spPr>
            <a:xfrm flipH="1">
              <a:off x="5508720" y="47973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7"/>
          <p:cNvGrpSpPr/>
          <p:nvPr/>
        </p:nvGrpSpPr>
        <p:grpSpPr>
          <a:xfrm>
            <a:off x="2340000" y="4797360"/>
            <a:ext cx="431280" cy="71280"/>
            <a:chOff x="2340000" y="4797360"/>
            <a:chExt cx="431280" cy="71280"/>
          </a:xfrm>
        </p:grpSpPr>
        <p:sp>
          <p:nvSpPr>
            <p:cNvPr id="119" name="Line 58"/>
            <p:cNvSpPr/>
            <p:nvPr/>
          </p:nvSpPr>
          <p:spPr>
            <a:xfrm flipV="1">
              <a:off x="2771280" y="4797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9"/>
            <p:cNvSpPr/>
            <p:nvPr/>
          </p:nvSpPr>
          <p:spPr>
            <a:xfrm flipH="1">
              <a:off x="2340000" y="47973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0"/>
          <p:cNvGrpSpPr/>
          <p:nvPr/>
        </p:nvGrpSpPr>
        <p:grpSpPr>
          <a:xfrm>
            <a:off x="5796000" y="5300640"/>
            <a:ext cx="358560" cy="71280"/>
            <a:chOff x="5796000" y="5300640"/>
            <a:chExt cx="358560" cy="71280"/>
          </a:xfrm>
        </p:grpSpPr>
        <p:sp>
          <p:nvSpPr>
            <p:cNvPr id="122" name="Line 61"/>
            <p:cNvSpPr/>
            <p:nvPr/>
          </p:nvSpPr>
          <p:spPr>
            <a:xfrm flipV="1">
              <a:off x="6154560" y="5300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2"/>
            <p:cNvSpPr/>
            <p:nvPr/>
          </p:nvSpPr>
          <p:spPr>
            <a:xfrm flipH="1">
              <a:off x="5796000" y="53006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3"/>
          <p:cNvGrpSpPr/>
          <p:nvPr/>
        </p:nvGrpSpPr>
        <p:grpSpPr>
          <a:xfrm>
            <a:off x="7020360" y="5300640"/>
            <a:ext cx="574200" cy="69840"/>
            <a:chOff x="7020360" y="5300640"/>
            <a:chExt cx="574200" cy="69840"/>
          </a:xfrm>
        </p:grpSpPr>
        <p:sp>
          <p:nvSpPr>
            <p:cNvPr id="125" name="Line 64"/>
            <p:cNvSpPr/>
            <p:nvPr/>
          </p:nvSpPr>
          <p:spPr>
            <a:xfrm flipV="1">
              <a:off x="7594560" y="530064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5"/>
            <p:cNvSpPr/>
            <p:nvPr/>
          </p:nvSpPr>
          <p:spPr>
            <a:xfrm flipH="1">
              <a:off x="7020360" y="5300640"/>
              <a:ext cx="57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66"/>
          <p:cNvGrpSpPr/>
          <p:nvPr/>
        </p:nvGrpSpPr>
        <p:grpSpPr>
          <a:xfrm>
            <a:off x="3276720" y="5300640"/>
            <a:ext cx="431280" cy="71280"/>
            <a:chOff x="3276720" y="5300640"/>
            <a:chExt cx="431280" cy="71280"/>
          </a:xfrm>
        </p:grpSpPr>
        <p:sp>
          <p:nvSpPr>
            <p:cNvPr id="128" name="Line 67"/>
            <p:cNvSpPr/>
            <p:nvPr/>
          </p:nvSpPr>
          <p:spPr>
            <a:xfrm flipV="1">
              <a:off x="3708000" y="5300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8"/>
            <p:cNvSpPr/>
            <p:nvPr/>
          </p:nvSpPr>
          <p:spPr>
            <a:xfrm flipH="1">
              <a:off x="3276720" y="530064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4428000" y="5300640"/>
            <a:ext cx="504360" cy="69840"/>
            <a:chOff x="4428000" y="5300640"/>
            <a:chExt cx="504360" cy="69840"/>
          </a:xfrm>
        </p:grpSpPr>
        <p:sp>
          <p:nvSpPr>
            <p:cNvPr id="131" name="Line 70"/>
            <p:cNvSpPr/>
            <p:nvPr/>
          </p:nvSpPr>
          <p:spPr>
            <a:xfrm flipV="1">
              <a:off x="4932360" y="530064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1"/>
            <p:cNvSpPr/>
            <p:nvPr/>
          </p:nvSpPr>
          <p:spPr>
            <a:xfrm flipH="1">
              <a:off x="4428000" y="5300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74"/>
          <p:cNvSpPr/>
          <p:nvPr/>
        </p:nvSpPr>
        <p:spPr>
          <a:xfrm>
            <a:off x="3635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5"/>
          <p:cNvSpPr/>
          <p:nvPr/>
        </p:nvSpPr>
        <p:spPr>
          <a:xfrm>
            <a:off x="4067280" y="35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7"/>
          <p:cNvSpPr/>
          <p:nvPr/>
        </p:nvSpPr>
        <p:spPr>
          <a:xfrm>
            <a:off x="5076720" y="3500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8"/>
          <p:cNvSpPr/>
          <p:nvPr/>
        </p:nvSpPr>
        <p:spPr>
          <a:xfrm>
            <a:off x="5435640" y="35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9"/>
          <p:cNvSpPr/>
          <p:nvPr/>
        </p:nvSpPr>
        <p:spPr>
          <a:xfrm>
            <a:off x="630072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0"/>
          <p:cNvSpPr/>
          <p:nvPr/>
        </p:nvSpPr>
        <p:spPr>
          <a:xfrm>
            <a:off x="6732720" y="35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58">
            <a:hlinkClick r:id="rId1" action="ppaction://hlinksldjump"/>
          </p:cNvPr>
          <p:cNvSpPr/>
          <p:nvPr/>
        </p:nvSpPr>
        <p:spPr>
          <a:xfrm>
            <a:off x="714384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Объяснительный диктант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огода была ужас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есса была      …красная. (Р.Сеф.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Петин папа был     …важ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 имел пятиэтажный. (В.Маяковский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 длинной хворости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жик гусей гнал в город продавать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И.Крыл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и средствами художественной     выразительности являются слова «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ая»,«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ый»,«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о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643200" y="16430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452760" y="23572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49240" y="34765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17:34Z</dcterms:created>
  <dc:creator>Пользователь</dc:creator>
  <dc:description/>
  <dc:language>en-US</dc:language>
  <cp:lastModifiedBy>1</cp:lastModifiedBy>
  <dcterms:modified xsi:type="dcterms:W3CDTF">2017-01-22T11:22:00Z</dcterms:modified>
  <cp:revision>72</cp:revision>
  <dc:subject/>
  <dc:title>Тема урока: гласные в приставках пре - и при -. </dc:title>
</cp:coreProperties>
</file>