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9269-B042-4997-B34A-18FA7575CF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CFA7-9C8F-4256-906B-7828C238AB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3F1B-27B2-4667-9808-8A594E0FA2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86EE-E6FE-45DC-A8E9-00CFDF9C6E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3C6-E5F1-4854-B3F5-19EB01ED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790-E37F-43E1-8B99-D57B3D7B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1A78-06F6-426F-B020-D6B03C28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1AD8-9D7D-4A2A-8182-2DAD92CE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BF87-1DF2-4B9E-BC4D-27EA7E0A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CDD-D22C-4308-A786-ED2F9755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FCCF-2AA3-4E36-9CFC-E57E63BC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65E-4EF3-4537-AB73-40E6C8F2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816-3B1A-4C29-935B-128DCC7A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65A-BE1D-4095-A417-05E2D9A3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61D-C3D0-4CB3-8469-EE59B9E2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CB7-C7A3-481D-8A2A-9E776925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14B9-A62E-4A63-AAFA-C6A4617F6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7772400" cy="2547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сные в приставках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и 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443640" y="5659560"/>
            <a:ext cx="264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русского языка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тературы ГБОУ №6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робина Г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571840" y="2714760"/>
            <a:ext cx="38005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84360" y="18900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ст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ласные в приставках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е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- и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4360" y="90792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Какое значение приставки при- не соответствует её написани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900000" y="1341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исо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924360" y="2205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900000" y="162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неполное 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близость по значению к слову «оче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284720" y="2205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900000" y="23716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айдите слово, в котором приставка обозначает «присоединен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иех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ривинт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рис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Укажите слово с приставкой при-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..увелич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р..р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р..бре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Укажите слово с приставкой пре-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..остано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р..образ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р..подн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 rot="17323800">
            <a:off x="3852720" y="206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7812000" y="1125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940360" y="630864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трелка вправо 12">
            <a:hlinkClick r:id="rId1" action="ppaction://hlinksldjump"/>
          </p:cNvPr>
          <p:cNvSpPr/>
          <p:nvPr/>
        </p:nvSpPr>
        <p:spPr>
          <a:xfrm>
            <a:off x="7429680" y="60008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684360" y="18900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ст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ласные в приставках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е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- и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84360" y="90792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Какое значение приставки при- не соответствует её написани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900000" y="1341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исо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924360" y="2205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900000" y="162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неполное 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) близость по значению к слову «оче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284720" y="2205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900000" y="23716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айдите слово, в котором приставка обозначает «присоединени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иех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) привинт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рис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Укажите слово с приставкой при-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еувелич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рер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) прибре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Укажите слово с приставкой пре-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иостано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) преобраз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риподн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 rot="17323800">
            <a:off x="3852720" y="2061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7812000" y="1125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13f9a"/>
                </a:solidFill>
                <a:latin typeface="Arial"/>
              </a:rPr>
              <a:t>Анализ текста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8002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__________________________________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Солнце стало. 2. В полях тает, а в лесу ещё снег лежит плотными подушками. 3. Деревья стоят в снежном плену. 4.Тонкие стволики …………………………… к земле, примёрзли и ждут часа освоб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Вот пришёл этот час. 6. Снег подтаивает, и в полной тишине вдруг сама собой закачается еловая ветка. 7. А под ёлкой спит заяц.          8. В страхе просыпается он и ……………………………….. 9. Везде прыгают ветки, вырываются из снежного плена.10. Вес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По М. Пришвин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Вставьте на месте точек подходящие по смыслу глаголы с приставкой пр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Озаглавьте тек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тиль текста 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Тип речи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Среди предложений 3 – 6 найдите эпитеты и укажите их в тек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реди предложений 4 – 9 найдите сложносочинённое предложение.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пишите его ном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5"/>
          <p:cNvSpPr/>
          <p:nvPr/>
        </p:nvSpPr>
        <p:spPr>
          <a:xfrm>
            <a:off x="642960" y="642960"/>
            <a:ext cx="81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акие слова спрятались на этой картинке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2700360" y="2205000"/>
            <a:ext cx="380052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71200" y="1499760"/>
            <a:ext cx="73724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ПАСИБО ЗА ВНИМАН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-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означает</a:t>
            </a:r>
            <a:br>
              <a:rPr sz="4000"/>
            </a:b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7640" y="836280"/>
            <a:ext cx="3816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соединени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6" descr=""/>
          <p:cNvPicPr/>
          <p:nvPr/>
        </p:nvPicPr>
        <p:blipFill>
          <a:blip r:embed="rId1"/>
          <a:stretch/>
        </p:blipFill>
        <p:spPr>
          <a:xfrm>
            <a:off x="4788000" y="3330720"/>
            <a:ext cx="2305080" cy="150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Picture 19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2305080" cy="165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" name="Picture 1" descr=""/>
          <p:cNvPicPr/>
          <p:nvPr/>
        </p:nvPicPr>
        <p:blipFill>
          <a:blip r:embed="rId3"/>
          <a:stretch/>
        </p:blipFill>
        <p:spPr>
          <a:xfrm>
            <a:off x="4788000" y="5084640"/>
            <a:ext cx="2305080" cy="1571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Rectangle 11"/>
          <p:cNvSpPr/>
          <p:nvPr/>
        </p:nvSpPr>
        <p:spPr>
          <a:xfrm>
            <a:off x="1908000" y="544500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2195640" y="328464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1258920" y="1773360"/>
            <a:ext cx="35272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пи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2071800" y="620640"/>
            <a:ext cx="5164200" cy="63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ближ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ч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9" descr=""/>
          <p:cNvPicPr/>
          <p:nvPr/>
        </p:nvPicPr>
        <p:blipFill>
          <a:blip r:embed="rId1"/>
          <a:stretch/>
        </p:blipFill>
        <p:spPr>
          <a:xfrm>
            <a:off x="4788000" y="5157720"/>
            <a:ext cx="2355840" cy="136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1" name="Picture 14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2284560" cy="136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2" name="Picture 25" descr=""/>
          <p:cNvPicPr/>
          <p:nvPr/>
        </p:nvPicPr>
        <p:blipFill>
          <a:blip r:embed="rId3"/>
          <a:stretch/>
        </p:blipFill>
        <p:spPr>
          <a:xfrm>
            <a:off x="4859280" y="1428840"/>
            <a:ext cx="2284560" cy="1539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340000" y="620640"/>
            <a:ext cx="457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лиз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7" descr=""/>
          <p:cNvPicPr/>
          <p:nvPr/>
        </p:nvPicPr>
        <p:blipFill>
          <a:blip r:embed="rId1"/>
          <a:stretch/>
        </p:blipFill>
        <p:spPr>
          <a:xfrm>
            <a:off x="5292720" y="3213000"/>
            <a:ext cx="2160720" cy="136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Picture 70" descr=""/>
          <p:cNvPicPr/>
          <p:nvPr/>
        </p:nvPicPr>
        <p:blipFill>
          <a:blip r:embed="rId2"/>
          <a:stretch/>
        </p:blipFill>
        <p:spPr>
          <a:xfrm>
            <a:off x="5292720" y="4941720"/>
            <a:ext cx="2232000" cy="1471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6" name="Picture 61" descr=""/>
          <p:cNvPicPr/>
          <p:nvPr/>
        </p:nvPicPr>
        <p:blipFill>
          <a:blip r:embed="rId3"/>
          <a:stretch/>
        </p:blipFill>
        <p:spPr>
          <a:xfrm>
            <a:off x="5292720" y="1461960"/>
            <a:ext cx="2106720" cy="145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2124000" y="620640"/>
            <a:ext cx="5545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полное  действ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6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2232000" cy="1382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9" name="Picture 82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2233800" cy="1514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" name="Picture 85" descr=""/>
          <p:cNvPicPr/>
          <p:nvPr/>
        </p:nvPicPr>
        <p:blipFill>
          <a:blip r:embed="rId3"/>
          <a:stretch/>
        </p:blipFill>
        <p:spPr>
          <a:xfrm>
            <a:off x="4716360" y="5013360"/>
            <a:ext cx="2230560" cy="1552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е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 значении</a:t>
            </a:r>
            <a:br>
              <a:rPr sz="4000"/>
            </a:b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0080" y="1213920"/>
            <a:ext cx="657216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очень»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                                         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ый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чень добрый)                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1143000" y="3916440"/>
            <a:ext cx="29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он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 flipV="1" rot="10800000">
            <a:off x="999720" y="448668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чень звонки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8" descr=""/>
          <p:cNvPicPr/>
          <p:nvPr/>
        </p:nvPicPr>
        <p:blipFill>
          <a:blip r:embed="rId1"/>
          <a:stretch/>
        </p:blipFill>
        <p:spPr>
          <a:xfrm>
            <a:off x="4714920" y="1785960"/>
            <a:ext cx="2428920" cy="185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0" descr=""/>
          <p:cNvPicPr/>
          <p:nvPr/>
        </p:nvPicPr>
        <p:blipFill>
          <a:blip r:embed="rId2"/>
          <a:stretch/>
        </p:blipFill>
        <p:spPr>
          <a:xfrm>
            <a:off x="4714920" y="4000680"/>
            <a:ext cx="2428920" cy="187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428840" y="78588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лизка к пере -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</a:t>
            </a:r>
            <a:r>
              <a:rPr b="1" lang="ru-RU" sz="3200" spc="-1" strike="noStrike">
                <a:solidFill>
                  <a:srgbClr val="33cc33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вать    (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ер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ва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р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мить (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ер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ми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9" descr=""/>
          <p:cNvPicPr/>
          <p:nvPr/>
        </p:nvPicPr>
        <p:blipFill>
          <a:blip r:embed="rId1"/>
          <a:stretch/>
        </p:blipFill>
        <p:spPr>
          <a:xfrm>
            <a:off x="4356000" y="4292640"/>
            <a:ext cx="2952720" cy="201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1" name="Picture 103" descr=""/>
          <p:cNvPicPr/>
          <p:nvPr/>
        </p:nvPicPr>
        <p:blipFill>
          <a:blip r:embed="rId2"/>
          <a:stretch/>
        </p:blipFill>
        <p:spPr>
          <a:xfrm>
            <a:off x="4357800" y="1571760"/>
            <a:ext cx="2879640" cy="207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9640" y="765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асные в приставках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и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042920" y="1700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826920" y="2205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соеди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ить,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ить,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епить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203480" y="27702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95280" y="263700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ли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кать,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чаться,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е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95280" y="6093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952200" y="3016080"/>
            <a:ext cx="59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из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,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чной,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ск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973440" y="3429000"/>
            <a:ext cx="63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пол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ь,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ать,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900000" y="42210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зна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898200" y="4724280"/>
            <a:ext cx="77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очень»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ый ( очень добрый),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онкий (очень звонк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042920" y="4941720"/>
            <a:ext cx="7921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лизка к пере - 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вать (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е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вать),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ми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пе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м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3274920" y="22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>
            <a:off x="3635280" y="22766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4356000" y="2276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>
            <a:off x="4716360" y="22766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5508720" y="22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>
            <a:off x="5867280" y="22766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0"/>
          <p:cNvSpPr/>
          <p:nvPr/>
        </p:nvSpPr>
        <p:spPr>
          <a:xfrm>
            <a:off x="3059280" y="270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>
            <a:off x="3419640" y="27082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2"/>
          <p:cNvSpPr/>
          <p:nvPr/>
        </p:nvSpPr>
        <p:spPr>
          <a:xfrm>
            <a:off x="3059280" y="270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5724360" y="2708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4"/>
          <p:cNvSpPr/>
          <p:nvPr/>
        </p:nvSpPr>
        <p:spPr>
          <a:xfrm>
            <a:off x="2484360" y="3068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5"/>
          <p:cNvSpPr/>
          <p:nvPr/>
        </p:nvSpPr>
        <p:spPr>
          <a:xfrm>
            <a:off x="2843280" y="306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6"/>
          <p:cNvSpPr/>
          <p:nvPr/>
        </p:nvSpPr>
        <p:spPr>
          <a:xfrm>
            <a:off x="414036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7"/>
          <p:cNvSpPr/>
          <p:nvPr/>
        </p:nvSpPr>
        <p:spPr>
          <a:xfrm>
            <a:off x="4500720" y="306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8"/>
          <p:cNvSpPr/>
          <p:nvPr/>
        </p:nvSpPr>
        <p:spPr>
          <a:xfrm>
            <a:off x="5580000" y="306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"/>
          <p:cNvSpPr/>
          <p:nvPr/>
        </p:nvSpPr>
        <p:spPr>
          <a:xfrm>
            <a:off x="5867280" y="306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9"/>
          <p:cNvSpPr/>
          <p:nvPr/>
        </p:nvSpPr>
        <p:spPr>
          <a:xfrm>
            <a:off x="601200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1"/>
          <p:cNvSpPr/>
          <p:nvPr/>
        </p:nvSpPr>
        <p:spPr>
          <a:xfrm>
            <a:off x="3995640" y="2781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0"/>
          <p:cNvSpPr/>
          <p:nvPr/>
        </p:nvSpPr>
        <p:spPr>
          <a:xfrm>
            <a:off x="6156360" y="27082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1"/>
          <p:cNvSpPr/>
          <p:nvPr/>
        </p:nvSpPr>
        <p:spPr>
          <a:xfrm>
            <a:off x="6227640" y="2708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2"/>
          <p:cNvSpPr/>
          <p:nvPr/>
        </p:nvSpPr>
        <p:spPr>
          <a:xfrm>
            <a:off x="4284720" y="2708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3"/>
          <p:cNvSpPr/>
          <p:nvPr/>
        </p:nvSpPr>
        <p:spPr>
          <a:xfrm>
            <a:off x="4788000" y="270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56"/>
          <p:cNvGrpSpPr/>
          <p:nvPr/>
        </p:nvGrpSpPr>
        <p:grpSpPr>
          <a:xfrm>
            <a:off x="5508720" y="4797360"/>
            <a:ext cx="358560" cy="71280"/>
            <a:chOff x="5508720" y="4797360"/>
            <a:chExt cx="358560" cy="71280"/>
          </a:xfrm>
        </p:grpSpPr>
        <p:sp>
          <p:nvSpPr>
            <p:cNvPr id="116" name="Line 36"/>
            <p:cNvSpPr/>
            <p:nvPr/>
          </p:nvSpPr>
          <p:spPr>
            <a:xfrm flipV="1">
              <a:off x="5867280" y="4797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54"/>
            <p:cNvSpPr/>
            <p:nvPr/>
          </p:nvSpPr>
          <p:spPr>
            <a:xfrm flipH="1">
              <a:off x="5508720" y="479736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57"/>
          <p:cNvGrpSpPr/>
          <p:nvPr/>
        </p:nvGrpSpPr>
        <p:grpSpPr>
          <a:xfrm>
            <a:off x="2340000" y="4797360"/>
            <a:ext cx="431280" cy="71280"/>
            <a:chOff x="2340000" y="4797360"/>
            <a:chExt cx="431280" cy="71280"/>
          </a:xfrm>
        </p:grpSpPr>
        <p:sp>
          <p:nvSpPr>
            <p:cNvPr id="119" name="Line 58"/>
            <p:cNvSpPr/>
            <p:nvPr/>
          </p:nvSpPr>
          <p:spPr>
            <a:xfrm flipV="1">
              <a:off x="2771280" y="4797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9"/>
            <p:cNvSpPr/>
            <p:nvPr/>
          </p:nvSpPr>
          <p:spPr>
            <a:xfrm flipH="1">
              <a:off x="2340000" y="479736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60"/>
          <p:cNvGrpSpPr/>
          <p:nvPr/>
        </p:nvGrpSpPr>
        <p:grpSpPr>
          <a:xfrm>
            <a:off x="5796000" y="5300640"/>
            <a:ext cx="358560" cy="71280"/>
            <a:chOff x="5796000" y="5300640"/>
            <a:chExt cx="358560" cy="71280"/>
          </a:xfrm>
        </p:grpSpPr>
        <p:sp>
          <p:nvSpPr>
            <p:cNvPr id="122" name="Line 61"/>
            <p:cNvSpPr/>
            <p:nvPr/>
          </p:nvSpPr>
          <p:spPr>
            <a:xfrm flipV="1">
              <a:off x="6154560" y="5300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2"/>
            <p:cNvSpPr/>
            <p:nvPr/>
          </p:nvSpPr>
          <p:spPr>
            <a:xfrm flipH="1">
              <a:off x="5796000" y="530064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63"/>
          <p:cNvGrpSpPr/>
          <p:nvPr/>
        </p:nvGrpSpPr>
        <p:grpSpPr>
          <a:xfrm>
            <a:off x="7020360" y="5300640"/>
            <a:ext cx="574200" cy="69840"/>
            <a:chOff x="7020360" y="5300640"/>
            <a:chExt cx="574200" cy="69840"/>
          </a:xfrm>
        </p:grpSpPr>
        <p:sp>
          <p:nvSpPr>
            <p:cNvPr id="125" name="Line 64"/>
            <p:cNvSpPr/>
            <p:nvPr/>
          </p:nvSpPr>
          <p:spPr>
            <a:xfrm flipV="1">
              <a:off x="7594560" y="530064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65"/>
            <p:cNvSpPr/>
            <p:nvPr/>
          </p:nvSpPr>
          <p:spPr>
            <a:xfrm flipH="1">
              <a:off x="7020360" y="5300640"/>
              <a:ext cx="57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66"/>
          <p:cNvGrpSpPr/>
          <p:nvPr/>
        </p:nvGrpSpPr>
        <p:grpSpPr>
          <a:xfrm>
            <a:off x="3276720" y="5300640"/>
            <a:ext cx="431280" cy="71280"/>
            <a:chOff x="3276720" y="5300640"/>
            <a:chExt cx="431280" cy="71280"/>
          </a:xfrm>
        </p:grpSpPr>
        <p:sp>
          <p:nvSpPr>
            <p:cNvPr id="128" name="Line 67"/>
            <p:cNvSpPr/>
            <p:nvPr/>
          </p:nvSpPr>
          <p:spPr>
            <a:xfrm flipV="1">
              <a:off x="3708000" y="5300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68"/>
            <p:cNvSpPr/>
            <p:nvPr/>
          </p:nvSpPr>
          <p:spPr>
            <a:xfrm flipH="1">
              <a:off x="3276720" y="530064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69"/>
          <p:cNvGrpSpPr/>
          <p:nvPr/>
        </p:nvGrpSpPr>
        <p:grpSpPr>
          <a:xfrm>
            <a:off x="4428000" y="5300640"/>
            <a:ext cx="504360" cy="69840"/>
            <a:chOff x="4428000" y="5300640"/>
            <a:chExt cx="504360" cy="69840"/>
          </a:xfrm>
        </p:grpSpPr>
        <p:sp>
          <p:nvSpPr>
            <p:cNvPr id="131" name="Line 70"/>
            <p:cNvSpPr/>
            <p:nvPr/>
          </p:nvSpPr>
          <p:spPr>
            <a:xfrm flipV="1">
              <a:off x="4932360" y="530064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71"/>
            <p:cNvSpPr/>
            <p:nvPr/>
          </p:nvSpPr>
          <p:spPr>
            <a:xfrm flipH="1">
              <a:off x="4428000" y="530064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74"/>
          <p:cNvSpPr/>
          <p:nvPr/>
        </p:nvSpPr>
        <p:spPr>
          <a:xfrm>
            <a:off x="3635280" y="3500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5"/>
          <p:cNvSpPr/>
          <p:nvPr/>
        </p:nvSpPr>
        <p:spPr>
          <a:xfrm>
            <a:off x="4067280" y="3500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7"/>
          <p:cNvSpPr/>
          <p:nvPr/>
        </p:nvSpPr>
        <p:spPr>
          <a:xfrm>
            <a:off x="5076720" y="3500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8"/>
          <p:cNvSpPr/>
          <p:nvPr/>
        </p:nvSpPr>
        <p:spPr>
          <a:xfrm>
            <a:off x="5435640" y="3500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9"/>
          <p:cNvSpPr/>
          <p:nvPr/>
        </p:nvSpPr>
        <p:spPr>
          <a:xfrm>
            <a:off x="6300720" y="3500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0"/>
          <p:cNvSpPr/>
          <p:nvPr/>
        </p:nvSpPr>
        <p:spPr>
          <a:xfrm>
            <a:off x="6732720" y="3500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право 58">
            <a:hlinkClick r:id="rId1" action="ppaction://hlinksldjump"/>
          </p:cNvPr>
          <p:cNvSpPr/>
          <p:nvPr/>
        </p:nvSpPr>
        <p:spPr>
          <a:xfrm>
            <a:off x="7143840" y="61437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13f9a"/>
                </a:solidFill>
                <a:latin typeface="Arial"/>
              </a:rPr>
              <a:t>Объяснительный диктант</a:t>
            </a:r>
            <a:endParaRPr b="0" lang="en-US" sz="44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Погода была ужас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нцесса была      …красная. (Р.Сеф.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Петин папа был     …важны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м имел пятиэтажный. (В.Маяковский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6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… длинной хворостин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ужик гусей гнал в город продавать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И.Крыло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и средствами художественной     выразительности являются слова «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п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ная»,«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п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ый»,«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п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ной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643200" y="16430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п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452760" y="235728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п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849240" y="34765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П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9:17:34Z</dcterms:created>
  <dc:creator>Пользователь</dc:creator>
  <dc:description/>
  <dc:language>en-US</dc:language>
  <cp:lastModifiedBy>1</cp:lastModifiedBy>
  <dcterms:modified xsi:type="dcterms:W3CDTF">2017-01-22T11:22:00Z</dcterms:modified>
  <cp:revision>72</cp:revision>
  <dc:subject/>
  <dc:title>Тема урока: гласные в приставках пре - и при -. </dc:title>
</cp:coreProperties>
</file>