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5.jpeg" ContentType="image/jpeg"/>
  <Override PartName="/ppt/media/image16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6.png" ContentType="image/png"/>
  <Override PartName="/ppt/media/image10.wmf" ContentType="image/x-wmf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4B3C2-A339-49AB-8A2A-C39126D3C54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D170C-FE91-416A-8C40-541B001E1AF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D4807-6FEF-4770-B2C9-378C751C7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28B82-6F1B-46F4-9061-C8C916909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3453D-957A-4B3D-AC62-773744BE5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FBB43-BCDE-40CC-9CCC-19C49CFB0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50D9F-5BAB-4A79-BDDC-89472E741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8ABBD-EF99-44AA-9B71-D86F74062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5A539-8E6B-41FF-ACC3-A56500A2B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BC301-953D-427B-9FF2-A27230132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B5548-34A8-4198-A2E7-3CFF794E9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21050-150F-4953-81BD-F59D570FA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18880-6CDD-491C-A2DD-C2D256944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C1FC1-92CF-4872-9D1E-1370D2141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9D38F-D78B-4BFB-ACA0-967E37B0D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C4283-EF39-45EE-8411-45D1F4991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FCEE2-9BEF-47AC-A05A-265F8E67A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B1D41-F575-4017-A98E-D2C4B3E1F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8BFFC-C4FF-49F9-9A87-22E86D501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501A90E-9180-4938-BB87-E20B91F71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C5F5CD1-8A94-4555-B2AA-951548799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F21772-F346-40CF-A152-067278072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4280E48-4F11-4172-A0C7-AF3C8E192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222BADA-AA8C-4A43-A4CA-B07404D58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A87C1-2BDF-4182-B995-E52FEEF26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8B5E52-62A3-48B7-8D8C-37F14AB42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D154EF3-E20A-4F2E-A88C-3391A71F2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66967F6-3147-4674-B09C-B7C14315A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8A31F63-BF50-4B89-8F50-C9801F376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98D863D-0D9E-4A7C-A52C-E3CAABA1B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FB24B48-D0CA-4D46-941D-EF1B475C9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C9A6C1A-0097-40D1-AF98-6863C1404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124F21-1413-4EDF-BB43-C3C84647E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732435-267B-4E62-BC6D-A2DA66C26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135265-F9C8-4CCC-9660-5B1ED6A0D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2603D-3BCA-40C5-BE95-1708838DF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5A56AD-CF39-468E-A885-2C066F614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505647-1584-40C1-9CFE-74D9FCDA8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C8687E-B9AD-40DA-ADED-6AC1DFFD7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A513C9-B3D6-4601-9942-3BB210D9C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6DE21C-D566-44A0-A9E7-84592129F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679D91-EE71-43CC-81EA-8A630326B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FEE6EF-C7A8-4DB4-8E0C-EB8D137F0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CE3B99-AF33-49CD-A994-B57E50CA5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AE87B2-C62E-4B04-9604-D524A449B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5C56A28-6E5F-4509-BB00-A6F204067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D1DDD-CC45-4B24-A29B-0F733F56B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545D95C-D5C4-43B0-8053-A192DD6EB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9112C44-F4D9-491D-B709-AAF77906B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0986457-AA6E-445C-93A1-39E5F960C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BFDAB75-7FCC-4445-BE63-B894F07B3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231DBC4-8E64-447C-8CAF-FC289DF65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21FBB16-72AE-4B58-9E6A-C1281EFFB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8128676-B935-4488-AD7D-BD61B19A2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73C9E63-F6A5-4968-9F9C-F4E282CC6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F2B7BA1-D753-4C3A-A910-61364677F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F14E6A4-4431-4170-9CF6-13DAEF347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44C05-FF6D-4332-8168-E8B7CBA45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1B2D717-3D7D-41A1-A418-978DB97A5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992A857-FD48-417A-8095-391E5A142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71F8821-B86B-4391-B1DE-610C9F1B8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25DE243-E82B-492A-B1DE-415420582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FFD0264-25F0-4206-B543-B2968EE6F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4DB4B0A-1624-4578-80E4-356A9CE57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FBAF018-4CAB-489B-B3E3-246E4261F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30B75DB-EEFE-4B20-964E-3BDFE9A2D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CC60173-2077-4B5E-8C82-539437BF7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B20F764-4FC3-4E4C-898E-F35AC0948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25897-7AA7-48DA-AA17-F6384F10C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549DCFC-5551-4C2F-BB3D-B15232762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1EE1D9F-E9AA-4B54-8187-C8BB353EB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E02ACEB-0CC9-4B85-8C37-696CDD9C4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134C4C7-F402-4B3A-A837-790E6E366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C805852-A2F5-4586-9AFC-DA86F2F63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FE17240-3485-4046-9637-87232CB06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466CBAD-597D-4A26-B7C7-E6B0ACD7E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1EBDD8B-0CE1-4517-BB98-76076383C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99FA5AA-6B3B-49DA-A821-318B400FD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2982C79-FC24-4602-A8A7-9344880F0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8EA58-0326-411E-8323-3D4AED8A9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3ABC503-A7EE-4025-9E09-D592D48DF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136D83C-78FC-4684-8C0D-9AFD87E25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AEA1ABD-757A-40C6-ACE7-439EA0C97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5DE592C-E1ED-4EF2-BDAD-86DF6487A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793C840-393A-476A-A305-484F1966F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14D9A-7BEC-4CE9-AB84-B061E87C9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AAC88-CA94-497E-89C5-0E7287D4A414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Прямоугольник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Прямоугольник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Прямоугольник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Прямая соединительная линия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Прямая соединительная линия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Прямая соединительная линия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Прямая соединительная линия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Прямая соединительная линия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Прямая соединительная линия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Прямоугольник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Овал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Овал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Овал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Овал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Овал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998D0-BA1A-4C88-9D31-DFB83495AB95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1F24B-FFAB-4330-84F0-C57778F576C7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Прямоугольник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Прямоугольник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Прямоугольник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Прямая соединительная линия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Прямая соединительная линия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Прямая соединительная линия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Прямая соединительная линия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Прямая соединительная линия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Овал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Овал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Овал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Прямая соединительная линия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CC631-4484-4DE6-93C7-1C98FEB7CF09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37ED6-AB12-4B4B-B1C1-3A6F9E90C25A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Прямая соединительная линия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Прямая соединительная линия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Прямая соединительная линия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Прямоугольник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Прямая соединительная линия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Овал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97553-1F17-4376-9FED-94C097B3A1B0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Овал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Прямая соединительная линия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Прямая соединительная линия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7AA96-AFC7-4FAA-AB06-13B7ED3092F3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Заголовок 1" descr=""/>
          <p:cNvPicPr/>
          <p:nvPr/>
        </p:nvPicPr>
        <p:blipFill>
          <a:blip r:embed="rId1"/>
          <a:stretch/>
        </p:blipFill>
        <p:spPr>
          <a:xfrm>
            <a:off x="317520" y="109440"/>
            <a:ext cx="8582040" cy="1805040"/>
          </a:xfrm>
          <a:prstGeom prst="rect">
            <a:avLst/>
          </a:prstGeom>
          <a:ln w="0">
            <a:noFill/>
          </a:ln>
        </p:spPr>
      </p:pic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1834920" y="260280"/>
            <a:ext cx="563724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575f6d"/>
                </a:solidFill>
                <a:latin typeface="Century Schoolbook"/>
              </a:rPr>
              <a:t>Пирожное «Картошка»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0" name="Picture 2" descr="C:\Users\ФИЗИКА\Desktop\Открытый урок\skazki-lindgren--karlson-kotoryi-zhivyot-na-kryshe.jpg"/>
          <p:cNvPicPr/>
          <p:nvPr/>
        </p:nvPicPr>
        <p:blipFill>
          <a:blip r:embed="rId2"/>
          <a:stretch/>
        </p:blipFill>
        <p:spPr>
          <a:xfrm>
            <a:off x="6770520" y="2997360"/>
            <a:ext cx="2481480" cy="248112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3" descr="C:\Users\ФИЗИКА\Desktop\Открытый урок\119596000_1__.png"/>
          <p:cNvPicPr/>
          <p:nvPr/>
        </p:nvPicPr>
        <p:blipFill>
          <a:blip r:embed="rId3"/>
          <a:stretch/>
        </p:blipFill>
        <p:spPr>
          <a:xfrm>
            <a:off x="106200" y="3716280"/>
            <a:ext cx="2449800" cy="280188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4" descr="C:\Users\ФИЗИКА\Desktop\Открытый урок\030316-01.png"/>
          <p:cNvPicPr/>
          <p:nvPr/>
        </p:nvPicPr>
        <p:blipFill>
          <a:blip r:embed="rId4"/>
          <a:stretch/>
        </p:blipFill>
        <p:spPr>
          <a:xfrm>
            <a:off x="3203640" y="1913040"/>
            <a:ext cx="3192480" cy="486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323640" y="14126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0" lang="ru-RU" sz="3200" spc="-1" strike="noStrike" u="sng">
                <a:solidFill>
                  <a:srgbClr val="008080"/>
                </a:solidFill>
                <a:uFillTx/>
                <a:latin typeface="Times New Roman"/>
                <a:ea typeface="Times New Roman"/>
              </a:rPr>
              <a:t>ИЗ ПОЛУЧЕННОЙ ШОКОЛАДНОЙ МАССЫ РУКАМИ СФОРМИРОВАТЬ ПИРОЖНОЕ ФОРМЫ КАРТОШКИ. СЛАДОСТЬ МОЖНО ОБВАЛЯТЬ В СМЕСИ ИЗ САХАРНОЙ ПУДРЫ И КАКАО.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92" name="Рисунок 5" descr="Пирожное Картошка - шаг 6"/>
          <p:cNvPicPr/>
          <p:nvPr/>
        </p:nvPicPr>
        <p:blipFill>
          <a:blip r:embed="rId1"/>
          <a:stretch/>
        </p:blipFill>
        <p:spPr>
          <a:xfrm>
            <a:off x="1905120" y="2652840"/>
            <a:ext cx="5105160" cy="41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95" name="Объект 4" descr="Мясо с ананасами на в духовке &quot; ВКУСНЫЕ РЕЦЕПТЫ 2014 С ФОТО. Вкусные рецепты с фотографиями на каждый день. Рецепты салатов, рец"/>
          <p:cNvPicPr/>
          <p:nvPr/>
        </p:nvPicPr>
        <p:blipFill>
          <a:blip r:embed="rId1"/>
          <a:stretch/>
        </p:blipFill>
        <p:spPr>
          <a:xfrm>
            <a:off x="0" y="0"/>
            <a:ext cx="9296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Заголовок 1" descr=""/>
          <p:cNvPicPr/>
          <p:nvPr/>
        </p:nvPicPr>
        <p:blipFill>
          <a:blip r:embed="rId1"/>
          <a:stretch/>
        </p:blipFill>
        <p:spPr>
          <a:xfrm>
            <a:off x="-6480" y="36360"/>
            <a:ext cx="9156960" cy="878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97" name=""/>
          <p:cNvGraphicFramePr/>
          <p:nvPr/>
        </p:nvGraphicFramePr>
        <p:xfrm>
          <a:off x="0" y="836640"/>
          <a:ext cx="9140760" cy="6184800"/>
        </p:xfrm>
        <a:graphic>
          <a:graphicData uri="http://schemas.openxmlformats.org/drawingml/2006/table">
            <a:tbl>
              <a:tblPr/>
              <a:tblGrid>
                <a:gridCol w="938160"/>
                <a:gridCol w="2913120"/>
                <a:gridCol w="52894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№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п/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Вопрос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Анализ изделия, планиров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Что мы будем готовить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2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Какой формы пирожное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3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Какие ингредиенты и кухонные принадлежности нам понадобятся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4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Как мы будем работать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5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Какими способами мы будем готовить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1686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6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Что мы будем делать сначала, а что - потом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 algn="just">
                        <a:buClr>
                          <a:srgbClr val="000000"/>
                        </a:buClr>
                        <a:buFont typeface="Century Schoolbook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7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Для чего мы будем учиться готовить пирожное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Заголовок 1" descr=""/>
          <p:cNvPicPr/>
          <p:nvPr/>
        </p:nvPicPr>
        <p:blipFill>
          <a:blip r:embed="rId1"/>
          <a:stretch/>
        </p:blipFill>
        <p:spPr>
          <a:xfrm>
            <a:off x="-6480" y="36360"/>
            <a:ext cx="9156960" cy="878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99" name=""/>
          <p:cNvGraphicFramePr/>
          <p:nvPr/>
        </p:nvGraphicFramePr>
        <p:xfrm>
          <a:off x="0" y="836640"/>
          <a:ext cx="9140760" cy="6218280"/>
        </p:xfrm>
        <a:graphic>
          <a:graphicData uri="http://schemas.openxmlformats.org/drawingml/2006/table">
            <a:tbl>
              <a:tblPr/>
              <a:tblGrid>
                <a:gridCol w="938160"/>
                <a:gridCol w="2913120"/>
                <a:gridCol w="52894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№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п/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Вопрос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Анализ изделия, планиров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Что мы будем готовить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Пирожное «Картошка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2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Какой формы пирожное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Продолговато-округло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3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Какие ингредиенты и кухонные принадлежности нам понадобятся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Печенье, сгущённое молоко, сливочное масло, какао, миска, столовая и чайная ложки, плоская тарел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4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Как мы будем работать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В группа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5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Какими способами мы будем готовить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Измельчение, перемешивание ингредиентов, деление на ча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6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Что мы будем делать сначала, а что - потом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 algn="just">
                        <a:buClr>
                          <a:srgbClr val="000000"/>
                        </a:buClr>
                        <a:buFont typeface="Century Schoolbook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перемешаем сгущенное молоко с маслом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 marL="285840" indent="-285840" algn="just">
                        <a:buClr>
                          <a:srgbClr val="000000"/>
                        </a:buClr>
                        <a:buFont typeface="Century Schoolbook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добавим какао и измельчённое печенье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 marL="285840" indent="-285840" algn="just">
                        <a:buClr>
                          <a:srgbClr val="000000"/>
                        </a:buClr>
                        <a:buFont typeface="Century Schoolbook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тщательно перемешаем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 marL="285840" indent="-285840" algn="just">
                        <a:buClr>
                          <a:srgbClr val="000000"/>
                        </a:buClr>
                        <a:buFont typeface="Century Schoolbook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разделим полученную массу на равные части и скатаем в форме картофелин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 marL="285840" indent="-285840" algn="just">
                        <a:buClr>
                          <a:srgbClr val="000000"/>
                        </a:buClr>
                        <a:buFont typeface="Century Schoolbook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поставим пирожные в холодильни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7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Для чего мы будем учиться готовить пирожное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Это вкусное угощение мы можем быстро и самостоятельно приготовить к чаепитию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Заголовок 1" descr=""/>
          <p:cNvPicPr/>
          <p:nvPr/>
        </p:nvPicPr>
        <p:blipFill>
          <a:blip r:embed="rId1"/>
          <a:stretch/>
        </p:blipFill>
        <p:spPr>
          <a:xfrm>
            <a:off x="-6480" y="291960"/>
            <a:ext cx="9156960" cy="227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Заголовок 1" descr=""/>
          <p:cNvPicPr/>
          <p:nvPr/>
        </p:nvPicPr>
        <p:blipFill>
          <a:blip r:embed="rId1"/>
          <a:stretch/>
        </p:blipFill>
        <p:spPr>
          <a:xfrm>
            <a:off x="317520" y="182520"/>
            <a:ext cx="8582040" cy="878040"/>
          </a:xfrm>
          <a:prstGeom prst="rect">
            <a:avLst/>
          </a:prstGeom>
          <a:ln w="0">
            <a:noFill/>
          </a:ln>
        </p:spPr>
      </p:pic>
      <p:sp>
        <p:nvSpPr>
          <p:cNvPr id="364" name="PlaceHolder 1"/>
          <p:cNvSpPr>
            <a:spLocks noGrp="1"/>
          </p:cNvSpPr>
          <p:nvPr>
            <p:ph type="subTitle"/>
          </p:nvPr>
        </p:nvSpPr>
        <p:spPr>
          <a:xfrm>
            <a:off x="323640" y="1413000"/>
            <a:ext cx="828036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75f6d"/>
                </a:solidFill>
                <a:latin typeface="Century Schoolbook"/>
              </a:rPr>
              <a:t>изучить технологию приготовления пирожного «Картошка» и приготовить пирожное «Картошка»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5" name="Picture 3" descr="C:\Users\ФИЗИКА\Desktop\Открытый урок\119596000_1__.png"/>
          <p:cNvPicPr/>
          <p:nvPr/>
        </p:nvPicPr>
        <p:blipFill>
          <a:blip r:embed="rId2"/>
          <a:stretch/>
        </p:blipFill>
        <p:spPr>
          <a:xfrm>
            <a:off x="5886360" y="3075120"/>
            <a:ext cx="2890800" cy="330660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2" descr="Картинки по запросу пирожное картошка"/>
          <p:cNvPicPr/>
          <p:nvPr/>
        </p:nvPicPr>
        <p:blipFill>
          <a:blip r:embed="rId3"/>
          <a:srcRect l="0" t="0" r="0" b="4951"/>
          <a:stretch/>
        </p:blipFill>
        <p:spPr>
          <a:xfrm>
            <a:off x="324000" y="3236760"/>
            <a:ext cx="5715000" cy="36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7" name="Заголовок 1" descr=""/>
          <p:cNvPicPr/>
          <p:nvPr/>
        </p:nvPicPr>
        <p:blipFill>
          <a:blip r:embed="rId1"/>
          <a:stretch/>
        </p:blipFill>
        <p:spPr>
          <a:xfrm>
            <a:off x="-6480" y="-12600"/>
            <a:ext cx="9156960" cy="1287360"/>
          </a:xfrm>
          <a:prstGeom prst="rect">
            <a:avLst/>
          </a:prstGeom>
          <a:ln w="0">
            <a:noFill/>
          </a:ln>
        </p:spPr>
      </p:pic>
      <p:sp>
        <p:nvSpPr>
          <p:cNvPr id="368" name="TextBox 3"/>
          <p:cNvSpPr/>
          <p:nvPr/>
        </p:nvSpPr>
        <p:spPr>
          <a:xfrm>
            <a:off x="468360" y="1700280"/>
            <a:ext cx="82803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buClr>
                <a:srgbClr val="000000"/>
              </a:buClr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Вымыть руки, приготовить рабочее место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 algn="just">
              <a:buClr>
                <a:srgbClr val="000000"/>
              </a:buClr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Внимательно прочитать рецепт и убедиться, что есть все необходимые продукты для приготовления блюда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 algn="just">
              <a:buClr>
                <a:srgbClr val="000000"/>
              </a:buClr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Отмерить нужное количество продуктов для приготовления блюда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 algn="just">
              <a:buClr>
                <a:srgbClr val="000000"/>
              </a:buClr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Приготовить блюдо, соблюдая последовательность операций и правила техники безопасности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 algn="just">
              <a:buClr>
                <a:srgbClr val="000000"/>
              </a:buClr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Убрать рабочее место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Рисунок 5" descr="Ингредиенты"/>
          <p:cNvPicPr/>
          <p:nvPr/>
        </p:nvPicPr>
        <p:blipFill>
          <a:blip r:embed="rId1"/>
          <a:stretch/>
        </p:blipFill>
        <p:spPr>
          <a:xfrm>
            <a:off x="5319720" y="0"/>
            <a:ext cx="3581280" cy="388620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8" descr=""/>
          <p:cNvPicPr/>
          <p:nvPr/>
        </p:nvPicPr>
        <p:blipFill>
          <a:blip r:embed="rId2"/>
          <a:stretch/>
        </p:blipFill>
        <p:spPr>
          <a:xfrm>
            <a:off x="533520" y="457200"/>
            <a:ext cx="5333760" cy="1087560"/>
          </a:xfrm>
          <a:prstGeom prst="rect">
            <a:avLst/>
          </a:prstGeom>
          <a:ln w="0">
            <a:noFill/>
          </a:ln>
        </p:spPr>
      </p:pic>
      <p:sp>
        <p:nvSpPr>
          <p:cNvPr id="371" name="Прямоугольник 4"/>
          <p:cNvSpPr/>
          <p:nvPr/>
        </p:nvSpPr>
        <p:spPr>
          <a:xfrm>
            <a:off x="533520" y="4038480"/>
            <a:ext cx="6248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a3d01"/>
                </a:solidFill>
                <a:latin typeface="Comic Sans MS"/>
              </a:rPr>
              <a:t>•</a:t>
            </a:r>
            <a:r>
              <a:rPr b="0" lang="ru-RU" sz="1800" spc="-1" strike="noStrike">
                <a:solidFill>
                  <a:srgbClr val="9a3d01"/>
                </a:solidFill>
                <a:latin typeface="Comic Sans MS"/>
              </a:rPr>
              <a:t>	</a:t>
            </a:r>
            <a:r>
              <a:rPr b="0" lang="ru-RU" sz="2800" spc="-1" strike="noStrike">
                <a:solidFill>
                  <a:srgbClr val="9a3d01"/>
                </a:solidFill>
                <a:latin typeface="Comic Sans MS"/>
              </a:rPr>
              <a:t>Печенье– 700-800 г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a3d01"/>
                </a:solidFill>
                <a:latin typeface="Comic Sans MS"/>
              </a:rPr>
              <a:t>•</a:t>
            </a:r>
            <a:r>
              <a:rPr b="0" lang="ru-RU" sz="2800" spc="-1" strike="noStrike">
                <a:solidFill>
                  <a:srgbClr val="9a3d01"/>
                </a:solidFill>
                <a:latin typeface="Comic Sans MS"/>
              </a:rPr>
              <a:t>	</a:t>
            </a:r>
            <a:r>
              <a:rPr b="0" lang="ru-RU" sz="2800" spc="-1" strike="noStrike">
                <a:solidFill>
                  <a:srgbClr val="9a3d01"/>
                </a:solidFill>
                <a:latin typeface="Comic Sans MS"/>
              </a:rPr>
              <a:t>Сгущенка – 1 банка (380г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a3d01"/>
                </a:solidFill>
                <a:latin typeface="Comic Sans MS"/>
              </a:rPr>
              <a:t>•</a:t>
            </a:r>
            <a:r>
              <a:rPr b="0" lang="ru-RU" sz="2800" spc="-1" strike="noStrike">
                <a:solidFill>
                  <a:srgbClr val="9a3d01"/>
                </a:solidFill>
                <a:latin typeface="Comic Sans MS"/>
              </a:rPr>
              <a:t>	</a:t>
            </a:r>
            <a:r>
              <a:rPr b="0" lang="ru-RU" sz="2800" spc="-1" strike="noStrike">
                <a:solidFill>
                  <a:srgbClr val="9a3d01"/>
                </a:solidFill>
                <a:latin typeface="Comic Sans MS"/>
              </a:rPr>
              <a:t>Какао – 5-7 чайных ложек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a3d01"/>
                </a:solidFill>
                <a:latin typeface="Comic Sans MS"/>
              </a:rPr>
              <a:t>•</a:t>
            </a:r>
            <a:r>
              <a:rPr b="0" lang="ru-RU" sz="2800" spc="-1" strike="noStrike">
                <a:solidFill>
                  <a:srgbClr val="9a3d01"/>
                </a:solidFill>
                <a:latin typeface="Comic Sans MS"/>
              </a:rPr>
              <a:t>	</a:t>
            </a:r>
            <a:r>
              <a:rPr b="0" lang="ru-RU" sz="2800" spc="-1" strike="noStrike">
                <a:solidFill>
                  <a:srgbClr val="9a3d01"/>
                </a:solidFill>
                <a:latin typeface="Comic Sans MS"/>
              </a:rPr>
              <a:t>Сливочное масло – 180 г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Рисунок 4" descr="Пирожное Картошка - шаг 1"/>
          <p:cNvPicPr/>
          <p:nvPr/>
        </p:nvPicPr>
        <p:blipFill>
          <a:blip r:embed="rId1"/>
          <a:stretch/>
        </p:blipFill>
        <p:spPr>
          <a:xfrm>
            <a:off x="1447920" y="6480"/>
            <a:ext cx="5654520" cy="4800600"/>
          </a:xfrm>
          <a:prstGeom prst="rect">
            <a:avLst/>
          </a:prstGeom>
          <a:ln w="0">
            <a:noFill/>
          </a:ln>
        </p:spPr>
      </p:pic>
      <p:sp>
        <p:nvSpPr>
          <p:cNvPr id="373" name="Rectangle 8"/>
          <p:cNvSpPr/>
          <p:nvPr/>
        </p:nvSpPr>
        <p:spPr>
          <a:xfrm>
            <a:off x="460800" y="5119560"/>
            <a:ext cx="909612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80"/>
                </a:solidFill>
                <a:latin typeface="Century Schoolbook"/>
                <a:ea typeface="Times New Roman"/>
              </a:rPr>
              <a:t>Печенье перекрутить в мясорубке (если нет мясорубки,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80"/>
                </a:solidFill>
                <a:latin typeface="Century Schoolbook"/>
                <a:ea typeface="Times New Roman"/>
              </a:rPr>
              <a:t>можно положить печенье в пакет и потолочь его скалкой).</a:t>
            </a:r>
            <a:br>
              <a:rPr sz="1200"/>
            </a:br>
            <a:br>
              <a:rPr sz="1200"/>
            </a:b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СГУЩЕНКУ СМЕШАТЬ С РАЗМЯГЧЕННЫМ СЛИВОЧНЫМ МАСЛОМ.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6" name="Picture 2" descr=""/>
          <p:cNvPicPr/>
          <p:nvPr/>
        </p:nvPicPr>
        <p:blipFill>
          <a:blip r:embed="rId1"/>
          <a:stretch/>
        </p:blipFill>
        <p:spPr>
          <a:xfrm>
            <a:off x="2209680" y="1752480"/>
            <a:ext cx="449604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ДОБАВИТЬ КАКАО .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0" name="Рисунок 4" descr="Пирожное Картошка - шаг 3"/>
          <p:cNvPicPr/>
          <p:nvPr/>
        </p:nvPicPr>
        <p:blipFill>
          <a:blip r:embed="rId1"/>
          <a:stretch/>
        </p:blipFill>
        <p:spPr>
          <a:xfrm>
            <a:off x="2133720" y="1752480"/>
            <a:ext cx="518148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8080"/>
                </a:solidFill>
                <a:uFillTx/>
                <a:latin typeface="Times New Roman"/>
                <a:ea typeface="Times New Roman"/>
              </a:rPr>
              <a:t>ДОБАВИТЬ ПЕРЕМОЛОТОЕ ПЕЧЕНЬЕ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4" name="Рисунок 5" descr="Пирожное Картошка - шаг 4"/>
          <p:cNvPicPr/>
          <p:nvPr/>
        </p:nvPicPr>
        <p:blipFill>
          <a:blip r:embed="rId1"/>
          <a:stretch/>
        </p:blipFill>
        <p:spPr>
          <a:xfrm>
            <a:off x="2209680" y="1905120"/>
            <a:ext cx="464832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8080"/>
                </a:solidFill>
                <a:uFillTx/>
                <a:latin typeface="Times New Roman"/>
                <a:ea typeface="Times New Roman"/>
              </a:rPr>
              <a:t>ВСЕ ХОРОШЕНЬКО ПЕРЕМЕШАТЬ.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8" name="Рисунок 6" descr="Пирожное Картошка - шаг 5"/>
          <p:cNvPicPr/>
          <p:nvPr/>
        </p:nvPicPr>
        <p:blipFill>
          <a:blip r:embed="rId1"/>
          <a:stretch/>
        </p:blipFill>
        <p:spPr>
          <a:xfrm>
            <a:off x="1676520" y="1523880"/>
            <a:ext cx="548640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20T17:24:35Z</dcterms:created>
  <dc:creator>ФИЗИКА</dc:creator>
  <dc:description/>
  <dc:language>en-US</dc:language>
  <cp:lastModifiedBy>TreM</cp:lastModifiedBy>
  <dcterms:modified xsi:type="dcterms:W3CDTF">2017-02-09T11:17:45Z</dcterms:modified>
  <cp:revision>30</cp:revision>
  <dc:subject/>
  <dc:title>Кондитерская фабрика</dc:title>
</cp:coreProperties>
</file>