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7930-0340-4C97-B4A8-AF40AD58B3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62D0-3F5F-48D5-945F-973E65D2CC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C1B-D301-4D04-B925-67B9AE99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BF5-27F6-4A5B-B471-D988B18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982-1EAA-462A-93D1-C33BA431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181-47D8-46DB-8F6E-41FA9BA4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535E-F5A9-462E-803B-3DCA167D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56B9-AC49-4082-8F19-CFE66506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50AA-E7AF-4B98-9997-61452427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76C5-24A2-4114-A22C-DA4EEFF7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2114-D101-4C85-9E9A-47566042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0DD7-8144-4DF1-B3D7-DBFA0689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B118-6B1A-4788-A1A7-04A93DE5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AFD-7FC3-48D8-91E8-2F3453F8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5D0F-BE25-4895-84DF-4955783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7B27-8BAC-4FA0-B6C0-69A78E6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2236-E6D6-40DE-918A-B1B9E64D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46C8-6F75-4138-A4DD-58AE9EFE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8EA6-393E-4A56-AC5A-1B1B910C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8D9BA-464B-454E-BEC5-3057AA87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3CABA-E89D-4AC5-BDBF-F9B3C82B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3B062-2ABA-4EF1-91CE-6BCD4FBC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15D97-4889-4EC1-B28B-63194B07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8761C-CD99-47EE-8D52-C3D7BA4B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61A-22B2-462F-9B70-81FC6D57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85146-F905-4AE8-893C-D36AAE02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EBBBE-2472-498E-ADB3-BBEFEC2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3317D-7065-404F-8D57-F2977B71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28F79-EEAA-4DA3-9D5D-BE089D5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BAFEC-9514-452B-935C-B37C277A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25939-D70D-4756-BCBF-10F51072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ADAB0-2A2B-4851-BECA-B26D7D2B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764E0-99C9-46BD-A075-F8CD75A8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C9BBC-5A1A-4F24-9197-F423CBF8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35F7-E8EA-4CD3-9BB8-455528B3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0F0-C8B3-47F0-8C01-363B514F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9AF3-7467-4A9C-8B35-76C23825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9E4AD-C8D3-4FB0-887E-49D2BCEC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38FF-0315-44D7-82C6-13C88A20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B4FD-899E-403D-A575-C4E0616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0492B-5612-4ACD-92EE-500EC6C7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863BD-62F5-47BC-A0E9-2A4078C2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AF0FE-7CD6-430A-B351-D040404B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673B-8E9D-49DA-A712-10C5509D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402F-9536-46D9-855A-2C1A2265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CDC97-B534-4D78-9BF4-5B4735A3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AD1-B9EC-400E-8055-62841FF8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87D43-F7E4-452B-A47F-6D766DF8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B386D-A4B3-4716-AB97-B32C5C15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FC5C5-6530-4855-BD2B-3DFA6F25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949CF-6C64-4604-BA40-1FB5587A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7517D-0DA3-424E-932D-DF55E534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7E7AA-749F-49B6-83D1-AED2DA3B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24D5B-37C4-4BD4-90A4-FF7C05AE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6D6CB-BD76-4D94-B575-A190D8D2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05B53-7724-4C07-975A-BFF745D5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EB2AE-8E6A-4FA5-8A23-0638F436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803-62CD-4BFE-90BE-A7277498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361D1-F1E5-4435-AD92-4B027C5F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61ADC-5CDE-407C-A9BF-725DAF15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864DD-D3CE-4804-BF51-E92EAF90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44135-17B0-4CA8-8F19-58288416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9EF5F-7A1F-41BE-91E8-08C1DF5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EF60F-08FC-4F0D-BCA3-19BF3C27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076A0-FFF1-4DD0-99F4-3BC62E3A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B63B3-18AC-46BA-A6E9-77FB682F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61208-890C-40BE-AD01-6606F208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CA9C1-78D3-4D98-B80A-9151B057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88C-B3BD-4829-A089-C5F1D3F8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31E0F-261E-4DA6-A625-6FD15735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92286-85FE-4D66-B718-14482051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91E69-5997-4F68-B09A-553C7DCE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A0663-3BBD-40CB-898C-A63C087D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DB8D6-C2F3-41A4-A5BD-923F7941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EE5A5D-C1F1-4AC0-B914-8331164B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C5654-009E-4186-A87E-C79B7DA8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957A0-A100-4696-BC50-A6B6BA32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1843E-EE6D-4FA2-AC20-44EFCF52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8B882-5552-44C5-8DFF-7A4F8AAB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887-EFF8-48F0-945E-547C8B6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01B6B-D24E-4E6F-BE2E-D89E0CF1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0C968-D935-47D3-918D-D86871CD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B6F33-4967-4C92-ABBC-99D76AF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3766A-8893-4DED-8EB3-D427BB05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86A01-D646-45DC-A3D9-F9BC048A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53C-0FA6-46EE-8853-201BB37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CABA-1018-4115-8556-DFF8A47EA8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0A3D-730F-4D62-9BE9-FF59065473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3398-27F8-489F-A8AE-E2416E7550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5657-4DED-4F51-B3F5-D6360D5B5FC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2ABC-D080-4212-907B-70FC08C33A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2EA1-326F-4071-B15A-786B838E37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C542-9A33-41DD-A38E-664FD908E4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317520" y="109440"/>
            <a:ext cx="8582040" cy="18050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834920" y="260280"/>
            <a:ext cx="56372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Пирожное «Картошка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Users\ФИЗИКА\Desktop\Открытый урок\skazki-lindgren--karlson-kotoryi-zhivyot-na-kryshe.jpg"/>
          <p:cNvPicPr/>
          <p:nvPr/>
        </p:nvPicPr>
        <p:blipFill>
          <a:blip r:embed="rId2"/>
          <a:stretch/>
        </p:blipFill>
        <p:spPr>
          <a:xfrm>
            <a:off x="6770520" y="2997360"/>
            <a:ext cx="2481480" cy="248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C:\Users\ФИЗИКА\Desktop\Открытый урок\119596000_1__.png"/>
          <p:cNvPicPr/>
          <p:nvPr/>
        </p:nvPicPr>
        <p:blipFill>
          <a:blip r:embed="rId3"/>
          <a:stretch/>
        </p:blipFill>
        <p:spPr>
          <a:xfrm>
            <a:off x="106200" y="3716280"/>
            <a:ext cx="2449800" cy="2801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C:\Users\ФИЗИКА\Desktop\Открытый урок\030316-01.png"/>
          <p:cNvPicPr/>
          <p:nvPr/>
        </p:nvPicPr>
        <p:blipFill>
          <a:blip r:embed="rId4"/>
          <a:stretch/>
        </p:blipFill>
        <p:spPr>
          <a:xfrm>
            <a:off x="3203640" y="1913040"/>
            <a:ext cx="31924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ИЗ ПОЛУЧЕННОЙ ШОКОЛАДНОЙ МАССЫ РУКАМИ СФОРМИРОВАТЬ ПИРОЖНОЕ ФОРМЫ КАРТОШКИ. СЛАДОСТЬ МОЖНО ОБВАЛЯТЬ В СМЕСИ ИЗ САХАРНОЙ ПУДРЫ И КАКАО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Рисунок 5" descr="Пирожное Картошка - шаг 6"/>
          <p:cNvPicPr/>
          <p:nvPr/>
        </p:nvPicPr>
        <p:blipFill>
          <a:blip r:embed="rId1"/>
          <a:stretch/>
        </p:blipFill>
        <p:spPr>
          <a:xfrm>
            <a:off x="1905120" y="2652840"/>
            <a:ext cx="510516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Объект 4" descr="Мясо с ананасами на в духовке &quot; ВКУСНЫЕ РЕЦЕПТЫ 2014 С ФОТО. Вкусные рецепты с фотографиями на каждый день. Рецепты салатов, рец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-6480" y="36360"/>
            <a:ext cx="915696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0" y="836640"/>
          <a:ext cx="9140760" cy="6184800"/>
        </p:xfrm>
        <a:graphic>
          <a:graphicData uri="http://schemas.openxmlformats.org/drawingml/2006/table">
            <a:tbl>
              <a:tblPr/>
              <a:tblGrid>
                <a:gridCol w="938160"/>
                <a:gridCol w="2913120"/>
                <a:gridCol w="528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нализ изделия, 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мы будем готов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ой формы пирож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е ингредиенты и кухонные принадлежности нам понадобя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 мы будем работ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ми способами мы будем готов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8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мы будем делать сначала, а что - пото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ля чего мы будем учиться готовить пирож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-6480" y="36360"/>
            <a:ext cx="915696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0" y="836640"/>
          <a:ext cx="9140760" cy="6218280"/>
        </p:xfrm>
        <a:graphic>
          <a:graphicData uri="http://schemas.openxmlformats.org/drawingml/2006/table">
            <a:tbl>
              <a:tblPr/>
              <a:tblGrid>
                <a:gridCol w="938160"/>
                <a:gridCol w="2913120"/>
                <a:gridCol w="528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нализ изделия, 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мы будем готов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ирожное «Картош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ой формы пирож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долговато-округл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е ингредиенты и кухонные принадлежности нам понадобя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ченье, сгущённое молоко, сливочное масло, какао, миска, столовая и чайная ложки, плоская таре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 мы будем работ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груп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ми способами мы будем готов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змельчение, перемешивание ингредиентов, деление на ч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мы будем делать сначала, а что - пото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емешаем сгущенное молоко с масл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бавим какао и измельчённое печень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щательно перемешае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зделим полученную массу на равные части и скатаем в форме картофелин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ставим пирожные в холоди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ля чего мы будем учиться готовить пирож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то вкусное угощение мы можем быстро и самостоятельно приготовить к чаепит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-6480" y="291960"/>
            <a:ext cx="915696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582040" cy="8780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32364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изучить технологию приготовления пирожного «Картошка» и приготовить пирожное «Картошка»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3" descr="C:\Users\ФИЗИКА\Desktop\Открытый урок\119596000_1__.png"/>
          <p:cNvPicPr/>
          <p:nvPr/>
        </p:nvPicPr>
        <p:blipFill>
          <a:blip r:embed="rId2"/>
          <a:stretch/>
        </p:blipFill>
        <p:spPr>
          <a:xfrm>
            <a:off x="5886360" y="3075120"/>
            <a:ext cx="2890800" cy="3306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Картинки по запросу пирожное картошка"/>
          <p:cNvPicPr/>
          <p:nvPr/>
        </p:nvPicPr>
        <p:blipFill>
          <a:blip r:embed="rId3"/>
          <a:srcRect l="0" t="0" r="0" b="4951"/>
          <a:stretch/>
        </p:blipFill>
        <p:spPr>
          <a:xfrm>
            <a:off x="324000" y="3236760"/>
            <a:ext cx="5715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9156960" cy="12873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3"/>
          <p:cNvSpPr/>
          <p:nvPr/>
        </p:nvSpPr>
        <p:spPr>
          <a:xfrm>
            <a:off x="468360" y="170028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мыть руки, приготовить рабочее мест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нимательно прочитать рецепт и убедиться, что есть все необходимые продукты для приготовления блю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мерить нужное количество продуктов для приготовления блю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готовить блюдо, соблюдая последовательность операций и правила техники безопас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брать рабочее мест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5" descr="Ингредиенты"/>
          <p:cNvPicPr/>
          <p:nvPr/>
        </p:nvPicPr>
        <p:blipFill>
          <a:blip r:embed="rId1"/>
          <a:stretch/>
        </p:blipFill>
        <p:spPr>
          <a:xfrm>
            <a:off x="5319720" y="0"/>
            <a:ext cx="3581280" cy="3886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5333760" cy="108756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533520" y="4038480"/>
            <a:ext cx="624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d01"/>
                </a:solidFill>
                <a:latin typeface="Comic Sans MS"/>
              </a:rPr>
              <a:t>•</a:t>
            </a:r>
            <a:r>
              <a:rPr b="0" lang="ru-RU" sz="1800" spc="-1" strike="noStrike">
                <a:solidFill>
                  <a:srgbClr val="9a3d01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Печенье– 700-800 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Сгущенка – 1 банка (380г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Какао – 5-7 чайных лож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Сливочное масло – 180 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4" descr="Пирожное Картошка - шаг 1"/>
          <p:cNvPicPr/>
          <p:nvPr/>
        </p:nvPicPr>
        <p:blipFill>
          <a:blip r:embed="rId1"/>
          <a:stretch/>
        </p:blipFill>
        <p:spPr>
          <a:xfrm>
            <a:off x="1447920" y="6480"/>
            <a:ext cx="5654520" cy="48006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460800" y="5119560"/>
            <a:ext cx="9096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Century Schoolbook"/>
                <a:ea typeface="Times New Roman"/>
              </a:rPr>
              <a:t>Печенье перекрутить в мясорубке (если нет мясорубк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Century Schoolbook"/>
                <a:ea typeface="Times New Roman"/>
              </a:rPr>
              <a:t>можно положить печенье в пакет и потолочь его скалкой).</a:t>
            </a: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СГУЩЕНКУ СМЕШАТЬ С РАЗМЯГЧЕННЫМ СЛИВОЧНЫМ МАСЛОМ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496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ДОБАВИТЬ КАКАО 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Рисунок 4" descr="Пирожное Картошка - шаг 3"/>
          <p:cNvPicPr/>
          <p:nvPr/>
        </p:nvPicPr>
        <p:blipFill>
          <a:blip r:embed="rId1"/>
          <a:stretch/>
        </p:blipFill>
        <p:spPr>
          <a:xfrm>
            <a:off x="2133720" y="1752480"/>
            <a:ext cx="5181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ДОБАВИТЬ ПЕРЕМОЛОТОЕ ПЕЧЕНЬ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Рисунок 5" descr="Пирожное Картошка - шаг 4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ВСЕ ХОРОШЕНЬКО ПЕРЕМЕШАТЬ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Рисунок 6" descr="Пирожное Картошка - шаг 5"/>
          <p:cNvPicPr/>
          <p:nvPr/>
        </p:nvPicPr>
        <p:blipFill>
          <a:blip r:embed="rId1"/>
          <a:stretch/>
        </p:blipFill>
        <p:spPr>
          <a:xfrm>
            <a:off x="1676520" y="1523880"/>
            <a:ext cx="5486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0T17:24:35Z</dcterms:created>
  <dc:creator>ФИЗИКА</dc:creator>
  <dc:description/>
  <dc:language>en-US</dc:language>
  <cp:lastModifiedBy>TreM</cp:lastModifiedBy>
  <dcterms:modified xsi:type="dcterms:W3CDTF">2017-02-09T11:17:45Z</dcterms:modified>
  <cp:revision>30</cp:revision>
  <dc:subject/>
  <dc:title>Кондитерская фабрика</dc:title>
</cp:coreProperties>
</file>