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18A5-F601-4D20-ACF3-B4D340A9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D58-34C7-4EAD-8E6E-C6BFDE5F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0DC3-8F2F-4D7E-B33D-23740E82E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CB93-6E4C-41EB-933B-AAC51DFC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D50-8975-4A70-9914-282B214A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286C-27FC-4802-8DC9-2BB5DE6D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320F-8858-49D9-AACF-A2EBEDFE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676F-45B9-4088-BDF6-7C91F8EE1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C091-E0C6-4EFB-A48D-4BB51689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1ED-7BA1-4223-90C7-5F54582C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8A45-C904-44AD-97AB-75E30B7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BF13-D1AE-4745-A9E7-371F8D38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A7F5-87B1-43AA-8FAC-96F4C1AB59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3123720"/>
            <a:ext cx="792468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отдельных компонентов природы, населения и хозяйственной деятельности посёлка Горьковски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5120" y="44953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одгото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Кузнецов С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х"/>
          <p:cNvPicPr/>
          <p:nvPr/>
        </p:nvPicPr>
        <p:blipFill>
          <a:blip r:embed="rId1"/>
          <a:stretch/>
        </p:blipFill>
        <p:spPr>
          <a:xfrm>
            <a:off x="1295280" y="457200"/>
            <a:ext cx="38102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90720" y="22856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История Горьковского сельского Совета депутатов началась с марта 1949 года на базе зерносовхоза «Горьковский» основанного в 1931 году на территории немецкого поселения Марка Штад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Муниципальное образование Горьковского сельсовета Новоалександровского района Ставропольского края входит в состав Новоалександровского муниципального района Ставропольского края. Территорию поселения составляют исторически сложившиеся земли населенных пунктов поселка Горьковский, поселка Дружба, поселка Рассвет, поселка Заречный, прилегающие к ним земли общего пользования, рекреационные земли, земли для развития поселения, общая площадь муниципального образования Горьковского сельсовета составляет 18670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Фото-0020"/>
          <p:cNvPicPr/>
          <p:nvPr/>
        </p:nvPicPr>
        <p:blipFill>
          <a:blip r:embed="rId1"/>
          <a:stretch/>
        </p:blipFill>
        <p:spPr>
          <a:xfrm>
            <a:off x="6248520" y="457200"/>
            <a:ext cx="2286000" cy="1735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flag_"/>
          <p:cNvPicPr/>
          <p:nvPr/>
        </p:nvPicPr>
        <p:blipFill>
          <a:blip r:embed="rId2"/>
          <a:stretch/>
        </p:blipFill>
        <p:spPr>
          <a:xfrm>
            <a:off x="1295280" y="457200"/>
            <a:ext cx="144324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Фото-0021"/>
          <p:cNvPicPr/>
          <p:nvPr/>
        </p:nvPicPr>
        <p:blipFill>
          <a:blip r:embed="rId3"/>
          <a:stretch/>
        </p:blipFill>
        <p:spPr>
          <a:xfrm>
            <a:off x="3200400" y="457200"/>
            <a:ext cx="23623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CA3NZFKZ"/>
          <p:cNvPicPr/>
          <p:nvPr/>
        </p:nvPicPr>
        <p:blipFill>
          <a:blip r:embed="rId1"/>
          <a:stretch/>
        </p:blipFill>
        <p:spPr>
          <a:xfrm>
            <a:off x="1219320" y="3124080"/>
            <a:ext cx="2216160" cy="2895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1447920" y="533520"/>
            <a:ext cx="716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годовая  температу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9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а января- до 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 жаркое температура июля + 22; +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адков 531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47 дней- сильные ветры; скорость превышает 15 м/с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подствующие ветры- восточный, юга-  вост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imageCAL4K7GW"/>
          <p:cNvPicPr/>
          <p:nvPr/>
        </p:nvPicPr>
        <p:blipFill>
          <a:blip r:embed="rId2"/>
          <a:stretch/>
        </p:blipFill>
        <p:spPr>
          <a:xfrm>
            <a:off x="6400800" y="3124080"/>
            <a:ext cx="2378160" cy="294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SC02414"/>
          <p:cNvPicPr/>
          <p:nvPr/>
        </p:nvPicPr>
        <p:blipFill>
          <a:blip r:embed="rId3"/>
          <a:stretch/>
        </p:blipFill>
        <p:spPr>
          <a:xfrm>
            <a:off x="3581280" y="3657600"/>
            <a:ext cx="24386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24080" y="304560"/>
            <a:ext cx="5181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сёлок расположен в северо-западной части Новоалександровского района Ставропольского края. С северной части муниципальное образование граничит с Красногвардейским районом. На территории поселения имеются  пруды Горькая и Ладовская балка. Рельеф представляет собой волнистую равнину, природные ресурсы представлены плодородными почвами – черноземами с лесозащитными поло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age"/>
          <p:cNvPicPr/>
          <p:nvPr/>
        </p:nvPicPr>
        <p:blipFill>
          <a:blip r:embed="rId1"/>
          <a:stretch/>
        </p:blipFill>
        <p:spPr>
          <a:xfrm>
            <a:off x="990720" y="685800"/>
            <a:ext cx="231300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поле- зимой"/>
          <p:cNvPicPr/>
          <p:nvPr/>
        </p:nvPicPr>
        <p:blipFill>
          <a:blip r:embed="rId2"/>
          <a:stretch/>
        </p:blipFill>
        <p:spPr>
          <a:xfrm>
            <a:off x="1523880" y="3276720"/>
            <a:ext cx="2895840" cy="30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горьк"/>
          <p:cNvPicPr/>
          <p:nvPr/>
        </p:nvPicPr>
        <p:blipFill>
          <a:blip r:embed="rId3"/>
          <a:srcRect l="0" t="0" r="22227" b="0"/>
          <a:stretch/>
        </p:blipFill>
        <p:spPr>
          <a:xfrm>
            <a:off x="5257800" y="3324240"/>
            <a:ext cx="3352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еление муниципального образования Горьковского сельсовета составляет 2005 человек. На территории муниципального образования Горьковского сельсовета проживают граждане 10 национальностей, в этническом составе преобладают русские – 88%, цыгане – 3%, армяне – 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---190~1"/>
          <p:cNvPicPr/>
          <p:nvPr/>
        </p:nvPicPr>
        <p:blipFill>
          <a:blip r:embed="rId1"/>
          <a:srcRect l="16670" t="0" r="0" b="0"/>
          <a:stretch/>
        </p:blipFill>
        <p:spPr>
          <a:xfrm>
            <a:off x="4800600" y="3581280"/>
            <a:ext cx="3352680" cy="268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-1-131~1"/>
          <p:cNvPicPr/>
          <p:nvPr/>
        </p:nvPicPr>
        <p:blipFill>
          <a:blip r:embed="rId2"/>
          <a:stretch/>
        </p:blipFill>
        <p:spPr>
          <a:xfrm>
            <a:off x="914400" y="2514600"/>
            <a:ext cx="34290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114440" y="1219320"/>
            <a:ext cx="4800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отраслью народного хозяйства муниципального образования Горьковского сельсовета является сельское хозяйство и в первую очередь зерновое производство. Зерновым производством занимаются ООО «Битл», ОАО «Русь», крестьянско-фермерские хозяйства, владельцы земельных д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7rh3lf"/>
          <p:cNvPicPr/>
          <p:nvPr/>
        </p:nvPicPr>
        <p:blipFill>
          <a:blip r:embed="rId1"/>
          <a:stretch/>
        </p:blipFill>
        <p:spPr>
          <a:xfrm>
            <a:off x="1143000" y="609480"/>
            <a:ext cx="3048120" cy="237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gh706e"/>
          <p:cNvPicPr/>
          <p:nvPr/>
        </p:nvPicPr>
        <p:blipFill>
          <a:blip r:embed="rId2"/>
          <a:stretch/>
        </p:blipFill>
        <p:spPr>
          <a:xfrm>
            <a:off x="990720" y="3429000"/>
            <a:ext cx="3276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2514240"/>
            <a:ext cx="5105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рритории Горьковского зарегистрировано хуторское казачье общество. Имеются объекты социально-культурного – назначения: четыре сельских Домов культуры, три детских сада на 109 мест, средняя (на 241 место) начальная школа, врачебная амбулатория и три фельдшерско-акушерских пунктов торговое и бытовое обслуживание населения поселения осуществляет два магазина Горьковского потребительского общества и семь торговых точек частных предпринимателей. В поселке Горьковский имеется одна АТС, действует сотовая связь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CAODM3B2"/>
          <p:cNvPicPr/>
          <p:nvPr/>
        </p:nvPicPr>
        <p:blipFill>
          <a:blip r:embed="rId1"/>
          <a:stretch/>
        </p:blipFill>
        <p:spPr>
          <a:xfrm>
            <a:off x="6095880" y="533520"/>
            <a:ext cx="2324160" cy="316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мп2-119"/>
          <p:cNvPicPr/>
          <p:nvPr/>
        </p:nvPicPr>
        <p:blipFill>
          <a:blip r:embed="rId2"/>
          <a:stretch/>
        </p:blipFill>
        <p:spPr>
          <a:xfrm>
            <a:off x="1066680" y="609480"/>
            <a:ext cx="4267440" cy="169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DSC02417"/>
          <p:cNvPicPr/>
          <p:nvPr/>
        </p:nvPicPr>
        <p:blipFill>
          <a:blip r:embed="rId3"/>
          <a:stretch/>
        </p:blipFill>
        <p:spPr>
          <a:xfrm>
            <a:off x="5638680" y="38862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2 августа 2009 года в поселке Рассвет по благословению Высокопреосвященного Феофана, архиепископа Ставропольского и Владикавказского действует Храм  Святого пророка Божия Илии с храмом действует  Воскресная школа, библиотека и церковный 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SC_0009"/>
          <p:cNvPicPr/>
          <p:nvPr/>
        </p:nvPicPr>
        <p:blipFill>
          <a:blip r:embed="rId1"/>
          <a:stretch/>
        </p:blipFill>
        <p:spPr>
          <a:xfrm>
            <a:off x="2209680" y="3048120"/>
            <a:ext cx="50292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18:33:33Z</dcterms:created>
  <dc:creator>Aspire</dc:creator>
  <dc:description/>
  <dc:language>en-US</dc:language>
  <cp:lastModifiedBy>Ирина</cp:lastModifiedBy>
  <dcterms:modified xsi:type="dcterms:W3CDTF">2018-06-19T11:14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