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49EA-D437-4F52-9F12-E0A5A3677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1713-43E4-4CEF-A3C8-5597135A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46FD-8420-4E82-A142-B7793CA6A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DED2-FB45-4E2E-B8A0-8261BFBF6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1E74-A9B2-4F02-A9C2-C1F2EED78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7B7-38F1-466A-9917-0DA560527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CD3A-35C0-4FBF-A055-A713E948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D371-8AED-4BCD-B1AF-6046C5F7E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A9DC-90C9-4BB1-B831-D26DCA1E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BD9A-EA59-467F-A88F-5855B2F4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47B-EEC8-4493-9792-84CE2454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3AFE-44EA-44EE-8D01-E6F7BEE5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6D12-2009-4798-AC52-08039EDDA6E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3123720"/>
            <a:ext cx="7924680" cy="14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учение отдельных компонентов природы, населения и хозяйственной деятельности посёлка Горьковски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05120" y="44953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Подготови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Кузнецов Се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х"/>
          <p:cNvPicPr/>
          <p:nvPr/>
        </p:nvPicPr>
        <p:blipFill>
          <a:blip r:embed="rId1"/>
          <a:stretch/>
        </p:blipFill>
        <p:spPr>
          <a:xfrm>
            <a:off x="1295280" y="457200"/>
            <a:ext cx="38102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990720" y="22856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История Горьковского сельского Совета депутатов началась с марта 1949 года на базе зерносовхоза «Горьковский» основанного в 1931 году на территории немецкого поселения Марка Штад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         </a:t>
            </a:r>
            <a:r>
              <a:rPr b="0" i="1" lang="ru-RU" sz="1800" spc="-1" strike="noStrike">
                <a:solidFill>
                  <a:srgbClr val="000000"/>
                </a:solidFill>
                <a:latin typeface="Monotype Corsiva"/>
              </a:rPr>
              <a:t>Муниципальное образование Горьковского сельсовета Новоалександровского района Ставропольского края входит в состав Новоалександровского муниципального района Ставропольского края. Территорию поселения составляют исторически сложившиеся земли населенных пунктов поселка Горьковский, поселка Дружба, поселка Рассвет, поселка Заречный, прилегающие к ним земли общего пользования, рекреационные земли, земли для развития поселения, общая площадь муниципального образования Горьковского сельсовета составляет 18670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Фото-0020"/>
          <p:cNvPicPr/>
          <p:nvPr/>
        </p:nvPicPr>
        <p:blipFill>
          <a:blip r:embed="rId1"/>
          <a:stretch/>
        </p:blipFill>
        <p:spPr>
          <a:xfrm>
            <a:off x="6248520" y="457200"/>
            <a:ext cx="2286000" cy="17352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flag_"/>
          <p:cNvPicPr/>
          <p:nvPr/>
        </p:nvPicPr>
        <p:blipFill>
          <a:blip r:embed="rId2"/>
          <a:stretch/>
        </p:blipFill>
        <p:spPr>
          <a:xfrm>
            <a:off x="1295280" y="457200"/>
            <a:ext cx="1443240" cy="17524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Фото-0021"/>
          <p:cNvPicPr/>
          <p:nvPr/>
        </p:nvPicPr>
        <p:blipFill>
          <a:blip r:embed="rId3"/>
          <a:stretch/>
        </p:blipFill>
        <p:spPr>
          <a:xfrm>
            <a:off x="3200400" y="457200"/>
            <a:ext cx="236232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mageCA3NZFKZ"/>
          <p:cNvPicPr/>
          <p:nvPr/>
        </p:nvPicPr>
        <p:blipFill>
          <a:blip r:embed="rId1"/>
          <a:stretch/>
        </p:blipFill>
        <p:spPr>
          <a:xfrm>
            <a:off x="1219320" y="3124080"/>
            <a:ext cx="2216160" cy="2895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6"/>
          <p:cNvSpPr/>
          <p:nvPr/>
        </p:nvSpPr>
        <p:spPr>
          <a:xfrm>
            <a:off x="1447920" y="533520"/>
            <a:ext cx="7162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негодовая  температура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 9,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пература января- до 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то жаркое температура июля + 22; +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адков 531 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47 дней- сильные ветры; скорость превышает 15 м/с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подствующие ветры- восточный, юга-  восточ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imageCAL4K7GW"/>
          <p:cNvPicPr/>
          <p:nvPr/>
        </p:nvPicPr>
        <p:blipFill>
          <a:blip r:embed="rId2"/>
          <a:stretch/>
        </p:blipFill>
        <p:spPr>
          <a:xfrm>
            <a:off x="6400800" y="3124080"/>
            <a:ext cx="2378160" cy="2946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DSC02414"/>
          <p:cNvPicPr/>
          <p:nvPr/>
        </p:nvPicPr>
        <p:blipFill>
          <a:blip r:embed="rId3"/>
          <a:stretch/>
        </p:blipFill>
        <p:spPr>
          <a:xfrm>
            <a:off x="3581280" y="3657600"/>
            <a:ext cx="243864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124080" y="304560"/>
            <a:ext cx="51818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Посёлок расположен в северо-западной части Новоалександровского района Ставропольского края. С северной части муниципальное образование граничит с Красногвардейским районом. На территории поселения имеются  пруды Горькая и Ладовская балка. Рельеф представляет собой волнистую равнину, природные ресурсы представлены плодородными почвами – черноземами с лесозащитными полос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Monotype Corsiv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mage"/>
          <p:cNvPicPr/>
          <p:nvPr/>
        </p:nvPicPr>
        <p:blipFill>
          <a:blip r:embed="rId1"/>
          <a:stretch/>
        </p:blipFill>
        <p:spPr>
          <a:xfrm>
            <a:off x="990720" y="685800"/>
            <a:ext cx="2313000" cy="2362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поле- зимой"/>
          <p:cNvPicPr/>
          <p:nvPr/>
        </p:nvPicPr>
        <p:blipFill>
          <a:blip r:embed="rId2"/>
          <a:stretch/>
        </p:blipFill>
        <p:spPr>
          <a:xfrm>
            <a:off x="1523880" y="3276720"/>
            <a:ext cx="2895840" cy="30258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горьк"/>
          <p:cNvPicPr/>
          <p:nvPr/>
        </p:nvPicPr>
        <p:blipFill>
          <a:blip r:embed="rId3"/>
          <a:srcRect l="0" t="0" r="22227" b="0"/>
          <a:stretch/>
        </p:blipFill>
        <p:spPr>
          <a:xfrm>
            <a:off x="5257800" y="3324240"/>
            <a:ext cx="335268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010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селение муниципального образования Горьковского сельсовета составляет 2005 человек. На территории муниципального образования Горьковского сельсовета проживают граждане 10 национальностей, в этническом составе преобладают русские – 88%, цыгане – 3%, армяне – 2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---190~1"/>
          <p:cNvPicPr/>
          <p:nvPr/>
        </p:nvPicPr>
        <p:blipFill>
          <a:blip r:embed="rId1"/>
          <a:srcRect l="16670" t="0" r="0" b="0"/>
          <a:stretch/>
        </p:blipFill>
        <p:spPr>
          <a:xfrm>
            <a:off x="4800600" y="3581280"/>
            <a:ext cx="3352680" cy="268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-1-131~1"/>
          <p:cNvPicPr/>
          <p:nvPr/>
        </p:nvPicPr>
        <p:blipFill>
          <a:blip r:embed="rId2"/>
          <a:stretch/>
        </p:blipFill>
        <p:spPr>
          <a:xfrm>
            <a:off x="914400" y="2514600"/>
            <a:ext cx="342900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114440" y="1219320"/>
            <a:ext cx="4800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ой отраслью народного хозяйства муниципального образования Горьковского сельсовета является сельское хозяйство и в первую очередь зерновое производство. Зерновым производством занимаются ООО «Битл», ОАО «Русь», крестьянско-фермерские хозяйства, владельцы земельных до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7rh3lf"/>
          <p:cNvPicPr/>
          <p:nvPr/>
        </p:nvPicPr>
        <p:blipFill>
          <a:blip r:embed="rId1"/>
          <a:stretch/>
        </p:blipFill>
        <p:spPr>
          <a:xfrm>
            <a:off x="1143000" y="609480"/>
            <a:ext cx="3048120" cy="2373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gh706e"/>
          <p:cNvPicPr/>
          <p:nvPr/>
        </p:nvPicPr>
        <p:blipFill>
          <a:blip r:embed="rId2"/>
          <a:stretch/>
        </p:blipFill>
        <p:spPr>
          <a:xfrm>
            <a:off x="990720" y="3429000"/>
            <a:ext cx="32763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3160" y="2514240"/>
            <a:ext cx="51051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территории Горьковского зарегистрировано хуторское казачье общество. Имеются объекты социально-культурного – назначения: четыре сельских Домов культуры, три детских сада на 109 мест, средняя (на 241 место) начальная школа, врачебная амбулатория и три фельдшерско-акушерских пунктов торговое и бытовое обслуживание населения поселения осуществляет два магазина Горьковского потребительского общества и семь торговых точек частных предпринимателей. В поселке Горьковский имеется одна АТС, действует сотовая связь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imageCAODM3B2"/>
          <p:cNvPicPr/>
          <p:nvPr/>
        </p:nvPicPr>
        <p:blipFill>
          <a:blip r:embed="rId1"/>
          <a:stretch/>
        </p:blipFill>
        <p:spPr>
          <a:xfrm>
            <a:off x="6095880" y="533520"/>
            <a:ext cx="2324160" cy="31622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мп2-119"/>
          <p:cNvPicPr/>
          <p:nvPr/>
        </p:nvPicPr>
        <p:blipFill>
          <a:blip r:embed="rId2"/>
          <a:stretch/>
        </p:blipFill>
        <p:spPr>
          <a:xfrm>
            <a:off x="1066680" y="609480"/>
            <a:ext cx="4267440" cy="1695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DSC02417"/>
          <p:cNvPicPr/>
          <p:nvPr/>
        </p:nvPicPr>
        <p:blipFill>
          <a:blip r:embed="rId3"/>
          <a:stretch/>
        </p:blipFill>
        <p:spPr>
          <a:xfrm>
            <a:off x="5638680" y="3886200"/>
            <a:ext cx="320040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838080" y="6094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 2 августа 2009 года в поселке Рассвет по благословению Высокопреосвященного Феофана, архиепископа Ставропольского и Владикавказского действует Храм  Святого пророка Божия Илии с храмом действует  Воскресная школа, библиотека и церковный 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DSC_0009"/>
          <p:cNvPicPr/>
          <p:nvPr/>
        </p:nvPicPr>
        <p:blipFill>
          <a:blip r:embed="rId1"/>
          <a:stretch/>
        </p:blipFill>
        <p:spPr>
          <a:xfrm>
            <a:off x="2209680" y="3048120"/>
            <a:ext cx="50292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3T18:33:33Z</dcterms:created>
  <dc:creator>Aspire</dc:creator>
  <dc:description/>
  <dc:language>en-US</dc:language>
  <cp:lastModifiedBy>Ирина</cp:lastModifiedBy>
  <dcterms:modified xsi:type="dcterms:W3CDTF">2018-06-19T11:14:4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