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20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6C37-3933-4B6C-BD65-9403B3BFDB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6605-C215-42F1-80D6-CEB21E2739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A2CE-359E-44FA-8A54-5B3EF599FF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7F02-48C3-4472-8294-3C7424B19F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580A-BB81-4E02-88FD-928F9719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EB13-1F3C-4BEA-94BA-18F5BBB8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6529-7CA4-4351-AAE6-5D4EEB3D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3B36-E92D-46FE-A352-49E79748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30C6-66F8-48DE-AC58-0A70FB54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7A78-D355-465A-91A3-2F1D2C4E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16A4-9E21-4B55-8933-16585286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34A6-27E8-483B-8947-9272907E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A8BB-444B-49E2-8DB9-D843F0E5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B82E-2CEE-4BCE-8FD8-9047EC67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AB5D-DB50-4EA3-9921-92F470AC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AEBC-9F48-4836-A0F6-FFD2F759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091E-BA75-4F74-9974-33399EA2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9B2A-5448-4DF6-99EF-5B9F086E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FBED-D2E7-48C8-9A7B-C01A394C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AD57-C156-40A4-91C6-726AD7D6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5FA8-DAB9-4CD4-9170-2E8EF2D8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C5B0D8-59E8-4714-96FF-6547A35D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2C9B00-E23F-4D81-AE17-9CBF220F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6DACA3-5B7B-4392-B479-A5315482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478825-A97E-4CF4-85AB-28981A30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98B95D-504E-4803-984B-C340D425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44B0-C009-4BE4-A5C7-CCAE99DD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13CBF1-F8DE-4565-8DA5-10D2D32E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428213-A75F-40FB-ACC0-8C7F9E01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A5D272-781E-41ED-B7D6-E639039D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335BE3-8068-4FB9-92E8-00303C83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B5A35-A7E6-4EA6-9E77-A18D28BC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878784-E6F3-4B6C-AB30-B76EC8C4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A1695-8B8D-49CA-9E91-8BCC0C13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6A76C-6EEA-44E6-A006-74183797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D8EA1-2CE8-44F8-9E03-7BECA42D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BD34B-1B5B-4C42-BCEB-EB3B39CE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DA68-045A-4942-AECC-92974126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98873-C2CB-435D-A198-CAE87D8A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C5C3F-C029-4CE6-8622-58345AF9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D7A11-0256-4C39-9296-A0A608AB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299E1-021F-4229-ABBB-0737FD09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12979-1A8E-4197-A4AE-7A0A96C7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43304-D14A-4A01-8A72-FCA69196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934FB-D79C-4FBB-8A0C-B456A17F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ACC6E-0A66-49D3-9BC6-63ECB3B7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D1EC3-59E1-4D59-8535-7F6881697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B76C-D3D5-491C-A55F-690E8620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D4BB-D59A-4EDF-B86D-9CBD949F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ACE0-3646-486F-84D6-C26B9AC1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F02D-BD24-43FC-8F47-0DB1AE87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88DC-2B0F-4A54-A788-08DE9A1E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401D-C913-40CD-96D2-46DD7FFA0E30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5297-04B1-49FF-A4DD-55C9C5B94169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3566-FF94-4ECE-8930-06BF9684A4A6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4588-1FBC-41D5-A4C4-465E8A1BD754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avtoliteratura.ru/files/karty/RF%20197%20130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kazlar.ru/alboms/welli/02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tatic-p3.fotolia.com/jpg/00/05/51/82/400_F_5518222_OzPhFbb3uSJYipefiCqsTmJNP0NbOvNc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1"/>
          <p:cNvSpPr/>
          <p:nvPr/>
        </p:nvSpPr>
        <p:spPr>
          <a:xfrm>
            <a:off x="1258920" y="1268280"/>
            <a:ext cx="6626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В начале каждой новой деятельности легкие вещи кажутся трудными, но затем трудные вещи становятся легки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одо Шефе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Масштаб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88" name="Picture 5" descr="C:\Users\Дом\Desktop\kamaz4308.jpg"/>
          <p:cNvPicPr/>
          <p:nvPr/>
        </p:nvPicPr>
        <p:blipFill>
          <a:blip r:embed="rId1"/>
          <a:stretch/>
        </p:blipFill>
        <p:spPr>
          <a:xfrm>
            <a:off x="2287440" y="2673360"/>
            <a:ext cx="4286520" cy="2809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Масштаб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1:1000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1" name="Picture 2" descr="C:\Users\Дом\Desktop\s1869906.jpg"/>
          <p:cNvPicPr/>
          <p:nvPr/>
        </p:nvPicPr>
        <p:blipFill>
          <a:blip r:embed="rId1"/>
          <a:stretch/>
        </p:blipFill>
        <p:spPr>
          <a:xfrm>
            <a:off x="3132000" y="1773360"/>
            <a:ext cx="321948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Масштаб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042560" y="2323800"/>
            <a:ext cx="6777000" cy="3508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C:\Users\Дом\Desktop\57532623_20100312_214849.jpg"/>
          <p:cNvPicPr/>
          <p:nvPr/>
        </p:nvPicPr>
        <p:blipFill>
          <a:blip r:embed="rId2"/>
          <a:stretch/>
        </p:blipFill>
        <p:spPr>
          <a:xfrm>
            <a:off x="1187280" y="1585800"/>
            <a:ext cx="6840720" cy="4610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Масштаб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1042560" y="2323800"/>
            <a:ext cx="6777000" cy="35082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C:\Users\Дом\Desktop\10-85_1.jpg"/>
          <p:cNvPicPr/>
          <p:nvPr/>
        </p:nvPicPr>
        <p:blipFill>
          <a:blip r:embed="rId2"/>
          <a:stretch/>
        </p:blipFill>
        <p:spPr>
          <a:xfrm>
            <a:off x="5580000" y="1193760"/>
            <a:ext cx="3097440" cy="25923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C:\Users\Дом\Desktop\10-85_m.jpg"/>
          <p:cNvPicPr/>
          <p:nvPr/>
        </p:nvPicPr>
        <p:blipFill>
          <a:blip r:embed="rId3"/>
          <a:stretch/>
        </p:blipFill>
        <p:spPr>
          <a:xfrm>
            <a:off x="1692360" y="2489040"/>
            <a:ext cx="3168720" cy="2664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Определение масштаб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68360" y="2349000"/>
            <a:ext cx="81360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0070c0"/>
                </a:solidFill>
                <a:uFillTx/>
                <a:latin typeface="Century Gothic"/>
              </a:rPr>
              <a:t>Отношение длины отрезка на карте</a:t>
            </a:r>
            <a:endParaRPr b="0" lang="en-US" sz="5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0c0"/>
                </a:solidFill>
                <a:latin typeface="Century Gothic"/>
              </a:rPr>
              <a:t>к длине соответствующего отрезка на местности</a:t>
            </a:r>
            <a:endParaRPr b="0" lang="en-US" sz="5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0000"/>
              </a:solidFill>
              <a:latin typeface="Century Gothic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актическое применение масштаб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entury Gothic"/>
              </a:rPr>
              <a:t>Прочитайте масштаб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3" name="Picture 7" descr="Картинка 53 из 125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44920" y="2205000"/>
            <a:ext cx="5905440" cy="395928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4"/>
          <p:cNvSpPr/>
          <p:nvPr/>
        </p:nvSpPr>
        <p:spPr>
          <a:xfrm>
            <a:off x="684360" y="2349360"/>
            <a:ext cx="180000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: 10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: 2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:5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: 4 00000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5e7b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762120" y="68580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_FuturaOrtoRg"/>
              </a:rPr>
              <a:t>На карте        На мест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Picture 3" descr="PH01046J"/>
          <p:cNvPicPr/>
          <p:nvPr/>
        </p:nvPicPr>
        <p:blipFill>
          <a:blip r:embed="rId1"/>
          <a:stretch/>
        </p:blipFill>
        <p:spPr>
          <a:xfrm>
            <a:off x="3124080" y="3581280"/>
            <a:ext cx="2895840" cy="289584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5"/>
          <p:cNvSpPr/>
          <p:nvPr/>
        </p:nvSpPr>
        <p:spPr>
          <a:xfrm>
            <a:off x="762120" y="160020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914400" y="16765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см                        :               3 000 000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1143000" y="2590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 см                       :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3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3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0" name="Object 2"/>
              <p:cNvSpPr txBox="1"/>
              <p:nvPr/>
            </p:nvSpPr>
            <p:spPr>
              <a:xfrm>
                <a:off x="2819520" y="304920"/>
                <a:ext cx="259056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000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3"/>
              <p:cNvSpPr txBox="1"/>
              <p:nvPr/>
            </p:nvSpPr>
            <p:spPr>
              <a:xfrm>
                <a:off x="2819520" y="1600200"/>
                <a:ext cx="33526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000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5"/>
              <p:cNvSpPr txBox="1"/>
              <p:nvPr/>
            </p:nvSpPr>
            <p:spPr>
              <a:xfrm>
                <a:off x="2819520" y="2438280"/>
                <a:ext cx="335268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000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7"/>
              <p:cNvSpPr txBox="1"/>
              <p:nvPr/>
            </p:nvSpPr>
            <p:spPr>
              <a:xfrm>
                <a:off x="2819520" y="3886200"/>
                <a:ext cx="26668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00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Text Box 8"/>
          <p:cNvSpPr/>
          <p:nvPr/>
        </p:nvSpPr>
        <p:spPr>
          <a:xfrm>
            <a:off x="2743200" y="4724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 000 000 см = 60 000 м= 60 к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1066680" y="5562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Ответ: 60 к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3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entury Gothic"/>
              </a:rPr>
              <a:t>Виды задач. №1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Century Gothic"/>
              </a:rPr>
              <a:t>№1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468360" y="1600200"/>
          <a:ext cx="8351640" cy="2608200"/>
        </p:xfrm>
        <a:graphic>
          <a:graphicData uri="http://schemas.openxmlformats.org/drawingml/2006/table">
            <a:tbl>
              <a:tblPr/>
              <a:tblGrid>
                <a:gridCol w="1411200"/>
                <a:gridCol w="1330200"/>
                <a:gridCol w="2509920"/>
                <a:gridCol w="3100320"/>
              </a:tblGrid>
              <a:tr h="822240"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сстоя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сшта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ш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3880"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кар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с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2080"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ст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66"/>
                          </a:solidFill>
                          <a:latin typeface="Century Gothic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000 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18" name="Object 2"/>
              <p:cNvSpPr txBox="1"/>
              <p:nvPr/>
            </p:nvSpPr>
            <p:spPr>
              <a:xfrm>
                <a:off x="5724360" y="2708280"/>
                <a:ext cx="29530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9" name="TextBox 5"/>
          <p:cNvSpPr/>
          <p:nvPr/>
        </p:nvSpPr>
        <p:spPr>
          <a:xfrm>
            <a:off x="1403280" y="479736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х=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3∙1000000=3000000 см=30 к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a6300"/>
                </a:solidFill>
                <a:latin typeface="Times New Roman"/>
              </a:rPr>
              <a:t>Ответ:</a:t>
            </a:r>
            <a:r>
              <a:rPr b="1" lang="ru-RU" sz="3200" spc="-1" strike="noStrike">
                <a:solidFill>
                  <a:srgbClr val="4a6300"/>
                </a:solidFill>
                <a:latin typeface="Times New Roman"/>
              </a:rPr>
              <a:t> расстояние на мест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6300"/>
                </a:solidFill>
                <a:latin typeface="Times New Roman"/>
              </a:rPr>
              <a:t>               </a:t>
            </a:r>
            <a:r>
              <a:rPr b="1" lang="ru-RU" sz="3200" spc="-1" strike="noStrike">
                <a:solidFill>
                  <a:srgbClr val="4a6300"/>
                </a:solidFill>
                <a:latin typeface="Times New Roman"/>
              </a:rPr>
              <a:t>30 к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entury Gothic"/>
              </a:rPr>
              <a:t>Виды задач №2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Century Gothic"/>
              </a:rPr>
              <a:t>№2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395280" y="1052640"/>
          <a:ext cx="8137440" cy="3627360"/>
        </p:xfrm>
        <a:graphic>
          <a:graphicData uri="http://schemas.openxmlformats.org/drawingml/2006/table">
            <a:tbl>
              <a:tblPr/>
              <a:tblGrid>
                <a:gridCol w="990720"/>
                <a:gridCol w="1274760"/>
                <a:gridCol w="2050920"/>
                <a:gridCol w="3821040"/>
              </a:tblGrid>
              <a:tr h="1066680"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сстоя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сшта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ш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кар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66"/>
                          </a:solidFill>
                          <a:latin typeface="Century Gothic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2320"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ст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,5 к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 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22" name="Object 2"/>
              <p:cNvSpPr txBox="1"/>
              <p:nvPr/>
            </p:nvSpPr>
            <p:spPr>
              <a:xfrm>
                <a:off x="4859280" y="2565360"/>
                <a:ext cx="39607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0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3" name="TextBox 5"/>
          <p:cNvSpPr/>
          <p:nvPr/>
        </p:nvSpPr>
        <p:spPr>
          <a:xfrm>
            <a:off x="2124000" y="501336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х=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450 000:100 000=4,5 (см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1685a"/>
                </a:solidFill>
                <a:latin typeface="Times New Roman"/>
              </a:rPr>
              <a:t>Ответ: </a:t>
            </a:r>
            <a:r>
              <a:rPr b="1" lang="ru-RU" sz="3200" spc="-1" strike="noStrike">
                <a:solidFill>
                  <a:srgbClr val="71685a"/>
                </a:solidFill>
                <a:latin typeface="Times New Roman"/>
              </a:rPr>
              <a:t>расстояние на карте 4,5 с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entury Gothic"/>
              </a:rPr>
              <a:t>                 </a:t>
            </a:r>
            <a:r>
              <a:rPr b="1" lang="ru-RU" sz="4000" spc="-1" strike="noStrike">
                <a:solidFill>
                  <a:srgbClr val="0070c0"/>
                </a:solidFill>
                <a:latin typeface="Century Gothic"/>
              </a:rPr>
              <a:t>Устный счет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      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539640" y="1484280"/>
          <a:ext cx="8136000" cy="2952720"/>
        </p:xfrm>
        <a:graphic>
          <a:graphicData uri="http://schemas.openxmlformats.org/drawingml/2006/table">
            <a:tbl>
              <a:tblPr/>
              <a:tblGrid>
                <a:gridCol w="420840"/>
                <a:gridCol w="2193840"/>
                <a:gridCol w="2906640"/>
                <a:gridCol w="261468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lvl="2" marL="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но в с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ыразите в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ыразите в 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20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  <p:sp>
        <p:nvSpPr>
          <p:cNvPr id="346" name="TextBox 5"/>
          <p:cNvSpPr/>
          <p:nvPr/>
        </p:nvSpPr>
        <p:spPr>
          <a:xfrm>
            <a:off x="3419640" y="206064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d03b0"/>
                </a:solidFill>
                <a:latin typeface="Times New Roman"/>
              </a:rPr>
              <a:t>3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6"/>
          <p:cNvSpPr/>
          <p:nvPr/>
        </p:nvSpPr>
        <p:spPr>
          <a:xfrm>
            <a:off x="3419640" y="2708280"/>
            <a:ext cx="19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d03b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7"/>
          <p:cNvSpPr/>
          <p:nvPr/>
        </p:nvSpPr>
        <p:spPr>
          <a:xfrm>
            <a:off x="3492360" y="3284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d03b0"/>
                </a:solidFill>
                <a:latin typeface="Times New Roman"/>
              </a:rPr>
              <a:t>0,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Box 8"/>
          <p:cNvSpPr/>
          <p:nvPr/>
        </p:nvSpPr>
        <p:spPr>
          <a:xfrm>
            <a:off x="3492360" y="386064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d03b0"/>
                </a:solidFill>
                <a:latin typeface="Times New Roman"/>
              </a:rPr>
              <a:t>0,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Box 9"/>
          <p:cNvSpPr/>
          <p:nvPr/>
        </p:nvSpPr>
        <p:spPr>
          <a:xfrm>
            <a:off x="6697800" y="20574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32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Box 10"/>
          <p:cNvSpPr/>
          <p:nvPr/>
        </p:nvSpPr>
        <p:spPr>
          <a:xfrm>
            <a:off x="6875640" y="270828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Box 11"/>
          <p:cNvSpPr/>
          <p:nvPr/>
        </p:nvSpPr>
        <p:spPr>
          <a:xfrm>
            <a:off x="6804000" y="3284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3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Box 12"/>
          <p:cNvSpPr/>
          <p:nvPr/>
        </p:nvSpPr>
        <p:spPr>
          <a:xfrm>
            <a:off x="6875640" y="3860640"/>
            <a:ext cx="15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entury Gothic"/>
              </a:rPr>
              <a:t>Виды задач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Century Gothic"/>
              </a:rPr>
              <a:t>№3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684360" y="1600200"/>
          <a:ext cx="7991280" cy="3505320"/>
        </p:xfrm>
        <a:graphic>
          <a:graphicData uri="http://schemas.openxmlformats.org/drawingml/2006/table">
            <a:tbl>
              <a:tblPr/>
              <a:tblGrid>
                <a:gridCol w="1342800"/>
                <a:gridCol w="1208160"/>
                <a:gridCol w="1881360"/>
                <a:gridCol w="3558960"/>
              </a:tblGrid>
              <a:tr h="1122840">
                <a:tc>
                  <a:txBody>
                    <a:bodyPr lIns="119520" rIns="1195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ссто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сшта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ш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119520" rIns="1195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кар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,6 с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19520" rIns="1195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119520" rIns="1195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ст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2 к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9520" rIns="1195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66"/>
                          </a:solidFill>
                          <a:latin typeface="Century Gothic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9520" marR="119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26" name="Object 2"/>
              <p:cNvSpPr txBox="1"/>
              <p:nvPr/>
            </p:nvSpPr>
            <p:spPr>
              <a:xfrm>
                <a:off x="5219640" y="2708280"/>
                <a:ext cx="33847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,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200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7" name="TextBox 5"/>
          <p:cNvSpPr/>
          <p:nvPr/>
        </p:nvSpPr>
        <p:spPr>
          <a:xfrm>
            <a:off x="1547640" y="5084640"/>
            <a:ext cx="75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х=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7 200 000:3,6=2 000 0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Ответ: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масштаб карты 1:2 000 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6300"/>
                </a:solidFill>
                <a:latin typeface="Century Gothic"/>
              </a:rPr>
              <a:t>Решение задач по теме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042920" y="2313000"/>
            <a:ext cx="51847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e3d2d"/>
                </a:solidFill>
                <a:latin typeface="Century Gothic"/>
              </a:rPr>
              <a:t>Задача  №1 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Расстояние от опушки леса до точки пересечения дороги с рекой на карте равна 3 см. Масштаб карты 1:100000. Определите это расстояние на местности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803640" y="2313000"/>
            <a:ext cx="126036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00000"/>
                </a:solidFill>
                <a:latin typeface="Century Gothic"/>
              </a:rPr>
              <a:t>Заполни таблицу и реши задачу   </a:t>
            </a:r>
            <a:r>
              <a:rPr b="1" lang="ru-RU" sz="1600" spc="-1" strike="noStrike">
                <a:solidFill>
                  <a:srgbClr val="0d0d0d"/>
                </a:solidFill>
                <a:latin typeface="Century Gothic"/>
              </a:rPr>
              <a:t>Расстояние от опушки леса до точки пересечения дороги с рекой на карте равна 3 см. Масштаб карты 1:100000. Определите это расстояние на местности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395280" y="2060640"/>
          <a:ext cx="8209080" cy="2952720"/>
        </p:xfrm>
        <a:graphic>
          <a:graphicData uri="http://schemas.openxmlformats.org/drawingml/2006/table">
            <a:tbl>
              <a:tblPr/>
              <a:tblGrid>
                <a:gridCol w="2052720"/>
                <a:gridCol w="2052720"/>
                <a:gridCol w="2050920"/>
                <a:gridCol w="2052720"/>
              </a:tblGrid>
              <a:tr h="77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с-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сшта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ш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Century Gothic"/>
                        </a:rPr>
                        <a:t>На кар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entury Gothic"/>
                        </a:rPr>
                        <a:t>На мес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4" name="TextBox 6"/>
          <p:cNvSpPr/>
          <p:nvPr/>
        </p:nvSpPr>
        <p:spPr>
          <a:xfrm>
            <a:off x="2987640" y="2852640"/>
            <a:ext cx="107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3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Box 7"/>
          <p:cNvSpPr/>
          <p:nvPr/>
        </p:nvSpPr>
        <p:spPr>
          <a:xfrm>
            <a:off x="4716360" y="2852640"/>
            <a:ext cx="151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100 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2"/>
              <p:cNvSpPr txBox="1"/>
              <p:nvPr/>
            </p:nvSpPr>
            <p:spPr>
              <a:xfrm>
                <a:off x="6732720" y="2924280"/>
                <a:ext cx="18716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7" name="TextBox 9"/>
          <p:cNvSpPr/>
          <p:nvPr/>
        </p:nvSpPr>
        <p:spPr>
          <a:xfrm>
            <a:off x="2340000" y="50133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Ответ: 300 000см=3 к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Century Gothic"/>
              </a:rPr>
              <a:t>Задача №2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042920" y="2313000"/>
            <a:ext cx="58327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Длина железной дороги Москва-Санкт-Петербург равна 650 км. Изобразите эту дорогу, применив масштаб 1: 10000000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7667640" y="2313000"/>
            <a:ext cx="3967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b00000"/>
              </a:solidFill>
              <a:latin typeface="Century Gothic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24000" y="404280"/>
            <a:ext cx="822960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b0"/>
                </a:solidFill>
                <a:latin typeface="Century Gothic"/>
              </a:rPr>
              <a:t>Заполни таблицу и реши задач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Длина железной дороги Москва-Санкт-Петербург равна 650 км. Изобразите эту дорогу, применив масштаб 1: 10000000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395280" y="2276640"/>
          <a:ext cx="8209080" cy="2597040"/>
        </p:xfrm>
        <a:graphic>
          <a:graphicData uri="http://schemas.openxmlformats.org/drawingml/2006/table">
            <a:tbl>
              <a:tblPr/>
              <a:tblGrid>
                <a:gridCol w="1873080"/>
                <a:gridCol w="1511640"/>
                <a:gridCol w="1871640"/>
                <a:gridCol w="29527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сст-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сшта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ш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f0"/>
                          </a:solidFill>
                          <a:latin typeface="Century Gothic"/>
                        </a:rPr>
                        <a:t>На кар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entury Gothic"/>
                        </a:rPr>
                        <a:t>На мес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4" name="TextBox 5"/>
          <p:cNvSpPr/>
          <p:nvPr/>
        </p:nvSpPr>
        <p:spPr>
          <a:xfrm>
            <a:off x="2268360" y="2852640"/>
            <a:ext cx="1366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650 к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6"/>
          <p:cNvSpPr/>
          <p:nvPr/>
        </p:nvSpPr>
        <p:spPr>
          <a:xfrm>
            <a:off x="3780000" y="2781360"/>
            <a:ext cx="194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10 000 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2"/>
              <p:cNvSpPr txBox="1"/>
              <p:nvPr/>
            </p:nvSpPr>
            <p:spPr>
              <a:xfrm>
                <a:off x="5724360" y="3068640"/>
                <a:ext cx="28800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000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7" name="TextBox 8"/>
          <p:cNvSpPr/>
          <p:nvPr/>
        </p:nvSpPr>
        <p:spPr>
          <a:xfrm>
            <a:off x="2627280" y="51577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твет: 6,5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Century Gothic"/>
              </a:rPr>
              <a:t>Задача №3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042920" y="2313000"/>
            <a:ext cx="58327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entury Gothic"/>
              </a:rPr>
              <a:t>Отрезку на карте, длина которого 3,6 см соответствует расстояние на местности в 72 км. Каково расстояние между городами, если на этой карте расстояние между ними 12,6 см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380360" y="2313000"/>
            <a:ext cx="68400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d0d0d"/>
                </a:solidFill>
                <a:latin typeface="Century Gothic"/>
              </a:rPr>
              <a:t>Отрезку на карте, длина которого 3,6 см соответствует расстояние на местности в 72 км. Каково расстояние между городами, если на этой карте расстояние между ними 12,6 см?</a:t>
            </a:r>
            <a:br>
              <a:rPr sz="1600"/>
            </a:br>
            <a:endParaRPr b="0" lang="en-US" sz="1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0" y="1557360"/>
            <a:ext cx="8686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Заполни таблицу и реши задач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900000" y="1989000"/>
          <a:ext cx="7704360" cy="3835440"/>
        </p:xfrm>
        <a:graphic>
          <a:graphicData uri="http://schemas.openxmlformats.org/drawingml/2006/table">
            <a:tbl>
              <a:tblPr/>
              <a:tblGrid>
                <a:gridCol w="1925640"/>
                <a:gridCol w="1673280"/>
                <a:gridCol w="1657440"/>
                <a:gridCol w="244800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d03b0"/>
                          </a:solidFill>
                          <a:latin typeface="Century Gothic"/>
                        </a:rPr>
                        <a:t>Расст-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d03b0"/>
                          </a:solidFill>
                          <a:latin typeface="Century Gothic"/>
                        </a:rPr>
                        <a:t>Масшта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d03b0"/>
                          </a:solidFill>
                          <a:latin typeface="Century Gothic"/>
                        </a:rPr>
                        <a:t>Реш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f0"/>
                          </a:solidFill>
                          <a:latin typeface="Century Gothic"/>
                        </a:rPr>
                        <a:t>На кар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f0"/>
                          </a:solidFill>
                          <a:latin typeface="Century Gothic"/>
                        </a:rPr>
                        <a:t>На мес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entury Gothic"/>
                        </a:rPr>
                        <a:t>На кар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b050"/>
                          </a:solidFill>
                          <a:latin typeface="Century Gothic"/>
                        </a:rPr>
                        <a:t>На мес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4" name="TextBox 6"/>
          <p:cNvSpPr/>
          <p:nvPr/>
        </p:nvSpPr>
        <p:spPr>
          <a:xfrm>
            <a:off x="3132000" y="2620800"/>
            <a:ext cx="144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</a:rPr>
              <a:t>3,6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</a:rPr>
              <a:t>72 к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Box 7"/>
          <p:cNvSpPr/>
          <p:nvPr/>
        </p:nvSpPr>
        <p:spPr>
          <a:xfrm>
            <a:off x="4643280" y="2565360"/>
            <a:ext cx="13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2"/>
              <p:cNvSpPr txBox="1"/>
              <p:nvPr/>
            </p:nvSpPr>
            <p:spPr>
              <a:xfrm>
                <a:off x="6588000" y="2708280"/>
                <a:ext cx="2016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,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200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7" name="TextBox 9"/>
          <p:cNvSpPr/>
          <p:nvPr/>
        </p:nvSpPr>
        <p:spPr>
          <a:xfrm>
            <a:off x="6372360" y="342900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</a:rPr>
              <a:t>х=2 000 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Box 10"/>
          <p:cNvSpPr/>
          <p:nvPr/>
        </p:nvSpPr>
        <p:spPr>
          <a:xfrm>
            <a:off x="3132000" y="4005360"/>
            <a:ext cx="144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12,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Box 11"/>
          <p:cNvSpPr/>
          <p:nvPr/>
        </p:nvSpPr>
        <p:spPr>
          <a:xfrm>
            <a:off x="4500720" y="4005360"/>
            <a:ext cx="165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2 000 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6443640" y="4076640"/>
                <a:ext cx="21607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у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1" name="TextBox 13"/>
          <p:cNvSpPr/>
          <p:nvPr/>
        </p:nvSpPr>
        <p:spPr>
          <a:xfrm>
            <a:off x="6084720" y="5013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d03b0"/>
                </a:solidFill>
                <a:latin typeface="Times New Roman"/>
              </a:rPr>
              <a:t>у=25 200 000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Box 14"/>
          <p:cNvSpPr/>
          <p:nvPr/>
        </p:nvSpPr>
        <p:spPr>
          <a:xfrm>
            <a:off x="2987640" y="602136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d03b0"/>
                </a:solidFill>
                <a:latin typeface="Times New Roman"/>
              </a:rPr>
              <a:t>Ответ: 252 к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e187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3"/>
          <p:cNvSpPr/>
          <p:nvPr/>
        </p:nvSpPr>
        <p:spPr>
          <a:xfrm>
            <a:off x="304920" y="304920"/>
            <a:ext cx="3657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Задача для девоч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685a"/>
                </a:solidFill>
                <a:latin typeface="Times New Roman"/>
              </a:rPr>
              <a:t>Длина изделия на выкройке 75см. Вычислить масштаб чертежа, если на нём длина ночной сорочки будет равна 15см</a:t>
            </a:r>
            <a:r>
              <a:rPr b="0" lang="ru-RU" sz="2400" spc="-1" strike="noStrike">
                <a:solidFill>
                  <a:srgbClr val="71685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4419720" y="457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4876920" y="304920"/>
            <a:ext cx="3657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Задача для мальч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1685a"/>
                </a:solidFill>
                <a:latin typeface="Times New Roman"/>
              </a:rPr>
              <a:t>Длина детали 30мм. Какой использовали масштаб, если на чертеже длина детали 90м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6" descr="msotw9_temp0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04920" y="3352680"/>
            <a:ext cx="3352680" cy="28609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7" descr="msotw9_temp0"/>
          <p:cNvPicPr/>
          <p:nvPr/>
        </p:nvPicPr>
        <p:blipFill>
          <a:blip r:embed="rId2"/>
          <a:stretch/>
        </p:blipFill>
        <p:spPr>
          <a:xfrm>
            <a:off x="4267080" y="3529080"/>
            <a:ext cx="4648320" cy="2367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642960" y="500040"/>
            <a:ext cx="7315200" cy="39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_AlgeriusCaps"/>
              </a:rPr>
              <a:t>Задача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685a"/>
                </a:solidFill>
                <a:latin typeface="Times New Roman"/>
              </a:rPr>
              <a:t>Для получения 20,3г сульфата бария взяли 12,1г серной кислоты. Сколько сульфата бария получится, если взять 36,6г серной кислот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Picture 3" descr="j0076135"/>
          <p:cNvPicPr/>
          <p:nvPr/>
        </p:nvPicPr>
        <p:blipFill>
          <a:blip r:embed="rId2"/>
          <a:stretch/>
        </p:blipFill>
        <p:spPr>
          <a:xfrm>
            <a:off x="5486400" y="4267080"/>
            <a:ext cx="2778120" cy="2017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3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4c6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WordArt 2"/>
          <p:cNvSpPr txBox="1"/>
          <p:nvPr/>
        </p:nvSpPr>
        <p:spPr>
          <a:xfrm>
            <a:off x="1676520" y="457200"/>
            <a:ext cx="5715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Домашнее задание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471" name="Text Box 3"/>
          <p:cNvGrpSpPr/>
          <p:nvPr/>
        </p:nvGrpSpPr>
        <p:grpSpPr>
          <a:xfrm>
            <a:off x="628560" y="1712880"/>
            <a:ext cx="7766280" cy="4267080"/>
            <a:chOff x="628560" y="1712880"/>
            <a:chExt cx="7766280" cy="4267080"/>
          </a:xfrm>
        </p:grpSpPr>
        <p:pic>
          <p:nvPicPr>
            <p:cNvPr id="472" name="Text Box 3" descr=""/>
            <p:cNvPicPr/>
            <p:nvPr/>
          </p:nvPicPr>
          <p:blipFill>
            <a:blip r:embed="rId1"/>
            <a:stretch/>
          </p:blipFill>
          <p:spPr>
            <a:xfrm>
              <a:off x="628560" y="1712880"/>
              <a:ext cx="776628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Text Box 4"/>
            <p:cNvSpPr/>
            <p:nvPr/>
          </p:nvSpPr>
          <p:spPr>
            <a:xfrm>
              <a:off x="928800" y="1857240"/>
              <a:ext cx="7191360" cy="37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71685a"/>
                  </a:solidFill>
                  <a:uFillTx/>
                  <a:latin typeface="Times New Roman"/>
                </a:rPr>
                <a:t>Практическая работа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71685a"/>
                  </a:solidFill>
                  <a:latin typeface="Times New Roman"/>
                </a:rPr>
                <a:t>Измерить размеры комнаты, в которой ты живешь. Начертить план комнаты в масштабе 1 : 50. На плане показать расположение мебел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4" name="Picture 4" descr="BD05012_"/>
          <p:cNvPicPr/>
          <p:nvPr/>
        </p:nvPicPr>
        <p:blipFill>
          <a:blip r:embed="rId2"/>
          <a:stretch/>
        </p:blipFill>
        <p:spPr>
          <a:xfrm>
            <a:off x="6929280" y="5072040"/>
            <a:ext cx="1779840" cy="1555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Century Gothic"/>
              </a:rPr>
              <a:t>Разгадайте ребус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042560" y="2323800"/>
            <a:ext cx="6777000" cy="3508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1763640" y="1844640"/>
            <a:ext cx="4824360" cy="1962360"/>
          </a:xfrm>
          <a:prstGeom prst="rect">
            <a:avLst/>
          </a:prstGeom>
          <a:ln w="0">
            <a:noFill/>
          </a:ln>
        </p:spPr>
      </p:pic>
      <p:pic>
        <p:nvPicPr>
          <p:cNvPr id="357" name="Прямоугольник 4" descr=""/>
          <p:cNvPicPr/>
          <p:nvPr/>
        </p:nvPicPr>
        <p:blipFill>
          <a:blip r:embed="rId3"/>
          <a:stretch/>
        </p:blipFill>
        <p:spPr>
          <a:xfrm>
            <a:off x="2535120" y="3578400"/>
            <a:ext cx="4073760" cy="1536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WordArt 2"/>
          <p:cNvSpPr txBox="1"/>
          <p:nvPr/>
        </p:nvSpPr>
        <p:spPr>
          <a:xfrm>
            <a:off x="1371600" y="2133720"/>
            <a:ext cx="63244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«Масштаб»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9" name="WordArt 3"/>
          <p:cNvSpPr txBox="1"/>
          <p:nvPr/>
        </p:nvSpPr>
        <p:spPr>
          <a:xfrm>
            <a:off x="2057400" y="380880"/>
            <a:ext cx="5105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Тема урока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609480" y="5257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Group 7"/>
          <p:cNvGrpSpPr/>
          <p:nvPr/>
        </p:nvGrpSpPr>
        <p:grpSpPr>
          <a:xfrm>
            <a:off x="3048120" y="4495680"/>
            <a:ext cx="2209680" cy="2133720"/>
            <a:chOff x="3048120" y="4495680"/>
            <a:chExt cx="2209680" cy="2133720"/>
          </a:xfrm>
        </p:grpSpPr>
        <p:sp>
          <p:nvSpPr>
            <p:cNvPr id="362" name="AutoShape 6"/>
            <p:cNvSpPr/>
            <p:nvPr/>
          </p:nvSpPr>
          <p:spPr>
            <a:xfrm>
              <a:off x="3048120" y="4495680"/>
              <a:ext cx="2209680" cy="213372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3" name="Object 5"/>
                <p:cNvSpPr txBox="1"/>
                <p:nvPr/>
              </p:nvSpPr>
              <p:spPr>
                <a:xfrm>
                  <a:off x="3429000" y="4952880"/>
                  <a:ext cx="1599840" cy="133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a6300"/>
                </a:solidFill>
                <a:latin typeface="Century Gothic"/>
              </a:rPr>
              <a:t>Определим цели урока.</a:t>
            </a:r>
            <a:endParaRPr b="0" lang="en-US" sz="5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2080">
              <a:lnSpc>
                <a:spcPct val="9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e3d2d"/>
                </a:solidFill>
                <a:latin typeface="Century Gothic"/>
              </a:rPr>
              <a:t>1. Дать определение понятия масштаб с математической точки зрения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9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e3d2d"/>
                </a:solidFill>
                <a:latin typeface="Century Gothic"/>
              </a:rPr>
              <a:t>2. Определить область применения масштаба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e3d2d"/>
                </a:solidFill>
                <a:latin typeface="Century Gothic"/>
              </a:rPr>
              <a:t>3. Научиться решать различные задачи по теме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AutoShape 3"/>
          <p:cNvSpPr/>
          <p:nvPr/>
        </p:nvSpPr>
        <p:spPr>
          <a:xfrm>
            <a:off x="0" y="0"/>
            <a:ext cx="3733920" cy="198108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685a"/>
                </a:solidFill>
                <a:latin typeface="a_AlgeriusCapsNr"/>
              </a:rPr>
              <a:t>Хим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685a"/>
                </a:solidFill>
                <a:latin typeface="a_AlgeriusCapsNr"/>
              </a:rPr>
              <a:t>физ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4"/>
          <p:cNvSpPr/>
          <p:nvPr/>
        </p:nvSpPr>
        <p:spPr>
          <a:xfrm>
            <a:off x="5410080" y="260280"/>
            <a:ext cx="3733920" cy="198144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685a"/>
                </a:solidFill>
                <a:latin typeface="a_AlgeriusCapsNr"/>
              </a:rPr>
              <a:t>Биоло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685a"/>
                </a:solidFill>
                <a:latin typeface="a_AlgeriusCapsNr"/>
              </a:rPr>
              <a:t>Черч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52280" y="4419720"/>
            <a:ext cx="3733920" cy="198108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685a"/>
                </a:solidFill>
                <a:latin typeface="a_AlgeriusCapsNr"/>
              </a:rPr>
              <a:t>Техноло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5410080" y="4572000"/>
            <a:ext cx="3733920" cy="198108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685a"/>
                </a:solidFill>
                <a:latin typeface="a_AlgeriusCapsNr"/>
              </a:rPr>
              <a:t>Географ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685a"/>
                </a:solidFill>
                <a:latin typeface="a_AlgeriusCapsNr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1979640" y="2205000"/>
            <a:ext cx="4679640" cy="1981080"/>
            <a:chOff x="1979640" y="2205000"/>
            <a:chExt cx="4679640" cy="1981080"/>
          </a:xfrm>
        </p:grpSpPr>
        <p:sp>
          <p:nvSpPr>
            <p:cNvPr id="371" name="AutoShape 2"/>
            <p:cNvSpPr/>
            <p:nvPr/>
          </p:nvSpPr>
          <p:spPr>
            <a:xfrm>
              <a:off x="1979640" y="2205000"/>
              <a:ext cx="4679640" cy="1981080"/>
            </a:xfrm>
            <a:prstGeom prst="irregularSeal1">
              <a:avLst/>
            </a:prstGeom>
            <a:gradFill rotWithShape="0">
              <a:gsLst>
                <a:gs pos="0">
                  <a:srgbClr val="ecf7fb"/>
                </a:gs>
                <a:gs pos="100000">
                  <a:srgbClr val="c1e6f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Text Box 7"/>
            <p:cNvSpPr/>
            <p:nvPr/>
          </p:nvSpPr>
          <p:spPr>
            <a:xfrm>
              <a:off x="2932560" y="2844360"/>
              <a:ext cx="2686680" cy="1068840"/>
            </a:xfrm>
            <a:prstGeom prst="rect">
              <a:avLst/>
            </a:prstGeom>
            <a:gradFill rotWithShape="0">
              <a:gsLst>
                <a:gs pos="0">
                  <a:srgbClr val="ecf7fb"/>
                </a:gs>
                <a:gs pos="100000">
                  <a:srgbClr val="c1e6f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71685a"/>
                  </a:solidFill>
                  <a:latin typeface="a_AlgeriusCapsNr"/>
                </a:rPr>
                <a:t>Математик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Line 10"/>
          <p:cNvSpPr/>
          <p:nvPr/>
        </p:nvSpPr>
        <p:spPr>
          <a:xfrm flipH="1" flipV="1">
            <a:off x="2484360" y="1557000"/>
            <a:ext cx="935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1"/>
          <p:cNvSpPr/>
          <p:nvPr/>
        </p:nvSpPr>
        <p:spPr>
          <a:xfrm flipV="1">
            <a:off x="5292720" y="1773000"/>
            <a:ext cx="10796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2"/>
          <p:cNvSpPr/>
          <p:nvPr/>
        </p:nvSpPr>
        <p:spPr>
          <a:xfrm>
            <a:off x="5148360" y="3716280"/>
            <a:ext cx="151128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3"/>
          <p:cNvSpPr/>
          <p:nvPr/>
        </p:nvSpPr>
        <p:spPr>
          <a:xfrm flipH="1">
            <a:off x="2700000" y="3789360"/>
            <a:ext cx="863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Масштаб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актическое применени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9" name="Picture 4" descr="Картинка 61 из 43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1700280"/>
            <a:ext cx="3743280" cy="488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Масштаб. </a:t>
            </a:r>
            <a:br>
              <a:rPr sz="3600"/>
            </a:br>
            <a:r>
              <a:rPr b="1" lang="ru-RU" sz="3600" spc="-1" strike="noStrike">
                <a:solidFill>
                  <a:srgbClr val="4a6300"/>
                </a:solidFill>
                <a:latin typeface="Century Gothic"/>
              </a:rPr>
              <a:t>Модель клетки 1:2000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2" name="Picture 2" descr="C:\Users\Дом\Desktop\kletka.jpg"/>
          <p:cNvPicPr/>
          <p:nvPr/>
        </p:nvPicPr>
        <p:blipFill>
          <a:blip r:embed="rId1"/>
          <a:stretch/>
        </p:blipFill>
        <p:spPr>
          <a:xfrm>
            <a:off x="2195640" y="2095560"/>
            <a:ext cx="4897440" cy="4070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Масштаб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5" name="Picture 5" descr="Картинка 54 из 116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421000"/>
            <a:ext cx="4032360" cy="403236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5"/>
          <p:cNvSpPr/>
          <p:nvPr/>
        </p:nvSpPr>
        <p:spPr>
          <a:xfrm>
            <a:off x="1187280" y="2276640"/>
            <a:ext cx="302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одель атома в высоком масштабе увелич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6:58:03Z</dcterms:created>
  <dc:creator>server</dc:creator>
  <dc:description/>
  <dc:language>en-US</dc:language>
  <cp:lastModifiedBy>Влада</cp:lastModifiedBy>
  <dcterms:modified xsi:type="dcterms:W3CDTF">2018-06-18T17:12:35Z</dcterms:modified>
  <cp:revision>27</cp:revision>
  <dc:subject/>
  <dc:title>Презентация PowerPoint</dc:title>
</cp:coreProperties>
</file>