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20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1993-2809-4451-8C72-9E993CE1FB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27E5-D4BC-4AB0-B507-2D2C223102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87FD-8153-4B8E-90BF-63705C1A64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E0B-8DEA-48B6-BDAD-3FC0F3E5B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448-1580-40BC-BF18-D7397F57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AC7-3E46-43A2-B3D2-A3A9696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AB1-7871-4310-8B96-9978B71E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840-536A-4D50-8469-D209939F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2999-B1E8-45D1-A770-9C68D31A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38E-33B6-487F-A6DF-27FCDAA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EAD6-8349-4225-9F49-72C16F6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D7E5-9343-43FC-8993-321707C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5988-6B65-4C3E-9D7F-CD95738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8DF9-D7BE-43D3-9CEF-7CB7ED0E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535-1341-4FB3-AF33-4CB338A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37D-349F-4526-A294-2958BCD9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E014-185E-4AE6-B140-DCE8151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D1B6-65E0-4286-8E29-2D91EC3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A6D-F9F3-4679-A659-CBD0132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10E8-37DB-48D2-9137-86D8212D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F96-E089-4B1F-83AD-19ABFB0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B7204-19F0-47E9-93CC-7D5D05B4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DB110-31D5-4B7C-8FAC-14F1B5B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E26A5-5FD3-4F2B-8B84-B4AABAE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5820A-4E0F-442A-8148-DE6C9E4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41386-44DF-4D55-821D-82E1572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194-B13A-4F40-B7BB-F099C7F9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38231-5E23-4CF3-95BE-77A60FD4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FFB4A-3782-49D8-B5F3-F664D5F3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725B6-BA13-4AD7-8582-E8758D5A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53372-2292-4B28-AFA8-D2C33C33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6D87E-E2FE-4E18-92EA-E902D090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C9F6F-A554-486C-A532-6EFEA639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72E50-5E70-437C-8D2A-BF9491DF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B4B9-4789-4A44-A312-D4D4183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910F-7E36-443A-B18A-6C4A1544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CB9D-2A74-47C2-9F72-8783FED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021-FB97-41FE-81A7-9AEAD4A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6D06-D3DA-41E8-9A3E-B42E85B4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001B-B39C-41C2-8C3B-B1F61ABD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93D9-A489-4347-AF2C-D57384E1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72C1-7F7B-4B36-A2F0-EB9497D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8648-9D28-48A8-85AA-C07A7DA0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A535-DF1B-4E87-881B-ADABFB4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53FF-28D5-4886-AF58-8A825496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7168-8305-4724-8233-9FE349DE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52D8-8E4D-424B-B2C2-7E533B11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E04-DEAD-4696-BC59-2FD451D8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AED-9F04-4CA3-8E56-B9669497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961-3ED7-477E-9A88-64A4347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B59-CA31-4990-86A6-2CDE3D8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500-371D-4511-BBE1-E3939F7D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9F02-5CE8-4007-A2DD-771B661C0BF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A76C-F2A2-41D3-B865-F56A5C386195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67E-5A30-4FE6-928A-86D95C77035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D844-685A-4390-8CB4-06CB87513CD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vtoliteratura.ru/files/karty/RF%20197%2013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kazlar.ru/alboms/welli/02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-p3.fotolia.com/jpg/00/05/51/82/400_F_5518222_OzPhFbb3uSJYipefiCqsTmJNP0NbOvNc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1258920" y="126828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 начале каждой новой деятельности легкие вещи кажутся трудными, но затем трудные вещи становятся легки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одо Шеф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8" name="Picture 5" descr="C:\Users\Дом\Desktop\kamaz4308.jpg"/>
          <p:cNvPicPr/>
          <p:nvPr/>
        </p:nvPicPr>
        <p:blipFill>
          <a:blip r:embed="rId1"/>
          <a:stretch/>
        </p:blipFill>
        <p:spPr>
          <a:xfrm>
            <a:off x="2287440" y="2673360"/>
            <a:ext cx="428652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1:1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1" name="Picture 2" descr="C:\Users\Дом\Desktop\s1869906.jpg"/>
          <p:cNvPicPr/>
          <p:nvPr/>
        </p:nvPicPr>
        <p:blipFill>
          <a:blip r:embed="rId1"/>
          <a:stretch/>
        </p:blipFill>
        <p:spPr>
          <a:xfrm>
            <a:off x="3132000" y="1773360"/>
            <a:ext cx="321948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Дом\Desktop\57532623_20100312_214849.jpg"/>
          <p:cNvPicPr/>
          <p:nvPr/>
        </p:nvPicPr>
        <p:blipFill>
          <a:blip r:embed="rId2"/>
          <a:stretch/>
        </p:blipFill>
        <p:spPr>
          <a:xfrm>
            <a:off x="1187280" y="1585800"/>
            <a:ext cx="684072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Дом\Desktop\10-85_1.jpg"/>
          <p:cNvPicPr/>
          <p:nvPr/>
        </p:nvPicPr>
        <p:blipFill>
          <a:blip r:embed="rId2"/>
          <a:stretch/>
        </p:blipFill>
        <p:spPr>
          <a:xfrm>
            <a:off x="5580000" y="1193760"/>
            <a:ext cx="3097440" cy="259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Users\Дом\Desktop\10-85_m.jpg"/>
          <p:cNvPicPr/>
          <p:nvPr/>
        </p:nvPicPr>
        <p:blipFill>
          <a:blip r:embed="rId3"/>
          <a:stretch/>
        </p:blipFill>
        <p:spPr>
          <a:xfrm>
            <a:off x="1692360" y="24890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пределение масштаб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2349000"/>
            <a:ext cx="81360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70c0"/>
                </a:solidFill>
                <a:uFillTx/>
                <a:latin typeface="Century Gothic"/>
              </a:rPr>
              <a:t>Отношение длины отрезка на карте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entury Gothic"/>
              </a:rPr>
              <a:t>к длине соответствующего отрезка на местности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актическое применение масштаб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Прочитайте масштаб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7" descr="Картинка 53 из 125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4920" y="2205000"/>
            <a:ext cx="5905440" cy="39592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684360" y="2349360"/>
            <a:ext cx="1800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1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2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4 000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5e7b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762120" y="6858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FuturaOrtoRg"/>
              </a:rPr>
              <a:t>На карте        На ме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3" descr="PH01046J"/>
          <p:cNvPicPr/>
          <p:nvPr/>
        </p:nvPicPr>
        <p:blipFill>
          <a:blip r:embed="rId1"/>
          <a:stretch/>
        </p:blipFill>
        <p:spPr>
          <a:xfrm>
            <a:off x="3124080" y="35812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762120" y="16002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14400" y="1676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см                        :               3 000 00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143000" y="2590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см                       :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2819520" y="304920"/>
                <a:ext cx="25905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819520" y="1600200"/>
                <a:ext cx="33526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0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2819520" y="2438280"/>
                <a:ext cx="33526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00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2819520" y="3886200"/>
                <a:ext cx="266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Text Box 8"/>
          <p:cNvSpPr/>
          <p:nvPr/>
        </p:nvSpPr>
        <p:spPr>
          <a:xfrm>
            <a:off x="274320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 000 000 см = 60 000 м= 6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1066680" y="5562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твет: 60 к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3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иды задач. №1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№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8360" y="1600200"/>
          <a:ext cx="8351640" cy="2608200"/>
        </p:xfrm>
        <a:graphic>
          <a:graphicData uri="http://schemas.openxmlformats.org/drawingml/2006/table">
            <a:tbl>
              <a:tblPr/>
              <a:tblGrid>
                <a:gridCol w="1411200"/>
                <a:gridCol w="1330200"/>
                <a:gridCol w="2509920"/>
                <a:gridCol w="3100320"/>
              </a:tblGrid>
              <a:tr h="82224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66"/>
                          </a:solidFill>
                          <a:latin typeface="Century Gothic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000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5724360" y="2708280"/>
                <a:ext cx="2953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Box 5"/>
          <p:cNvSpPr/>
          <p:nvPr/>
        </p:nvSpPr>
        <p:spPr>
          <a:xfrm>
            <a:off x="1403280" y="4797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х=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∙1000000=3000000 см=3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6300"/>
                </a:solidFill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4a6300"/>
                </a:solidFill>
                <a:latin typeface="Times New Roman"/>
              </a:rPr>
              <a:t> расстояние на мес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63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4a6300"/>
                </a:solidFill>
                <a:latin typeface="Times New Roman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иды задач №2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№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95280" y="1052640"/>
          <a:ext cx="8137440" cy="3627360"/>
        </p:xfrm>
        <a:graphic>
          <a:graphicData uri="http://schemas.openxmlformats.org/drawingml/2006/table">
            <a:tbl>
              <a:tblPr/>
              <a:tblGrid>
                <a:gridCol w="990720"/>
                <a:gridCol w="1274760"/>
                <a:gridCol w="2050920"/>
                <a:gridCol w="3821040"/>
              </a:tblGrid>
              <a:tr h="10666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66"/>
                          </a:solidFill>
                          <a:latin typeface="Century Gothic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32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5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4859280" y="2565360"/>
                <a:ext cx="3960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3" name="TextBox 5"/>
          <p:cNvSpPr/>
          <p:nvPr/>
        </p:nvSpPr>
        <p:spPr>
          <a:xfrm>
            <a:off x="2124000" y="5013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х=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50 000:100 000=4,5 (с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685a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71685a"/>
                </a:solidFill>
                <a:latin typeface="Times New Roman"/>
              </a:rPr>
              <a:t>расстояние на карте 4,5 с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                 </a:t>
            </a: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Устный счет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9640" y="1484280"/>
          <a:ext cx="8136000" cy="2952720"/>
        </p:xfrm>
        <a:graphic>
          <a:graphicData uri="http://schemas.openxmlformats.org/drawingml/2006/table">
            <a:tbl>
              <a:tblPr/>
              <a:tblGrid>
                <a:gridCol w="420840"/>
                <a:gridCol w="2193840"/>
                <a:gridCol w="2906640"/>
                <a:gridCol w="26146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о в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разите в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разите в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346" name="TextBox 5"/>
          <p:cNvSpPr/>
          <p:nvPr/>
        </p:nvSpPr>
        <p:spPr>
          <a:xfrm>
            <a:off x="3419640" y="2060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3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419640" y="2708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492360" y="3284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492360" y="3860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0,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697800" y="205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3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6875640" y="2708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6804000" y="3284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3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6875640" y="3860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иды задач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№3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84360" y="1600200"/>
          <a:ext cx="7991280" cy="3505320"/>
        </p:xfrm>
        <a:graphic>
          <a:graphicData uri="http://schemas.openxmlformats.org/drawingml/2006/table">
            <a:tbl>
              <a:tblPr/>
              <a:tblGrid>
                <a:gridCol w="1342800"/>
                <a:gridCol w="1208160"/>
                <a:gridCol w="1881360"/>
                <a:gridCol w="3558960"/>
              </a:tblGrid>
              <a:tr h="1122840"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6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66"/>
                          </a:solidFill>
                          <a:latin typeface="Century Gothic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219640" y="2708280"/>
                <a:ext cx="3384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TextBox 5"/>
          <p:cNvSpPr/>
          <p:nvPr/>
        </p:nvSpPr>
        <p:spPr>
          <a:xfrm>
            <a:off x="1547640" y="508464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х=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7 200 000:3,6=2 000 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масштаб карты 1:2 000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6300"/>
                </a:solidFill>
                <a:latin typeface="Century Gothic"/>
              </a:rPr>
              <a:t>Решение задач по тем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42920" y="2313000"/>
            <a:ext cx="5184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Задача  №1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Расстояние от опушки леса до точки пересечения дороги с рекой на карте равна 3 см. Масштаб карты 1:100000. Определите это расстояние на местност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03640" y="2313000"/>
            <a:ext cx="126036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Century Gothic"/>
              </a:rPr>
              <a:t>Заполни таблицу и реши задачу   </a:t>
            </a:r>
            <a:r>
              <a:rPr b="1" lang="ru-RU" sz="1600" spc="-1" strike="noStrike">
                <a:solidFill>
                  <a:srgbClr val="0d0d0d"/>
                </a:solidFill>
                <a:latin typeface="Century Gothic"/>
              </a:rPr>
              <a:t>Расстояние от опушки леса до точки пересечения дороги с рекой на карте равна 3 см. Масштаб карты 1:100000. Определите это расстояние на местност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95280" y="2060640"/>
          <a:ext cx="8209080" cy="295272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77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6"/>
          <p:cNvSpPr/>
          <p:nvPr/>
        </p:nvSpPr>
        <p:spPr>
          <a:xfrm>
            <a:off x="2987640" y="2852640"/>
            <a:ext cx="10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716360" y="2852640"/>
            <a:ext cx="15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6732720" y="292428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TextBox 9"/>
          <p:cNvSpPr/>
          <p:nvPr/>
        </p:nvSpPr>
        <p:spPr>
          <a:xfrm>
            <a:off x="2340000" y="501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Ответ: 300 000см=3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entury Gothic"/>
              </a:rPr>
              <a:t>Задача №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920" y="2313000"/>
            <a:ext cx="5832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лина железной дороги Москва-Санкт-Петербург равна 650 км. Изобразите эту дорогу, применив масштаб 1: 10000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67640" y="2313000"/>
            <a:ext cx="396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00000"/>
              </a:solidFill>
              <a:latin typeface="Century Gothic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2400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b0"/>
                </a:solidFill>
                <a:latin typeface="Century Gothic"/>
              </a:rPr>
              <a:t>Заполни таблицу и реши задач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лина железной дороги Москва-Санкт-Петербург равна 650 км. Изобразите эту дорогу, применив масштаб 1: 10000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95280" y="2276640"/>
          <a:ext cx="8209080" cy="2597040"/>
        </p:xfrm>
        <a:graphic>
          <a:graphicData uri="http://schemas.openxmlformats.org/drawingml/2006/table">
            <a:tbl>
              <a:tblPr/>
              <a:tblGrid>
                <a:gridCol w="1873080"/>
                <a:gridCol w="1511640"/>
                <a:gridCol w="1871640"/>
                <a:gridCol w="2952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4" name="TextBox 5"/>
          <p:cNvSpPr/>
          <p:nvPr/>
        </p:nvSpPr>
        <p:spPr>
          <a:xfrm>
            <a:off x="2268360" y="2852640"/>
            <a:ext cx="136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65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3780000" y="2781360"/>
            <a:ext cx="194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0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5724360" y="3068640"/>
                <a:ext cx="2880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TextBox 8"/>
          <p:cNvSpPr/>
          <p:nvPr/>
        </p:nvSpPr>
        <p:spPr>
          <a:xfrm>
            <a:off x="2627280" y="5157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твет: 6,5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Gothic"/>
              </a:rPr>
              <a:t>Задача №3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920" y="2313000"/>
            <a:ext cx="5832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Отрезку на карте, длина которого 3,6 см соответствует расстояние на местности в 72 км. Каково расстояние между городами, если на этой карте расстояние между ними 12,6 см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380360" y="2313000"/>
            <a:ext cx="6840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Century Gothic"/>
              </a:rPr>
              <a:t>Отрезку на карте, длина которого 3,6 см соответствует расстояние на местности в 72 км. Каково расстояние между городами, если на этой карте расстояние между ними 12,6 см?</a:t>
            </a:r>
            <a:br>
              <a:rPr sz="16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155736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Заполни таблицу и реши задач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900000" y="1989000"/>
          <a:ext cx="7704360" cy="3835440"/>
        </p:xfrm>
        <a:graphic>
          <a:graphicData uri="http://schemas.openxmlformats.org/drawingml/2006/table">
            <a:tbl>
              <a:tblPr/>
              <a:tblGrid>
                <a:gridCol w="1925640"/>
                <a:gridCol w="1673280"/>
                <a:gridCol w="1657440"/>
                <a:gridCol w="24480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03b0"/>
                          </a:solidFill>
                          <a:latin typeface="Century Gothic"/>
                        </a:rPr>
                        <a:t>Расст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03b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03b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6"/>
          <p:cNvSpPr/>
          <p:nvPr/>
        </p:nvSpPr>
        <p:spPr>
          <a:xfrm>
            <a:off x="3132000" y="262080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3,6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72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7"/>
          <p:cNvSpPr/>
          <p:nvPr/>
        </p:nvSpPr>
        <p:spPr>
          <a:xfrm>
            <a:off x="4643280" y="2565360"/>
            <a:ext cx="13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588000" y="2708280"/>
                <a:ext cx="2016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TextBox 9"/>
          <p:cNvSpPr/>
          <p:nvPr/>
        </p:nvSpPr>
        <p:spPr>
          <a:xfrm>
            <a:off x="637236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х=2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0"/>
          <p:cNvSpPr/>
          <p:nvPr/>
        </p:nvSpPr>
        <p:spPr>
          <a:xfrm>
            <a:off x="3132000" y="400536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2,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4500720" y="400536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2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6443640" y="4076640"/>
                <a:ext cx="2160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Box 13"/>
          <p:cNvSpPr/>
          <p:nvPr/>
        </p:nvSpPr>
        <p:spPr>
          <a:xfrm>
            <a:off x="6084720" y="501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03b0"/>
                </a:solidFill>
                <a:latin typeface="Times New Roman"/>
              </a:rPr>
              <a:t>у=25 200 00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4"/>
          <p:cNvSpPr/>
          <p:nvPr/>
        </p:nvSpPr>
        <p:spPr>
          <a:xfrm>
            <a:off x="2987640" y="602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03b0"/>
                </a:solidFill>
                <a:latin typeface="Times New Roman"/>
              </a:rPr>
              <a:t>Ответ: 252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e18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304920" y="304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а для дев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685a"/>
                </a:solidFill>
                <a:latin typeface="Times New Roman"/>
              </a:rPr>
              <a:t>Длина изделия на выкройке 75см. Вычислить масштаб чертежа, если на нём длина ночной сорочки будет равна 15см</a:t>
            </a:r>
            <a:r>
              <a:rPr b="0" lang="ru-RU" sz="2400" spc="-1" strike="noStrike">
                <a:solidFill>
                  <a:srgbClr val="71685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419720" y="457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4876920" y="304920"/>
            <a:ext cx="3657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а для мальч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685a"/>
                </a:solidFill>
                <a:latin typeface="Times New Roman"/>
              </a:rPr>
              <a:t>Длина детали 30мм. Какой использовали масштаб, если на чертеже длина детали 90м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6" descr="msotw9_temp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3352680"/>
            <a:ext cx="3352680" cy="2860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msotw9_temp0"/>
          <p:cNvPicPr/>
          <p:nvPr/>
        </p:nvPicPr>
        <p:blipFill>
          <a:blip r:embed="rId2"/>
          <a:stretch/>
        </p:blipFill>
        <p:spPr>
          <a:xfrm>
            <a:off x="4267080" y="3529080"/>
            <a:ext cx="4648320" cy="2367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642960" y="500040"/>
            <a:ext cx="7315200" cy="39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AlgeriusCaps"/>
              </a:rPr>
              <a:t>Задач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Times New Roman"/>
              </a:rPr>
              <a:t>Для получения 20,3г сульфата бария взяли 12,1г серной кислоты. Сколько сульфата бария получится, если взять 36,6г серной кисло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3" descr="j0076135"/>
          <p:cNvPicPr/>
          <p:nvPr/>
        </p:nvPicPr>
        <p:blipFill>
          <a:blip r:embed="rId2"/>
          <a:stretch/>
        </p:blipFill>
        <p:spPr>
          <a:xfrm>
            <a:off x="5486400" y="4267080"/>
            <a:ext cx="277812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4c6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676520" y="4572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Домашнее зада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71" name="Text Box 3"/>
          <p:cNvGrpSpPr/>
          <p:nvPr/>
        </p:nvGrpSpPr>
        <p:grpSpPr>
          <a:xfrm>
            <a:off x="628560" y="1712880"/>
            <a:ext cx="7766280" cy="4267080"/>
            <a:chOff x="628560" y="1712880"/>
            <a:chExt cx="7766280" cy="4267080"/>
          </a:xfrm>
        </p:grpSpPr>
        <p:pic>
          <p:nvPicPr>
            <p:cNvPr id="472" name="Text Box 3" descr=""/>
            <p:cNvPicPr/>
            <p:nvPr/>
          </p:nvPicPr>
          <p:blipFill>
            <a:blip r:embed="rId1"/>
            <a:stretch/>
          </p:blipFill>
          <p:spPr>
            <a:xfrm>
              <a:off x="628560" y="1712880"/>
              <a:ext cx="77662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4"/>
            <p:cNvSpPr/>
            <p:nvPr/>
          </p:nvSpPr>
          <p:spPr>
            <a:xfrm>
              <a:off x="928800" y="1857240"/>
              <a:ext cx="7191360" cy="37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71685a"/>
                  </a:solidFill>
                  <a:uFillTx/>
                  <a:latin typeface="Times New Roman"/>
                </a:rPr>
                <a:t>Практическая работ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1685a"/>
                  </a:solidFill>
                  <a:latin typeface="Times New Roman"/>
                </a:rPr>
                <a:t>Измерить размеры комнаты, в которой ты живешь. Начертить план комнаты в масштабе 1 : 50. На плане показать расположение мебел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Picture 4" descr="BD05012_"/>
          <p:cNvPicPr/>
          <p:nvPr/>
        </p:nvPicPr>
        <p:blipFill>
          <a:blip r:embed="rId2"/>
          <a:stretch/>
        </p:blipFill>
        <p:spPr>
          <a:xfrm>
            <a:off x="6929280" y="5072040"/>
            <a:ext cx="1779840" cy="1555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Century Gothic"/>
              </a:rPr>
              <a:t>Разгадайте ребус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824360" cy="196236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4" descr=""/>
          <p:cNvPicPr/>
          <p:nvPr/>
        </p:nvPicPr>
        <p:blipFill>
          <a:blip r:embed="rId3"/>
          <a:stretch/>
        </p:blipFill>
        <p:spPr>
          <a:xfrm>
            <a:off x="2535120" y="3578400"/>
            <a:ext cx="4073760" cy="1536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2"/>
          <p:cNvSpPr txBox="1"/>
          <p:nvPr/>
        </p:nvSpPr>
        <p:spPr>
          <a:xfrm>
            <a:off x="1371600" y="2133720"/>
            <a:ext cx="6324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«Масштаб»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3"/>
          <p:cNvSpPr txBox="1"/>
          <p:nvPr/>
        </p:nvSpPr>
        <p:spPr>
          <a:xfrm>
            <a:off x="2057400" y="38088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Тема уро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9480" y="5257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3048120" y="4495680"/>
            <a:ext cx="2209680" cy="2133720"/>
            <a:chOff x="3048120" y="4495680"/>
            <a:chExt cx="2209680" cy="2133720"/>
          </a:xfrm>
        </p:grpSpPr>
        <p:sp>
          <p:nvSpPr>
            <p:cNvPr id="362" name="AutoShape 6"/>
            <p:cNvSpPr/>
            <p:nvPr/>
          </p:nvSpPr>
          <p:spPr>
            <a:xfrm>
              <a:off x="3048120" y="4495680"/>
              <a:ext cx="2209680" cy="21337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5"/>
                <p:cNvSpPr txBox="1"/>
                <p:nvPr/>
              </p:nvSpPr>
              <p:spPr>
                <a:xfrm>
                  <a:off x="3429000" y="4952880"/>
                  <a:ext cx="1599840" cy="13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a6300"/>
                </a:solidFill>
                <a:latin typeface="Century Gothic"/>
              </a:rPr>
              <a:t>Определим цели урока.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1. Дать определение понятия масштаб с математической точки зрения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2. Определить область применения масштаба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3. Научиться решать различные задачи по тем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3"/>
          <p:cNvSpPr/>
          <p:nvPr/>
        </p:nvSpPr>
        <p:spPr>
          <a:xfrm>
            <a:off x="0" y="0"/>
            <a:ext cx="3733920" cy="1981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Хим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5410080" y="260280"/>
            <a:ext cx="3733920" cy="19814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Чер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52280" y="4419720"/>
            <a:ext cx="3733920" cy="1981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5410080" y="4572000"/>
            <a:ext cx="3733920" cy="1981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1979640" y="2205000"/>
            <a:ext cx="4679640" cy="1981080"/>
            <a:chOff x="1979640" y="2205000"/>
            <a:chExt cx="4679640" cy="1981080"/>
          </a:xfrm>
        </p:grpSpPr>
        <p:sp>
          <p:nvSpPr>
            <p:cNvPr id="371" name="AutoShape 2"/>
            <p:cNvSpPr/>
            <p:nvPr/>
          </p:nvSpPr>
          <p:spPr>
            <a:xfrm>
              <a:off x="1979640" y="2205000"/>
              <a:ext cx="4679640" cy="1981080"/>
            </a:xfrm>
            <a:prstGeom prst="irregularSeal1">
              <a:avLst/>
            </a:prstGeom>
            <a:gradFill rotWithShape="0">
              <a:gsLst>
                <a:gs pos="0">
                  <a:srgbClr val="ecf7fb"/>
                </a:gs>
                <a:gs pos="100000">
                  <a:srgbClr val="c1e6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7"/>
            <p:cNvSpPr/>
            <p:nvPr/>
          </p:nvSpPr>
          <p:spPr>
            <a:xfrm>
              <a:off x="2932560" y="2844360"/>
              <a:ext cx="2686680" cy="1068840"/>
            </a:xfrm>
            <a:prstGeom prst="rect">
              <a:avLst/>
            </a:prstGeom>
            <a:gradFill rotWithShape="0">
              <a:gsLst>
                <a:gs pos="0">
                  <a:srgbClr val="ecf7fb"/>
                </a:gs>
                <a:gs pos="100000">
                  <a:srgbClr val="c1e6f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1685a"/>
                  </a:solidFill>
                  <a:latin typeface="a_AlgeriusCapsNr"/>
                </a:rPr>
                <a:t>Математик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10"/>
          <p:cNvSpPr/>
          <p:nvPr/>
        </p:nvSpPr>
        <p:spPr>
          <a:xfrm flipH="1" flipV="1">
            <a:off x="2484360" y="1557000"/>
            <a:ext cx="935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 flipV="1">
            <a:off x="5292720" y="1773000"/>
            <a:ext cx="1079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5148360" y="3716280"/>
            <a:ext cx="1511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2700000" y="3789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актическое примене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9" name="Picture 4" descr="Картинка 61 из 4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700280"/>
            <a:ext cx="3743280" cy="488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асштаб. </a:t>
            </a:r>
            <a:br>
              <a:rPr sz="3600"/>
            </a:br>
            <a:r>
              <a:rPr b="1" lang="ru-RU" sz="3600" spc="-1" strike="noStrike">
                <a:solidFill>
                  <a:srgbClr val="4a6300"/>
                </a:solidFill>
                <a:latin typeface="Century Gothic"/>
              </a:rPr>
              <a:t>Модель клетки 1:2000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2" name="Picture 2" descr="C:\Users\Дом\Desktop\kletka.jpg"/>
          <p:cNvPicPr/>
          <p:nvPr/>
        </p:nvPicPr>
        <p:blipFill>
          <a:blip r:embed="rId1"/>
          <a:stretch/>
        </p:blipFill>
        <p:spPr>
          <a:xfrm>
            <a:off x="2195640" y="2095560"/>
            <a:ext cx="4897440" cy="407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5" name="Picture 5" descr="Картинка 54 из 116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421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5"/>
          <p:cNvSpPr/>
          <p:nvPr/>
        </p:nvSpPr>
        <p:spPr>
          <a:xfrm>
            <a:off x="1187280" y="2276640"/>
            <a:ext cx="30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ль атома в высоком масштабе увели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58:03Z</dcterms:created>
  <dc:creator>server</dc:creator>
  <dc:description/>
  <dc:language>en-US</dc:language>
  <cp:lastModifiedBy>Влада</cp:lastModifiedBy>
  <dcterms:modified xsi:type="dcterms:W3CDTF">2018-06-18T17:12:35Z</dcterms:modified>
  <cp:revision>27</cp:revision>
  <dc:subject/>
  <dc:title>Презентация PowerPoint</dc:title>
</cp:coreProperties>
</file>