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023-A0B6-419A-A8A4-5F52A332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D1C-F6BE-467F-A07A-8CFDF372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270-7F1E-432D-A7FE-0C169F8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054-56C3-4654-8F82-B61453CE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E6D-0F0E-4A64-AFAE-7BF80229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D687-3068-44D3-808E-F50894D6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BC30-E1AB-4A20-A579-B38CE58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BD82-48E8-48B7-8F1C-8C448F1C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56A5-7FC2-40E8-BEE8-93731F9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72F6-3358-4A9C-9B4D-EF45B6D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E91A-D9FC-4776-A0D2-3EF1582D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A82-9A82-4705-B420-6153C119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64D-79E3-4CF6-B368-48947E56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461F-E2CB-40A2-9D5B-35EA75DA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A203-93F8-4F87-834F-D14F1874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B95-5274-46A0-B7E4-DA56AF84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35D9-1340-41B3-9427-59C7A204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686A-02E4-4762-9452-130AAB7D1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14F4-3728-4591-8130-F66B52E5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8868-DFC5-4D4D-9536-268203A7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3402-8C8A-4506-82F1-19AEA4B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E71C8-C479-4A84-9EF7-7CC94C87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61E7-931D-4862-A934-0BA4622B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16B6-0C0A-4D7B-A388-2F72027E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DE2C-CFDA-4D7F-95E0-E8942891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3CAF-94D0-4F0A-93D6-20A4B296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F36F2-E88A-4D65-A2E7-42D1433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07FF-A1D4-4559-A4EF-D06DE8C0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BED2-3279-4413-8D5E-A0326951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22EC-7551-4AEC-B770-7CD4B50B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EF3F-F20C-40A8-B1DF-CC7D9E30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FC3E-4862-40DD-9FA7-E8DBDDCA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52076-3F0E-4815-8D87-53BA225A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1A29-7492-4311-8AC3-F4C6E19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EF14-3962-46F4-ABB6-CF2EE3B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4F9AF-7583-4DE0-A385-FDF93EC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0826-994A-48F3-AE28-F5C39FB0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DCAA-8273-4126-82D7-44F52CA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5EC5-1B53-4089-871E-314B344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F50F-1421-4390-83ED-7D2CCD3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10F5B-8BD8-4256-8CAC-606A3B0D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3E0E-758A-41B4-9DCD-C29CE915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0BBB-77BC-4F23-BB5E-F53DF6F1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3A563-EB96-4337-A903-B7ED9E43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A797-B234-480B-BDD9-4A29EE8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FC4BC-34C9-45B4-B477-E332B451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4787-A732-49BE-817E-987B062E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4B9F9-B57E-4C8A-A237-0FC8CA4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4FA3E-7800-43D1-BAB9-497B54C4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BA7F-E954-44D6-8044-19430F76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143B-782B-4ECB-A47F-849C487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093A-CFD9-4B92-8843-3783F2E5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0A532-B545-4CEF-9D69-4E2F5ECF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3EA2-FE56-4074-98C4-92285FE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93D46-E98F-4E56-B4C3-696C35D0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538-7BEC-46BF-9094-A31DAB6C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ACFF9-7A9F-497A-81A6-427A7F30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6D0-FD16-4DD8-B140-82A5B54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E069-4471-4881-86CE-5D41DCCC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326-86D8-4234-9498-25EAD4F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23B-E81B-453C-9E8D-196B439E673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94C-2898-47B2-A7F5-02F0F69C21F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84C-61D6-46C0-A75B-E683B81C94C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682-DBA3-421A-B877-D5A124A50AB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5AA4-8582-4645-81D6-D5661558118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81723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853920" y="1731960"/>
            <a:ext cx="6967800" cy="183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867280" y="549000"/>
            <a:ext cx="2541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укреева Алё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еница 10 Б клас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Объект 3" descr=""/>
          <p:cNvPicPr/>
          <p:nvPr/>
        </p:nvPicPr>
        <p:blipFill>
          <a:blip r:embed="rId1"/>
          <a:stretch/>
        </p:blipFill>
        <p:spPr>
          <a:xfrm>
            <a:off x="4572000" y="0"/>
            <a:ext cx="4605480" cy="3500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572000" cy="33656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амо слово «Париж» произошло от латинского Civitas Parisiorium — город Паризии. Это было кельтское поселение Лютеция племени паризиев на месте современного острова Сит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которые историки, такие как Ригорд из Сен-Дени, связывают основание Парижа со временем захвата Трои, троянцы, которые затем эмигрировали, обосновались на берегах Сены, и назвали новый город именем Париж. Слово Parisia с древнегреческого переводится, как «дерзость», «смелость». Жиль Коррозе в «La Fleur des Antiquitéz de la plus que noble et triumphante ville et cité de Paris» («Цветок Античности из самых благородных и триумфных городов и городков Париж»), опубликованном в 1532 г., предполагал, что город назван в честь Изиды (Par Isis) — египетской богини, чья статуя находится в храме Сен-Жермен-де-П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23400"/>
            <a:ext cx="9028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Город был основан ещё в III веке до н. э. племенем кельтских галлов — паризии, как поселение Лютеция (от галльского «болото»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В 53 году до н. э. Гай Юлий Цезарь построил римское укрепление рядом с Лютецией. Городок первоначально располагался на островах, образуемых рукавами Сены, на месте современного острова Сите, занимая стратегическое положение на перекрестке русла водной артерии и маршрута пересечения этой водной преграды вброд. Первое письменное упоминание о Лютеции встречается в 6-й книге Юлия Цезаря о войне с Галлией в 53 г до н. э. Когда в 52 году до н. э. римляне после первой неудачной попытки во второй раз попытались подойти к городу, паризии подожгли Лютецию и разрушили мосты. Римляне оставили им остров и построили на левом берегу Сены новый город. Там они возвели термы, форум и амфитеатр. В этом же, 52 году до н. э. закончились военные столкновения между галлами и римлянами, и легионы Юлия Цезаря установили контроль над этой территорией. Вплоть до раннего средневековья город был региональным центром под римским начал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Во II веке н. э. на территории Франции появилось христианство, а в V веке н. э., после вторжения племени франков, закончилось владычество римлян. В 508 году н. э. франкский король Хлодвиг I присоединил Галлию к своему королевству и сделал Париж своей столиц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4760640" cy="1212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980640"/>
            <a:ext cx="4475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ород расположен в центре Парижского бассейна, примерно 65 м над уровнем моря. Границы Парижа очерчены бульваром Периферик -- кольцевой автострадой. Иногда к территории Парижа относят находящийся к западу от города Булонский лес и расположенный на востоке Венсенский лес. Площадь города составляет 105 кмІ, если включать площадь этих парков, и около 87 кмІ без них. Сена течет через город с востока на запад, на правом северном берегу доминирует холм Монмартр. На левом берегу доминирующей вертикалью является башня Монпарнас. В центре Парижа река распадается на рукава, омывающие два острова -- Сите и остров Сен-Луи. Ещё один остров, Лебединый, расположен в западной части город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арижский меридиан, который был определён в 1718 году Жаком Кассини и более точно измерен в 1806 французским физиком Араго, являлся до 1884 года нулевым меридианом на французских карта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7272360" cy="220500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6010200" cy="11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457200" y="2276640"/>
          <a:ext cx="7238880" cy="4389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личество ж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790 09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590 77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99 83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76 24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52 42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25 24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81 37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49 975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29 62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96 93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64 25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108400" y="0"/>
            <a:ext cx="4019760" cy="266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5108400" y="2658960"/>
            <a:ext cx="4029120" cy="41990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3"/>
          <a:stretch/>
        </p:blipFill>
        <p:spPr>
          <a:xfrm>
            <a:off x="6480" y="237960"/>
            <a:ext cx="5083200" cy="725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09080" y="944280"/>
            <a:ext cx="49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 аэропорта (Париж Руасси Шарль де Голль  и Париж Орли), развитая сеть метро  и 7 вокзалов (Аустрелиц, Берси, Северный вокзал, Восточный вокзал, Лионский вокзал, Монпарнас, Сен Лазар), откуда скоростные поезда позволят путешественникам за несколько часов добраться до Шампани, Бордо, Страсбурга, Ниццы, Марселя и других городов Франции и соседних европейских государств.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400 гостиниц (25 из которых специально строились для проведения масштабных конференций) в общей сложности на 76 000 мест. Разнообразное и сбалансированное предложение гостиничных услуг – от шикарных дворцов до небольших бюджетных гостиниц; от крупных сетевых до дизайнерских и самобытных отелей. Цена за номер в сутки составляет в среднем 50 евро (2000 рублей) в 2–3- звёздочных гостиницах, 100–150 евро (4000–6000 рублей) в 4- звёздочных и от 300 евро (12000 рублей) – в 5-звёздочных гостиница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 2020 года город рассчитывает увеличить количество гостиничных мест на 7000 единиц. Все крупные гостиничные бренды открывают отели или расширяют своё присутствие в Париже. Среди них Marriott, InterContinental, Pullmann, Ibis, Starwood, Novotel, Concorde, Radisson Blu, Raffles. В 2013 году ожидается открытие отеля Peninsula Paris на 200 номеров, первого отеля шикарной азиатской гостиничной сети. Отметим, что 36 % дохода гостиницам  Парижа приносят именно бизнес-туристы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76040" y="-36360"/>
            <a:ext cx="7456680" cy="858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6840" y="692280"/>
            <a:ext cx="5699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онечно, Париж – город большой, поэтому неприятности могут случить где угодно, но все же в некоторых районах лучше не селиться сознательно. В некоторых местах по-настоящему небезопасно, в некоторых – может быть просто неприятно возвращаться домой поздно вечером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апример, Монмартр – прекрасное место для утренних прогулок, но вот поздно ночью в узких переулках часто промышляют карманники. Особенно небезопасно около станции метро Barbes-Rochechouart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0-й округ Анкло-Сен-Лоран (вокруг Северного и Восточного вокзалов и канала Сен-Мартен) пользуется популярностью у искателей приключений, отправляющихся в местный квартал «красных фонарей», но к сожалению, приключений здесь можно заработать на свою голову не самых приятных. Зато жилье здесь по понятным причинам дешевое, много студенческих хостелов, так что если рискнете остановиться, будьте аккуратн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1-й округ, центром которого считается площадь Бастилии, – беспокойный, здесь каждый день до глубокой ночи играет музыка и гремят вечеринки, а в продаже гуляют наркотики. Особенно небезопасно вблизи станций Belleville и Couronn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3-й округ Гобелен – местный чайнатаун, где проживает много иммигрантов с Востока: китайцев, филиппинцев, малайцев, корейцев и вьетнамцев, все они довольно спокойны и безобидн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9-й округ Бют Шомон традиционно славится своей плохой репутацией, но в последнее время дела идут куда лучше, и вокруг парка Бют Шомон становится все более безопасно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20-й округ Менильмонтан, где расположено знаменитое кладбище Пер-Лашез, не отличается спокойствием, здесь, как и в 13-м округе, живет много иммигрантов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24000" y="14400"/>
            <a:ext cx="7704000" cy="67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3" descr=""/>
          <p:cNvPicPr/>
          <p:nvPr/>
        </p:nvPicPr>
        <p:blipFill>
          <a:blip r:embed="rId1"/>
          <a:stretch/>
        </p:blipFill>
        <p:spPr>
          <a:xfrm>
            <a:off x="6022800" y="0"/>
            <a:ext cx="3121200" cy="2106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" descr=""/>
          <p:cNvPicPr/>
          <p:nvPr/>
        </p:nvPicPr>
        <p:blipFill>
          <a:blip r:embed="rId2"/>
          <a:stretch/>
        </p:blipFill>
        <p:spPr>
          <a:xfrm>
            <a:off x="4784760" y="3957480"/>
            <a:ext cx="4356000" cy="2900520"/>
          </a:xfrm>
          <a:prstGeom prst="rect">
            <a:avLst/>
          </a:prstGeom>
          <a:ln w="0">
            <a:noFill/>
          </a:ln>
        </p:spPr>
      </p:pic>
      <p:pic>
        <p:nvPicPr>
          <p:cNvPr id="245" name="Заголовок 1" descr=""/>
          <p:cNvPicPr/>
          <p:nvPr/>
        </p:nvPicPr>
        <p:blipFill>
          <a:blip r:embed="rId3"/>
          <a:stretch/>
        </p:blipFill>
        <p:spPr>
          <a:xfrm>
            <a:off x="249120" y="73080"/>
            <a:ext cx="7462800" cy="1695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8360" y="1699920"/>
            <a:ext cx="3240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Триумфальная арк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Собор Парижской Богоматер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Эйфелева башн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Монмарт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Гранд-Опера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Дом инвалидо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Елисейские Пол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Латинский кварта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9. Лув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0. Люксембургский сад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1. Мост Александра II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2. Музей д’Орсэ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3. Музей Родена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4. Остров Сит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5. Пале-Роя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6. Пантеон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7. Площадь Соглас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5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2387520" cy="2713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6" descr=""/>
          <p:cNvPicPr/>
          <p:nvPr/>
        </p:nvPicPr>
        <p:blipFill>
          <a:blip r:embed="rId5"/>
          <a:stretch/>
        </p:blipFill>
        <p:spPr>
          <a:xfrm>
            <a:off x="6022800" y="2060640"/>
            <a:ext cx="311796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0:45:58Z</dcterms:created>
  <dc:creator>дети</dc:creator>
  <dc:description/>
  <dc:language>en-US</dc:language>
  <cp:lastModifiedBy>iMac-01</cp:lastModifiedBy>
  <dcterms:modified xsi:type="dcterms:W3CDTF">2018-06-19T09:34:23Z</dcterms:modified>
  <cp:revision>13</cp:revision>
  <dc:subject/>
  <dc:title>Презентация PowerPoint</dc:title>
</cp:coreProperties>
</file>