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png" ContentType="image/png"/>
  <Override PartName="/ppt/media/image27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3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25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D36-3A46-4BF6-BACA-9132ACD2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79CA-A306-4039-8993-EFB51932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BBF-100A-4876-A60C-9C830EBA6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FDD9-E445-4918-B080-1D81A5B5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1941-78BE-4921-BAC8-5021F1636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6262C-7F17-4A81-85AE-5B5E1288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2EFDA-00D3-4D7E-B283-26EC9E24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B785B-92F1-4EDF-8896-7BD5DF8C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25AB-114D-47EF-91F6-1DF742F9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86EE0-F8DD-4D0D-A5DF-F78D1AF3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ECA6-1DED-4828-9DA8-9F626804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6220-B272-4F6B-8527-7AEF6978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5E44-96F4-4F6C-B2BD-446DDD3C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22D20-3D29-4506-9ABE-AEAD7BFE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E0C5-270B-4614-9C53-352C13E4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82C5-9B86-4D3E-ABBF-C3EE8E22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803D-1577-4936-ACB9-BEFF6945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82A29-CC3C-45A9-9C44-E4FE6803D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BAEC-B012-44AE-828B-B7AE8AED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FF263-9D8A-408B-8A00-863E953C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D2CB9-188B-46A8-803B-9C3539992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1C3EE-BD72-4ADF-8BB2-6107A828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5B89-112E-49A2-99A5-1DE581CD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D2D3-74CB-42EC-B9A1-8FBAF7B5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3485-8501-478C-877E-461F26B3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96111-2F46-4202-BA35-BFE18729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63176-2B6F-4A2D-B515-A3E932B6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0923C-FC93-45CF-9E3A-5BDDC392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80958-08F3-478D-8068-FC626CCD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D3FCE-B0A3-42AD-BF11-2795E4EA2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D9A02-2EA5-4D82-9D29-719269F7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6A9BD-FF0D-4F3A-AEAB-2BDAAF32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0C884-E36D-4D26-9007-9835479D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5FE7-B5CD-41FB-B006-7A0482AB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A76E0-5A9C-4F77-AEE0-3E5A9101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BEDEB5-2A66-4DB2-8EC1-089559B2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D97F7-82B3-4AC2-9734-67858B18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46627-D540-487C-902A-4D52B02F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CD22E-CB0F-4F6A-9D2E-8DA1BB3B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AF686-7192-423F-A389-1DF44D14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6ECBB-F703-4A2C-B031-734BAB87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82A12-B064-425A-8842-61C9F307E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B6A56-1FA2-4BAA-8D75-AAEB14CD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DD041-1105-4532-BF84-F177FD36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515-7AC1-405D-8837-C2376F1D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DD908D-05DD-49B0-9372-9D89D6F3A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25C5B-2C0B-4D2D-84E4-AF2BC8A9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0D6DA-53AB-4FA9-A713-1261E2D8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B0585-A10D-4E05-A8BA-5F66F5C2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65645-54FB-4B10-9B16-50C3F583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AA99-6068-430E-9D9B-38850CA4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540BF-3BB7-40E5-AA43-A45CA3D1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49CD5-2C11-407B-B4DF-89D72B39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73200-2735-4142-891C-B3DE12D0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93F33-45B4-4AD3-BA28-8C14AE6F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016C-510B-4B0D-9EF7-21684747A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0E5DC-8802-4C2F-95A1-22898324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18C-B9FF-4F9B-8075-6EE46168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7B7-A001-4308-9B21-161B5B72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660D-5F2F-43A7-A1B5-AEB80FDA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A4DEE-46F4-4477-A343-8A4E2A2D3AE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CBD2-9444-4B65-95D4-8F17FED2EC33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28CFC-44BF-4834-ADC2-16C17434D04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8A30-AE4F-4757-8E30-C6D6BDF08846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191D-D391-456D-8756-C9EC624BD0E4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0" y="12600"/>
            <a:ext cx="8172360" cy="68580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1" descr=""/>
          <p:cNvPicPr/>
          <p:nvPr/>
        </p:nvPicPr>
        <p:blipFill>
          <a:blip r:embed="rId2"/>
          <a:stretch/>
        </p:blipFill>
        <p:spPr>
          <a:xfrm>
            <a:off x="853920" y="1731960"/>
            <a:ext cx="6967800" cy="18399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5867280" y="549000"/>
            <a:ext cx="254160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резентацию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Букреева Алён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Ученица 10 Б класса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Объект 3" descr=""/>
          <p:cNvPicPr/>
          <p:nvPr/>
        </p:nvPicPr>
        <p:blipFill>
          <a:blip r:embed="rId1"/>
          <a:stretch/>
        </p:blipFill>
        <p:spPr>
          <a:xfrm>
            <a:off x="4572000" y="0"/>
            <a:ext cx="4605480" cy="350028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3"/>
          <a:stretch/>
        </p:blipFill>
        <p:spPr>
          <a:xfrm>
            <a:off x="4572000" y="3500280"/>
            <a:ext cx="4572000" cy="33656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6" descr=""/>
          <p:cNvPicPr/>
          <p:nvPr/>
        </p:nvPicPr>
        <p:blipFill>
          <a:blip r:embed="rId4"/>
          <a:stretch/>
        </p:blipFill>
        <p:spPr>
          <a:xfrm>
            <a:off x="0" y="3500280"/>
            <a:ext cx="45720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Само слово «Париж» произошло от латинского Civitas Parisiorium — город Паризии. Это было кельтское поселение Лютеция племени паризиев на месте современного острова Сит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Некоторые историки, такие как Ригорд из Сен-Дени, связывают основание Парижа со временем захвата Трои, троянцы, которые затем эмигрировали, обосновались на берегах Сены, и назвали новый город именем Париж. Слово Parisia с древнегреческого переводится, как «дерзость», «смелость». Жиль Коррозе в «La Fleur des Antiquitéz de la plus que noble et triumphante ville et cité de Paris» («Цветок Античности из самых благородных и триумфных городов и городков Париж»), опубликованном в 1532 г., предполагал, что город назван в честь Изиды (Par Isis) — египетской богини, чья статуя находится в храме Сен-Жермен-де-Пр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tretch/>
        </p:blipFill>
        <p:spPr>
          <a:xfrm>
            <a:off x="-7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8000" y="23400"/>
            <a:ext cx="9028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</a:rPr>
              <a:t>Город был основан ещё в III веке до н. э. племенем кельтских галлов — паризии, как поселение Лютеция (от галльского «болото»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</a:rPr>
              <a:t>В 53 году до н. э. Гай Юлий Цезарь построил римское укрепление рядом с Лютецией. Городок первоначально располагался на островах, образуемых рукавами Сены, на месте современного острова Сите, занимая стратегическое положение на перекрестке русла водной артерии и маршрута пересечения этой водной преграды вброд. Первое письменное упоминание о Лютеции встречается в 6-й книге Юлия Цезаря о войне с Галлией в 53 г до н. э. Когда в 52 году до н. э. римляне после первой неудачной попытки во второй раз попытались подойти к городу, паризии подожгли Лютецию и разрушили мосты. Римляне оставили им остров и построили на левом берегу Сены новый город. Там они возвели термы, форум и амфитеатр. В этом же, 52 году до н. э. закончились военные столкновения между галлами и римлянами, и легионы Юлия Цезаря установили контроль над этой территорией. Вплоть до раннего средневековья город был региональным центром под римским началом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rebuchet MS"/>
              </a:rPr>
              <a:t>Во II веке н. э. на территории Франции появилось христианство, а в V веке н. э., после вторжения племени франков, закончилось владычество римлян. В 508 году н. э. франкский король Хлодвиг I присоединил Галлию к своему королевству и сделал Париж своей столицей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62080" y="-6480"/>
            <a:ext cx="4760640" cy="1212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6840" y="980640"/>
            <a:ext cx="44751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Город расположен в центре Парижского бассейна, примерно 65 м над уровнем моря. Границы Парижа очерчены бульваром Периферик -- кольцевой автострадой. Иногда к территории Парижа относят находящийся к западу от города Булонский лес и расположенный на востоке Венсенский лес. Площадь города составляет 105 кмІ, если включать площадь этих парков, и около 87 кмІ без них. Сена течет через город с востока на запад, на правом северном берегу доминирует холм Монмартр. На левом берегу доминирующей вертикалью является башня Монпарнас. В центре Парижа река распадается на рукава, омывающие два острова -- Сите и остров Сен-Луи. Ещё один остров, Лебединый, расположен в западной части город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Парижский меридиан, который был определён в 1718 году Жаком Кассини и более точно измерен в 1806 французским физиком Араго, являлся до 1884 года нулевым меридианом на французских картах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24000" y="0"/>
            <a:ext cx="7272360" cy="2205000"/>
          </a:xfrm>
          <a:prstGeom prst="rect">
            <a:avLst/>
          </a:prstGeom>
          <a:ln w="0">
            <a:noFill/>
          </a:ln>
        </p:spPr>
      </p:pic>
      <p:pic>
        <p:nvPicPr>
          <p:cNvPr id="232" name="Заголовок 1" descr=""/>
          <p:cNvPicPr/>
          <p:nvPr/>
        </p:nvPicPr>
        <p:blipFill>
          <a:blip r:embed="rId2"/>
          <a:stretch/>
        </p:blipFill>
        <p:spPr>
          <a:xfrm>
            <a:off x="3346560" y="146160"/>
            <a:ext cx="6010200" cy="11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457200" y="2276640"/>
          <a:ext cx="7238880" cy="4389120"/>
        </p:xfrm>
        <a:graphic>
          <a:graphicData uri="http://schemas.openxmlformats.org/drawingml/2006/table">
            <a:tbl>
              <a:tblPr/>
              <a:tblGrid>
                <a:gridCol w="3619440"/>
                <a:gridCol w="361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Количество жите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                   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г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83d6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790 09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590 77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299 830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76 243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52 423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25 246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81 37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249 975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229 62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96 936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e8e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 164 251 челов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ced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5108400" y="0"/>
            <a:ext cx="4019760" cy="26686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2"/>
          <a:stretch/>
        </p:blipFill>
        <p:spPr>
          <a:xfrm>
            <a:off x="5108400" y="2658960"/>
            <a:ext cx="4029120" cy="4199040"/>
          </a:xfrm>
          <a:prstGeom prst="rect">
            <a:avLst/>
          </a:prstGeom>
          <a:ln w="0">
            <a:noFill/>
          </a:ln>
        </p:spPr>
      </p:pic>
      <p:pic>
        <p:nvPicPr>
          <p:cNvPr id="236" name="Заголовок 1" descr=""/>
          <p:cNvPicPr/>
          <p:nvPr/>
        </p:nvPicPr>
        <p:blipFill>
          <a:blip r:embed="rId3"/>
          <a:stretch/>
        </p:blipFill>
        <p:spPr>
          <a:xfrm>
            <a:off x="6480" y="237960"/>
            <a:ext cx="5083200" cy="725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109080" y="944280"/>
            <a:ext cx="49690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 аэропорта (Париж Руасси Шарль де Голль  и Париж Орли), развитая сеть метро  и 7 вокзалов (Аустрелиц, Берси, Северный вокзал, Восточный вокзал, Лионский вокзал, Монпарнас, Сен Лазар), откуда скоростные поезда позволят путешественникам за несколько часов добраться до Шампани, Бордо, Страсбурга, Ниццы, Марселя и других городов Франции и соседних европейских государств. 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400 гостиниц (25 из которых специально строились для проведения масштабных конференций) в общей сложности на 76 000 мест. Разнообразное и сбалансированное предложение гостиничных услуг – от шикарных дворцов до небольших бюджетных гостиниц; от крупных сетевых до дизайнерских и самобытных отелей. Цена за номер в сутки составляет в среднем 50 евро (2000 рублей) в 2–3- звёздочных гостиницах, 100–150 евро (4000–6000 рублей) в 4- звёздочных и от 300 евро (12000 рублей) – в 5-звёздочных гостиницах.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До 2020 года город рассчитывает увеличить количество гостиничных мест на 7000 единиц. Все крупные гостиничные бренды открывают отели или расширяют своё присутствие в Париже. Среди них Marriott, InterContinental, Pullmann, Ibis, Starwood, Novotel, Concorde, Radisson Blu, Raffles. В 2013 году ожидается открытие отеля Peninsula Paris на 200 номеров, первого отеля шикарной азиатской гостиничной сети. Отметим, что 36 % дохода гостиницам  Парижа приносят именно бизнес-туристы. 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176040" y="-36360"/>
            <a:ext cx="7456680" cy="8586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6840" y="692280"/>
            <a:ext cx="569916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Конечно, Париж – город большой, поэтому неприятности могут случить где угодно, но все же в некоторых районах лучше не селиться сознательно. В некоторых местах по-настоящему небезопасно, в некоторых – может быть просто неприятно возвращаться домой поздно вечером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Например, Монмартр – прекрасное место для утренних прогулок, но вот поздно ночью в узких переулках часто промышляют карманники. Особенно небезопасно около станции метро Barbes-Rochechouart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10-й округ Анкло-Сен-Лоран (вокруг Северного и Восточного вокзалов и канала Сен-Мартен) пользуется популярностью у искателей приключений, отправляющихся в местный квартал «красных фонарей», но к сожалению, приключений здесь можно заработать на свою голову не самых приятных. Зато жилье здесь по понятным причинам дешевое, много студенческих хостелов, так что если рискнете остановиться, будьте аккуратны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11-й округ, центром которого считается площадь Бастилии, – беспокойный, здесь каждый день до глубокой ночи играет музыка и гремят вечеринки, а в продаже гуляют наркотики. Особенно небезопасно вблизи станций Belleville и Couronne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13-й округ Гобелен – местный чайнатаун, где проживает много иммигрантов с Востока: китайцев, филиппинцев, малайцев, корейцев и вьетнамцев, все они довольно спокойны и безобидны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19-й округ Бют Шомон традиционно славится своей плохой репутацией, но в последнее время дела идут куда лучше, и вокруг парка Бют Шомон становится все более безопасно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rebuchet MS"/>
              </a:rPr>
              <a:t>20-й округ Менильмонтан, где расположено знаменитое кладбище Пер-Лашез, не отличается спокойствием, здесь, как и в 13-м округе, живет много иммигрантов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324000" y="14400"/>
            <a:ext cx="7704000" cy="67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3" descr=""/>
          <p:cNvPicPr/>
          <p:nvPr/>
        </p:nvPicPr>
        <p:blipFill>
          <a:blip r:embed="rId1"/>
          <a:stretch/>
        </p:blipFill>
        <p:spPr>
          <a:xfrm>
            <a:off x="6022800" y="0"/>
            <a:ext cx="3121200" cy="210672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4" descr=""/>
          <p:cNvPicPr/>
          <p:nvPr/>
        </p:nvPicPr>
        <p:blipFill>
          <a:blip r:embed="rId2"/>
          <a:stretch/>
        </p:blipFill>
        <p:spPr>
          <a:xfrm>
            <a:off x="4784760" y="3957480"/>
            <a:ext cx="4356000" cy="2900520"/>
          </a:xfrm>
          <a:prstGeom prst="rect">
            <a:avLst/>
          </a:prstGeom>
          <a:ln w="0">
            <a:noFill/>
          </a:ln>
        </p:spPr>
      </p:pic>
      <p:pic>
        <p:nvPicPr>
          <p:cNvPr id="245" name="Заголовок 1" descr=""/>
          <p:cNvPicPr/>
          <p:nvPr/>
        </p:nvPicPr>
        <p:blipFill>
          <a:blip r:embed="rId3"/>
          <a:stretch/>
        </p:blipFill>
        <p:spPr>
          <a:xfrm>
            <a:off x="249120" y="73080"/>
            <a:ext cx="7462800" cy="16952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68360" y="1699920"/>
            <a:ext cx="324000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. Триумфальная арка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2. Собор Парижской Богоматери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3. Эйфелева башн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4. Монмарт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5. Гранд-Опера в Париж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6. Дом инвалидов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7. Елисейские Пол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8. Латинский квартал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9. Лувр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0. Люксембургский сад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1. Мост Александра III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2. Музей д’Орсэ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3. Музей Родена в Париж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4. Остров Сит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5. Пале-Рояль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6. Пантеон в Париже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17. Площадь Согласия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Рисунок 5" descr=""/>
          <p:cNvPicPr/>
          <p:nvPr/>
        </p:nvPicPr>
        <p:blipFill>
          <a:blip r:embed="rId4"/>
          <a:stretch/>
        </p:blipFill>
        <p:spPr>
          <a:xfrm>
            <a:off x="3635280" y="1268280"/>
            <a:ext cx="2387520" cy="271332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6" descr=""/>
          <p:cNvPicPr/>
          <p:nvPr/>
        </p:nvPicPr>
        <p:blipFill>
          <a:blip r:embed="rId5"/>
          <a:stretch/>
        </p:blipFill>
        <p:spPr>
          <a:xfrm>
            <a:off x="6022800" y="2060640"/>
            <a:ext cx="3117960" cy="18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1T10:45:58Z</dcterms:created>
  <dc:creator>дети</dc:creator>
  <dc:description/>
  <dc:language>en-US</dc:language>
  <cp:lastModifiedBy>iMac-01</cp:lastModifiedBy>
  <dcterms:modified xsi:type="dcterms:W3CDTF">2018-06-19T09:34:23Z</dcterms:modified>
  <cp:revision>13</cp:revision>
  <dc:subject/>
  <dc:title>Презентация PowerPoint</dc:title>
</cp:coreProperties>
</file>