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2A5-AE3B-4603-BA8F-69EF56C9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A6A-D9E5-46B6-9A68-36283FCE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E60-7E77-4A9F-9B4F-830F69DA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8EB-4091-465A-9F21-7EB7A09D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861-9D48-4BE2-9C0B-9246CDA1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80B-D30C-4DDF-91DC-AA454CF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8D0-56C9-4B38-8E5A-B37AD1FD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2C7-94E9-4AC4-AC67-A8563EE4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2A3-76CA-4D3E-B5BC-3DC693A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450-72FF-44C6-ADE4-EB0ABB2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739-31B6-4B21-87F2-FA6E300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B97-2862-4738-B0AD-B4A1041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19CE-8767-408A-9659-0E6D73685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9880" y="533160"/>
            <a:ext cx="5181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нцузск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вест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аконной осно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огооблож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хов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вестиционные фон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йд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bb.rusbic.ru/photo/usl/usl_115162_1.jpg"/>
          <p:cNvPicPr/>
          <p:nvPr/>
        </p:nvPicPr>
        <p:blipFill>
          <a:blip r:embed="rId1"/>
          <a:stretch/>
        </p:blipFill>
        <p:spPr>
          <a:xfrm>
            <a:off x="990720" y="2819520"/>
            <a:ext cx="240012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G:\финансы\финансы\3-117.jpg"/>
          <p:cNvPicPr/>
          <p:nvPr/>
        </p:nvPicPr>
        <p:blipFill>
          <a:blip r:embed="rId2"/>
          <a:stretch/>
        </p:blipFill>
        <p:spPr>
          <a:xfrm>
            <a:off x="6172200" y="4724280"/>
            <a:ext cx="2209680" cy="156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G:\финансы\финансы\10628fb81cce5d215fc8ae5541cc6082.jpg"/>
          <p:cNvPicPr/>
          <p:nvPr/>
        </p:nvPicPr>
        <p:blipFill>
          <a:blip r:embed="rId3"/>
          <a:stretch/>
        </p:blipFill>
        <p:spPr>
          <a:xfrm>
            <a:off x="914400" y="609480"/>
            <a:ext cx="2460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можно включить в понятие финансовая грамот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5534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нансовую грамотность можно определить как способность принимать обоснованные решения и совершать эффективные действия в сферах, имеющих отношение к управлению финансами, для реализации жизненных целей и планов в текущий момент и будущие пери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нансовая грамотность включает способность вести учет всех поступлений и расходов, умение распоряжаться денежными ресурсами, планировать будущее, делать выбор финансовых инструментов, создавать сбережения, чтобы обеспечить будущее и быть готовыми к нежелательным ситуациям, включая потерю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нансовая грамотность — сложная сфера, предполагающая понимание ключевых финансовых понятий и использование этой информации для принятия разумных решений, способствующих экономической безопасности и благосостоянию людей. К ним относятся принятие решений о тратах и сбережениях, выбор соответствующих финансовых инструментов, планирование бюджета, накопление средств на будущие цели, например, получение образования или обеспеченная жизнь в зрелом возра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G:\финансы\финансы\wr-720.sh-18.jpg"/>
          <p:cNvPicPr/>
          <p:nvPr/>
        </p:nvPicPr>
        <p:blipFill>
          <a:blip r:embed="rId1"/>
          <a:stretch/>
        </p:blipFill>
        <p:spPr>
          <a:xfrm>
            <a:off x="990720" y="50292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G:\финансы\финансы\da89c698d5c6e997a4d42d5a1b802665.jpg"/>
          <p:cNvPicPr/>
          <p:nvPr/>
        </p:nvPicPr>
        <p:blipFill>
          <a:blip r:embed="rId2"/>
          <a:stretch/>
        </p:blipFill>
        <p:spPr>
          <a:xfrm>
            <a:off x="3124080" y="5334120"/>
            <a:ext cx="353088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:\финансы\финансы\10628fb81cce5d215fc8ae5541cc6082.jpg"/>
          <p:cNvPicPr/>
          <p:nvPr/>
        </p:nvPicPr>
        <p:blipFill>
          <a:blip r:embed="rId3"/>
          <a:stretch/>
        </p:blipFill>
        <p:spPr>
          <a:xfrm>
            <a:off x="6934320" y="4952880"/>
            <a:ext cx="183168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 де можно получить профессию финансист в нашем кра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848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вропольский государственный аграрный университет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tgau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городский университет кооперации, экономики и права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tavik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овский гуманитарно-экономический институт - Ставропольский филиал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ttp://www.sfmgei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йский государственный социальный университет Филиал РГСУ в г. Ставрополь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ttp://rgsu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овский технологический университет, Ставропольский фили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s://www.mirea.ru/about/the-structure-of-the-university/branches/filial-in-stavropo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а Моя будущая профессия- финанси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ь уро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знакомить школьников с профессиональным праздником – Днём финансиста. профессий- финанс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накомить учащихся с основными особенностями финансов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ить особенности финансовой грамо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ть умение коллективно обсуждать рациональность тех или иных затрат и принимать разумное ре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G:\финансы\финансы\slide_1.jpg"/>
          <p:cNvPicPr/>
          <p:nvPr/>
        </p:nvPicPr>
        <p:blipFill>
          <a:blip r:embed="rId1"/>
          <a:stretch/>
        </p:blipFill>
        <p:spPr>
          <a:xfrm>
            <a:off x="3276720" y="44956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G:\финансы\финансы\17353-img_1.jpg"/>
          <p:cNvPicPr/>
          <p:nvPr/>
        </p:nvPicPr>
        <p:blipFill>
          <a:blip r:embed="rId1"/>
          <a:stretch/>
        </p:blipFill>
        <p:spPr>
          <a:xfrm>
            <a:off x="812880" y="228600"/>
            <a:ext cx="8102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Sentry\Рабочий стол\День финансиста\День Финансиста.jpg"/>
          <p:cNvPicPr/>
          <p:nvPr/>
        </p:nvPicPr>
        <p:blipFill>
          <a:blip r:embed="rId1"/>
          <a:stretch/>
        </p:blipFill>
        <p:spPr>
          <a:xfrm>
            <a:off x="1905120" y="1600200"/>
            <a:ext cx="550044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2"/>
          <a:stretch/>
        </p:blipFill>
        <p:spPr>
          <a:xfrm>
            <a:off x="1805040" y="298440"/>
            <a:ext cx="5595840" cy="1305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3" descr=""/>
          <p:cNvPicPr/>
          <p:nvPr/>
        </p:nvPicPr>
        <p:blipFill>
          <a:blip r:embed="rId3"/>
          <a:stretch/>
        </p:blipFill>
        <p:spPr>
          <a:xfrm>
            <a:off x="762120" y="4645080"/>
            <a:ext cx="780228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im0-tub-ru.yandex.net/i?id=fc3fe57e26027d79fb2a0d54a0fb63b4&amp;n=33&amp;h=170"/>
          <p:cNvPicPr/>
          <p:nvPr/>
        </p:nvPicPr>
        <p:blipFill>
          <a:blip r:embed="rId1"/>
          <a:stretch/>
        </p:blipFill>
        <p:spPr>
          <a:xfrm>
            <a:off x="990720" y="3429000"/>
            <a:ext cx="2352600" cy="1793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505320" y="7045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овое («казначейское») дело на Руси возникло еще в IX веке. А 8 сентября 1802 года император Александр I подписал Манифест об утверждении восьми министерств, в том числе Финансового, и учреждении должности министра финансов. Цель его деятельности была определена так: «Должность Министра финансов имеет два главных предмета: управление казенными и Государственными частями, кои доставляют Правительству нужные &lt;...&gt; доходы, и генеральное всех доходов (ассигнование) по разным частям Государственных расход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Sentry\Рабочий стол\День финансиста\Александр I.jpg"/>
          <p:cNvPicPr/>
          <p:nvPr/>
        </p:nvPicPr>
        <p:blipFill>
          <a:blip r:embed="rId2"/>
          <a:stretch/>
        </p:blipFill>
        <p:spPr>
          <a:xfrm>
            <a:off x="914400" y="762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G:\финансы\финансы\16633.jpg"/>
          <p:cNvPicPr/>
          <p:nvPr/>
        </p:nvPicPr>
        <p:blipFill>
          <a:blip r:embed="rId3"/>
          <a:stretch/>
        </p:blipFill>
        <p:spPr>
          <a:xfrm>
            <a:off x="7543800" y="4876920"/>
            <a:ext cx="1231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"/>
          <p:cNvPicPr/>
          <p:nvPr/>
        </p:nvPicPr>
        <p:blipFill>
          <a:blip r:embed="rId1"/>
          <a:stretch/>
        </p:blipFill>
        <p:spPr>
          <a:xfrm>
            <a:off x="762120" y="838080"/>
            <a:ext cx="2832120" cy="3581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762120" y="44953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инистр финансов, 22 апреля 1823 г. — 1 мая 1844 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505320" y="669240"/>
            <a:ext cx="53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Защита финансов — это защита жизненной силы существования государ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581280" y="1881000"/>
            <a:ext cx="5334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́р Фра́нцевич (Георг Людвиг) Канкри́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16 [27] ноября 1774 — 9 [21] сентября 184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 (с 1829) ) — русский государственный деятель немецкого происхождения. Генерал, состоящий при Особе Его Величества[2], генерал от инфантерии,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нистр финансов России в 1823—1844 г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839—1843 годах Канкриным была проведена денежная реформа, установившая систему серебряногомонометаллизма. К заслугам Канкрина принадлежит также обмен всех ассигнаций на государственные кредитные билеты, обменивающиеся на золото и серебро, а также эмиссия платиновой моне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54061"/>
                </a:solidFill>
                <a:latin typeface="Arial"/>
              </a:rPr>
              <a:t>Финанс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нансист - специалист в области финансовы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варь банковских терминов дает такое определение: «финансист — специалист, ведущий крупные денежные операции на легитимной основ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G:\финансы\финансы\uzn_1447362921.jpg"/>
          <p:cNvPicPr/>
          <p:nvPr/>
        </p:nvPicPr>
        <p:blipFill>
          <a:blip r:embed="rId1"/>
          <a:stretch/>
        </p:blipFill>
        <p:spPr>
          <a:xfrm>
            <a:off x="1143000" y="3505320"/>
            <a:ext cx="2641680" cy="18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G:\финансы\финансы\-2-638.jpg"/>
          <p:cNvPicPr/>
          <p:nvPr/>
        </p:nvPicPr>
        <p:blipFill>
          <a:blip r:embed="rId2"/>
          <a:stretch/>
        </p:blipFill>
        <p:spPr>
          <a:xfrm>
            <a:off x="4191120" y="3200400"/>
            <a:ext cx="411480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3" descr="-2-638.jpg"/>
          <p:cNvPicPr/>
          <p:nvPr/>
        </p:nvPicPr>
        <p:blipFill>
          <a:blip r:embed="rId1"/>
          <a:stretch/>
        </p:blipFill>
        <p:spPr>
          <a:xfrm>
            <a:off x="762120" y="304920"/>
            <a:ext cx="8221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733560" y="68580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конгресс бухгалтеров в 1946 г. утвердил герб счетного работника, предложенный знаменитым французским ученым Ж. Б. Дюмар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"/>
          <p:cNvPicPr/>
          <p:nvPr/>
        </p:nvPicPr>
        <p:blipFill>
          <a:blip r:embed="rId1"/>
          <a:stretch/>
        </p:blipFill>
        <p:spPr>
          <a:xfrm>
            <a:off x="609480" y="609480"/>
            <a:ext cx="230976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2673360" y="3505680"/>
            <a:ext cx="42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мн, посвященный финансист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>
            <a:hlinkClick r:id="rId2"/>
          </p:cNvPr>
          <p:cNvSpPr/>
          <p:nvPr/>
        </p:nvSpPr>
        <p:spPr>
          <a:xfrm>
            <a:off x="838080" y="4572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8406"/>
                </a:moveTo>
                <a:lnTo>
                  <a:pt x="15421" y="8406"/>
                </a:lnTo>
                <a:lnTo>
                  <a:pt x="19842" y="3794"/>
                </a:lnTo>
                <a:lnTo>
                  <a:pt x="19842" y="17806"/>
                </a:lnTo>
                <a:lnTo>
                  <a:pt x="15421" y="13194"/>
                </a:lnTo>
                <a:lnTo>
                  <a:pt x="10991" y="13194"/>
                </a:lnTo>
                <a:close/>
              </a:path>
              <a:path fill="darken" w="35994" h="21600">
                <a:moveTo>
                  <a:pt x="21496" y="10800"/>
                </a:moveTo>
                <a:lnTo>
                  <a:pt x="25004" y="10800"/>
                </a:lnTo>
              </a:path>
              <a:path fill="darken" w="35994" h="21600">
                <a:moveTo>
                  <a:pt x="21496" y="8406"/>
                </a:moveTo>
                <a:lnTo>
                  <a:pt x="25004" y="5639"/>
                </a:lnTo>
              </a:path>
              <a:path fill="darken" w="35994" h="21600">
                <a:moveTo>
                  <a:pt x="21496" y="13194"/>
                </a:moveTo>
                <a:lnTo>
                  <a:pt x="25004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s://im3-tub-ru.yandex.net/i?id=94f6964e9e174a4f037c56b7eb291004&amp;n=33&amp;h=170"/>
          <p:cNvPicPr/>
          <p:nvPr/>
        </p:nvPicPr>
        <p:blipFill>
          <a:blip r:embed="rId3"/>
          <a:stretch/>
        </p:blipFill>
        <p:spPr>
          <a:xfrm>
            <a:off x="2895480" y="4267080"/>
            <a:ext cx="34545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6-10-27T19:57:5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