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3EB0-63CC-4929-ADAB-4AFF089F2F4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232A-36F0-461A-859C-F72F5D305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33D-CEB6-4DF2-B337-3D11579F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916-DD7D-48FA-9AA7-5EFCF34F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2C1-7A1C-4999-A655-6A910856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3D6-FBE9-4D1E-B326-A6C362A0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E519-DACD-46D3-8F15-DA1302EE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ECE-DF49-438A-8DEB-6CBBECA9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6DA-1B26-4A68-8650-A1C2A87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D269-83FF-4373-AFB8-E83B270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54D3-311B-4DA3-805F-B1CF0FBD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AC6D-6F94-4AD6-8AF4-3562FCC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BA9-7843-4285-A152-DF11503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D40-8C04-48A6-8B1D-0773D0B8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66D-5641-42A7-85B8-1910C5E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FFD-3C1B-42EF-8A16-7D703C94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9EED-5C5D-4A5F-96F4-6AAC876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63A-B9E2-47FC-BF68-42544C10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E55-80D2-4D79-B34F-44E2B47B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473-DE38-44A0-B948-1313CE0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09C-58B3-43EC-A2A2-4544E75E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55C-2A7D-480A-863F-347E3395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13A-F9E4-4B2F-87D1-04BDFA0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A53-B3C6-468E-9FB1-37DA143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FCA-302E-4A20-920C-34D9C4D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8D6-1380-4971-9059-A33670E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F9CF-3346-4ABD-AFA7-6F1FC007FE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55000" y="4903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51520" y="25344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51360" y="139392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4812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95520" y="183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178-FE01-4687-AA47-BF3B8A65A2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74360" y="3346560"/>
            <a:ext cx="786276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главного в тек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найти ответ на поставленный вопро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составить план прочитанн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оставление примеров, аналогичных приведенным в тек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пользоваться образцами решения задач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оминание определений и форму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38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до чт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опробуй найд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ы предполага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Верите ли вы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6729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ель чтения параграф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360" y="1125360"/>
            <a:ext cx="76975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комство с информа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имание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омин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ование информации в учебной или жизненной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тверждение изученного ран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тверждение научных фак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ота с рисунками, чертежами, диаграмм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ение всл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борочное чт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ение про себ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ережающее чт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бота по пла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ление плана прочитан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ление тези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900000" y="47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Работа с текстом учебн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392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бота после чт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364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трольные вопросы учите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трольные вопросы по текст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Вопрос-ответ» (командная игр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общение те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18:17Z</dcterms:created>
  <dc:creator>tatiana</dc:creator>
  <dc:description/>
  <dc:language>en-US</dc:language>
  <cp:lastModifiedBy>Елена Богатырёва</cp:lastModifiedBy>
  <dcterms:modified xsi:type="dcterms:W3CDTF">2018-06-19T08:44:25Z</dcterms:modified>
  <cp:revision>325</cp:revision>
  <dc:subject/>
  <dc:title>Современный урок и его особенности</dc:title>
</cp:coreProperties>
</file>