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A4F-4E68-4F2A-B7BC-74F10D00D50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11680"/>
            <a:ext cx="54356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2697-9D18-4EFB-BA62-164728D36B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011-A285-45A9-B814-D89C94FF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CC5-FD5D-432D-8262-9E2D9043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762-F7A0-4EBB-8EEA-0AC78D1C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A01-86DD-4B71-ACB6-77BEBA48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EAFD-58B5-4061-B747-7EA13442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773D-90D4-4EDE-B685-534D2B46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232A-47F6-4433-B5C9-C83BA662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99AF-1522-4C4A-B66B-52FA5E85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F15F-1E8E-48AF-BAF1-38275350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70C9-94CA-482F-A03A-C606E682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4FC7-AF96-4864-A6D3-200B3BB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D14-5F5E-4329-BBDD-D445505C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3654-A374-4821-8A7F-EED8780C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B1EA-23BD-4431-A421-7BAE7761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E665-47D4-4675-B513-66963ADB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4675-9DD4-4983-B236-2E5BFBA1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CA42-F263-446F-8297-32B6DC00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291-F982-4ADD-BF52-9A47E0BB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455-B4EA-4F46-8669-61D31A09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B16F-D980-4E98-B6A8-5B962F5F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0DD-658F-4D95-9334-088F5C64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1A3-DB18-48E6-AE87-99FB3912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F55-A956-461E-88D7-F19AFFE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A48-7B0A-4C71-94C1-FEB7332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A2C3-6A21-47C6-8C3F-1233A5AF514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55000" y="490320"/>
                  <a:ext cx="4316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51520" y="25344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51360" y="139392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48120"/>
                  <a:ext cx="2905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95520" y="183240"/>
                  <a:ext cx="2869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32D4-8DCC-4190-900A-54139AFEC73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74360" y="3346560"/>
            <a:ext cx="786276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деление главного в текст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мение найти ответ на поставленный вопро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мение составить план прочитанног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оставление примеров, аналогичных приведенным в текст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мение пользоваться образцами решения задач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апоминание определений и форму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843280" y="115920"/>
            <a:ext cx="3384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до чт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Попробуй найд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Мы предполагаем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Верите ли вы?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152280"/>
            <a:ext cx="6729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ель чтения параграф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4360" y="1125360"/>
            <a:ext cx="76975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комство с информа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нимание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помин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пользование информации в учебной или жизненной ситу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тверждение изученного ран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тверждение научных фак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бота с рисунками, чертежами, диаграмм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тение вслу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борочное чт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тение про себ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пережающее чт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бота по план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ставление плана прочитанн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ставление тезис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900000" y="476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Работа с текстом учебн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683928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бота после чт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364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нтрольные вопросы учител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нтрольные вопросы по тексту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«Вопрос-ответ» (командная игр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общение тем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7:18:17Z</dcterms:created>
  <dc:creator>tatiana</dc:creator>
  <dc:description/>
  <dc:language>en-US</dc:language>
  <cp:lastModifiedBy>Елена Богатырёва</cp:lastModifiedBy>
  <dcterms:modified xsi:type="dcterms:W3CDTF">2018-06-19T08:44:25Z</dcterms:modified>
  <cp:revision>325</cp:revision>
  <dc:subject/>
  <dc:title>Современный урок и его особенности</dc:title>
</cp:coreProperties>
</file>