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3D2-41C6-4AE2-9A41-447B76BB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F36-8F8D-4A9B-AFD1-3C09A9C4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CB5-A59F-4686-A9EA-7FE454EA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15B-3AFE-47AE-8C92-C38F2CE9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588-62C8-491C-95CF-D47BECD3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D15-4015-4CFE-AEAD-2C2C6DE5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642-828F-4937-883C-608000F4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FE8-6182-48FE-AD61-3AF96542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B60-C027-4906-8EF3-CAD73529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00E-E169-486B-9888-B355B32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2DE-3894-4C5A-A651-93E4175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C0D-DFEA-4D5C-9CBE-2B76DF1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790D-A887-4218-ACEE-B483108258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0_19a40_41190bb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Швейцари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ациональны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олори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dfa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8760" y="642600"/>
            <a:ext cx="352908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Фондю является традиционным блюдом франкоговорящей Швейцарии, где каждый кантон претендует на свой собственный рецепт его пригото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Содержимое 6" descr="chocolate_fondue_set.jpg"/>
          <p:cNvPicPr/>
          <p:nvPr/>
        </p:nvPicPr>
        <p:blipFill>
          <a:blip r:embed="rId1"/>
          <a:stretch/>
        </p:blipFill>
        <p:spPr>
          <a:xfrm>
            <a:off x="303120" y="642960"/>
            <a:ext cx="4091040" cy="542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2040" y="785880"/>
            <a:ext cx="338616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Швейцарский шоколад и десерты "хюхли" и "крепфли" также известны во всем мире. Стоит попробовать и специально приготовленный очень крепкий кофе "ристретто"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381024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7" descr="165-1.jpg"/>
          <p:cNvPicPr/>
          <p:nvPr/>
        </p:nvPicPr>
        <p:blipFill>
          <a:blip r:embed="rId2"/>
          <a:stretch/>
        </p:blipFill>
        <p:spPr>
          <a:xfrm>
            <a:off x="857160" y="3571920"/>
            <a:ext cx="3786120" cy="2755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7480" y="609480"/>
            <a:ext cx="360036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33ff"/>
                </a:solidFill>
                <a:latin typeface="Times New Roman"/>
              </a:rPr>
              <a:t>Одно из самых старых и традиционных швейцарских блюд из сыра – это раклет.</a:t>
            </a:r>
            <a:br>
              <a:rPr sz="1800"/>
            </a:br>
            <a:r>
              <a:rPr b="0" lang="ru-RU" sz="1800" spc="-1" strike="noStrike">
                <a:solidFill>
                  <a:srgbClr val="9933ff"/>
                </a:solidFill>
                <a:latin typeface="Times New Roman"/>
              </a:rPr>
              <a:t>       Рецепт классического раклета несложен. Над огнем плавят швейцарский сыр твердых сортов, например, пармезан, валлизер,  багнес или гомсер. На гарнир подают картофель в мундире, который заливают расплавленным сыром, приправляют красным маринованным лучком, добавляют маринованные огурчики или любые другие овощи. Обязательно присутствие в раклете хлеба, без него вкус блюда не играет всеми оттенками вку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Содержимое 4" descr="f28c2d722f1c.jpg"/>
          <p:cNvPicPr/>
          <p:nvPr/>
        </p:nvPicPr>
        <p:blipFill>
          <a:blip r:embed="rId2"/>
          <a:stretch/>
        </p:blipFill>
        <p:spPr>
          <a:xfrm>
            <a:off x="642960" y="714240"/>
            <a:ext cx="4000320" cy="35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Отдых в Швейцар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09880" cy="5040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9933ff"/>
                </a:solidFill>
                <a:latin typeface="Times New Roman"/>
              </a:rPr>
              <a:t>«Швейцария – это рай», - сказала королева Елизавета во время своего визита в Берн. В самом деле: лучшего места для отдыха и путешествий не сыскать. Абсолютный покой, голубые блюдца озер, разнообразие уникальных природных рельефов плюс светский досу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dfa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0" y="3786120"/>
            <a:ext cx="4100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Times New Roman"/>
              </a:rPr>
              <a:t>Отдых в Швейцарии погрузит вас в атмосферу заботы и покоя. Возможности для отдыха в Швейцарии просто безграничны. Это и лечебные курорты, известные во всем мире, и горнолыжные курорты, которые имеют репутацию одних из самых лучших, и отдых на озерах. Швейцария - это еще и страна с богатой историей. И поэтому Швейцария предлагает обширные экскурсионные программ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Содержимое 11" descr="skiing.jpg"/>
          <p:cNvPicPr/>
          <p:nvPr/>
        </p:nvPicPr>
        <p:blipFill>
          <a:blip r:embed="rId1"/>
          <a:stretch/>
        </p:blipFill>
        <p:spPr>
          <a:xfrm>
            <a:off x="4286160" y="220680"/>
            <a:ext cx="4500720" cy="28512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info_shv3.jpg"/>
          <p:cNvPicPr/>
          <p:nvPr/>
        </p:nvPicPr>
        <p:blipFill>
          <a:blip r:embed="rId2"/>
          <a:stretch/>
        </p:blipFill>
        <p:spPr>
          <a:xfrm>
            <a:off x="357120" y="644400"/>
            <a:ext cx="364356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9"/>
          <p:cNvSpPr/>
          <p:nvPr/>
        </p:nvSpPr>
        <p:spPr>
          <a:xfrm>
            <a:off x="571680" y="350028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15" descr="shv.jpg"/>
          <p:cNvPicPr/>
          <p:nvPr/>
        </p:nvPicPr>
        <p:blipFill>
          <a:blip r:embed="rId3"/>
          <a:stretch/>
        </p:blipFill>
        <p:spPr>
          <a:xfrm>
            <a:off x="500040" y="3429000"/>
            <a:ext cx="3857760" cy="2857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86920" cy="70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9" name="Рисунок 6" descr="6_5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8"/>
          <p:cNvSpPr/>
          <p:nvPr/>
        </p:nvSpPr>
        <p:spPr>
          <a:xfrm>
            <a:off x="0" y="0"/>
            <a:ext cx="9144000" cy="10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Швейцария – удивительная страна. Сюда можно приезжать сколько угодно раз и всегда открывать что-то новое. Каждый её городок обладает неповторимым очарованием и вполне заслуживает отдельного внимани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68000" y="4292280"/>
            <a:ext cx="1365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28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 rot="21294600">
            <a:off x="0" y="8139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ff"/>
                </a:solidFill>
                <a:latin typeface="Times New Roman"/>
              </a:rPr>
              <a:t>Если и есть в мире уголок стабильности, то это Швейцария – символ престижа и процветания, страна с самыми надежными банками, самыми потрясающими горнолыжными курортами, самым вкусным сыром и лучшими часами в мир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ff"/>
                </a:solidFill>
                <a:latin typeface="Times New Roman"/>
              </a:rPr>
              <a:t>Свое название Швейцария получила от Швица - одного из трех небольших кантонов, которые, объединившись, создали Конфедерацию. Основание швейцарского государства относится к 1291 году, когда представители кантонов Ури, Швиц и Унтервальден встретились на берегу озера Люцерн, чтобы заключить оборонительный союз против могущественного дома Габсбургов. Вскоре к нему присоединились другие города и области, стремившиеся сохранить свою независ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00183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258920" y="-47520"/>
            <a:ext cx="63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Times New Roman"/>
              </a:rPr>
              <a:t>Крупные города Швейца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Швейцария относится к умеренно континентальной климатической области. Но, говоря о климате этой страны, следует иметь в виду, что около 60% ее территории занято горами, поэтому здесь можно за два часа попасть из зимы в лето. Альпы являются своеобразным барьером, препятствующим поступлению холодных арктических масс на юг, а теплых субтропических - на сев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1238075081_1201768423_klim"/>
          <p:cNvPicPr/>
          <p:nvPr/>
        </p:nvPicPr>
        <p:blipFill>
          <a:blip r:embed="rId2"/>
          <a:stretch/>
        </p:blipFill>
        <p:spPr>
          <a:xfrm rot="20890800">
            <a:off x="394920" y="1989000"/>
            <a:ext cx="3411720" cy="268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nantara1"/>
          <p:cNvPicPr/>
          <p:nvPr/>
        </p:nvPicPr>
        <p:blipFill>
          <a:blip r:embed="rId3"/>
          <a:stretch/>
        </p:blipFill>
        <p:spPr>
          <a:xfrm>
            <a:off x="2987640" y="4508640"/>
            <a:ext cx="3384720" cy="23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nfo_shv1"/>
          <p:cNvPicPr/>
          <p:nvPr/>
        </p:nvPicPr>
        <p:blipFill>
          <a:blip r:embed="rId4"/>
          <a:stretch/>
        </p:blipFill>
        <p:spPr>
          <a:xfrm rot="717000">
            <a:off x="5435280" y="1989000"/>
            <a:ext cx="3384360" cy="2665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5733720"/>
            <a:ext cx="60483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828720" y="5157720"/>
            <a:ext cx="7452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1_switzerland_cleanest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059280" y="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Насел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907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80 % населения составляют урожденные швейцарцы, составляющие 4 этнические общности: германо-швейцарцы, франко-швейцарцы, итало-швейцарцы и ретороманцы, для каждой из которых характерен свой язык. 20 % населения - иностранцы. Ретороманский язык наравне с другими имеет статус национального. 46 % швейцарцев католики, 40 % - протестанты. Высокий уровень жизни обеспечивают очень хорошо развитые социальная сфера и здравоохранение. Швейцарские университеты и высшие школы имеют отличную репутацию во всем ми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Около трети всего населения Швейцарии проживает в 5 крупнейших гор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Жен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8360" y="1196640"/>
            <a:ext cx="3527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Порт, центр туризма и место международных форумов. Город Женева, окруженный холмами, стоит на берегу реки Рона у Женевского озера, которое является самым крупным из альпийских озер. Гордый символ города - фонтан, струи которого воплощают стремление вверх, в царство духа. Женева - настоящий перекресток человеческой мысли и жизни - место, посещаемое многими великими людьми. </a:t>
            </a:r>
            <a:br>
              <a:rPr sz="2000"/>
            </a:b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Женева - третий по величине винодельческий кантон Швейца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Женева"/>
          <p:cNvPicPr/>
          <p:nvPr/>
        </p:nvPicPr>
        <p:blipFill>
          <a:blip r:embed="rId2"/>
          <a:stretch/>
        </p:blipFill>
        <p:spPr>
          <a:xfrm>
            <a:off x="755640" y="1197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89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циональные костюмы - весомая и значимая часть культуры и истории любой страны. Швейцария не исклю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Жительницы и жители практически каждой деревушки гордятся «фирменными» отличиями своей «экипировки». И не только люди солидного возраста, но и молодые люди, которые активно участвуют в народных коллективах не стесняются одевать национальные костюмы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info_sh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484360" y="33336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70600" y="57240"/>
            <a:ext cx="622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Times New Roman"/>
              </a:rPr>
              <a:t>Национальный костю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0" y="14842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циональные костюмы - весомая и значимая часть культуры и истории любой страны. Швейцария не исклю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Жительницы и жители практически каждой деревушки гордятся «фирменными» отличиями своей «экипировки». И не только люди солидного возраста, но и молодые люди, которые активно участвуют в народных коллективах не стесняются одевать национальные костюмы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24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Полукантон Аппенцелль-Иннерроден (Appenzell-Innerrhoden) кантона Аппенцел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168720" cy="5545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Times New Roman"/>
              </a:rPr>
              <a:t>Национальная кух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3280" y="1700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oнятиe "куxня Швeйцapии" oбычнo accoцииpуeтcя c cыpoм и шoкoлaдoм, нo нa caмoм дeлe эти пpoдукты нe глaвныe в нaциoнaльнoй куxнe cтpaны. Швeйцapия cлaвитcя нe тoлькo нaциoнaльным и культуpным paзнooбpaзиeм, нo и бoгaтым выбopoм блюд фpaнцузcкoй, нeмeцкoй и итaльянcкoй куx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я</cp:lastModifiedBy>
  <dcterms:modified xsi:type="dcterms:W3CDTF">2011-11-05T11:46:34Z</dcterms:modified>
  <cp:revision>59</cp:revision>
  <dc:subject/>
  <dc:title>PowerPoint Presentation</dc:title>
</cp:coreProperties>
</file>