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B229-3372-4964-AE6F-DD214D48F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0E17-8B73-4C9A-9697-237C20AD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15C6-A0C7-41D0-B965-B5DE0EAE4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606F-EC08-4CF0-8D35-75C48B9EB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EE91-0387-40CF-998E-3431B85F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B0FE-5E9C-4C11-821E-926BC335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3B4F-58C2-46FE-AABF-8883196E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F385-1735-4D92-B81A-736C0193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543E-2E04-45B3-B702-4138F704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1910-D1DE-4EFE-B355-56730B8F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29BB-880C-4535-8353-8F48D43E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DA63-FD69-4632-8520-6350674F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6736-AE06-4A8D-8464-A724CC74D2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0_19a40_41190bb1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Times New Roman"/>
              </a:rPr>
              <a:t>Швейцария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Национальный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колори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ddfae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28760" y="642600"/>
            <a:ext cx="352908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Times New Roman"/>
              </a:rPr>
              <a:t>Фондю является традиционным блюдом франкоговорящей Швейцарии, где каждый кантон претендует на свой собственный рецепт его приготовл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Содержимое 6" descr="chocolate_fondue_set.jpg"/>
          <p:cNvPicPr/>
          <p:nvPr/>
        </p:nvPicPr>
        <p:blipFill>
          <a:blip r:embed="rId1"/>
          <a:stretch/>
        </p:blipFill>
        <p:spPr>
          <a:xfrm>
            <a:off x="303120" y="642960"/>
            <a:ext cx="4091040" cy="54291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72040" y="785880"/>
            <a:ext cx="3386160" cy="521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Times New Roman"/>
              </a:rPr>
              <a:t>Швейцарский шоколад и десерты "хюхли" и "крепфли" также известны во всем мире. Стоит попробовать и специально приготовленный очень крепкий кофе "ристретто"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857160" y="785880"/>
            <a:ext cx="3810240" cy="2786040"/>
          </a:xfrm>
          <a:prstGeom prst="rect">
            <a:avLst/>
          </a:prstGeom>
          <a:ln w="0">
            <a:noFill/>
          </a:ln>
        </p:spPr>
      </p:pic>
      <p:pic>
        <p:nvPicPr>
          <p:cNvPr id="77" name="Содержимое 7" descr="165-1.jpg"/>
          <p:cNvPicPr/>
          <p:nvPr/>
        </p:nvPicPr>
        <p:blipFill>
          <a:blip r:embed="rId2"/>
          <a:stretch/>
        </p:blipFill>
        <p:spPr>
          <a:xfrm>
            <a:off x="857160" y="3571920"/>
            <a:ext cx="3786120" cy="27558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857480" y="609480"/>
            <a:ext cx="3600360" cy="503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9933ff"/>
                </a:solidFill>
                <a:latin typeface="Times New Roman"/>
              </a:rPr>
              <a:t>Одно из самых старых и традиционных швейцарских блюд из сыра – это раклет.</a:t>
            </a:r>
            <a:br>
              <a:rPr sz="1800"/>
            </a:br>
            <a:r>
              <a:rPr b="0" lang="ru-RU" sz="1800" spc="-1" strike="noStrike">
                <a:solidFill>
                  <a:srgbClr val="9933ff"/>
                </a:solidFill>
                <a:latin typeface="Times New Roman"/>
              </a:rPr>
              <a:t>       Рецепт классического раклета несложен. Над огнем плавят швейцарский сыр твердых сортов, например, пармезан, валлизер,  багнес или гомсер. На гарнир подают картофель в мундире, который заливают расплавленным сыром, приправляют красным маринованным лучком, добавляют маринованные огурчики или любые другие овощи. Обязательно присутствие в раклете хлеба, без него вкус блюда не играет всеми оттенками вкус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Содержимое 4" descr="f28c2d722f1c.jpg"/>
          <p:cNvPicPr/>
          <p:nvPr/>
        </p:nvPicPr>
        <p:blipFill>
          <a:blip r:embed="rId2"/>
          <a:stretch/>
        </p:blipFill>
        <p:spPr>
          <a:xfrm>
            <a:off x="642960" y="714240"/>
            <a:ext cx="4000320" cy="3595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randomBar dir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ff"/>
                </a:solidFill>
                <a:latin typeface="Times New Roman"/>
              </a:rPr>
              <a:t>Отдых в Швейцари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3809880" cy="50403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9933ff"/>
                </a:solidFill>
                <a:latin typeface="Times New Roman"/>
              </a:rPr>
              <a:t>«Швейцария – это рай», - сказала королева Елизавета во время своего визита в Берн. В самом деле: лучшего места для отдыха и путешествий не сыскать. Абсолютный покой, голубые блюдца озер, разнообразие уникальных природных рельефов плюс светский досу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ddfae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43600" y="3786120"/>
            <a:ext cx="41004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ff"/>
                </a:solidFill>
                <a:latin typeface="Times New Roman"/>
              </a:rPr>
              <a:t>Отдых в Швейцарии погрузит вас в атмосферу заботы и покоя. Возможности для отдыха в Швейцарии просто безграничны. Это и лечебные курорты, известные во всем мире, и горнолыжные курорты, которые имеют репутацию одних из самых лучших, и отдых на озерах. Швейцария - это еще и страна с богатой историей. И поэтому Швейцария предлагает обширные экскурсионные программы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Содержимое 11" descr="skiing.jpg"/>
          <p:cNvPicPr/>
          <p:nvPr/>
        </p:nvPicPr>
        <p:blipFill>
          <a:blip r:embed="rId1"/>
          <a:stretch/>
        </p:blipFill>
        <p:spPr>
          <a:xfrm>
            <a:off x="4286160" y="220680"/>
            <a:ext cx="4500720" cy="285120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8" descr="info_shv3.jpg"/>
          <p:cNvPicPr/>
          <p:nvPr/>
        </p:nvPicPr>
        <p:blipFill>
          <a:blip r:embed="rId2"/>
          <a:stretch/>
        </p:blipFill>
        <p:spPr>
          <a:xfrm>
            <a:off x="357120" y="644400"/>
            <a:ext cx="3643560" cy="242568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9"/>
          <p:cNvSpPr/>
          <p:nvPr/>
        </p:nvSpPr>
        <p:spPr>
          <a:xfrm>
            <a:off x="571680" y="3500280"/>
            <a:ext cx="36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Рисунок 15" descr="shv.jpg"/>
          <p:cNvPicPr/>
          <p:nvPr/>
        </p:nvPicPr>
        <p:blipFill>
          <a:blip r:embed="rId3"/>
          <a:stretch/>
        </p:blipFill>
        <p:spPr>
          <a:xfrm>
            <a:off x="500040" y="3429000"/>
            <a:ext cx="3857760" cy="28576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286920" cy="70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89" name="Рисунок 6" descr="6_5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8"/>
          <p:cNvSpPr/>
          <p:nvPr/>
        </p:nvSpPr>
        <p:spPr>
          <a:xfrm>
            <a:off x="0" y="0"/>
            <a:ext cx="9144000" cy="10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Швейцария – удивительная страна. Сюда можно приезжать сколько угодно раз и всегда открывать что-то новое. Каждый её городок обладает неповторимым очарованием и вполне заслуживает отдельного внимани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3399"/>
                </a:solidFill>
                <a:latin typeface="Times New Roman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68000" y="4292280"/>
            <a:ext cx="13654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5" descr="282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 rot="21294600">
            <a:off x="0" y="81396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ff"/>
                </a:solidFill>
                <a:latin typeface="Times New Roman"/>
              </a:rPr>
              <a:t>Если и есть в мире уголок стабильности, то это Швейцария – символ престижа и процветания, страна с самыми надежными банками, самыми потрясающими горнолыжными курортами, самым вкусным сыром и лучшими часами в мире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ff"/>
                </a:solidFill>
                <a:latin typeface="Times New Roman"/>
              </a:rPr>
              <a:t>Свое название Швейцария получила от Швица - одного из трех небольших кантонов, которые, объединившись, создали Конфедерацию. Основание швейцарского государства относится к 1291 году, когда представители кантонов Ури, Швиц и Унтервальден встретились на берегу озера Люцерн, чтобы заключить оборонительный союз против могущественного дома Габсбургов. Вскоре к нему присоединились другие города и области, стремившиеся сохранить свою независим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image00183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258920" y="-47520"/>
            <a:ext cx="638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ff"/>
                </a:solidFill>
                <a:latin typeface="Times New Roman"/>
              </a:rPr>
              <a:t>Крупные города Швейцар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0" y="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ff"/>
                </a:solidFill>
                <a:latin typeface="Times New Roman"/>
              </a:rPr>
              <a:t>Швейцария относится к умеренно континентальной климатической области. Но, говоря о климате этой страны, следует иметь в виду, что около 60% ее территории занято горами, поэтому здесь можно за два часа попасть из зимы в лето. Альпы являются своеобразным барьером, препятствующим поступлению холодных арктических масс на юг, а теплых субтропических - на севе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1238075081_1201768423_klim"/>
          <p:cNvPicPr/>
          <p:nvPr/>
        </p:nvPicPr>
        <p:blipFill>
          <a:blip r:embed="rId2"/>
          <a:stretch/>
        </p:blipFill>
        <p:spPr>
          <a:xfrm rot="20890800">
            <a:off x="394920" y="1989000"/>
            <a:ext cx="3411720" cy="2683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Anantara1"/>
          <p:cNvPicPr/>
          <p:nvPr/>
        </p:nvPicPr>
        <p:blipFill>
          <a:blip r:embed="rId3"/>
          <a:stretch/>
        </p:blipFill>
        <p:spPr>
          <a:xfrm>
            <a:off x="2987640" y="4508640"/>
            <a:ext cx="3384720" cy="2349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info_shv1"/>
          <p:cNvPicPr/>
          <p:nvPr/>
        </p:nvPicPr>
        <p:blipFill>
          <a:blip r:embed="rId4"/>
          <a:stretch/>
        </p:blipFill>
        <p:spPr>
          <a:xfrm rot="717000">
            <a:off x="5435280" y="1989000"/>
            <a:ext cx="3384360" cy="26654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5640" y="5733720"/>
            <a:ext cx="6048360" cy="71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ff"/>
                </a:solidFill>
                <a:latin typeface="Arial"/>
              </a:rPr>
              <a:t>Насел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828720" y="5157720"/>
            <a:ext cx="7452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1_switzerland_cleanest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3059280" y="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33ff"/>
                </a:solidFill>
                <a:latin typeface="Times New Roman"/>
              </a:rPr>
              <a:t>Населе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0" y="90792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Times New Roman"/>
              </a:rPr>
              <a:t>80 % населения составляют урожденные швейцарцы, составляющие 4 этнические общности: германо-швейцарцы, франко-швейцарцы, итало-швейцарцы и ретороманцы, для каждой из которых характерен свой язык. 20 % населения - иностранцы. Ретороманский язык наравне с другими имеет статус национального. 46 % швейцарцев католики, 40 % - протестанты. Высокий уровень жизни обеспечивают очень хорошо развитые социальная сфера и здравоохранение. Швейцарские университеты и высшие школы имеют отличную репутацию во всем мир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Times New Roman"/>
              </a:rPr>
              <a:t>Около трети всего населения Швейцарии проживает в 5 крупнейших город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33ff"/>
                </a:solidFill>
                <a:latin typeface="Times New Roman"/>
              </a:rPr>
              <a:t>Женев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48360" y="1196640"/>
            <a:ext cx="35272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9933ff"/>
                </a:solidFill>
                <a:latin typeface="Times New Roman"/>
              </a:rPr>
              <a:t>Порт, центр туризма и место международных форумов. Город Женева, окруженный холмами, стоит на берегу реки Рона у Женевского озера, которое является самым крупным из альпийских озер. Гордый символ города - фонтан, струи которого воплощают стремление вверх, в царство духа. Женева - настоящий перекресток человеческой мысли и жизни - место, посещаемое многими великими людьми. </a:t>
            </a:r>
            <a:br>
              <a:rPr sz="2000"/>
            </a:br>
            <a:r>
              <a:rPr b="0" lang="ru-RU" sz="2000" spc="-1" strike="noStrike">
                <a:solidFill>
                  <a:srgbClr val="9933ff"/>
                </a:solidFill>
                <a:latin typeface="Times New Roman"/>
              </a:rPr>
              <a:t>Женева - третий по величине винодельческий кантон Швейцар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Женева"/>
          <p:cNvPicPr/>
          <p:nvPr/>
        </p:nvPicPr>
        <p:blipFill>
          <a:blip r:embed="rId2"/>
          <a:stretch/>
        </p:blipFill>
        <p:spPr>
          <a:xfrm>
            <a:off x="755640" y="1197000"/>
            <a:ext cx="4032360" cy="49687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99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33ff"/>
                </a:solidFill>
                <a:latin typeface="Times New Roman"/>
              </a:rPr>
              <a:t>Национальный костю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99640" y="1844280"/>
            <a:ext cx="74898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99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Национальные костюмы - весомая и значимая часть культуры и истории любой страны. Швейцария не исключ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Жительницы и жители практически каждой деревушки гордятся «фирменными» отличиями своей «экипировки». И не только люди солидного возраста, но и молодые люди, которые активно участвуют в народных коллективах не стесняются одевать национальные костюмы.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info_shv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2484360" y="333360"/>
            <a:ext cx="431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470600" y="57240"/>
            <a:ext cx="622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33ff"/>
                </a:solidFill>
                <a:latin typeface="Times New Roman"/>
              </a:rPr>
              <a:t>Национальный костю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0" y="148428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Национальные костюмы - весомая и значимая часть культуры и истории любой страны. Швейцария не исключ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Жительницы и жители практически каждой деревушки гордятся «фирменными» отличиями своей «экипировки». И не только люди солидного возраста, но и молодые люди, которые активно участвуют в народных коллективах не стесняются одевать национальные костюмы.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99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76360" y="692280"/>
            <a:ext cx="324036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Times New Roman"/>
              </a:rPr>
              <a:t>Полукантон Аппенцелль-Иннерроден (Appenzell-Innerrhoden) кантона Аппенцелль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3168720" cy="55450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99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ff"/>
                </a:solidFill>
                <a:latin typeface="Times New Roman"/>
              </a:rPr>
              <a:t>Национальная кухн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3280" y="1700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oнятиe "куxня Швeйцapии" oбычнo accoцииpуeтcя c cыpoм и шoкoлaдoм, нo нa caмoм дeлe эти пpoдукты нe глaвныe в нaциoнaльнoй куxнe cтpaны. Швeйцapия cлaвитcя нe тoлькo нaциoнaльным и культуpным paзнooбpaзиeм, нo и бoгaтым выбopoм блюд фpaнцузcкoй, нeмeцкoй и итaльянcкoй куx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лерия</cp:lastModifiedBy>
  <dcterms:modified xsi:type="dcterms:W3CDTF">2011-11-05T11:46:34Z</dcterms:modified>
  <cp:revision>59</cp:revision>
  <dc:subject/>
  <dc:title>PowerPoint Presentation</dc:title>
</cp:coreProperties>
</file>