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F0D-690E-439C-AAA3-FD94A4DF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7B9B-2F02-4952-833E-DB32D7DE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332-DCE1-42B6-A197-9556C096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A0B0-88C8-46D5-896F-B8B9A154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B052-0F75-4175-9AEF-7621CC67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29A5-D648-42F6-87A7-8430B2C7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412-02CD-4D33-8869-F40849A4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2B9-43A4-407C-9E67-A9659DDD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BCF-F892-45B4-A182-56EE8711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CD6-E440-4AA2-9013-7A06DC27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50B-75E4-4C75-859E-B05AB6E3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B0F-28A1-4A85-A8D2-7529FE30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9D6A43-FA86-45ED-8C5E-5BF883BD88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ый национальный воспитательный иде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830760" cy="51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ый воспитательный иде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и задачи духовно-нравственного развития и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ховно-нравственное развитие и воспи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зовые национальные ц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ринципы организации духовно-нравственного развития и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ы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щее руководящее положение, которое определяет последовательность действий педагога в разнообразных воспитательных ситуац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мостик, ведущий от теории к практ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240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ринципы организации духовно-нравственного развития и воспит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равственный пример педаго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о-педагогическое партнер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дивидуально-личностное развит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гративность программ духовно-нравственного воспит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востребованность вос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Концеп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…среди базовых национальных ценностей необходимо установить одну, важнейшую, системообразующую, дающую жизнь в душе детей всем другим ценностям – ценность Учител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создать презентацию 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MICROSOFT POWER POIN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оя жизнь и профессиональная деятельность» (10-15 слайд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Концеп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ндивидуально-личностное развитие …остаётся одной из важнейших задач современного образован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Опыт реализации принципа индивидуального подхода  в воспитании подрост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09440"/>
            <a:ext cx="83059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мерная программа духовно-нравственного развития и воспитания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1828800"/>
            <a:ext cx="8001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вляется ориентиром для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формирования всех разделов основной образовательной программы начального общего образова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цептуальной и методической основой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разработки образовательным учреждением собственной программы. В соответствии с требованиями Закона РФ «Об образовании» (ст. 14, пункт 5; ст. 32, пункт 7), ОУ самостоятельно разрабатывает, утверждает и реализует образовательную програм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трукту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ь и задачи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духовно-нравственного развит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нностные установки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духовно-нравственного развития и воспитания российских шк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ые направления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и ценностные основы духовно-нравственного развит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держание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духовно-нравственного развития и воспитания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вместная деятельность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школы, семьи и общественности по духовно-нравственному развитию и воспита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анируемые результаты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духовно-нравственного развит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 духовно-нравственного развития и воспитания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ход от воспитательной работы, построенной на наборах технологий по проведению в основном в рамках дополнительного образования отдельных мероприятий, не связанных с содержанием деятельности ребенка в ОУ, семье, группе сверстников, в его социальном и информационном окружении,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к системно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уховно-нравственному развитию и воспитанию обучающихся, направленному на формирование морально-нравственного, личностно развивающего, социально открытого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уклада школьной жиз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клад школьной жизни педагогически интегрирует основные виды и формы деятельности ребенка: урочную, внеурочную, внешкольную, семейную, общественно полезную, трудовую, эстетическую, социально коммуникативную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 программе ОУ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часть, формируемая участниками образовательного процесса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грирует традиции и особенности воспитательной системы образовательного учреждения, «школьный уклад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ует целостную образовательную среду, включающей урочную, внеурочную и внешкольную деятельность, учитывает историко-культурную, этническую  региональную специф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5345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уховно-нравственное воспитание как приоритетная задача образовательных стандартов нового поко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ючевые по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сударственная образовательная поли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 области образования понимается как система мер, направленных на реализацию приоритетов российского государства в сфере образования (Закон РФ «Об образовании», статьи 1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бования к результатам освоения основной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ые результаты освоения основной образовательной программы должны отраж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… развитие этических чувств, доброжелательности и эмоционально-нравственной отзывчивости, понимания и сопереживания чувствам других люд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индивидуальных достижений обучающихся, не подлежащие итоговой оценке качества освоения основной образовательной программы относятся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ностные ориентации обучающихся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ые личностные характери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3733560"/>
            <a:ext cx="79246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енная оценка личностных результатов может осуществляться в ходе различных мониторинговых исслед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иторинг духовно-нравственного развития учащихся в воспитательной системе 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ми предметами мониторинга являются личность учащегося как «главный показатель эффективности процесса воспитания» и «детский коллектив – одно из важнейших условий развития личности ребен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ческая проблема владения диагностическими знаниями о челов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.Д. Ушинский «Знать человека во всех отношениях, чтобы воспитывать его во всех отношениях» - привнесение в профессиональные действия оттенка манипулятив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сть знания о себе самого человека – условие его осознанного участия в воспитательном проце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 рефлекс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мысление, анализ и перестройка собственного опыта обеспечивает человеку продвижение в своем саморазвитии и самовоспит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рианты изучения проблематики, связанной с воспит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 сам проводит диагностику и предъявляет ее результаты в качестве материала для совместной рефлек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я диагностики обсуждаются всеми участниками воспитательного процесса и после этого совместно реализуются и анализиру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рианты изучения проблематики, связанной с воспит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ся «встроенная», скрытая диагностика, результаты которой остаются служебной тайной до определенного момента (если он наступа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агаются методика проведения самодиагностики и вариативные стратегии дальнейшей работы по самосовершенствованию в зависимости от полученных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ючевые по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ховно-нравственное развитие лич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существляемое в процессе социализации последовательное расширение и укрепление ценностно-смысловой сферы личности, формирование способности человека оценивать и сознательно выстраивать на основе традиционных моральных норм и нравственных идеалов отношение к себе, другим людям, обществу, государству, Отечеству, миру в целом.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ГОС начального общего 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ючевые по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уховно-нравственное воспитание личности гражданина Росс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едагогически организованный процесс усвоения и принятия обучающимися базовых национальных ценностей, имеющих иерархическую структуру и сложную организацию.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ГОС начального общего 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ючевые по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зовые национальные це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сновные моральные ценности, приоритетные нравственные установки, существующие в культурных, семейных, социально-исторических, религиозных традициях многонационального народа РФ, передаваемые от поколения к поколению и обеспечивающие успешное развитие страны в современных условиях.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цепция духовно-нравственного развития и воспитания личности гражданина Росс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ючевые по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ый воспитательный идеа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ысшая цель образования, нравственное (идеальное ) представление о человеке, на воспитание, обучение и развитие которого направлены усилия основных субъектов национальной жизни: государства, семьи, школы, политических партий, религиозных и общественных организаций.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цепция духовно-нравственного развития и воспитания личности гражданина Росс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6868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цепция духовно-нравственного развития и воспитания личности гражданина Росс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ологическая основа реализации федерального государственного образовательного стандарта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8080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циальный заказ образованию в системе фундаментальных по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ое госуд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ое самосознание (идентич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национальной идент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трио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жданское общ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огообразие культур и на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этнический мир и соглас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ый воспитательный потенц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зовые национальные ц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ховно-нравственное развитие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ховно-нравственное вос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ктория</cp:lastModifiedBy>
  <dcterms:modified xsi:type="dcterms:W3CDTF">2018-05-19T10:42:5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