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31B-B170-44A7-8E80-2787B845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CB9-B578-4DFA-9746-0010D55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698-28AE-4826-AE29-306B5A22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28D-B16D-41B3-8336-5D80F3A1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D59-55D3-4F72-B6BB-934A6997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B92-C301-4F62-8751-A18949B9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494-C831-43CD-A4B9-2C44BA4D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C78-2B9C-4FD3-86A4-5321F8A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D38-4603-4A21-8969-004134F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083-0878-480B-9382-684545C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23E-5EFB-4598-A086-AFB0A51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E72-15E7-48BC-801C-DE968AC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2029AB-DED5-497E-8A08-862E0D2D2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национальный воспитательный иде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3076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иде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 задачи духовно-нравственного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организации духовно-нравственного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щее руководящее положение, которое определяет последовательность действий педагога в разнообразных воспитательных ситу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стик, ведущий от теории к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организации духовно-нравственного развития и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равственный пример педаг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педагогическое партнер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дивидуально-личностное разв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тивность программ духовно-нравственного вос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востребованность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нце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среди базовых национальных ценностей необходимо установить одну, важнейшую, системообразующую, дающую жизнь в душе детей всем другим ценностям – ценность Уч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создать презентацию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MICROSOFT POWER PO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я жизнь и профессиональная деятельность» (10-15 слайд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нце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дивидуально-личностное развитие …остаётся одной из важнейших задач современного образов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пыт реализации принципа индивидуального подхода  в воспитании подрос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09440"/>
            <a:ext cx="8305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мерная программа духовно-нравственного развития и воспита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182880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вляется ориентиром для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формирования всех разделов основной образовательной программы начального общего образова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цептуальной и методической основой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зработки образовательным учреждением собственной программы. В соответствии с требованиями Закона РФ «Об образовании» (ст. 14, пункт 5; ст. 32, пункт 7), ОУ самостоятельно разрабатывает, утверждает и реализует образовательную програм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трук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ностные установк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российских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и ценностные основы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местная деятельность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школы, семьи и общественности по духовно-нравственному развитию и воспит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духовно-нравственного развития и воспита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от воспитательной работы, построенной на наборах технологий по проведению в основном в рамках дополнительного образования отдельных мероприятий, не связанных с содержанием деятельности ребенка в ОУ, семье, группе сверстников, в его социальном и информационном окружении,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к системн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уховно-нравственному развитию и воспитанию обучающихся, направленному на формирование морально-нравственного, личностно развивающего, социально открытого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клада школьной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лад школьной жизни педагогически интегрирует основные виды и формы деятельности ребенка: урочную, внеурочную, внешкольную, семейную, общественно полезную, трудовую, эстетическую, социально коммуникативную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программе О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часть, формируемая участниками образовательного процесс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грирует традиции и особенности воспитательной системы образовательного учреждения, «школьный уклад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ует целостную образовательную среду, включающей урочную, внеурочную и внешкольную деятельность, учитывает историко-культурную, этническую  региональную специ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5345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 как приоритетная задача образовательных стандартов нов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ая образовательная поли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 области образования понимается как система мер, направленных на реализацию приоритетов российского государства в сфере образования (Закон РФ «Об образовании», статьи 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ые результаты освоения основной образовательной программы должны отраж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 развитие этических чувств, доброжелательности и эмоционально-нравственной отзывчивости, понимания и сопереживания чувствам других люд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индивидуальных достижений обучающихся, не подлежащие итоговой оценке качества освоения основной образовательной программы относят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ные ориентации обучающихс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личностные характер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7924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ная оценка личностных результатов может осуществляться в ходе различных мониторинговых исслед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духовно-нравственного развития учащихся в воспитательной системе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едметами мониторинга являются личность учащегося как «главный показатель эффективности процесса воспитания» и «детский коллектив – одно из важнейших условий развития личности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ческая проблема владения диагностическими знаниями о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Д. Ушинский «Знать человека во всех отношениях, чтобы воспитывать его во всех отношениях» - привнесение в профессиональные действия оттенка манипулятив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знания о себе самого человека – условие его осознанного участия в воспитатель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рефлек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мысление, анализ и перестройка собственного опыта обеспечивает человеку продвижение в своем саморазвитии и само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изучения проблематики, связанной с воспит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 сам проводит диагностику и предъявляет ее результаты в качестве материала для совместной рефлек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диагностики обсуждаются всеми участниками воспитательного процесса и после этого совместно реализуются и анализир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изучения проблематики, связанной с воспит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«встроенная», скрытая диагностика, результаты которой остаются служебной тайной до определенного момента (если он наступа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ются методика проведения самодиагностики и вариативные стратегии дальнейшей работы по самосовершенствованию в зависимости от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уществляемое в процессе социализации последовательное расширение и укрепление ценностно-смысловой сферы личности, формирование способности человека оценивать и сознательно выстраивать на основе традиционных моральных норм и нравственных идеалов отношение к себе, другим людям, обществу, государству, Отечеству, миру в целом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ГОС начального обще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 личности гражданина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дагогически организованный процесс усвоения и принятия обучающимися базовых национальных ценностей, имеющих иерархическую структуру и сложную организацию.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ГОС начального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новные моральные ценности, приоритетные нравственные установки, существующие в культурных, семейных, социально-исторических, религиозных традициях многонационального народа РФ, передаваемые от поколения к поколению и обеспечивающие успешное развитие страны в современных условиях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иде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сшая цель образования, нравственное (идеальное ) представление о человеке, на воспитание, обучение и развитие которого направлены усилия основных субъектов национальной жизни: государства, семьи, школы, политических партий, религиозных и общественных организаций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ологическая основа реализации федерального государственного образовательного стандарта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808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й заказ образованию в системе фундаментальных по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е самосознание (идентич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национальной иден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образие культур и 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этнический мир и 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потенц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8-05-19T10:42:5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