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E4DA-918C-4C66-8C62-9A019149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E85C-48C7-409C-85EB-8F99B7309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AC1C-2AFA-4A60-8A2D-E87E86140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A084-496A-470D-A733-C11C470C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FF10-324C-4048-946B-3C3BAD12D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6549-D3A0-4A74-A6BF-442D2DC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4C31-922E-4230-8F40-3063AAC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334B-2387-4CFF-A4C7-15577BA0B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043D-C2C6-42A3-B4CF-0E834047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8B5E-F0AA-4D8A-8874-71D88F4A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7409-A6B5-4AB7-AF8C-0E5794E9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0D1-44CD-4D50-8CD5-CCB6092B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9589-273D-43F1-BBDD-A306A8F7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F234-7B74-41F4-A43D-AB590DFF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6375-8894-44C2-8776-70E7D55E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5EA3-66B8-4A10-ACE1-85A4604A1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EF70-4954-45E7-8EAA-F310290F1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D01-E1EF-4D1E-81E7-800EBAA2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BE88-5749-4228-9B38-A88A52E4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CC5D-1BAA-470F-815F-890DDC62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C570-8914-41E6-B6FD-DB811B61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4971-1354-4804-B789-7DFFC181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19A-26F1-47C7-878B-33B19BD8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6FF7-46B6-46B0-A54F-399BCBE6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FF8F-5E4E-40D5-B572-A452805355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E5D4-7459-4576-A9DB-D2925E6B0D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 И ПОРЯДОК ИХ ИСПОЛЬЗОВА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809520" y="3886200"/>
            <a:ext cx="49532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лалов Александр Пет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 23 имени С.В.Астраханце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Сар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1676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6324480" cy="3962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90720" y="78300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ушение очагов загораний, которые возникли за пределами помещений, необходимо осуществлять с неветряной стор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90720" y="106596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борьбе с огнём ты – победитель, когда в руках огнетушител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3733920" cy="304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219320"/>
            <a:ext cx="4400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390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700560"/>
            <a:ext cx="396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 служат для тушения пожаров в начальной стадии их развития до прибытия пожарных подразде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886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217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ним относятся: песок, вода, огнетушители, ломы, багры пожарные краны, кошма, войлок, асбестовое полотно, ведра, лопаты, пожарные щи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71800" y="40384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221004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86832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ое место отводится огнетушителям - это современные технические устройства, предназначенные для тушения пожаров в их начальной стадии возник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518148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60660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виду огнетушащие средства бывают воздушно-пенные, углекислотные, порошковые и комбинирован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552920" cy="32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244440"/>
            <a:ext cx="358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гнетушители воздушно-пенные предназначены для тушения твердых и жидких веществ и материалов. Имеют широкую область применения, за исключением случаев, когда огнетушащий заряд способствует развитию горения или является проводником электрического тока. Недостаток ОВП - невозможность применения при ликвидации пожаров и загораний электроустановок под напряж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353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14400" y="758160"/>
            <a:ext cx="312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глекислотные огнетушители: к ним относятся - ОУ-2, ОУ-5, ОУ-8. Эти огнетушители предназначены для тушения горючих материалов и электроустановок под напряж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3352680" cy="518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782640"/>
            <a:ext cx="297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гнетушители порошковые получили в настоящее время, особенно за рубежом, наибольшее распространение. Их применение для ликвидации загораний бензина, дизельного топлива, лаков, красок, древесины и других материалов на основе углер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350532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1218960"/>
            <a:ext cx="66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постановке огнетушителей в эксплуатацию они должны быть заряжены, опломбированы и иметь бирку с указанием даты (месяц, год) зарядки и даты очередной перезарядки и технического освидетельство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3581640" cy="2666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9:08:48Z</dcterms:created>
  <dc:creator>User</dc:creator>
  <dc:description/>
  <dc:language>en-US</dc:language>
  <cp:lastModifiedBy>User</cp:lastModifiedBy>
  <dcterms:modified xsi:type="dcterms:W3CDTF">2018-06-19T07:58:4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