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DF4B9-5EC9-4547-BE23-3ACD10FFB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A4AE5-8674-49EC-8821-5F6F2FF8A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40411-300F-453C-858D-279EEA674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370BD-DA2F-4C3E-941F-20AD61136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41E46-4583-488F-8A92-FA046581D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BEB8C-B027-4D16-87BC-0EE66DB10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D1135-3BD2-4C0B-B84E-18AF01AA5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E3633-4678-464E-8FBD-CA14730F5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0D8D3-C84B-4587-B4E8-887FA00E0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B66C2-4BA4-46DB-B359-148C0595F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CBFFF-1827-48D5-B874-AAF8BBFB5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B80CE-CEA2-45FE-87FC-ED007E2E4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AA60A-C694-4881-A1B2-84171BB4D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F8EF5-7AEE-4988-B0CA-A9DDC8284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3B412-403C-4503-91EB-350EA6DB3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BC7C6-6945-4796-83F6-DB7F0150A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AF46B-3BBF-475C-803C-C61B1313D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BAD9C-CFC6-4BD5-8843-D0591BE77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E5731-EEEA-4E0A-8D63-EBD4608D4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B4A6B-02E0-441E-8097-E0C02243A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1BAD6-E097-4E1E-94AF-AFF3C1D1B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9A461-E399-4D7A-897D-2BE6AD6A2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CC5B6-DE38-40CA-9B60-197697C41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7D67A-EEF0-4EF9-ADB7-988BDD8C5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12337-1DF9-413C-96BF-5A86E9C6FF1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6F487-834D-43A5-867A-D11140802C4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3352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ПЕРВИЧНЫЕ СРЕДСТВА ПОЖАРОТУШЕНИЯ И ПОРЯДОК ИХ ИСПОЛЬЗОВАНИЯ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3809520" y="3886200"/>
            <a:ext cx="4953240" cy="1752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алалов Александр Петрович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читель технологи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БОУ «СОШ № 23 имени С.В.Астраханцева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.Сарато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447920" y="3886200"/>
            <a:ext cx="167616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1905120" y="2514600"/>
            <a:ext cx="6324480" cy="396252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990720" y="783000"/>
            <a:ext cx="7086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Тушение очагов загораний, которые возникли за пределами помещений, необходимо осуществлять с неветряной сторон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990720" y="1065960"/>
            <a:ext cx="64008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В борьбе с огнём ты – победитель, когда в руках огнетушитель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4724280" y="3276720"/>
            <a:ext cx="3733920" cy="304776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1143000" y="1219320"/>
            <a:ext cx="440064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Спасибо за внимание 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5943600" y="3200400"/>
            <a:ext cx="2390760" cy="30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533520" y="700560"/>
            <a:ext cx="39621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ервичные средства пожаротушения служат для тушения пожаров в начальной стадии их развития до прибытия пожарных подразделени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4952880" y="3200400"/>
            <a:ext cx="3886200" cy="335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685800" y="121752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К ним относятся: песок, вода, огнетушители, ломы, багры пожарные краны, кошма, войлок, асбестовое полотно, ведра, лопаты, пожарные щит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2971800" y="4038480"/>
            <a:ext cx="3200400" cy="213372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304920" y="4038480"/>
            <a:ext cx="2286000" cy="213372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3"/>
          <a:stretch/>
        </p:blipFill>
        <p:spPr>
          <a:xfrm>
            <a:off x="6553080" y="4038480"/>
            <a:ext cx="2210040" cy="21337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609480" y="868320"/>
            <a:ext cx="77868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собое место отводится огнетушителям - это современные технические устройства, предназначенные для тушения пожаров в их начальной стадии возникнове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1828800" y="3276720"/>
            <a:ext cx="5181480" cy="25146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838080" y="606600"/>
            <a:ext cx="7391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о виду огнетушащие средства бывают воздушно-пенные, углекислотные, порошковые и комбинированны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286000" y="2895480"/>
            <a:ext cx="4552920" cy="320364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990720" y="244440"/>
            <a:ext cx="35812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Огнетушители воздушно-пенные предназначены для тушения твердых и жидких веществ и материалов. Имеют широкую область применения, за исключением случаев, когда огнетушащий заряд способствует развитию горения или является проводником электрического тока. Недостаток ОВП - невозможность применения при ликвидации пожаров и загораний электроустановок под напряжение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5181480" y="1219320"/>
            <a:ext cx="335304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914400" y="758160"/>
            <a:ext cx="31240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Углекислотные огнетушители: к ним относятся - ОУ-2, ОУ-5, ОУ-8. Эти огнетушители предназначены для тушения горючих материалов и электроустановок под напряжением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105520" y="1143000"/>
            <a:ext cx="3352680" cy="518148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914400" y="782640"/>
            <a:ext cx="29718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Огнетушители порошковые получили в настоящее время, особенно за рубежом, наибольшее распространение. Их применение для ликвидации загораний бензина, дизельного топлива, лаков, красок, древесины и других материалов на основе углерод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4952880" y="1143000"/>
            <a:ext cx="3505320" cy="516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1143000" y="1218960"/>
            <a:ext cx="666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ри постановке огнетушителей в эксплуатацию они должны быть заряжены, опломбированы и иметь бирку с указанием даты (месяц, год) зарядки и даты очередной перезарядки и технического освидетельствования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609480" y="3276720"/>
            <a:ext cx="3581640" cy="266688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5181480" y="3276720"/>
            <a:ext cx="3505320" cy="26668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19:08:48Z</dcterms:created>
  <dc:creator>User</dc:creator>
  <dc:description/>
  <dc:language>en-US</dc:language>
  <cp:lastModifiedBy>User</cp:lastModifiedBy>
  <dcterms:modified xsi:type="dcterms:W3CDTF">2018-06-19T07:58:40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