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2528-FA9D-4B75-9D0F-729DD7C70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38C9-C82B-45B5-9019-04568F72C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684E-7DF9-4DA9-A16C-26BDB1B18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1BF0-B700-4587-BD53-4B3BE222E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C30E9-96B7-42F0-8DD6-F01EAD37E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261B3-01E0-4E50-88C2-3EFB73564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E28BC-B473-4871-8F69-AB8A94D9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627C3-A2F2-4D07-9764-8B1CE19AF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30C93-69D8-47FC-B501-BBAF70D65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485F6-290B-4DBB-A08D-1D1A48FC6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3CFC0-6266-48EB-8720-76E74775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8A92-A960-4D62-8E8F-653483966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740A5-668B-4A69-AEE1-A9C6DD1A0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03672-7F28-4318-9291-A72A7C95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13FFB-5F87-44B7-A2A1-BD9B30974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D6923-517A-47E7-B24B-8811C820D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4DACB-6818-4591-98E9-4FA56DC43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521F-DFA3-4D81-9E73-8D0963B34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A466-4461-4756-B841-2362B967C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338E-07D8-4C01-A2DA-F55EDFB30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6268-D558-4706-92D3-7E8F313B6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77F2-151D-4073-8B17-521964710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1696-B525-4C17-B646-B86AFC7B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F945-9FF9-4582-8F16-E2D0BA8E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AAB10-13A9-496A-8E58-9096DA8F7A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4DBB4-98AB-42CC-B9F6-5E4778A9EC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text=&#1072;&#1089;&#1090;&#1088;&#1072;&#1093;&#1072;&#1085;&#1089;&#1082;&#1080;&#1081;%20&#1079;&#1072;&#1087;&#1086;&#1074;&#1077;&#1076;&#1085;&#1080;&#1082;%20&#1088;&#1072;&#1089;&#1087;&#1086;&#1083;&#1086;&#1078;&#1077;&#1085;&#1080;&#1077;&amp;img_url=http%3A%2F%2Fwww.life-nature.ru%2Fimages%2Fbooks%2F2012%2F03%2F24%2F3%2F13%2F4862021.jpg&amp;pos=18&amp;rpt=simage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text=&#1072;&#1089;&#1090;&#1088;&#1072;&#1093;&#1072;&#1085;&#1089;&#1082;&#1080;&#1081;%20&#1079;&#1072;&#1087;&#1086;&#1074;&#1077;&#1076;&#1085;&#1080;&#1082;%20&#1088;&#1072;&#1089;&#1087;&#1086;&#1083;&#1086;&#1078;&#1077;&#1085;&#1080;&#1077;&amp;img_url=http%3A%2F%2Fwww.kavkaz-uzel.ru%2Fimg%2Fcont%2Fastrzapovednik1.jpg&amp;pos=3&amp;rpt=simage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text=&#1072;&#1089;&#1090;&#1088;&#1072;&#1093;&#1072;&#1085;&#1089;&#1082;&#1080;&#1081;%20&#1079;&#1072;&#1087;&#1086;&#1074;&#1077;&#1076;&#1085;&#1080;&#1082;%20&#1088;&#1072;&#1089;&#1087;&#1086;&#1083;&#1086;&#1078;&#1077;&#1085;&#1080;&#1077;&amp;img_url=http%3A%2F%2Fsmi2.ru%2Fdata%2Ffckuploads%2F6b88f95e.jpg&amp;pos=2&amp;rpt=simage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text=&#1072;&#1089;&#1090;&#1088;&#1072;&#1093;&#1072;&#1085;&#1089;&#1082;&#1080;&#1081;%20&#1079;&#1072;&#1087;&#1086;&#1074;&#1077;&#1076;&#1085;&#1080;&#1082;%20&#1088;&#1072;&#1089;&#1087;&#1086;&#1083;&#1086;&#1078;&#1077;&#1085;&#1080;&#1077;&amp;img_url=http%3A%2F%2Fwww.priroda.cz%2Fclanky%2Ffoto%2Fbazant.jpg&amp;pos=0&amp;rpt=simage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hyperlink" Target="http://images.yandex.ru/yandsearch?p=3&amp;text=&#1072;&#1089;&#1090;&#1088;&#1072;&#1093;&#1072;&#1085;&#1089;&#1082;&#1080;&#1081;%20&#1079;&#1072;&#1087;&#1086;&#1074;&#1077;&#1076;&#1085;&#1080;&#1082;%20&#1088;&#1072;&#1089;&#1087;&#1086;&#1083;&#1086;&#1078;&#1077;&#1085;&#1080;&#1077;&amp;img_url=http%3A%2F%2Fwww.prima-bobr.estranky.cz%2Fimg%2Ftiny%2F1.jpg&amp;pos=94&amp;rpt=simage" TargetMode="External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yandex.ru/yandsearch?text=&#1072;&#1089;&#1090;&#1088;&#1072;&#1093;&#1072;&#1085;&#1089;&#1082;&#1080;&#1081;%20&#1079;&#1072;&#1087;&#1086;&#1074;&#1077;&#1076;&#1085;&#1080;&#1082;%20&#1088;&#1072;&#1089;&#1087;&#1086;&#1083;&#1086;&#1078;&#1077;&#1085;&#1080;&#1077;&amp;img_url=http%3A%2F%2Fimg1.liveinternet.ru%2Fimages%2Fattach%2Fb%2F3%2F29%2F90%2F29090379_image_1_4.jpg&amp;pos=15&amp;rpt=simage" TargetMode="External"/><Relationship Id="rId3" Type="http://schemas.openxmlformats.org/officeDocument/2006/relationships/image" Target="../media/image13.jpeg"/><Relationship Id="rId4" Type="http://schemas.openxmlformats.org/officeDocument/2006/relationships/hyperlink" Target="http://images.yandex.ru/yandsearch?p=1&amp;text=&#1072;&#1089;&#1090;&#1088;&#1072;&#1093;&#1072;&#1085;&#1089;&#1082;&#1080;&#1081;%20&#1079;&#1072;&#1087;&#1086;&#1074;&#1077;&#1076;&#1085;&#1080;&#1082;%20&#1088;&#1072;&#1089;&#1087;&#1086;&#1083;&#1086;&#1078;&#1077;&#1085;&#1080;&#1077;&amp;img_url=http%3A%2F%2Frb.foto.radikal.ru%2F0707%2F73%2F66c9c7a9fb7e.jpg&amp;pos=38&amp;rpt=simage" TargetMode="External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800000"/>
                </a:solidFill>
                <a:latin typeface="Verdana"/>
              </a:rPr>
              <a:t>Астраханский заповедник</a:t>
            </a:r>
            <a:endParaRPr b="0" lang="en-US" sz="7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843280" y="4005360"/>
            <a:ext cx="3384360" cy="247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675280" y="212400"/>
            <a:ext cx="2984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620280"/>
            <a:ext cx="850752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Raavi"/>
              </a:rPr>
              <a:t>Расположение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Sylfaen"/>
              </a:rPr>
              <a:t>Астраханская область</a:t>
            </a:r>
            <a:r>
              <a:rPr b="0" lang="en-US" sz="3200" spc="-1" strike="noStrike">
                <a:solidFill>
                  <a:srgbClr val="ffffff"/>
                </a:solidFill>
                <a:latin typeface="Sylfae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Raavi"/>
              </a:rPr>
              <a:t>Страна:  </a:t>
            </a:r>
            <a:r>
              <a:rPr b="1" i="1" lang="en-US" sz="3600" spc="-1" strike="noStrike">
                <a:solidFill>
                  <a:srgbClr val="ffffff"/>
                </a:solidFill>
                <a:latin typeface="Sylfaen"/>
              </a:rPr>
              <a:t>Россия</a:t>
            </a:r>
            <a:r>
              <a:rPr b="1" lang="en-US" sz="4000" spc="-1" strike="noStrike">
                <a:solidFill>
                  <a:srgbClr val="ffff00"/>
                </a:solidFill>
                <a:latin typeface="Raavi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Raavi"/>
              </a:rPr>
              <a:t>Ближайший город: </a:t>
            </a:r>
            <a:r>
              <a:rPr b="1" i="1" lang="en-US" sz="4000" spc="-1" strike="noStrike">
                <a:solidFill>
                  <a:srgbClr val="ffffff"/>
                </a:solidFill>
                <a:latin typeface="Sylfaen"/>
              </a:rPr>
              <a:t>Астрахань</a:t>
            </a:r>
            <a:r>
              <a:rPr b="1" lang="en-US" sz="4000" spc="-1" strike="noStrike">
                <a:solidFill>
                  <a:srgbClr val="ffff00"/>
                </a:solidFill>
                <a:latin typeface="Raavi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Raavi"/>
              </a:rPr>
              <a:t>Площадь: </a:t>
            </a:r>
            <a:r>
              <a:rPr b="1" i="1" lang="en-US" sz="3600" spc="-1" strike="noStrike">
                <a:solidFill>
                  <a:srgbClr val="ffffff"/>
                </a:solidFill>
                <a:latin typeface="Sylfaen"/>
              </a:rPr>
              <a:t>67 917 га</a:t>
            </a:r>
            <a:r>
              <a:rPr b="1" lang="en-US" sz="4000" spc="-1" strike="noStrike">
                <a:solidFill>
                  <a:srgbClr val="ffff00"/>
                </a:solidFill>
                <a:latin typeface="Raavi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Raavi"/>
              </a:rPr>
              <a:t>Дата основания: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3600" spc="-1" strike="noStrike">
                <a:solidFill>
                  <a:srgbClr val="ffffff"/>
                </a:solidFill>
                <a:latin typeface="Sylfaen"/>
              </a:rPr>
              <a:t>11 апреля 1919 год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4149720"/>
            <a:ext cx="233676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ddc0a"/>
                </a:solidFill>
                <a:latin typeface="Trebuchet MS"/>
              </a:rPr>
              <a:t>Расположение</a:t>
            </a:r>
            <a:r>
              <a:rPr b="0" lang="en-US" sz="4400" spc="-1" strike="noStrike">
                <a:solidFill>
                  <a:srgbClr val="cddc0a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50752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Заповедник расположен в низовьях дельты Волги, на территории Камызякского, Володарского и Икрянинского районов Астраханской обла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Территориально разбит на три участка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Tahoma"/>
              </a:rPr>
              <a:t>Дамчикский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в западной части дель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Tahoma"/>
              </a:rPr>
              <a:t>Трехизбинский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в центральной части дель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800000"/>
                </a:solidFill>
                <a:latin typeface="Tahoma"/>
              </a:rPr>
              <a:t>Обжоровский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в восточной части дельт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2124000" cy="20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ddc0a"/>
                </a:solidFill>
                <a:latin typeface="Tahoma"/>
              </a:rPr>
              <a:t>Природа Астраханского заповедник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Климат региона характеризуется обилием солнечного света и тепла. Тепловой период длится более 250 дней, годовое количество осадков 160-180 мм. Зима начинается 4 декабря и длится до 16 марта, средняя температура - 4 – 4,6 0С. весной быстро повышается температура воздуха и преобладает засушливая погода. Лето начинается 5 мая и продолжается до 20 сентября, характеризуется высокой температурой и низкой влажностью, иногда бывают ливневые дожди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.</a:t>
            </a:r>
            <a:r>
              <a:rPr b="0" lang="en-US" sz="2800" spc="-1" strike="noStrike">
                <a:solidFill>
                  <a:srgbClr val="29f75a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5429160"/>
            <a:ext cx="20955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ddc0a"/>
                </a:solidFill>
                <a:latin typeface="Tahoma"/>
              </a:rPr>
              <a:t>Животные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В фауне заповедника 30 видов млекопитающих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Встречается около 230 видов птиц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Насекомых выявлено 1800 видов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000" y="4581360"/>
            <a:ext cx="2076480" cy="14288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&amp;Kcy;&amp;Ocy;&amp;Mcy;&amp;Acy;&amp;Rcy;-&amp;Pcy;&amp;Icy;&amp;Scy;&amp;Kcy;&amp;Ucy;&amp;Ncy;"/>
          <p:cNvPicPr/>
          <p:nvPr/>
        </p:nvPicPr>
        <p:blipFill>
          <a:blip r:embed="rId4"/>
          <a:stretch/>
        </p:blipFill>
        <p:spPr>
          <a:xfrm>
            <a:off x="5940360" y="4581360"/>
            <a:ext cx="2857680" cy="18288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59280" y="5013360"/>
            <a:ext cx="20192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66960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c0a0a"/>
                </a:solidFill>
                <a:latin typeface="Tahoma"/>
              </a:rPr>
              <a:t>Наиболее охраняемые виды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425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Птиц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unga"/>
              </a:rPr>
              <a:t>баклан большо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unga"/>
              </a:rPr>
              <a:t>гусь сер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unga"/>
              </a:rPr>
              <a:t>нырок красноносы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unga"/>
              </a:rPr>
              <a:t>фаза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Tahoma"/>
              </a:rPr>
              <a:t>Млекопитающ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unga"/>
              </a:rPr>
              <a:t>выдр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unga"/>
              </a:rPr>
              <a:t>горноста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unga"/>
              </a:rPr>
              <a:t>каба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unga"/>
              </a:rPr>
              <a:t>лас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unga"/>
              </a:rPr>
              <a:t>собака енотовидна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Насекомы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unga"/>
              </a:rPr>
              <a:t>комар-писку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Tahoma"/>
              </a:rPr>
              <a:t>Рыбы костны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unga"/>
              </a:rPr>
              <a:t>лещ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unga"/>
              </a:rPr>
              <a:t>осётр русски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unga"/>
              </a:rPr>
              <a:t>сазан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unga"/>
              </a:rPr>
              <a:t>         </a:t>
            </a:r>
            <a:r>
              <a:rPr b="0" lang="en-US" sz="1800" spc="-1" strike="noStrike">
                <a:solidFill>
                  <a:srgbClr val="ffffff"/>
                </a:solidFill>
                <a:latin typeface="Tunga"/>
              </a:rPr>
              <a:t>сом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АСТРАХАНСКИЙ заповедник"/>
          <p:cNvPicPr/>
          <p:nvPr/>
        </p:nvPicPr>
        <p:blipFill>
          <a:blip r:embed="rId2"/>
          <a:stretch/>
        </p:blipFill>
        <p:spPr>
          <a:xfrm>
            <a:off x="6227640" y="1484280"/>
            <a:ext cx="2381400" cy="1495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АСТРАХАНСКИЙ заповедник - фазан"/>
          <p:cNvPicPr/>
          <p:nvPr/>
        </p:nvPicPr>
        <p:blipFill>
          <a:blip r:embed="rId3"/>
          <a:stretch/>
        </p:blipFill>
        <p:spPr>
          <a:xfrm>
            <a:off x="3203640" y="2852640"/>
            <a:ext cx="2381040" cy="1638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АСТРАХАНСКИЙ заповедник - ондатра"/>
          <p:cNvPicPr/>
          <p:nvPr/>
        </p:nvPicPr>
        <p:blipFill>
          <a:blip r:embed="rId4"/>
          <a:stretch/>
        </p:blipFill>
        <p:spPr>
          <a:xfrm>
            <a:off x="6588000" y="3213000"/>
            <a:ext cx="2381400" cy="1552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АСТРАХАНСКИЙ заповедник - енотовидная собака"/>
          <p:cNvPicPr/>
          <p:nvPr/>
        </p:nvPicPr>
        <p:blipFill>
          <a:blip r:embed="rId5"/>
          <a:stretch/>
        </p:blipFill>
        <p:spPr>
          <a:xfrm>
            <a:off x="3995640" y="4724280"/>
            <a:ext cx="238140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ddc0a"/>
                </a:solidFill>
                <a:latin typeface="Tahoma"/>
              </a:rPr>
              <a:t>Растительный покров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Флора заповедника представлена 293 видами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302868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В заповеднике представлены лесная, луговая и водная типы растительности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8000" y="4365720"/>
            <a:ext cx="2374920" cy="16570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659640" y="4797360"/>
            <a:ext cx="2367000" cy="17496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4859280" y="4221000"/>
            <a:ext cx="1905120" cy="14288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7"/>
          <a:stretch/>
        </p:blipFill>
        <p:spPr>
          <a:xfrm>
            <a:off x="2340000" y="4962600"/>
            <a:ext cx="252396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2T15:52:53Z</dcterms:created>
  <dc:creator>Владимир</dc:creator>
  <dc:description/>
  <dc:language>en-US</dc:language>
  <cp:lastModifiedBy>Владимир</cp:lastModifiedBy>
  <dcterms:modified xsi:type="dcterms:W3CDTF">2013-02-12T16:55:17Z</dcterms:modified>
  <cp:revision>2</cp:revision>
  <dc:subject/>
  <dc:title>Астраханский заповедник</dc:title>
</cp:coreProperties>
</file>