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387-EBAA-420B-9C9A-4429EBA6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8375-E461-4B52-B624-5B046619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2B95-F61A-436C-B803-AF115F4A7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2A7-3BC7-4675-BCBC-D4537579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60147-8BBE-4259-861F-5C9845934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4711-22D3-40A9-89F7-2CC9C7F2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46371-167C-47A5-9193-48996864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73A44-5393-4EFC-A413-32B42646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91677-E220-4317-A163-37E8AAF3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799C-EB2D-4F45-850E-10464BEE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7C7DB-EB89-4FD1-B5FD-7A576E0D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A5B-BAA7-4E20-BDE0-1EEDC2B61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F9B6-001A-4102-95E6-EFB39390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EC7B-09EA-46D9-A4AA-9A9F45D8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09EB-3AC8-4708-99BD-D341787E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E041E-7B3F-4368-93D9-F27494494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6DFB-C5F0-4144-B07B-204E9994A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C606-1ED4-478D-8DF5-58132FF2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B14-D092-40FF-A689-C1B2C35E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652A-060E-40E5-AFDD-89972D6F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9CC-351E-4784-8E2A-9BA625E5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2E0-D7E2-489F-9E51-F844171B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46F4-CC88-41C8-9FA4-264F183A2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091-2C63-4429-BAEA-74217379D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745C-3CDA-4401-9138-59D2C8C5B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57CB4-67DA-414B-83F7-9D0FD82503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72;&#1089;&#1090;&#1088;&#1072;&#1093;&#1072;&#1085;&#1089;&#1082;&#1080;&#1081;%20&#1079;&#1072;&#1087;&#1086;&#1074;&#1077;&#1076;&#1085;&#1080;&#1082;%20&#1088;&#1072;&#1089;&#1087;&#1086;&#1083;&#1086;&#1078;&#1077;&#1085;&#1080;&#1077;&amp;img_url=http%3A%2F%2Fwww.life-nature.ru%2Fimages%2Fbooks%2F2012%2F03%2F24%2F3%2F13%2F4862021.jpg&amp;pos=18&amp;rpt=simage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72;&#1089;&#1090;&#1088;&#1072;&#1093;&#1072;&#1085;&#1089;&#1082;&#1080;&#1081;%20&#1079;&#1072;&#1087;&#1086;&#1074;&#1077;&#1076;&#1085;&#1080;&#1082;%20&#1088;&#1072;&#1089;&#1087;&#1086;&#1083;&#1086;&#1078;&#1077;&#1085;&#1080;&#1077;&amp;img_url=http%3A%2F%2Fwww.kavkaz-uzel.ru%2Fimg%2Fcont%2Fastrzapovednik1.jpg&amp;pos=3&amp;rpt=simag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72;&#1089;&#1090;&#1088;&#1072;&#1093;&#1072;&#1085;&#1089;&#1082;&#1080;&#1081;%20&#1079;&#1072;&#1087;&#1086;&#1074;&#1077;&#1076;&#1085;&#1080;&#1082;%20&#1088;&#1072;&#1089;&#1087;&#1086;&#1083;&#1086;&#1078;&#1077;&#1085;&#1080;&#1077;&amp;img_url=http%3A%2F%2Fsmi2.ru%2Fdata%2Ffckuploads%2F6b88f95e.jpg&amp;pos=2&amp;rpt=simage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72;&#1089;&#1090;&#1088;&#1072;&#1093;&#1072;&#1085;&#1089;&#1082;&#1080;&#1081;%20&#1079;&#1072;&#1087;&#1086;&#1074;&#1077;&#1076;&#1085;&#1080;&#1082;%20&#1088;&#1072;&#1089;&#1087;&#1086;&#1083;&#1086;&#1078;&#1077;&#1085;&#1080;&#1077;&amp;img_url=http%3A%2F%2Fwww.priroda.cz%2Fclanky%2Ffoto%2Fbazant.jpg&amp;pos=0&amp;rpt=simage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images.yandex.ru/yandsearch?p=3&amp;text=&#1072;&#1089;&#1090;&#1088;&#1072;&#1093;&#1072;&#1085;&#1089;&#1082;&#1080;&#1081;%20&#1079;&#1072;&#1087;&#1086;&#1074;&#1077;&#1076;&#1085;&#1080;&#1082;%20&#1088;&#1072;&#1089;&#1087;&#1086;&#1083;&#1086;&#1078;&#1077;&#1085;&#1080;&#1077;&amp;img_url=http%3A%2F%2Fwww.prima-bobr.estranky.cz%2Fimg%2Ftiny%2F1.jpg&amp;pos=94&amp;rpt=simage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72;&#1089;&#1090;&#1088;&#1072;&#1093;&#1072;&#1085;&#1089;&#1082;&#1080;&#1081;%20&#1079;&#1072;&#1087;&#1086;&#1074;&#1077;&#1076;&#1085;&#1080;&#1082;%20&#1088;&#1072;&#1089;&#1087;&#1086;&#1083;&#1086;&#1078;&#1077;&#1085;&#1080;&#1077;&amp;img_url=http%3A%2F%2Fimg1.liveinternet.ru%2Fimages%2Fattach%2Fb%2F3%2F29%2F90%2F29090379_image_1_4.jpg&amp;pos=15&amp;rpt=simage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yandex.ru/yandsearch?p=1&amp;text=&#1072;&#1089;&#1090;&#1088;&#1072;&#1093;&#1072;&#1085;&#1089;&#1082;&#1080;&#1081;%20&#1079;&#1072;&#1087;&#1086;&#1074;&#1077;&#1076;&#1085;&#1080;&#1082;%20&#1088;&#1072;&#1089;&#1087;&#1086;&#1083;&#1086;&#1078;&#1077;&#1085;&#1080;&#1077;&amp;img_url=http%3A%2F%2Frb.foto.radikal.ru%2F0707%2F73%2F66c9c7a9fb7e.jpg&amp;pos=38&amp;rpt=simage" TargetMode="External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800000"/>
                </a:solidFill>
                <a:latin typeface="Verdana"/>
              </a:rPr>
              <a:t>Астраханский заповедник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43280" y="4005360"/>
            <a:ext cx="338436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75280" y="212400"/>
            <a:ext cx="298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5075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Расположение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Sylfaen"/>
              </a:rPr>
              <a:t>Астраханская область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Страна:  </a:t>
            </a:r>
            <a:r>
              <a:rPr b="1" i="1" lang="en-US" sz="3600" spc="-1" strike="noStrike">
                <a:solidFill>
                  <a:srgbClr val="ffffff"/>
                </a:solidFill>
                <a:latin typeface="Sylfaen"/>
              </a:rPr>
              <a:t>Россия</a:t>
            </a: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Ближайший город: </a:t>
            </a:r>
            <a:r>
              <a:rPr b="1" i="1" lang="en-US" sz="4000" spc="-1" strike="noStrike">
                <a:solidFill>
                  <a:srgbClr val="ffffff"/>
                </a:solidFill>
                <a:latin typeface="Sylfaen"/>
              </a:rPr>
              <a:t>Астрахань</a:t>
            </a: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Площадь: </a:t>
            </a:r>
            <a:r>
              <a:rPr b="1" i="1" lang="en-US" sz="3600" spc="-1" strike="noStrike">
                <a:solidFill>
                  <a:srgbClr val="ffffff"/>
                </a:solidFill>
                <a:latin typeface="Sylfaen"/>
              </a:rPr>
              <a:t>67 917 га</a:t>
            </a: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Дата основа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Sylfaen"/>
              </a:rPr>
              <a:t>11 апреля 1919 год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49720"/>
            <a:ext cx="23367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ddc0a"/>
                </a:solidFill>
                <a:latin typeface="Trebuchet MS"/>
              </a:rPr>
              <a:t>Расположение</a:t>
            </a:r>
            <a:r>
              <a:rPr b="0" lang="en-US" sz="4400" spc="-1" strike="noStrike">
                <a:solidFill>
                  <a:srgbClr val="cddc0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Заповедник расположен в низовьях дельты Волги, на территории Камызякского, Володарского и Икрянинского районов Астраханской обл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Территориально разбит на три участ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ahoma"/>
              </a:rPr>
              <a:t>Дамчик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в западной части дель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ahoma"/>
              </a:rPr>
              <a:t>Трехизбин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в центральной части дель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ahoma"/>
              </a:rPr>
              <a:t>Обжоров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в восточной части дель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12400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ddc0a"/>
                </a:solidFill>
                <a:latin typeface="Tahoma"/>
              </a:rPr>
              <a:t>Природа Астраханского заповедни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Климат региона характеризуется обилием солнечного света и тепла. Тепловой период длится более 250 дней, годовое количество осадков 160-180 мм. Зима начинается 4 декабря и длится до 16 марта, средняя температура - 4 – 4,6 0С. весной быстро повышается температура воздуха и преобладает засушливая погода. Лето начинается 5 мая и продолжается до 20 сентября, характеризуется высокой температурой и низкой влажностью, иногда бывают ливневые дожди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29f75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5429160"/>
            <a:ext cx="2095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ddc0a"/>
                </a:solidFill>
                <a:latin typeface="Tahoma"/>
              </a:rPr>
              <a:t>Животные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 фауне заповедника 30 видов млекопитающих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стречается около 230 видов птиц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асекомых выявлено 1800 вид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581360"/>
            <a:ext cx="207648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&amp;Kcy;&amp;Ocy;&amp;Mcy;&amp;Acy;&amp;Rcy;-&amp;Pcy;&amp;Icy;&amp;Scy;&amp;Kcy;&amp;Ucy;&amp;Ncy;"/>
          <p:cNvPicPr/>
          <p:nvPr/>
        </p:nvPicPr>
        <p:blipFill>
          <a:blip r:embed="rId4"/>
          <a:stretch/>
        </p:blipFill>
        <p:spPr>
          <a:xfrm>
            <a:off x="5940360" y="4581360"/>
            <a:ext cx="285768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5013360"/>
            <a:ext cx="2019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69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0a0a"/>
                </a:solidFill>
                <a:latin typeface="Tahoma"/>
              </a:rPr>
              <a:t>Наиболее охраняемые виды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Пти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баклан больш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гусь сер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нырок краснонос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фаз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Млекопитающ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выд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горност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каб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ла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собака енотовид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Насеком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комар-писку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Рыбы кост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nga"/>
              </a:rPr>
              <a:t>ле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nga"/>
              </a:rPr>
              <a:t>осётр рус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nga"/>
              </a:rPr>
              <a:t>саз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ng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unga"/>
              </a:rPr>
              <a:t>с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АСТРАХАНСКИЙ заповедник"/>
          <p:cNvPicPr/>
          <p:nvPr/>
        </p:nvPicPr>
        <p:blipFill>
          <a:blip r:embed="rId2"/>
          <a:stretch/>
        </p:blipFill>
        <p:spPr>
          <a:xfrm>
            <a:off x="6227640" y="1484280"/>
            <a:ext cx="2381400" cy="1495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АСТРАХАНСКИЙ заповедник - фазан"/>
          <p:cNvPicPr/>
          <p:nvPr/>
        </p:nvPicPr>
        <p:blipFill>
          <a:blip r:embed="rId3"/>
          <a:stretch/>
        </p:blipFill>
        <p:spPr>
          <a:xfrm>
            <a:off x="3203640" y="2852640"/>
            <a:ext cx="2381040" cy="163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АСТРАХАНСКИЙ заповедник - ондатра"/>
          <p:cNvPicPr/>
          <p:nvPr/>
        </p:nvPicPr>
        <p:blipFill>
          <a:blip r:embed="rId4"/>
          <a:stretch/>
        </p:blipFill>
        <p:spPr>
          <a:xfrm>
            <a:off x="6588000" y="3213000"/>
            <a:ext cx="2381400" cy="1552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АСТРАХАНСКИЙ заповедник - енотовидная собака"/>
          <p:cNvPicPr/>
          <p:nvPr/>
        </p:nvPicPr>
        <p:blipFill>
          <a:blip r:embed="rId5"/>
          <a:stretch/>
        </p:blipFill>
        <p:spPr>
          <a:xfrm>
            <a:off x="3995640" y="4724280"/>
            <a:ext cx="23814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c0a"/>
                </a:solidFill>
                <a:latin typeface="Tahoma"/>
              </a:rPr>
              <a:t>Растительный покров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Флора заповедника представлена 293 видам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0286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 заповеднике представлены лесная, луговая и водная типы раститель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4365720"/>
            <a:ext cx="2374920" cy="1657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4797360"/>
            <a:ext cx="2367000" cy="1749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859280" y="4221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2340000" y="4962600"/>
            <a:ext cx="25239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5:52:53Z</dcterms:created>
  <dc:creator>Владимир</dc:creator>
  <dc:description/>
  <dc:language>en-US</dc:language>
  <cp:lastModifiedBy>Владимир</cp:lastModifiedBy>
  <dcterms:modified xsi:type="dcterms:W3CDTF">2013-02-12T16:55:17Z</dcterms:modified>
  <cp:revision>2</cp:revision>
  <dc:subject/>
  <dc:title>Астраханский заповедник</dc:title>
</cp:coreProperties>
</file>