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D348-D620-4721-9EEB-0AAF0FF3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8170-FF86-4CF3-801B-4C203DBE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47F-8D30-486B-9489-4DB00638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43B-31DF-455F-B8C6-FB1B5D36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230E-6D6B-4D7F-986F-3892DF8C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25CC-D830-4CCE-AECC-6FBD461A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A0E3-A5B7-4D59-9BAC-12A75846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8DA4-D6E6-45F3-B2D0-AE3BC33C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B974-87D5-44DA-A30F-45909AD5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75EC-27F2-4B38-902F-D80045C2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4CE8-FED4-44DE-974E-D7CF55DD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5AE6-F94A-41CA-86FB-30012E2C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3143-B197-4966-B69F-4360DBBA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A506-E642-4068-ACBC-A752FB34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148A-710A-44AF-94F0-D1F07BA6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B661-014B-49B3-AC1A-4100CEA4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C947-0262-4356-8369-2D799994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3521-F941-44B8-8648-0662363F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09E-F989-4096-BE9A-F0E03E8B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42B5-9412-42AD-AA93-60C98D57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446-F959-4D65-A1EE-43C251E6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4F4-3202-4AD7-84B1-FFB5A78F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11A-F500-4FEA-B208-C5AA348C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EC7-D979-4616-9C9B-6E8E722C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904C-93EE-45FE-9769-1981EBE46B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2100"/>
                </a:solidFill>
                <a:latin typeface="Arial Black"/>
              </a:rPr>
              <a:t>Материалы сайта «Родная тропинк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2100"/>
                </a:solidFill>
                <a:latin typeface="Arial Black"/>
              </a:rPr>
              <a:t>Сайт о развитии ребенка: развитие речи, ознакомление с окружающим миром, развивающие игры и упраж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0E37-5BFB-415B-9F14-EE4EA1CF49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5749920" y="179856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390240" cy="68929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3"/>
          <p:cNvSpPr/>
          <p:nvPr/>
        </p:nvSpPr>
        <p:spPr>
          <a:xfrm>
            <a:off x="5803920" y="4849920"/>
            <a:ext cx="32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 Black"/>
              </a:rPr>
              <a:t>Презентация педагога до. Образования ГБОУ СОШ № 2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 Black"/>
              </a:rPr>
              <a:t>Коваленко Т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900000" y="0"/>
            <a:ext cx="753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0" y="-6480"/>
            <a:ext cx="919476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-312840" y="4680"/>
            <a:ext cx="9483840" cy="70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684360" y="0"/>
            <a:ext cx="802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40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12600" y="-100080"/>
            <a:ext cx="92268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-204840" y="0"/>
            <a:ext cx="933624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15840" y="0"/>
            <a:ext cx="929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8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29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0" y="3240"/>
            <a:ext cx="91803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0T19:19:19Z</dcterms:created>
  <dc:creator>user</dc:creator>
  <dc:description/>
  <dc:language>en-US</dc:language>
  <cp:lastModifiedBy>Tatiana Kovalenko</cp:lastModifiedBy>
  <dcterms:modified xsi:type="dcterms:W3CDTF">2018-03-02T11:04:06Z</dcterms:modified>
  <cp:revision>37</cp:revision>
  <dc:subject/>
  <dc:title>Слайд 1</dc:title>
</cp:coreProperties>
</file>