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3B9-98DC-4A48-B301-E401B0C3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85A-DF72-45B3-85FA-34D2F142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662-654C-4F9D-8FBA-34C86856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2F9-AB9B-4701-95A7-4477F9B4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4F1E-8054-409D-A6FB-8937049E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27AB-93C8-4F11-BCC4-E8C5F5D3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979B-F7EA-491A-8F90-05B2DD6C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D3F-431E-4DC9-B811-35ED1636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F13-D9EB-4B44-81A7-2509D4BA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0636-E59F-4332-9EDC-524DEE85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E003-DFAF-48F3-87D4-58845FDE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120-DC5C-4BBB-B9B0-2D422B90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B84D-9D50-4AC8-9CD2-27371857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BC3D-2DB9-469D-86A6-6C9FF66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4372-C78E-4DE7-9418-125379FB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DB3-6768-41D5-8BDF-61E43DC1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050E-AD90-4126-AE8E-5E10E418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E1A-0217-4043-AB18-733D88AA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AF7-A0BD-4787-B05D-6782EA2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6AF-60CE-4934-B6D3-2C733E9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7B6-6DF2-4BCD-A169-A49AE62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859-63DA-47AB-87B9-79D25AC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F64-A691-4472-8277-1A344EBD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715-2FC0-4423-BE01-4074E6C2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8505-8E8A-4DBC-A7C6-0DEFC8FE1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2100"/>
                </a:solidFill>
                <a:latin typeface="Arial Black"/>
              </a:rPr>
              <a:t>Материалы сайта «Родная тропин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2100"/>
                </a:solidFill>
                <a:latin typeface="Arial Black"/>
              </a:rPr>
              <a:t>Сайт о развитии ребенка: развитие речи, ознакомление с окружающим миром, развивающие игры и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CA04-714D-4BBA-8333-C87AC3C4D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5749920" y="179856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390240" cy="6892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5803920" y="48499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Black"/>
              </a:rPr>
              <a:t>Презентация педагога до. Образования ГБОУ СОШ № 2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 Black"/>
              </a:rPr>
              <a:t>Коваленко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900000" y="0"/>
            <a:ext cx="753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0" y="-6480"/>
            <a:ext cx="91947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-312840" y="4680"/>
            <a:ext cx="948384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68436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40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12600" y="-100080"/>
            <a:ext cx="92268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-204840" y="0"/>
            <a:ext cx="93362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1584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3240"/>
            <a:ext cx="91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9:19:19Z</dcterms:created>
  <dc:creator>user</dc:creator>
  <dc:description/>
  <dc:language>en-US</dc:language>
  <cp:lastModifiedBy>Tatiana Kovalenko</cp:lastModifiedBy>
  <dcterms:modified xsi:type="dcterms:W3CDTF">2018-03-02T11:04:06Z</dcterms:modified>
  <cp:revision>37</cp:revision>
  <dc:subject/>
  <dc:title>Слайд 1</dc:title>
</cp:coreProperties>
</file>