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9CD8-3F52-4CA1-B46D-F6D3CB98F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6583-3C0F-4208-B8A9-7CD4AFA5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620D-82D1-44BA-A8D9-84EE24BEF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825-52F2-4BFD-904D-30A3F7361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DD9C-DF52-4120-ACE1-21512A721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9AC1-4735-44D6-9635-113DFB9E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4829-E75A-4079-8EA7-E366F3B7E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C343-BC62-4DC0-B426-B2AAB99FB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0370-C077-4A99-A07C-7A9C979D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780F-7B76-407D-AC8A-678DD17BF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F9A0-3B04-4CE9-B08E-AEB99C54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174E-13BD-4411-8C56-69AC74AA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D7F5-7380-4E6B-A660-2C6DA61FA6C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38680" y="2761920"/>
            <a:ext cx="335304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рок обучения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зобразительного искусства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2 класс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читель: Мартыненко И. А.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ОУ «СОШ №77» </a:t>
            </a:r>
            <a:br>
              <a:rPr sz="2700"/>
            </a:b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.  Сарато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WordArt 4" descr=""/>
          <p:cNvPicPr/>
          <p:nvPr/>
        </p:nvPicPr>
        <p:blipFill>
          <a:blip r:embed="rId1"/>
          <a:stretch/>
        </p:blipFill>
        <p:spPr>
          <a:xfrm>
            <a:off x="49320" y="219240"/>
            <a:ext cx="7881840" cy="1622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&amp;Dcy;&amp;ycy;&amp;mcy;&amp;kcy;&amp;ocy;&amp;vcy;&amp;scy;&amp;kcy;&amp;acy;&amp;yacy; &amp;icy;&amp;gcy;&amp;rcy;&amp;ucy;&amp;shcy;&amp;kcy;&amp;acy;(&amp;icy;&amp;scy;&amp;tcy;&amp;ocy;&amp;rcy;&amp;icy;&amp;yacy;+&amp;fcy;&amp;ocy;&amp;tcy;&amp;ocy;&amp;gcy;&amp;rcy;&amp;acy;&amp;fcy;&amp;icy;&amp;icy;)."/>
          <p:cNvPicPr/>
          <p:nvPr/>
        </p:nvPicPr>
        <p:blipFill>
          <a:blip r:embed="rId2"/>
          <a:stretch/>
        </p:blipFill>
        <p:spPr>
          <a:xfrm>
            <a:off x="304920" y="1981080"/>
            <a:ext cx="56386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мнению исследователей ,развитие дымковской глиняной игрушки связано с обрядовым весенним  праздником «свистопляской»,который был посвящен солнцу . Чтобы принять участие в празднике ,нужна была глиняная свистулька и расписной глиняный шарик ,которым можно было перекидыва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ымковская игрушка,пожалуй ,один из самых старинных промыслов России.Он возник из любви к гончарной традиции вятских земель в глубокой древности.Название игрушки происходит от слободы Дымкова сегодня это район города Вя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large"/>
          <p:cNvPicPr/>
          <p:nvPr/>
        </p:nvPicPr>
        <p:blipFill>
          <a:blip r:embed="rId1"/>
          <a:stretch/>
        </p:blipFill>
        <p:spPr>
          <a:xfrm>
            <a:off x="5867280" y="3514680"/>
            <a:ext cx="28576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22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истульки имели формы различных тотемных животных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дведь,козел,баран,олень.Такие глиняные фигурки лепили женщины и девочки задолго до праздника.Чтобы не изображала дымковская игрушка её можно отличить своей неповторимостию нарядной раскраской .На белом фоне очень весело смотрятся :синий,голубой,зеленый,желто-оранжевый,малиновый цвета.Их может быть до деся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large"/>
          <p:cNvPicPr/>
          <p:nvPr/>
        </p:nvPicPr>
        <p:blipFill>
          <a:blip r:embed="rId1"/>
          <a:stretch/>
        </p:blipFill>
        <p:spPr>
          <a:xfrm>
            <a:off x="0" y="2666880"/>
            <a:ext cx="2857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намент всегда прост :клетки ,полоски ,круги,точки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ромбики,зигзаги в различных сочетаниях.Но их геометрические узоры несут информацию.Например ,синяя  волнистая полоса обозночает воду,перекрещенные полоски – сруб колодца ,круг с серединкой –звездочкой –солнце и другие свети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large"/>
          <p:cNvPicPr/>
          <p:nvPr/>
        </p:nvPicPr>
        <p:blipFill>
          <a:blip r:embed="rId1"/>
          <a:stretch/>
        </p:blipFill>
        <p:spPr>
          <a:xfrm>
            <a:off x="1143000" y="2514600"/>
            <a:ext cx="2857680" cy="3971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9" descr="large"/>
          <p:cNvPicPr/>
          <p:nvPr/>
        </p:nvPicPr>
        <p:blipFill>
          <a:blip r:embed="rId2"/>
          <a:stretch/>
        </p:blipFill>
        <p:spPr>
          <a:xfrm>
            <a:off x="5181480" y="2666880"/>
            <a:ext cx="2857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30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ушку лепят руками из местной красной глины ,перемешанной с речным песком.Свистульки прокалывают палочкой .Фигурку лепят по частям и соеденяют между собой жидкой глиной .Игрушку просушивают и обжигают ,а затем покрывают белилами и расписываю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large"/>
          <p:cNvPicPr/>
          <p:nvPr/>
        </p:nvPicPr>
        <p:blipFill>
          <a:blip r:embed="rId1"/>
          <a:stretch/>
        </p:blipFill>
        <p:spPr>
          <a:xfrm>
            <a:off x="5715000" y="1981080"/>
            <a:ext cx="3009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ждая дымковская игрушка –это ручная работа ,которая существует только в единственном экземпляре .Промысел дымковской игрушки и по сей день не имеет серийного производства ,что отличает его от других народных промыс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large"/>
          <p:cNvPicPr/>
          <p:nvPr/>
        </p:nvPicPr>
        <p:blipFill>
          <a:blip r:embed="rId1"/>
          <a:stretch/>
        </p:blipFill>
        <p:spPr>
          <a:xfrm>
            <a:off x="762120" y="1981080"/>
            <a:ext cx="7238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2T16:05:03Z</dcterms:created>
  <dc:creator>Мой компьютер</dc:creator>
  <dc:description/>
  <dc:language>en-US</dc:language>
  <cp:lastModifiedBy>Андрей Мартыненко</cp:lastModifiedBy>
  <dcterms:modified xsi:type="dcterms:W3CDTF">2018-06-20T06:39:2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