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D64-5328-4E1D-BEBD-4F2796579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90E-21D9-4A35-8595-5683A4E8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485-EB0E-473C-A21B-9708306E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25D1-40F5-4892-9B71-D5A5028F4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068F-08CD-4D7A-9A30-FB07AD7B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51E6-4442-4623-947B-DC4DE7C2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8493-47C3-4B9E-9A91-615CB963B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0E00-A81B-4E30-8EA8-D4C2CD413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534-DE25-4746-837B-E4593C4A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33E-DF28-4984-886E-E162BECD7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8D5-5DA8-42EF-817F-73F5FABE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1A07-1590-402A-ABEC-827B4776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C1322-FDA8-4232-89A1-B89DCB6FBC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38680" y="2761920"/>
            <a:ext cx="335304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рок обучения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зобразительного искусства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 класс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итель: Мартыненко И. А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У «СОШ №77»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.  Сарат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4" descr=""/>
          <p:cNvPicPr/>
          <p:nvPr/>
        </p:nvPicPr>
        <p:blipFill>
          <a:blip r:embed="rId1"/>
          <a:stretch/>
        </p:blipFill>
        <p:spPr>
          <a:xfrm>
            <a:off x="49320" y="219240"/>
            <a:ext cx="7881840" cy="162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&amp;Dcy;&amp;ycy;&amp;mcy;&amp;kcy;&amp;ocy;&amp;vcy;&amp;scy;&amp;kcy;&amp;acy;&amp;yacy; &amp;icy;&amp;gcy;&amp;rcy;&amp;ucy;&amp;shcy;&amp;kcy;&amp;acy;(&amp;icy;&amp;scy;&amp;tcy;&amp;ocy;&amp;rcy;&amp;icy;&amp;yacy;+&amp;fcy;&amp;ocy;&amp;tcy;&amp;ocy;&amp;gcy;&amp;rcy;&amp;acy;&amp;fcy;&amp;icy;&amp;icy;)."/>
          <p:cNvPicPr/>
          <p:nvPr/>
        </p:nvPicPr>
        <p:blipFill>
          <a:blip r:embed="rId2"/>
          <a:stretch/>
        </p:blipFill>
        <p:spPr>
          <a:xfrm>
            <a:off x="304920" y="1981080"/>
            <a:ext cx="563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исследователей ,развитие дымковской глиняной игрушки связано с обрядовым весенним  праздником «свистопляской»,который был посвящен солнцу . Чтобы принять участие в празднике ,нужна была глиняная свистулька и расписной глиняный шарик ,которым можно было перекидыв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ымковская игрушка,пожалуй ,один из самых старинных промыслов России.Он возник из любви к гончарной традиции вятских земель в глубокой древности.Название игрушки происходит от слободы Дымкова сегодня это район города Вя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large"/>
          <p:cNvPicPr/>
          <p:nvPr/>
        </p:nvPicPr>
        <p:blipFill>
          <a:blip r:embed="rId1"/>
          <a:stretch/>
        </p:blipFill>
        <p:spPr>
          <a:xfrm>
            <a:off x="5867280" y="3514680"/>
            <a:ext cx="28576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истульки имели формы различных тотемных животных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ведь,козел,баран,олень.Такие глиняные фигурки лепили женщины и девочки задолго до праздника.Чтобы не изображала дымковская игрушка её можно отличить своей неповторимостию нарядной раскраской .На белом фоне очень весело смотрятся :синий,голубой,зеленый,желто-оранжевый,малиновый цвета.Их может быть до дес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large"/>
          <p:cNvPicPr/>
          <p:nvPr/>
        </p:nvPicPr>
        <p:blipFill>
          <a:blip r:embed="rId1"/>
          <a:stretch/>
        </p:blipFill>
        <p:spPr>
          <a:xfrm>
            <a:off x="0" y="2666880"/>
            <a:ext cx="2857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намент всегда прост :клетки ,полоски ,круги,точ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ромбики,зигзаги в различных сочетаниях.Но их геометрические узоры несут информацию.Например ,синяя  волнистая полоса обозночает воду,перекрещенные полоски – сруб колодца ,круг с серединкой –звездочкой –солнце и другие свети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large"/>
          <p:cNvPicPr/>
          <p:nvPr/>
        </p:nvPicPr>
        <p:blipFill>
          <a:blip r:embed="rId1"/>
          <a:stretch/>
        </p:blipFill>
        <p:spPr>
          <a:xfrm>
            <a:off x="1143000" y="2514600"/>
            <a:ext cx="2857680" cy="39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large"/>
          <p:cNvPicPr/>
          <p:nvPr/>
        </p:nvPicPr>
        <p:blipFill>
          <a:blip r:embed="rId2"/>
          <a:stretch/>
        </p:blipFill>
        <p:spPr>
          <a:xfrm>
            <a:off x="5181480" y="2666880"/>
            <a:ext cx="2857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ушку лепят руками из местной красной глины ,перемешанной с речным песком.Свистульки прокалывают палочкой .Фигурку лепят по частям и соеденяют между собой жидкой глиной .Игрушку просушивают и обжигают ,а затем покрывают белилами и расписы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large"/>
          <p:cNvPicPr/>
          <p:nvPr/>
        </p:nvPicPr>
        <p:blipFill>
          <a:blip r:embed="rId1"/>
          <a:stretch/>
        </p:blipFill>
        <p:spPr>
          <a:xfrm>
            <a:off x="5715000" y="1981080"/>
            <a:ext cx="3009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дымковская игрушка –это ручная работа ,которая существует только в единственном экземпляре .Промысел дымковской игрушки и по сей день не имеет серийного производства ,что отличает его от других народных промы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large"/>
          <p:cNvPicPr/>
          <p:nvPr/>
        </p:nvPicPr>
        <p:blipFill>
          <a:blip r:embed="rId1"/>
          <a:stretch/>
        </p:blipFill>
        <p:spPr>
          <a:xfrm>
            <a:off x="762120" y="198108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6:05:03Z</dcterms:created>
  <dc:creator>Мой компьютер</dc:creator>
  <dc:description/>
  <dc:language>en-US</dc:language>
  <cp:lastModifiedBy>Андрей Мартыненко</cp:lastModifiedBy>
  <dcterms:modified xsi:type="dcterms:W3CDTF">2018-06-20T06:39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