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088D-CE46-49E0-B982-AED1C8096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97C6-629F-4DC3-8C2F-48C9442E2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1AF9-7FF8-4A55-AAD9-D24B502B7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DE8F-72B7-4AE1-BC49-6851E92DF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E165-C088-43C6-A403-6A867561F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1AE3-7E6D-476E-B340-F95AFA205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2304-1808-4D51-AA3B-904229EFD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DB4F-2639-4A1D-97CF-9ECB8796C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2C81-F3E7-4612-9E15-67C963ED0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9E8E-3866-4B23-848C-B4C225BA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E7F8-40FB-4118-BA0F-FDDF860D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A06D-1290-4C45-928A-69F7EB2A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C1CDE-5BE9-4011-8023-DB8D504F3A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44000"/>
          </a:blip>
          <a:stretch/>
        </p:blipFill>
        <p:spPr>
          <a:xfrm>
            <a:off x="0" y="687240"/>
            <a:ext cx="9144000" cy="5981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4428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форматика и информ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едмет науки информатики. Формы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2920" y="90792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Информатик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— это основанная на использовании компьютерной техники дисциплина, изучающая структуру и общие свойства информации, а также закономерности и методы её создания, хранения, поиска, преобразования, передачи и применения в различных сферах человеческой деятельност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4799880"/>
            <a:ext cx="89074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 1978 году международный научный конгресс официально закрепил за понятием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"информатика"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области, связанные с разработкой, созданием, использованием и материально-техническим обслуживанием систем обработки информации, включая компьютеры и их программное обеспечение, а также организационные, коммерческие, административные и социально-политические аспекты компьютеризации — массового внедрения компьютерной техники во все области жизни люд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9680" y="2457360"/>
            <a:ext cx="8825040" cy="20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рмин «информатика» был впервые введён в Германии Карлом Штейнбухом в 1957 году. В 1962 году этот термин был введён во французский язык Ф. Дрейфусом, который также предложил и переводы на ряд других европейских языков. В России термин «информатика» был введён А. И. Михайловым, А. И. Черным и Р. С. Гиляревским в 1968 год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дельной наукой информатика была признана лишь в 1970-х; до этого она развивалась в составе математики, электроники и других технических наук. Некоторые начала информатики можно обнаружить даже в лингвистике. С момента своего признания отдельной наукой информатика разработала собственные методы и терминологи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>
            <a:lum bright="50000"/>
          </a:blip>
          <a:stretch/>
        </p:blipFill>
        <p:spPr>
          <a:xfrm>
            <a:off x="0" y="620640"/>
            <a:ext cx="9144000" cy="5981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834920" y="43200"/>
            <a:ext cx="571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ормы</a:t>
            </a:r>
            <a:r>
              <a:rPr b="1" lang="en-US" sz="2000" spc="-1" strike="noStrike">
                <a:solidFill>
                  <a:srgbClr val="283751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едставления</a:t>
            </a:r>
            <a:r>
              <a:rPr b="1" lang="en-US" sz="2000" spc="-1" strike="noStrike">
                <a:solidFill>
                  <a:srgbClr val="283751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611280"/>
            <a:ext cx="8642160" cy="59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сновные виды информации по её форме представления, способам её кодирования и хранения, что имеет наибольшее значение для информатики, эт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рафическая или изобразительна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— первый вид, для которого был реализован способ хранения информации об окружающем мире в виде наскальных рисунков, а позднее в виде картин, фотографий, схем, чертежей на бумаге, холсте, мраморе и др. материалах, изображающих картины реального мир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вукова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— мир вокруг нас полон звуков и задача их хранения и тиражирования была решена с изобретение звукозаписывающих устройств в 1877 г.; её разновидностью является музыкальная информация — для этого вида был изобретён способ кодирования с использованием специальных символов, что делает возможным хранение её аналогично графической информаци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текстова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— способ кодирования речи человека специальными символами — буквами, причем разные народы имеют разные языки и используют различные наборы букв для отображения речи; особенно большое значение этот способ приобрел после изобретения бумаги и книгопечатани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числова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— количественная мера объектов и их свойств в окружающем мире; особенно большое значение приобрела с развитием торговли, экономики и денежного обмена; аналогично текстовой информации для её отображения используется метод кодирования специальными символами — цифрами, причём системы кодирования (счисления) могут быть разным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идеоинформац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— способ сохранения «живых» картин окружающего мира, появившийся с изобретением ки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>
            <a:lum bright="50000"/>
          </a:blip>
          <a:stretch/>
        </p:blipFill>
        <p:spPr>
          <a:xfrm>
            <a:off x="0" y="687240"/>
            <a:ext cx="9144000" cy="59817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08000" y="960840"/>
            <a:ext cx="885672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ИНФОРМАТИК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ЭТО НАУКА ОБ ОПИСАНИИ, ОСМЫСЛЕНИИ, ОПРЕДЕЛЕНИИ (ТОЛКОВАНИИ), ПРЕДСТАВЛЕНИИ, ОБОБЩЕНИИ (ФОРМАЛИЗАЦИИ) И ИСПОЛЬЗОВАНИИ ЗНАНИЙ С ПРИМЕНЕНИЕМ СРЕДСТВ ВЫЧИСЛИТЕЛЬНОЙ ТЕХНИКИ И ПРОГРАММ ЕЁ РАБОТЫ ДЛЯ ПОЛУЧЕНИЯ НОВОГО ЗНАНИЯ В РАЗЛИЧНЫХ СФЕРАХ ДЕЯТЕЛЬНОСТИ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9800" y="4080960"/>
            <a:ext cx="89622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ПРЕДМЕТОМ ИНФОРМАТИК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ЯВЛЯЕТСЯ ЗН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ОБЪЕКТОМ ИНФОРМАТИК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ЯВЛЯЕТСЯ СИСТЕМА ЧЕЛОВЕК – КОМПЬЮТ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>
            <a:lum bright="50000"/>
          </a:blip>
          <a:stretch/>
        </p:blipFill>
        <p:spPr>
          <a:xfrm>
            <a:off x="0" y="687240"/>
            <a:ext cx="9144000" cy="5981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615400" y="-27000"/>
            <a:ext cx="390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зделы науки инфор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04640"/>
            <a:ext cx="871380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нформа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71640" y="7812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9280" y="1069920"/>
            <a:ext cx="1656000" cy="580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еоретическая информати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78120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16000" y="1862280"/>
            <a:ext cx="165564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ибернети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7812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12000" y="1862280"/>
            <a:ext cx="208728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ограммиров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427640" y="78120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340000" y="1069920"/>
            <a:ext cx="1800360" cy="580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скусственный интеллек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45080" y="1069920"/>
            <a:ext cx="1942920" cy="580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нформационные систем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80000" y="7812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59280" y="1862280"/>
            <a:ext cx="273672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ычислительная техни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48360" y="78120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08720" y="1055520"/>
            <a:ext cx="1584360" cy="580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икладная информати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101080" y="7812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8000" y="2205000"/>
            <a:ext cx="885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Теоретическая информатика –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это математическая дисциплина. Она использует методы математики для построения и изучения моделей обработки, передачи и накопления информац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8000" y="2708280"/>
            <a:ext cx="885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Кибернетик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наука об общих закономерностях процессов управления и передачи информации в машинах, живых организмах и обществ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8000" y="3203640"/>
            <a:ext cx="885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Искусственный интеллек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это наука и разработка интеллектуальных машин и систем, особенно интеллектуальных компьютерных программ, направленных на то, чтобы понять человеческий интеллек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8000" y="3860640"/>
            <a:ext cx="8856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Вычислительная техни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бласть техники, объединяющая средства автоматизации математических вычислений и обработки информации в различных областях человеческой деятельнос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ука о принципах построения, действия и проектирования этих средств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8000" y="4791240"/>
            <a:ext cx="8928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Информационные системы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самом широком смысл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есть совокупность технического, программного и организационного обеспечения, а также персонала, предназначенная для того, чтобы своевременно обеспечивать надлежащих людей надлежащей информацией. В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узком смысл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это базы данных, СУБД и специализированные прикладные программ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8000" y="5719680"/>
            <a:ext cx="892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Программирова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— процесс и искусство создания компьютерных программ и/или программного обеспечения с помощью языков программирования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6237360"/>
            <a:ext cx="892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Прикладная информати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занимается вопросами практического применения компьютерной техники и программного обеспеч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>
            <a:lum bright="50000"/>
          </a:blip>
          <a:stretch/>
        </p:blipFill>
        <p:spPr>
          <a:xfrm>
            <a:off x="0" y="687240"/>
            <a:ext cx="9144000" cy="59817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79280" y="909720"/>
            <a:ext cx="87267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ажно многообразие определений информации для понимания сущности этого поня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нформац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это совокупность сведений о предметах, явлениях или процессах, представляющая интерес и подлежащая обработ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аково обычное и принятое определение, взятое из справоч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нформац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это значения данных с определенными условностями. Таким является определение в научной литерату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изический смысл информаци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это результат взаимодействия материальных предметов, передаваемый по материальному каналу. Все определения в совокупности позволяют произвести сопоставление информации и зн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амое простое определения информации таково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нформац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это поток сведений, сообщенный кем-то или полученный в результате исследования, анализа или обу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420360" y="260280"/>
            <a:ext cx="217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форм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>
            <a:lum bright="50000"/>
          </a:blip>
          <a:stretch/>
        </p:blipFill>
        <p:spPr>
          <a:xfrm>
            <a:off x="0" y="687240"/>
            <a:ext cx="9144000" cy="59817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79280" y="976320"/>
            <a:ext cx="885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Информ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широком смысле абстрактное понятие, имеющее множество значений, в зависимости от контек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узком смысле этого слова  – сведения (сообщения, данные) независимо от формы их представления. В настоящее время не существует единого определения термина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нформац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20360" y="235080"/>
            <a:ext cx="217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форм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306864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Информаци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это сведения об окружающем мире (объекте, процессе, явлении, событии), которые являются объектом преобразования (включая хранение, передачу и т.д.) и используются для выработки поведения, для принятия решения, для управления или для обу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9280" y="483048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иболее общее определение имеет место в философии, где под информацией понимается отражение реального мира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нформаци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как философскую категорию рассматривают как один из атрибутов материи, отражающий ее структу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>
            <a:lum bright="50000"/>
          </a:blip>
          <a:stretch/>
        </p:blipFill>
        <p:spPr>
          <a:xfrm>
            <a:off x="0" y="687240"/>
            <a:ext cx="9144000" cy="59817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492360" y="4292640"/>
            <a:ext cx="2880000" cy="22669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79280" y="2340360"/>
            <a:ext cx="8856720" cy="19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8920" indent="-35892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Информац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это наиболее важный ресурс современного производства: он снижает потребность в земле, труде, капитале, уменьшает расход сырья и энерг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ызывает к жизни новые производств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является товаром, причем продавец информации её не теряет после продаж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идаёт дополнительную ценность другим ресурсам, в частности, трудовы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ожет накапливать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9280" y="263880"/>
            <a:ext cx="87123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Термин «информация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оисходит от латинского informatio — разъяснение, изложение, осведомленность. Энциклопедический словарь (М.: Сов. энциклопедия, 1990) определяет информацию в исторической эволюции: первоначально — сведения, передаваемые людьми устным, письменным или другим способом (с помощью условных сигналов, технических средств и т. д.); с середины XX века — общенаучное понятие, включающее обмен сведениями между людьми, человеком и автоматом, обмен сигналами в животном и растительном мире (передача признаков от клетки к клетке, от организма к организму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32000" y="163440"/>
            <a:ext cx="32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войства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4080" y="611280"/>
            <a:ext cx="888192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 точки зрения информатики наиболее важными представляются следующие общие качественные свойства: объективность, достоверность, полнота, точность, актуальность, полезность, и п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Объективность информ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Объективный – существующий вне и независимо от человеческого сознания. Информация – это отражение внешнего объективного мира. Информация объективна, если она не зависит от методов её фиксации, чьего-либо мнения, суждения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имер. Сообщение «На улице тепло» несёт субъективную информацию, а сообщение «На улице 22°С» – объективную, но с точностью, зависящей от погрешности средства измерения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бъективную информацию можно получить с помощью исправных датчиков, измерительных приборов. Отражаясь в сознании конкретного человека, информация перестаёт быть объективной, так как, преобразовывается (в большей или меньшей степени) в зависимости от мнения, суждения, опыта, знаний конкретного субъект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Достоверность информ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Информация достоверна, если она отражает истинное положение дел. Объективная информация всегда достоверна, но достоверная информация может быть как объективной, так и субъективной. Достоверная информация помогает принять нам правильное решение. Недостоверной информация может быть по следующим причинам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еднамеренное искажение (дезинформация) или непреднамеренное искажение субъективного свойства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скажение в результате воздействия помех («испорченный телефон») и недостаточно точных средств её фиксац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Полнота информ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Информацию можно назвать полной, если её достаточно для понимания и принятия решений. Неполная информация может привести к ошибочному выводу или решению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Точность информ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определяется степенью её близости к реальному состоянию объекта, процесса, явления и т. п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Актуальность информ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важность для настоящего времени, злободневность, насущность. Только вовремя полученная информация может быть полезн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Полезность (ценность) информ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Полезность может быть оценена применительно к нуждам конкретных её потребителей и оценивается по тем задачам, которые можно решить с её помощь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79280" y="576000"/>
            <a:ext cx="871380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7120" indent="-35712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 информацией всегда связывают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три поняти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источник информаци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тот элемент окружающего мира, сведения о котором являются объектом преобразова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потребитель информаци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тот элемент окружающего мира, который использует информацию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сигнал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материальный носитель, который фиксирует информацию для переноса ее от источника к потребите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260360" y="3236760"/>
            <a:ext cx="6840720" cy="1001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927080" y="4316400"/>
            <a:ext cx="523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Схема взаимосвязи основных понятий информац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8000" y="5239440"/>
            <a:ext cx="8856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Каналом связи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зывается совокупность технических средств, служащая для передачи сообщений (сигналов) от одного отправителя к одному получателю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79280" y="1054080"/>
            <a:ext cx="8642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редставление информаци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в различных формах происходит в процессе восприятия окружающей среды живыми организмами и человеком, в процессах обмена информацией между человеком и человеком, человеком и компьютером (ПК), ПК и ПК и т.д. Преобразование информации из одной формы в другую (кодирование) необходимо для того, чтобы живой организм, человек или ПК мог хранить и обрабатывать информацию в удобной для него форме, на понятном для него язы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08360" y="260280"/>
            <a:ext cx="57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ормы представления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8560" y="3645000"/>
            <a:ext cx="562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жно выделить следующие формы информа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398960" y="4508640"/>
            <a:ext cx="6621840" cy="1304640"/>
            <a:chOff x="1398960" y="4508640"/>
            <a:chExt cx="6621840" cy="1304640"/>
          </a:xfrm>
        </p:grpSpPr>
        <p:sp>
          <p:nvSpPr>
            <p:cNvPr id="95" name=""/>
            <p:cNvSpPr/>
            <p:nvPr/>
          </p:nvSpPr>
          <p:spPr>
            <a:xfrm>
              <a:off x="1398960" y="5445000"/>
              <a:ext cx="126576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Текстов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838600" y="5445000"/>
              <a:ext cx="1207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Числов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136040" y="5445000"/>
              <a:ext cx="158292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Графическ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2240" y="5445000"/>
              <a:ext cx="84816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Виде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07120" y="4508640"/>
              <a:ext cx="228852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Формы информац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1979280" y="4869000"/>
              <a:ext cx="187164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3564000" y="4869000"/>
              <a:ext cx="72072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645080" y="4869000"/>
              <a:ext cx="28728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076720" y="4869000"/>
              <a:ext cx="115092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66280" y="5445000"/>
              <a:ext cx="115452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Звуков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580000" y="4869000"/>
              <a:ext cx="180036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18:32:31Z</dcterms:created>
  <dc:creator>N</dc:creator>
  <dc:description/>
  <dc:language>en-US</dc:language>
  <cp:lastModifiedBy>Kotrohov N.N.</cp:lastModifiedBy>
  <dcterms:modified xsi:type="dcterms:W3CDTF">2009-10-05T06:12:22Z</dcterms:modified>
  <cp:revision>31</cp:revision>
  <dc:subject/>
  <dc:title>Слайд 1</dc:title>
</cp:coreProperties>
</file>