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C72-5683-40C4-845C-E9CAC9B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CE3-EC6C-4248-B032-4C09C14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1A9-F041-4946-9559-77037BEA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32C-7021-4491-9723-9DA886D4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BA8-3434-4263-8D68-694F658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143-86B2-42C5-AF94-6015C47D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C23-1ACB-4B10-B83A-5BB0B0F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B0E-6E75-42BA-B1E0-C179C0EC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D30-5018-45B6-BCAE-C9A0F15C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0E4-A0F3-427F-826A-110925B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641-3F4E-467C-B371-6993174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4C1-F1DF-4F81-86C3-957FC75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3C1-125D-4B89-92E2-98821BCD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44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 и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 науки информатики. Формы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9079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4799880"/>
            <a:ext cx="8907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1978 году международный научный конгресс официально закрепил за поняти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информатика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бласти, связанные с разработкой, созданием, использованием и материально-техническим обслуживанием систем обработки информации, включая компьютеры и их программное обеспечение, а также организационные, коммерческие, административные и социально-политические аспекты компьютеризации — массового внедрения компьютерной техники во все области жизн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9680" y="2457360"/>
            <a:ext cx="88250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мин «информатика» был впервые введён в Германии Карлом Штейнбухом в 1957 году. В 1962 году этот термин был введён во французский язык Ф. Дрейфусом, который также предложил и переводы на ряд других европейских языков. В России термин «информатика» был введён А. И. Михайловым, А. И. Черным и Р. С. Гиляревским в 1968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льной наукой информатика была признана лишь в 1970-х; до этого она развивалась в составе математики, электроники и других технических наук. Некоторые начала информатики можно обнаружить даже в лингвистике. С момента своего признания отдельной наукой информатика разработала собственные методы и терминолог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206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4920" y="43200"/>
            <a:ext cx="57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1" lang="en-US" sz="2000" spc="-1" strike="noStrike">
                <a:solidFill>
                  <a:srgbClr val="28375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ставления</a:t>
            </a:r>
            <a:r>
              <a:rPr b="1" lang="en-US" sz="2000" spc="-1" strike="noStrike">
                <a:solidFill>
                  <a:srgbClr val="28375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11280"/>
            <a:ext cx="864216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ные виды информации по её форме представления, способам её кодирования и хранения, что имеет наибольшее значение для информатики,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фическая или изобразите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ервый вид, для которого был реализован способ хранения информации об окружающем мире в виде наскальных рисунков, а позднее в виде картин, фотографий, схем, чертежей на бумаге, холсте, мраморе и др. материалах, изображающих картины реального ми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вуков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мир вокруг нас полон звуков и задача их хранения и тиражирования была решена с изобретение звукозаписывающих устройств в 1877 г.; её разновидностью является музыкальная информация — для этого вида был изобретён способ кодирования с использованием специальных символов, что делает возможным хранение её аналогично графической информ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кстов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пособ кодирования речи человека специальными символами — буквами, причем разные народы имеют разные языки и используют различные наборы букв для отображения речи; особенно большое значение этот способ приобрел после изобретения бумаги и книгопечат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ислов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количественная мера объектов и их свойств в окружающем мире; особенно большое значение приобрела с развитием торговли, экономики и денежного обмена; аналогично текстовой информации для её отображения используется метод кодирования специальными символами — цифрами, причём системы кодирования (счисления) могут быть разны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ео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пособ сохранения «живых» картин окружающего мира, появившийся с изобретением ки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960840"/>
            <a:ext cx="8856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ЭТО НАУКА ОБ ОПИСАНИИ, ОСМЫСЛЕНИИ, ОПРЕДЕЛЕНИИ (ТОЛКОВАНИИ), ПРЕДСТАВЛЕНИИ, ОБОБЩЕНИИ (ФОРМАЛИЗАЦИИ) И ИСПОЛЬЗОВАНИИ ЗНАНИЙ С ПРИМЕНЕНИЕМ СРЕДСТВ ВЫЧИСЛИТЕЛЬНОЙ ТЕХНИКИ И ПРОГРАММ ЕЁ РАБОТЫ ДЛЯ ПОЛУЧЕНИЯ НОВОГО ЗНАНИЯ В РАЗЛИЧНЫХ СФЕРАХ 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800" y="4080960"/>
            <a:ext cx="8962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ОМ ИНФОРМАТИ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ВЛЯЕТСЯ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БЪЕКТОМ ИНФОРМАТИ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ВЛЯЕТСЯ СИСТЕМА ЧЕЛОВЕК – КОМПЬЮ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15400" y="-2700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делы наук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4640"/>
            <a:ext cx="8713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069920"/>
            <a:ext cx="16560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оретическая информа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7812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862280"/>
            <a:ext cx="1655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берне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862280"/>
            <a:ext cx="2087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7812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1069920"/>
            <a:ext cx="180036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усственный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1069920"/>
            <a:ext cx="19429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ормационные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862280"/>
            <a:ext cx="27367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льная тех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7812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720" y="1055520"/>
            <a:ext cx="158436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кладная информа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108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2205000"/>
            <a:ext cx="88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оретическая информатика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 математическая дисциплина. Она использует методы математики для построения и изучения моделей обработки, передачи и накопления информ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2708280"/>
            <a:ext cx="88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ибернети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наука об общих закономерностях процессов управления и передачи информации в машинах, живых организмах и общест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3203640"/>
            <a:ext cx="88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кусственный интеллек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это наука и разработка интеллектуальных машин и систем, особенно интеллектуальных компьютерных программ, направленных на то, чтобы понять человеческий интеллек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3860640"/>
            <a:ext cx="88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ычислительная техн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ь техники, объединяющая средства автоматизации математических вычислений и обработки информации в различных областях человеческ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ука о принципах построения, действия и проектирования этих средств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4791240"/>
            <a:ext cx="892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амом широк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сть совокупность технического, программного и организационного обеспечения, а также персонала, предназначенная для того, чтобы своевременно обеспечивать надлежащих людей надлежащей информацией. 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узк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это базы данных, СУБД и специализированные прикладные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571968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— процесс и искусство создания компьютерных программ и/или программного обеспечения с помощью языков программирован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23736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нимается вопросами практического применения компьютерной техники и программного обесп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909720"/>
            <a:ext cx="872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многообразие определений информации для понимания сущности эт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овокупность сведений о предметах, явлениях или процессах, представляющая интерес и подлежащая обрабо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во обычное и принятое определение, взятое из справ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значения данных с определенными условностями. Таким является определение в научной литер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й смысл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результат взаимодействия материальных предметов, передаваемый по материальному каналу. Все определения в совокупности позволяют произвести сопоставление информации и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простое определения информации таков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поток сведений, сообщенный кем-то или полученный в результате исследования, анализа ил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0360" y="2602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97632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широком смысле абстрактное понятие, имеющее множество значений, в зависимости от кон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узком смысле этого слова  – сведения (сообщения, данные) независимо от формы их представления. В настоящее время не существует единого определения терми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0360" y="2350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06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это сведения об окружающем мире (объекте, процессе, явлении, событии), которые являются объектом преобразования (включая хранение, передачу и т.д.) и используются для выработки поведения, для принятия решения, для управления или для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830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 общее определение имеет место в философии, где под информацией понимается отражение реального мира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илософскую категорию рассматривают как один из атрибутов материи, отражающий ее струк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2880000" cy="226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340360"/>
            <a:ext cx="8856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 indent="-3589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наиболее важный ресурс современного производства: он снижает потребность в земле, труде, капитале, уменьшает расход сырья и энерг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зывает к жизни новые производ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ется товаром, причем продавец информации её не теряет после прода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даёт дополнительную ценность другим ресурсам, в частности, трудов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жет накапли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63880"/>
            <a:ext cx="871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рмин «информац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сходит от латинского informatio — разъяснение, изложение, осведомленность. Энциклопедический словарь (М.: Сов. энциклопедия, 1990) определяет информацию в исторической эволюции: первоначально — сведения, передаваемые людьми устным, письменным или другим способом (с помощью условных сигналов, технических средств и т. д.); с середины XX века — общенаучное понятие, включающее обмен сведениями между людьми, человеком и автоматом, обмен сигналами в животном и растительном мире (передача признаков от клетки к клетке, от организма к организм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2000" y="163440"/>
            <a:ext cx="32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войств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611280"/>
            <a:ext cx="8881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очки зрения информатики наиболее важными представляются следующие общие качественные свойства: объективность, достоверность, полнота, точность, актуальность, полезность,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бъектив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Объективный – существующий вне и независимо от человеческого сознания. Информация – это отражение внешнего объективного мира. Информация объективна, если она не зависит от методов её фиксации, чьего-либо мнения, суждения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мер. Сообщение «На улице тепло» несёт субъективную информацию, а сообщение «На улице 22°С» – объективную, но с точностью, зависящей от погрешности средства измерения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ъективную информацию можно получить с помощью исправных датчиков, измерительных приборов. Отражаясь в сознании конкретного человека, информация перестаёт быть объективной, так как, преобразовывается (в большей или меньшей степени) в зависимости от мнения, суждения, опыта, знаний конкретного субъек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стовер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Информация достоверна, если она отражает истинное положение дел. Объективная информация всегда достоверна, но достоверная информация может быть как объективной, так и субъективной. Достоверная информация помогает принять нам правильное решение. Недостоверной информация может быть по следующим причина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меренное искажение (дезинформация) или непреднамеренное искажение субъективного свой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кажение в результате воздействия помех («испорченный телефон») и недостаточно точных средств её фикс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Информацию можно назвать полной, если её достаточно для понимания и принятия решений. Неполная информация может привести к ошибочному выводу или реше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оч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пределяется степенью её близости к реальному состоянию объекта, процесса, явления и т. п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ктуаль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важность для настоящего времени, злободневность, насущность. Только вовремя полученная информация может быть полез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лезность (ценность)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Полезность может быть оценена применительно к нуждам конкретных её потребителей и оценивается по тем задачам, которые можно решить с её помощ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576000"/>
            <a:ext cx="8713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информацией всегда связывают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и понят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точник информа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тот элемент окружающего мира, сведения о котором являются объектом преобраз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требитель информа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тот элемент окружающего мира, который использует информа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игна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материальный носитель, который фиксирует информацию для переноса ее от источника к потреб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60360" y="3236760"/>
            <a:ext cx="6840720" cy="100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27080" y="4316400"/>
            <a:ext cx="523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хема взаимосвязи основных понятий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5239440"/>
            <a:ext cx="88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налом связ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ывается совокупность технических средств, служащая для передачи сообщений (сигналов) от одного отправителя к одному получател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054080"/>
            <a:ext cx="864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ставление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азличных формах происходит в процессе восприятия окружающей среды живыми организмами и человеком, в процессах обмена информацией между человеком и человеком, человеком и компьютером (ПК), ПК и ПК и т.д. Преобразование информации из одной формы в другую (кодирование) необходимо для того, чтобы живой организм, человек или ПК мог хранить и обрабатывать информацию в удобной для него форме, на понятном для него я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360" y="26028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ы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560" y="364500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выделить следующие формы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98960" y="4508640"/>
            <a:ext cx="6621840" cy="1304640"/>
            <a:chOff x="1398960" y="4508640"/>
            <a:chExt cx="6621840" cy="1304640"/>
          </a:xfrm>
        </p:grpSpPr>
        <p:sp>
          <p:nvSpPr>
            <p:cNvPr id="95" name=""/>
            <p:cNvSpPr/>
            <p:nvPr/>
          </p:nvSpPr>
          <p:spPr>
            <a:xfrm>
              <a:off x="1398960" y="5445000"/>
              <a:ext cx="1265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8600" y="5445000"/>
              <a:ext cx="1207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исл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36040" y="5445000"/>
              <a:ext cx="1582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2240" y="5445000"/>
              <a:ext cx="848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иде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7120" y="4508640"/>
              <a:ext cx="22885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ормы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979280" y="4869000"/>
              <a:ext cx="187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64000" y="4869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5080" y="4869000"/>
              <a:ext cx="287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6720" y="4869000"/>
              <a:ext cx="11509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6280" y="5445000"/>
              <a:ext cx="1154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вук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80000" y="4869000"/>
              <a:ext cx="1800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8:32:31Z</dcterms:created>
  <dc:creator>N</dc:creator>
  <dc:description/>
  <dc:language>en-US</dc:language>
  <cp:lastModifiedBy>Kotrohov N.N.</cp:lastModifiedBy>
  <dcterms:modified xsi:type="dcterms:W3CDTF">2009-10-05T06:12:22Z</dcterms:modified>
  <cp:revision>31</cp:revision>
  <dc:subject/>
  <dc:title>Слайд 1</dc:title>
</cp:coreProperties>
</file>