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1EC6F-22D3-4A0C-9A78-E9AF47BD3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89A3D-07F2-4F81-BD20-6671FED1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46DD-301F-43A2-9B95-DC1E51895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E24A4-1CD9-438A-B423-00501617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4427A-AD90-4DBE-900F-58646A584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A2628-CA99-45BF-8EC7-FA19FAF4E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0D33-24A7-4343-8F67-8A3534E27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C24BE-D416-4CC4-9570-F418244C4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3F633-1AE7-4073-8F55-236701D94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C9CE9-E5DF-48A3-ADE6-A797D20FD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9A4D-E96F-4100-BDA8-BA19051DA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B0F7-BF36-476E-8D24-7B40DA6B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2BEEE-E3E2-4756-A3D9-6694122F4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F7DDA-156F-4E5C-A465-C09190EAF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A8252-8FEC-4FB6-815C-240A22ECD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D3796-8372-4807-9F9C-F358AC800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53543-E65F-4597-B6A0-A06FB78C3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83CA1-C73A-424F-B670-C8DE078E58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61D80-443D-44D4-AAA7-EF9F3157B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89DD2-8EDE-4FCE-81D8-9140CD64C4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E3D53-74BD-4400-8FA7-52C4C4F44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98BCA-F06C-4FA7-9E65-B141D766F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DAC3-0B22-426E-BD09-B48CF0354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D9DC1-B920-4ADE-82E4-AB317DBF5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FA3AB-983E-4C79-93A4-C16D30358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DF0BE-6286-4629-8CA9-411D9ADA0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6F389-3DF4-4BAE-A909-04F819D4D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57E51-4575-4F2F-B198-17F1926CC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E76B3-9F0D-450D-BF26-FC557B2E77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17AFB4-B1AA-444B-893A-603677627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BB43F-3123-4B73-804E-B04BB35DB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AADC6-6832-4C96-B83A-235B3DFAC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4CC00-3131-4AED-94B8-BCD480E3B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3E333-C686-47F1-81F3-F0BF7B62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4BA7F-42F4-427F-B764-D1DB6FA68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D38F2-624D-44C5-87C8-E8B477C0E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42844-B3C5-4FFF-81FE-E6832ECE0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7AA74-0ACF-4A72-968D-4D102B8D6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BF88A-3E15-42DC-8231-8E0B48770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2DCEC-6BB6-40DB-96AF-DE2FBA602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CCF1A-C573-499D-AD79-871090530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BDE1A-D610-4DE6-91B7-7A307976E9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2B936-B0F9-42CA-B5AC-311735D477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171A-D9CE-4E6F-AA1F-67BA8533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E3B1-B509-4E09-83D3-655D4FFC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9AD6-65B3-4F52-A426-C2EA2311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9EA93-4EE3-4FA7-8C15-236649BF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8D53-553C-4170-9367-93EE17021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B2B1-8271-4A2A-8B6F-DA08335852F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C271-E865-4DF0-91D0-C9BFF8913F5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D3CB-93D7-4AC1-B1C5-5D11BE7628F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3C7E-2B8E-4E98-BD14-92DA101EF7C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63680" y="433440"/>
            <a:ext cx="7931160" cy="27734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юбовь – претрудная школа жизни»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И.И.Обломов</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4595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Истинное чувство, истинная любовь способна делать чудеса. Она возрождает человека в человеке, вскрывает его внутренние резервы и возможности. </a:t>
            </a:r>
            <a:br>
              <a:rPr sz="4500"/>
            </a:br>
            <a:endParaRPr b="0" lang="en-US" sz="4500" spc="-1" strike="noStrike">
              <a:solidFill>
                <a:srgbClr val="04617b"/>
              </a:solidFill>
              <a:latin typeface="Calibri"/>
            </a:endParaRPr>
          </a:p>
        </p:txBody>
      </p:sp>
      <p:sp>
        <p:nvSpPr>
          <p:cNvPr id="214" name=""/>
          <p:cNvSpPr txBox="1"/>
          <p:nvPr/>
        </p:nvSpPr>
        <p:spPr>
          <a:xfrm>
            <a:off x="2484000" y="4581360"/>
            <a:ext cx="6202440" cy="1743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Обломов в любви проявляет лучшие качества, лучшие стороны своего характера: глубину своих переживаний, поэтичность натуры, мечтательность…;</a:t>
            </a:r>
            <a:br>
              <a:rPr sz="2600"/>
            </a:br>
            <a:r>
              <a:rPr b="0" i="1" lang="ru-RU" sz="2600" spc="-1" strike="noStrike">
                <a:solidFill>
                  <a:srgbClr val="000000"/>
                </a:solidFill>
                <a:latin typeface="Constantia"/>
              </a:rPr>
              <a:t>- в нем развито нравственное чувство и чувство интуиции, он понимает, что нравится Ольге, он способен на глубокое чувств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179280" y="404640"/>
            <a:ext cx="8507520" cy="591984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Ольга берет на себя роль “путеводной звезды”. Ольга пытается “поставить Обломова на ноги”, научить действию, вывести из покоя и лености.</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бломову же новое чувство незнакомо. Он путается, теряется, стыдится. Он любит Ольгу сердцем, любит нежно, послушно, стыдливо. Его душа пробуждается, потому что живая. Он черпает что-то из Ольги, и сердце его начинает биться, а мозг работать. Ольга вливает в него энергию, любовь к действию, которые заставляют его работать, думать, читать, заниматься хозяйством, мысли его постепенно начинают оформляться. Хотя иногда еще в него вползает “червь неуверенности и лености” и опять хочется спрятать голову под крыло, но Ольга вновь вливает в него надежду, не бросает его, а мягко, по-матерински направляет и наставляет, и Обломов опять живет, опять работает, опять самостоятельно пытается решать. Ольга всегда на “страже”, всегда поможет, всегда научит. </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о часто в мечтах Обломова вставала идиллическая картина: Обломовка, все хорошо, спокойно вокруг, большой дом, где покойно живут он, Илья Ильич, и Ольга, а вокруг бегают дети, и нет в этом уголке ни волнений, ни движения, но лишь спокойствие, умеренность и тишина. В этом и состоит их противоречие: Ольга видит в своих мечтах деятельного и активного человека, а Обломов — все ту же идиллическую картинк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880"/>
            <a:ext cx="8229600" cy="1355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Любовь Ольги для него превратилась из “радужной” в “требующую”. </a:t>
            </a: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бломов начинает чаще обедать дома, ездит в театр не по зову души, которая должна иметь нравственную подпитку, а по требованию Ольги,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н хочет поскорее со всем этим покончить и впасть в леность, дремоту и спокойствие.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a:t>
            </a:r>
            <a:r>
              <a:rPr b="0" lang="ru-RU" sz="2600" spc="-1" strike="noStrike">
                <a:solidFill>
                  <a:srgbClr val="000000"/>
                </a:solidFill>
                <a:latin typeface="Constantia"/>
              </a:rPr>
              <a:t>Ах, скорей бы кончить да сидеть с ней рядом, не таскаться в такую даль сюда! А то после такого лета да еще видеться урывками, украдкой, играть роль влюбленного мальчика... Правду сказать, я бы сегодня не поехал в театр, если б уж был женат: шестой раз слышу эту оперу...”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3516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Кто виноват в причине разрыва их отношений?</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6" name=""/>
          <p:cNvSpPr txBox="1"/>
          <p:nvPr/>
        </p:nvSpPr>
        <p:spPr>
          <a:xfrm>
            <a:off x="468000" y="1125360"/>
            <a:ext cx="8218440" cy="5199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a:t>
            </a:r>
            <a:r>
              <a:rPr b="0" lang="ru-RU" sz="2600" spc="-1" strike="noStrike">
                <a:solidFill>
                  <a:srgbClr val="000000"/>
                </a:solidFill>
                <a:latin typeface="Constantia"/>
              </a:rPr>
              <a:t>...Я слишком  понадеялась на свои силы... Не о первой молодости и красоте мечтала я: я думала, что я оживлю тебя, что ты можешь еще жить для меня, — а ты давно уже умер. Я не предвидела этой ошибки, я все ждала, надеялас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то проклял тебя, Илья? Что ты сделал? &lt;...&gt; Что сгубило тебя? Нет имени этому зл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ь, - отвечает Илья. - Обломовщина!«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У него нет сил сопротивляться ей, и Илья Ильич вскоре засыпает духовно, а потом и физически.)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Композиция романа</a:t>
            </a:r>
            <a:endParaRPr b="0" lang="en-US" sz="5000" spc="-1" strike="noStrike">
              <a:solidFill>
                <a:srgbClr val="04617b"/>
              </a:solidFill>
              <a:latin typeface="Calibri"/>
            </a:endParaRPr>
          </a:p>
        </p:txBody>
      </p:sp>
      <p:pic>
        <p:nvPicPr>
          <p:cNvPr id="228" name="Содержимое 3" descr=""/>
          <p:cNvPicPr/>
          <p:nvPr/>
        </p:nvPicPr>
        <p:blipFill>
          <a:blip r:embed="rId1"/>
          <a:stretch/>
        </p:blipFill>
        <p:spPr>
          <a:xfrm>
            <a:off x="1116000" y="2492280"/>
            <a:ext cx="7128000" cy="35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179280" y="1125360"/>
            <a:ext cx="8507520" cy="5199120"/>
          </a:xfrm>
          <a:prstGeom prst="rect">
            <a:avLst/>
          </a:prstGeom>
          <a:noFill/>
          <a:ln w="0">
            <a:noFill/>
          </a:ln>
        </p:spPr>
        <p:txBody>
          <a:bodyPr lIns="90000" rIns="90000" tIns="46800" bIns="46800"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и четвертая части романа</a:t>
            </a:r>
            <a:r>
              <a:rPr b="0" lang="ru-RU" sz="2600" spc="-1" strike="noStrike">
                <a:solidFill>
                  <a:srgbClr val="000000"/>
                </a:solidFill>
                <a:latin typeface="Constantia"/>
              </a:rPr>
              <a:t> - его опора, почва. Взлет во </a:t>
            </a:r>
            <a:r>
              <a:rPr b="0" lang="ru-RU" sz="2600" spc="-1" strike="noStrike" u="sng">
                <a:solidFill>
                  <a:srgbClr val="000000"/>
                </a:solidFill>
                <a:uFillTx/>
                <a:latin typeface="Constantia"/>
              </a:rPr>
              <a:t>второй-третьей частях</a:t>
            </a:r>
            <a:r>
              <a:rPr b="0" lang="ru-RU" sz="2600" spc="-1" strike="noStrike">
                <a:solidFill>
                  <a:srgbClr val="000000"/>
                </a:solidFill>
                <a:latin typeface="Constantia"/>
              </a:rPr>
              <a:t> - кульминация романа, та самая горка, на которую приходится взбираться Обломову.</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часть романа внутренне связана с четвертой частью</a:t>
            </a:r>
            <a:r>
              <a:rPr b="0" lang="ru-RU" sz="2600" spc="-1" strike="noStrike">
                <a:solidFill>
                  <a:srgbClr val="000000"/>
                </a:solidFill>
                <a:latin typeface="Constantia"/>
              </a:rPr>
              <a:t>, т. е. сопоставленными оказываются Обломовка и Выборгская сторона.</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етыре части романа соответствуют четырем временам года. Роман начинается весной, 1 ма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тория любви - лето, переходящее в осень и зиму. Композиция вписана в годовой круг, ежегодный круговорот природы, цикличное время.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538812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Любовь — это не покой, она должна иметь нравственный результат, прежде всего для любящих» </a:t>
            </a:r>
            <a:br>
              <a:rPr sz="5000"/>
            </a:br>
            <a:r>
              <a:rPr b="0" lang="ru-RU" sz="4000" spc="-1" strike="noStrike">
                <a:solidFill>
                  <a:srgbClr val="04617b"/>
                </a:solidFill>
                <a:latin typeface="Calibri"/>
              </a:rPr>
              <a:t>Иннокентий Анненский</a:t>
            </a:r>
            <a:br>
              <a:rPr sz="4000"/>
            </a:br>
            <a:endParaRPr b="0" lang="en-US" sz="4000" spc="-1" strike="noStrike">
              <a:solidFill>
                <a:srgbClr val="04617b"/>
              </a:solidFill>
              <a:latin typeface="Calibri"/>
            </a:endParaRPr>
          </a:p>
        </p:txBody>
      </p:sp>
      <p:sp>
        <p:nvSpPr>
          <p:cNvPr id="198" name=""/>
          <p:cNvSpPr txBox="1"/>
          <p:nvPr/>
        </p:nvSpPr>
        <p:spPr>
          <a:xfrm>
            <a:off x="4716000" y="5300640"/>
            <a:ext cx="3970440" cy="10238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 Почему Обломов прячется от общества? От чего он бежит?</a:t>
            </a:r>
            <a:r>
              <a:rPr b="0" lang="ru-RU" sz="4500" spc="-1" strike="noStrike">
                <a:solidFill>
                  <a:srgbClr val="04617b"/>
                </a:solidFill>
                <a:latin typeface="Calibri"/>
              </a:rPr>
              <a:t> </a:t>
            </a: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 </a:t>
            </a:r>
            <a:r>
              <a:rPr b="1" i="1" lang="ru-RU" sz="2600" spc="-1" strike="noStrike">
                <a:solidFill>
                  <a:srgbClr val="000000"/>
                </a:solidFill>
                <a:latin typeface="Constantia"/>
              </a:rPr>
              <a:t>Илья Ильич мечтал уйти от общества, света, потому что не находит там никаких интересов, видит там одних "мертвецов".  Ему хотелось освободиться от вечной суеты, страстей, жадности, сплетен, пересудов. Илья Ильич мечтал, "обняв жену за талью, углубиться с ней в бесконечную темную аллею, идти с ней искать в природе сочувств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 </a:t>
            </a:r>
            <a:r>
              <a:rPr b="1" i="1" lang="ru-RU" sz="4500" spc="-1" strike="noStrike">
                <a:solidFill>
                  <a:srgbClr val="04617b"/>
                </a:solidFill>
                <a:latin typeface="Calibri"/>
              </a:rPr>
              <a:t>Идеальная жизнь для Обломова</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1. Деревн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2. Жен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3. Новый, покойно выстроенный дом</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4. Добрые соседи-приятел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5. Музы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6. Поэз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7. Любовь</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Calibri"/>
              </a:rPr>
              <a:t>Для Штольца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onstantia"/>
              </a:rPr>
              <a:t>«труд – образ, содержание, стихия и цель жизни»</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льга Ильинская</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Проста, мягка, музыкально образованна, иронична, внимательна, энергична, жаждет деятельности, полна мечтами о ней, уверенная в себе; хороший психолог, «тонкая натура», «естественное проявление мысли, чувства, воли», «недюжинная девушк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7560"/>
            <a:ext cx="8229600" cy="9399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План возрождения Обломова:</a:t>
            </a:r>
            <a:br>
              <a:rPr sz="4500"/>
            </a:b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Отучить спать после обед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очитать книги, которые оставил Штольц</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читать каждый день газеты и рассказывать ей новости</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исать в деревню письм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дописать план устройства имения</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иготовиться ехать за границ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500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Зачем ей все это надо? </a:t>
            </a:r>
            <a:br>
              <a:rPr sz="4500"/>
            </a:br>
            <a:endParaRPr b="0" lang="en-US" sz="45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удивился Штольц её способностям («И Штольц не узнает его, воротяс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Обломов восхищался ею, жил для неё и восхищался ею.(« Он будет жить, действовать, благословлять жизнь и её»)</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 собственной славы, ради собственного самолюбия. (« Возвратить человека к жизни – сколько славы доктору, когда он спасет безнадежно больного! А спасти нравственно погибающий ум, душ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500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Как изменилась жизнь главного героя после встречи с Ильинской?</a:t>
            </a:r>
            <a:r>
              <a:rPr b="0" lang="ru-RU" sz="4000" spc="-1" strike="noStrike">
                <a:solidFill>
                  <a:srgbClr val="04617b"/>
                </a:solidFill>
                <a:latin typeface="Calibri"/>
              </a:rPr>
              <a:t> </a:t>
            </a:r>
            <a:br>
              <a:rPr sz="4500"/>
            </a:br>
            <a:endParaRPr b="0" lang="en-US" sz="4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стает он в семь часов. Читает, носит куда-то книги. На лице ни сна, ни усталости, ни скуки, на нем появились даже краски, в глазах блеск, что-то вроде отваги или, по крайней мере, самоуверенности. Халата не видать на нем… Выходит он в сюртуке, прекрасно сшитом, в щегольской шляпе…Он весел, напевает…отчего же эт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9T10:08:21Z</dcterms:created>
  <dc:creator>STAR</dc:creator>
  <dc:description/>
  <dc:language>en-US</dc:language>
  <cp:lastModifiedBy>STAR</cp:lastModifiedBy>
  <dcterms:modified xsi:type="dcterms:W3CDTF">2017-10-29T10:50:59Z</dcterms:modified>
  <cp:revision>5</cp:revision>
  <dc:subject/>
  <dc:title>Слайд 1</dc:title>
</cp:coreProperties>
</file>