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F12-AE36-47DA-A0DD-9440A5BD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405-451A-4B50-AD87-916AACB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88E-7733-4580-9B16-4D0A5564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A93-8674-4226-BE46-47C4872B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D58-99EE-4EA5-951D-AC625B96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F4E-F261-4C76-8A94-353D2B3F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BE2-4CD0-4C0F-B351-6AA61614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ED8-80C4-45CE-9AF5-B5718773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30A-A028-4914-A586-CFA673D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CB4-652B-4F9D-AEE5-0DCED5F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C6B-D3BC-4DDA-AF9E-4229C80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C64-4B90-41C2-BFF3-E8F9397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86F6-B3BC-43F5-98B3-8B56435A8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снежные ворот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57120" y="285840"/>
            <a:ext cx="8072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-конференция на т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е будущее ожидает Антарктиду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643120" y="278604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857240" y="4214880"/>
            <a:ext cx="728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валова Светлана Иванов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4071960" cy="129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вные особенности климата – холод и сух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красота2.jpg"/>
          <p:cNvPicPr/>
          <p:nvPr/>
        </p:nvPicPr>
        <p:blipFill>
          <a:blip r:embed="rId2"/>
          <a:stretch/>
        </p:blipFill>
        <p:spPr>
          <a:xfrm>
            <a:off x="4427640" y="285840"/>
            <a:ext cx="4430520" cy="37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эт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ографическое положение в высоких широт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ичие полярной но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облач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ое высокое давл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дяной покров отражает 90% солнечного теп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й высокий материк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 flipH="1">
            <a:off x="4500000" y="44290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тарктида – страна морозов и жестокого солнца, страна пур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язык ледник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85840" y="1428840"/>
            <a:ext cx="764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Антарктиды – ключ к пониманию циркуляции атмосферы и океа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у будущего климата план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рктида – накопитель пресной воды (возможна транспортировка айсбер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ическое будущее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1428480"/>
            <a:ext cx="8286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Антарктида – часть древнего гигантского континента Гондваны, то в ее недрах есть те же полезные ископаемые, что и в Африке, и в Южной Америк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нов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но-молибденовые ру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уголь и друг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тительный мир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растения антарктики.jpg"/>
          <p:cNvPicPr/>
          <p:nvPr/>
        </p:nvPicPr>
        <p:blipFill>
          <a:blip r:embed="rId2"/>
          <a:stretch/>
        </p:blipFill>
        <p:spPr>
          <a:xfrm>
            <a:off x="214200" y="1143000"/>
            <a:ext cx="4286520" cy="4929120"/>
          </a:xfrm>
          <a:prstGeom prst="rect">
            <a:avLst/>
          </a:prstGeom>
          <a:ln w="9360">
            <a:solidFill>
              <a:srgbClr val="435e40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Низшие растения – многочисленные водорос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Грибы и лишай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Высшие растения – мхи и 2 вида цветковых растений (щучка из семейства злаковые и один вид семейства Гвоздичны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 мир Антаркти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криль.jpg"/>
          <p:cNvPicPr/>
          <p:nvPr/>
        </p:nvPicPr>
        <p:blipFill>
          <a:blip r:embed="rId2"/>
          <a:stretch/>
        </p:blipFill>
        <p:spPr>
          <a:xfrm>
            <a:off x="179280" y="928800"/>
            <a:ext cx="3249720" cy="29113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7" descr="кит.jpg"/>
          <p:cNvPicPr/>
          <p:nvPr/>
        </p:nvPicPr>
        <p:blipFill>
          <a:blip r:embed="rId3"/>
          <a:stretch/>
        </p:blipFill>
        <p:spPr>
          <a:xfrm>
            <a:off x="4572000" y="765000"/>
            <a:ext cx="4243320" cy="4445280"/>
          </a:xfrm>
          <a:prstGeom prst="rect">
            <a:avLst/>
          </a:prstGeom>
          <a:ln w="9360">
            <a:solidFill>
              <a:srgbClr val="323543"/>
            </a:solidFill>
            <a:miter/>
          </a:ln>
        </p:spPr>
      </p:pic>
      <p:sp>
        <p:nvSpPr>
          <p:cNvPr id="92" name="Прямоугольник 5"/>
          <p:cNvSpPr/>
          <p:nvPr/>
        </p:nvSpPr>
        <p:spPr>
          <a:xfrm>
            <a:off x="179280" y="4076640"/>
            <a:ext cx="3214800" cy="135720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ль – пища китов и других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3929040" y="5300640"/>
            <a:ext cx="5214960" cy="100008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кит, финвал и другие к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6"/>
          <p:cNvSpPr/>
          <p:nvPr/>
        </p:nvSpPr>
        <p:spPr>
          <a:xfrm>
            <a:off x="3214800" y="2357280"/>
            <a:ext cx="1357200" cy="714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питающие Антар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морской слон.jpg"/>
          <p:cNvPicPr/>
          <p:nvPr/>
        </p:nvPicPr>
        <p:blipFill>
          <a:blip r:embed="rId2"/>
          <a:stretch/>
        </p:blipFill>
        <p:spPr>
          <a:xfrm>
            <a:off x="285840" y="928800"/>
            <a:ext cx="3062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Рисунок 4" descr="тюлень.jpg"/>
          <p:cNvPicPr/>
          <p:nvPr/>
        </p:nvPicPr>
        <p:blipFill>
          <a:blip r:embed="rId3"/>
          <a:stretch/>
        </p:blipFill>
        <p:spPr>
          <a:xfrm>
            <a:off x="5435640" y="928800"/>
            <a:ext cx="3311640" cy="235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Прямоугольник 7"/>
          <p:cNvSpPr/>
          <p:nvPr/>
        </p:nvSpPr>
        <p:spPr>
          <a:xfrm flipH="1" flipV="1" rot="10800000">
            <a:off x="394200" y="3213000"/>
            <a:ext cx="2786040" cy="85752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ой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 flipH="1" flipV="1" rot="10800000">
            <a:off x="6084720" y="3429000"/>
            <a:ext cx="2640240" cy="7142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 flipH="1" flipV="1" rot="10800000">
            <a:off x="2927880" y="6000840"/>
            <a:ext cx="3227400" cy="7142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кой ко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котик.jpg"/>
          <p:cNvPicPr/>
          <p:nvPr/>
        </p:nvPicPr>
        <p:blipFill>
          <a:blip r:embed="rId4"/>
          <a:stretch/>
        </p:blipFill>
        <p:spPr>
          <a:xfrm>
            <a:off x="3348000" y="3500280"/>
            <a:ext cx="236232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Антарк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птицы.jpg"/>
          <p:cNvPicPr/>
          <p:nvPr/>
        </p:nvPicPr>
        <p:blipFill>
          <a:blip r:embed="rId2"/>
          <a:stretch/>
        </p:blipFill>
        <p:spPr>
          <a:xfrm>
            <a:off x="781200" y="3870360"/>
            <a:ext cx="3151080" cy="25797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человек и пингвин.jpg"/>
          <p:cNvPicPr/>
          <p:nvPr/>
        </p:nvPicPr>
        <p:blipFill>
          <a:blip r:embed="rId3"/>
          <a:stretch/>
        </p:blipFill>
        <p:spPr>
          <a:xfrm>
            <a:off x="4643280" y="785880"/>
            <a:ext cx="407196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Рисунок 6" descr="императорский2.jpg"/>
          <p:cNvPicPr/>
          <p:nvPr/>
        </p:nvPicPr>
        <p:blipFill>
          <a:blip r:embed="rId4"/>
          <a:stretch/>
        </p:blipFill>
        <p:spPr>
          <a:xfrm>
            <a:off x="214200" y="785880"/>
            <a:ext cx="4143600" cy="27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Box 8"/>
          <p:cNvSpPr/>
          <p:nvPr/>
        </p:nvSpPr>
        <p:spPr>
          <a:xfrm>
            <a:off x="285840" y="3429000"/>
            <a:ext cx="46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714920" y="350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 А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поморник.jpg"/>
          <p:cNvPicPr/>
          <p:nvPr/>
        </p:nvPicPr>
        <p:blipFill>
          <a:blip r:embed="rId5"/>
          <a:stretch/>
        </p:blipFill>
        <p:spPr>
          <a:xfrm>
            <a:off x="5643720" y="4000680"/>
            <a:ext cx="178884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TextBox 11"/>
          <p:cNvSpPr/>
          <p:nvPr/>
        </p:nvSpPr>
        <p:spPr>
          <a:xfrm>
            <a:off x="785880" y="63579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ве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643720" y="63579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16349"/>
                </a:solidFill>
                <a:latin typeface="Times New Roman"/>
              </a:rPr>
              <a:t>Главные климатические особенности Антарктиды, осложняющие пребывание человека на континент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лод (до -89,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имой и -3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ле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ая сухость возд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изкое атмосферное дав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женный воздух и низкое содержание кислорода в атмосф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6349"/>
                </a:solidFill>
                <a:latin typeface="Times New Roman"/>
              </a:rPr>
              <a:t>Рекомендации врачей для полярник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Заблаговременное закаливание и работа на специальных тренаже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лительность пребывания на станциях ограничить одним г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оспитание волевых качеств, ответственности и коллективи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Использование средств индивидуальной и коллективной защ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900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 в Антаркт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720" y="1357200"/>
            <a:ext cx="475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ермозащитный и ветрозащитный костю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Термозащитная обу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чки, маски для защиты от ультрафиолетового изл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4" descr="снаряжение.jpg"/>
          <p:cNvPicPr/>
          <p:nvPr/>
        </p:nvPicPr>
        <p:blipFill>
          <a:blip r:embed="rId2"/>
          <a:stretch/>
        </p:blipFill>
        <p:spPr>
          <a:xfrm>
            <a:off x="108000" y="1428840"/>
            <a:ext cx="379728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айсберги.jpg"/>
          <p:cNvPicPr/>
          <p:nvPr/>
        </p:nvPicPr>
        <p:blipFill>
          <a:blip r:embed="rId2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айсберги.jpg"/>
          <p:cNvPicPr/>
          <p:nvPr/>
        </p:nvPicPr>
        <p:blipFill>
          <a:blip r:embed="rId3"/>
          <a:stretch/>
        </p:blipFill>
        <p:spPr>
          <a:xfrm>
            <a:off x="0" y="1500120"/>
            <a:ext cx="9144000" cy="46436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42920" y="1357200"/>
            <a:ext cx="90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947"/>
                </a:solidFill>
                <a:latin typeface="Calibri"/>
              </a:rPr>
              <a:t>«… Эта страна обречена природой на вечный холод: она погребена под слоем никогда не тающего снега и льда. Гавани, которые могут быть на этих берегах, недоступны для кораблей из-за заполняющего их льда.» Кук счел безрассудным идти на юг дальше ради достижения материка, который, как он посчитал, «будучи открытым и иссследованным, все равно не принес бы пользы ни мореплаванию, ни географии, ни другим отраслям наук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еймс Кук в своем дневнике по итогам плавания 1772 – 1775 гг. написа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городов будущего в Антаркти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1600200"/>
            <a:ext cx="4214880" cy="50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на фундаменте-каркасе, соединенные трос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600200"/>
            <a:ext cx="4281480" cy="50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 на сва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8" descr="0,1020,1441102,00.jpg"/>
          <p:cNvPicPr/>
          <p:nvPr/>
        </p:nvPicPr>
        <p:blipFill>
          <a:blip r:embed="rId2"/>
          <a:stretch/>
        </p:blipFill>
        <p:spPr>
          <a:xfrm>
            <a:off x="5003640" y="3068640"/>
            <a:ext cx="3311640" cy="27716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9" descr="img_ittpiqax979uz.jpg"/>
          <p:cNvPicPr/>
          <p:nvPr/>
        </p:nvPicPr>
        <p:blipFill>
          <a:blip r:embed="rId3"/>
          <a:stretch/>
        </p:blipFill>
        <p:spPr>
          <a:xfrm>
            <a:off x="539640" y="3141720"/>
            <a:ext cx="3168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ительство в тоннелях под сне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2" descr="чилийская станция2.jpg"/>
          <p:cNvPicPr/>
          <p:nvPr/>
        </p:nvPicPr>
        <p:blipFill>
          <a:blip r:embed="rId2"/>
          <a:stretch/>
        </p:blipFill>
        <p:spPr>
          <a:xfrm>
            <a:off x="214200" y="142884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станция3.jpg"/>
          <p:cNvPicPr/>
          <p:nvPr/>
        </p:nvPicPr>
        <p:blipFill>
          <a:blip r:embed="rId3"/>
          <a:stretch/>
        </p:blipFill>
        <p:spPr>
          <a:xfrm>
            <a:off x="4500720" y="1428840"/>
            <a:ext cx="4429080" cy="4143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0" y="54291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лийская станция: в тоннелях находятся жилые дома, столовая, библиотека тренажерный зал и другие объ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которые объекты полярных стан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2" descr="столовая.jpg"/>
          <p:cNvPicPr/>
          <p:nvPr/>
        </p:nvPicPr>
        <p:blipFill>
          <a:blip r:embed="rId2"/>
          <a:stretch/>
        </p:blipFill>
        <p:spPr>
          <a:xfrm>
            <a:off x="0" y="1428840"/>
            <a:ext cx="4357800" cy="3047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тренажеры на станции.jpg"/>
          <p:cNvPicPr/>
          <p:nvPr/>
        </p:nvPicPr>
        <p:blipFill>
          <a:blip r:embed="rId3"/>
          <a:stretch/>
        </p:blipFill>
        <p:spPr>
          <a:xfrm>
            <a:off x="4500720" y="2143080"/>
            <a:ext cx="4349520" cy="3500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00040" y="45720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ол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4500720" y="571500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нажерный з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крупный зарубежный поселок – станция США Мак-Мерд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6" descr="станция Мак Мердо.jpg"/>
          <p:cNvPicPr/>
          <p:nvPr/>
        </p:nvPicPr>
        <p:blipFill>
          <a:blip r:embed="rId2"/>
          <a:stretch/>
        </p:blipFill>
        <p:spPr>
          <a:xfrm>
            <a:off x="900000" y="1700280"/>
            <a:ext cx="69850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ризм в Антаркти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2" descr="авиасообщение и туризм.jpg"/>
          <p:cNvPicPr/>
          <p:nvPr/>
        </p:nvPicPr>
        <p:blipFill>
          <a:blip r:embed="rId2"/>
          <a:stretch/>
        </p:blipFill>
        <p:spPr>
          <a:xfrm>
            <a:off x="0" y="1700280"/>
            <a:ext cx="39243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Рисунок 3" descr="корабль.jpg"/>
          <p:cNvPicPr/>
          <p:nvPr/>
        </p:nvPicPr>
        <p:blipFill>
          <a:blip r:embed="rId3"/>
          <a:stretch/>
        </p:blipFill>
        <p:spPr>
          <a:xfrm>
            <a:off x="4572000" y="2852640"/>
            <a:ext cx="4282920" cy="2855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8" name="TextBox 4"/>
          <p:cNvSpPr/>
          <p:nvPr/>
        </p:nvSpPr>
        <p:spPr>
          <a:xfrm>
            <a:off x="357120" y="4643280"/>
            <a:ext cx="14288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 flipH="1">
            <a:off x="-720" y="492912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иату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3500280" y="578628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рские круизные лай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0" y="100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2008 год поток туристов составил 45 тыс.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ы туристов разнообразны: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винг, альпинизм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2" descr="альпинизм в антарктиде.jpg"/>
          <p:cNvPicPr/>
          <p:nvPr/>
        </p:nvPicPr>
        <p:blipFill>
          <a:blip r:embed="rId2"/>
          <a:stretch/>
        </p:blipFill>
        <p:spPr>
          <a:xfrm>
            <a:off x="179280" y="1700280"/>
            <a:ext cx="3780000" cy="3179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44" name="Рисунок 3" descr="дайвинг.jpg"/>
          <p:cNvPicPr/>
          <p:nvPr/>
        </p:nvPicPr>
        <p:blipFill>
          <a:blip r:embed="rId3"/>
          <a:stretch/>
        </p:blipFill>
        <p:spPr>
          <a:xfrm>
            <a:off x="4356000" y="3284640"/>
            <a:ext cx="4500720" cy="3281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9432b"/>
                </a:solidFill>
                <a:latin typeface="Calibri"/>
              </a:rPr>
              <a:t>План конферен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14240"/>
            <a:ext cx="8858160" cy="6143760"/>
          </a:xfrm>
          <a:prstGeom prst="rect">
            <a:avLst/>
          </a:prstGeom>
          <a:solidFill>
            <a:srgbClr val="adbec6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712d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Работа экспертных групп ООН по различным аспектам исследования Антаркти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1.Политические обозрева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2. Эксперты-климат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3.Эксперты-ге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4.Эксперты-биологи и эко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5.Эксперты по вопросам медицины и псих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6.Проектировщ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7.Эксперты по вопросам тур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 Переры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II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Встреча с представителями средств масс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2d1c"/>
                </a:solidFill>
                <a:latin typeface="Calibri"/>
              </a:rPr>
              <a:t>IV</a:t>
            </a:r>
            <a:r>
              <a:rPr b="0" lang="ru-RU" sz="2800" spc="-1" strike="noStrike">
                <a:solidFill>
                  <a:srgbClr val="712d1c"/>
                </a:solidFill>
                <a:latin typeface="Calibri"/>
              </a:rPr>
              <a:t>.   Подведение итогов конфер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3" descr="точкая полюс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785880" y="0"/>
            <a:ext cx="7715160" cy="1000080"/>
          </a:xfrm>
          <a:prstGeom prst="rect">
            <a:avLst/>
          </a:prstGeom>
          <a:solidFill>
            <a:srgbClr val="c0c3d0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9432b"/>
                </a:solidFill>
                <a:latin typeface="Calibri"/>
              </a:rPr>
              <a:t>Правовой режим Антаркти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85840" y="4714920"/>
            <a:ext cx="8501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 декабря 1959 года 12 государств подпис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говор об Антаркти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которые статьи Договора об Антаркт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071360"/>
            <a:ext cx="8929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б использовании Антарктиды исключительно в мирных целях. Запрещает строительство военных баз, проведение военных маневров, испытаний любых видов оруж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 провозглашении свободы научных исследований в Антарктиде. Позволяет любой стране мира организовывать научные станции и вести наблю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Статья </a:t>
            </a:r>
            <a:r>
              <a:rPr b="1" lang="en-US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V</a:t>
            </a:r>
            <a:r>
              <a:rPr b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 запрещении проведения ядерных взрывов в Антарктиде как в военных, так и в мирных целях, а также захоронение радиоактивных отх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3857400"/>
            <a:ext cx="85723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 Антарктиде работает 69 научных станций (постоянных и сезонных) из 30 стран ми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антарктический марафон.jpg"/>
          <p:cNvPicPr/>
          <p:nvPr/>
        </p:nvPicPr>
        <p:blipFill>
          <a:blip r:embed="rId2"/>
          <a:stretch/>
        </p:blipFill>
        <p:spPr>
          <a:xfrm>
            <a:off x="1792440" y="0"/>
            <a:ext cx="5208480" cy="3857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478620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, США, Аргентины, Чили, Великобритании, Бразилии, Австрии, Бельгии, Болгарии, Германии, Италии, Испании, Индии, Китая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крупные станции в Антарк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5" descr=""/>
          <p:cNvPicPr/>
          <p:nvPr/>
        </p:nvPicPr>
        <p:blipFill>
          <a:blip r:embed="rId2"/>
          <a:stretch/>
        </p:blipFill>
        <p:spPr>
          <a:xfrm>
            <a:off x="384120" y="927000"/>
            <a:ext cx="8620200" cy="30718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 flipH="1">
            <a:off x="428760" y="4000680"/>
            <a:ext cx="8572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 России – 8 научных станц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Мирный                      5. Ленингра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Молодежная               6. Новолазар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Восток                         7.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Беллинсгаузен           8. Рус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е станции в Антаркти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12" descr="буровая вышка на станции Восток.jpg"/>
          <p:cNvPicPr/>
          <p:nvPr/>
        </p:nvPicPr>
        <p:blipFill>
          <a:blip r:embed="rId2"/>
          <a:stretch/>
        </p:blipFill>
        <p:spPr>
          <a:xfrm>
            <a:off x="457200" y="1285920"/>
            <a:ext cx="3467160" cy="331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" name="Содержимое 13" descr="img_ittpiqax979uz.jpg"/>
          <p:cNvPicPr/>
          <p:nvPr/>
        </p:nvPicPr>
        <p:blipFill>
          <a:blip r:embed="rId3"/>
          <a:stretch/>
        </p:blipFill>
        <p:spPr>
          <a:xfrm>
            <a:off x="5219640" y="1285920"/>
            <a:ext cx="3533760" cy="337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Прямоугольник 14"/>
          <p:cNvSpPr/>
          <p:nvPr/>
        </p:nvSpPr>
        <p:spPr>
          <a:xfrm>
            <a:off x="108000" y="4724280"/>
            <a:ext cx="4143240" cy="107172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 Восток – полюс холода и южный геомагнитный полюс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4932360" y="4869000"/>
            <a:ext cx="4071960" cy="107136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первая станция СССР - Ми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е станции в Антаркти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214200" y="4929120"/>
            <a:ext cx="4286520" cy="12146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Новолазар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4643280" y="4929120"/>
            <a:ext cx="4071960" cy="1214640"/>
          </a:xfrm>
          <a:prstGeom prst="rect">
            <a:avLst/>
          </a:prstGeom>
          <a:solidFill>
            <a:srgbClr val="d16349"/>
          </a:solidFill>
          <a:ln w="255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ция 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8" descr="Новолазаревская.jpg"/>
          <p:cNvPicPr/>
          <p:nvPr/>
        </p:nvPicPr>
        <p:blipFill>
          <a:blip r:embed="rId2"/>
          <a:stretch/>
        </p:blipFill>
        <p:spPr>
          <a:xfrm>
            <a:off x="214200" y="1285920"/>
            <a:ext cx="4281480" cy="35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Содержимое 10" descr="img_wbhxqax3frjxk.jpg"/>
          <p:cNvPicPr/>
          <p:nvPr/>
        </p:nvPicPr>
        <p:blipFill>
          <a:blip r:embed="rId3"/>
          <a:stretch/>
        </p:blipFill>
        <p:spPr>
          <a:xfrm>
            <a:off x="4648320" y="1285920"/>
            <a:ext cx="4038480" cy="35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0:18:16Z</dcterms:created>
  <dc:creator>САВУШКИН Михаил</dc:creator>
  <dc:description/>
  <dc:language>en-US</dc:language>
  <cp:lastModifiedBy>Светлана Ивановна</cp:lastModifiedBy>
  <dcterms:modified xsi:type="dcterms:W3CDTF">2018-06-20T06:03:27Z</dcterms:modified>
  <cp:revision>57</cp:revision>
  <dc:subject/>
  <dc:title>Слайд 1</dc:title>
</cp:coreProperties>
</file>