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5BE-2407-4599-A02F-4EA7C0BD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B6C-A229-4A26-B502-2F737389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D99-DFD8-4A8A-B968-C16D19E4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839-A06F-49D0-B28E-7DB64241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484F-D282-4B73-A220-1F877EC7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F565-CD5E-40A4-B9B9-E6729512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B24D-955D-416A-BB10-3D11CC91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D372-A4F8-45A4-8FE6-6749F0FF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9C6F-A9A8-432B-B4FF-74411185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CC29-B842-4292-98F2-F538D8D3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5514-F0BE-482B-8381-B080CC84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020-9A03-4A86-ACE7-807E5FBA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C343-AEC1-48DB-8ED7-C935839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4F98-F2A3-48BC-872D-CCE9D11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919F-2F06-44AF-8693-B3E916EE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4C10-A9D1-41E9-9FB8-51223467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BA25-8E04-4C5E-8645-61AF9AC2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494-D12C-4DAD-B96F-18FCA605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ACA-CEF1-40A4-8F77-27356B84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5A6-7758-4623-8136-268617A6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17E-84B4-4464-80B2-7E5BF13C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C61-1CD4-4CB9-B17D-F5362CE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B96-A072-499B-8C80-E05622A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593-255E-4D3B-B4FC-5D73EBE6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D2D3-4EB0-4197-B447-ABFD1801B0DF}" type="slidenum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E959-0604-4652-A902-DA85229FD4B9}" type="slidenum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atematikalegko.ru/" TargetMode="External"/><Relationship Id="rId2" Type="http://schemas.openxmlformats.org/officeDocument/2006/relationships/hyperlink" Target="http://matematikalegko.ru/" TargetMode="External"/><Relationship Id="rId3" Type="http://schemas.openxmlformats.org/officeDocument/2006/relationships/hyperlink" Target="http://matematikalegko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238880" cy="28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на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квадратной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ешет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86080" y="3733920"/>
            <a:ext cx="640080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631800" y="4952880"/>
            <a:ext cx="7772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рлова Елена Геннадь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173320" y="42670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Учитель математики школы № 127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изация опорных знаний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нусом острого угла в прямоугольном треугольнике называется отношение п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жащего </a:t>
            </a:r>
            <a:r>
              <a:rPr b="1" i="1" lang="ru-RU" sz="2400" spc="-1" strike="noStrike">
                <a:solidFill>
                  <a:srgbClr val="723400"/>
                </a:solidFill>
                <a:latin typeface="Calibri"/>
              </a:rPr>
              <a:t>катета к гипотену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720960" y="3886200"/>
                <a:ext cx="1625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AutoShape 4"/>
          <p:cNvSpPr/>
          <p:nvPr/>
        </p:nvSpPr>
        <p:spPr>
          <a:xfrm flipH="1">
            <a:off x="6324480" y="1981080"/>
            <a:ext cx="1524240" cy="28195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93432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80010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248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6324480" y="44197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2485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784872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6960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276720" y="40384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19051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 A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изация опорных знаний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нгенсом острого угла в прямоугольном треугольнике называется отношение п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волежащего </a:t>
            </a:r>
            <a:r>
              <a:rPr b="1" lang="ru-RU" sz="2400" spc="-1" strike="noStrike">
                <a:solidFill>
                  <a:srgbClr val="723400"/>
                </a:solidFill>
                <a:latin typeface="Calibri"/>
              </a:rPr>
              <a:t>катет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23400"/>
                </a:solidFill>
                <a:latin typeface="Calibri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жащему </a:t>
            </a:r>
            <a:r>
              <a:rPr b="1" lang="ru-RU" sz="2400" spc="-1" strike="noStrike">
                <a:solidFill>
                  <a:srgbClr val="723400"/>
                </a:solidFill>
                <a:latin typeface="Calibri"/>
              </a:rPr>
              <a:t>кат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2743200" y="3962520"/>
                <a:ext cx="15224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AutoShape 6"/>
          <p:cNvSpPr/>
          <p:nvPr/>
        </p:nvSpPr>
        <p:spPr>
          <a:xfrm flipH="1">
            <a:off x="6476400" y="1828800"/>
            <a:ext cx="1523880" cy="28195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6477120" y="426708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81532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67816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708660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248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8077320" y="4572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77724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144792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g A =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get_file?id=2374"/>
          <p:cNvPicPr/>
          <p:nvPr/>
        </p:nvPicPr>
        <p:blipFill>
          <a:blip r:embed="rId1"/>
          <a:stretch/>
        </p:blipFill>
        <p:spPr>
          <a:xfrm>
            <a:off x="1219320" y="14479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4648320" y="1752480"/>
            <a:ext cx="335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йдите тангенс угла А треугольника  АВС, изображённого на рисунк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76720" y="3733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1905120" y="2895480"/>
            <a:ext cx="609480" cy="152640"/>
          </a:xfrm>
          <a:prstGeom prst="triangle">
            <a:avLst>
              <a:gd name="adj" fmla="val 5000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514600" y="4343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g A 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038480" y="2590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3962520" y="2133720"/>
            <a:ext cx="0" cy="91440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4038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1828800" y="3048120"/>
            <a:ext cx="21337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2743200" y="3048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4038480" y="4419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4572000" y="5257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g A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4" descr="get_file?id=2370"/>
          <p:cNvPicPr/>
          <p:nvPr/>
        </p:nvPicPr>
        <p:blipFill>
          <a:blip r:embed="rId1"/>
          <a:stretch/>
        </p:blipFill>
        <p:spPr>
          <a:xfrm>
            <a:off x="1219320" y="1447920"/>
            <a:ext cx="2590560" cy="23828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4038480" y="17524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На квадратной сетке изображён угол А . Найдит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g A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 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7"/>
          <p:cNvSpPr/>
          <p:nvPr/>
        </p:nvSpPr>
        <p:spPr>
          <a:xfrm rot="14038800">
            <a:off x="1564200" y="3213360"/>
            <a:ext cx="385920" cy="304920"/>
          </a:xfrm>
          <a:prstGeom prst="triangle">
            <a:avLst>
              <a:gd name="adj" fmla="val 5000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2057400" y="2209680"/>
            <a:ext cx="0" cy="129564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2133720" y="2895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1676520" y="358128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17524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4800600" y="2666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 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8" name="Picture 14" descr="get_file?id=3521"/>
          <p:cNvPicPr/>
          <p:nvPr/>
        </p:nvPicPr>
        <p:blipFill>
          <a:blip r:embed="rId2"/>
          <a:stretch/>
        </p:blipFill>
        <p:spPr>
          <a:xfrm>
            <a:off x="2209680" y="3886200"/>
            <a:ext cx="2438640" cy="22496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5"/>
          <p:cNvSpPr/>
          <p:nvPr/>
        </p:nvSpPr>
        <p:spPr>
          <a:xfrm>
            <a:off x="5029200" y="335268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Найдите синус острого угла трапеции, изображённой на рисун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3276720" y="4419720"/>
            <a:ext cx="990360" cy="1218960"/>
          </a:xfrm>
          <a:prstGeom prst="rtTriangl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3886200" y="5181480"/>
            <a:ext cx="380880" cy="45720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3581280" y="5867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2971800" y="5105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5638680" y="5257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  0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5410080" y="4724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mic Sans MS"/>
                <a:ea typeface="Arial"/>
              </a:rPr>
              <a:t>Найдем гипотенуз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38098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4" descr="get_file?id=2247"/>
          <p:cNvPicPr/>
          <p:nvPr/>
        </p:nvPicPr>
        <p:blipFill>
          <a:blip r:embed="rId1"/>
          <a:stretch/>
        </p:blipFill>
        <p:spPr>
          <a:xfrm>
            <a:off x="6519960" y="1700280"/>
            <a:ext cx="1895400" cy="1333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227160" y="1708200"/>
            <a:ext cx="533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 рисунке изображен параллелограмм  . Используя рисунок, найдите  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da9a79a7d63f1ea7393be684c7cc8b6ep"/>
          <p:cNvPicPr/>
          <p:nvPr/>
        </p:nvPicPr>
        <p:blipFill>
          <a:blip r:embed="rId2"/>
          <a:stretch/>
        </p:blipFill>
        <p:spPr>
          <a:xfrm>
            <a:off x="4343400" y="2514600"/>
            <a:ext cx="1600200" cy="3794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73915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08660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754380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447920" y="3200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0,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12" descr="get_file?id=2234"/>
          <p:cNvPicPr/>
          <p:nvPr/>
        </p:nvPicPr>
        <p:blipFill>
          <a:blip r:embed="rId3"/>
          <a:stretch/>
        </p:blipFill>
        <p:spPr>
          <a:xfrm>
            <a:off x="1752480" y="3581280"/>
            <a:ext cx="2286000" cy="27432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3"/>
          <p:cNvSpPr/>
          <p:nvPr/>
        </p:nvSpPr>
        <p:spPr>
          <a:xfrm>
            <a:off x="4800600" y="42670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На рисунке изображен ромб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 Используя рисунок, найдит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Picture 14" descr="http://sdamgia.ru/formula/25/25191592d2eb8339da8fb7a4d0a7c29fp.png"/>
          <p:cNvPicPr/>
          <p:nvPr/>
        </p:nvPicPr>
        <p:blipFill>
          <a:blip r:embed="rId4"/>
          <a:stretch/>
        </p:blipFill>
        <p:spPr>
          <a:xfrm>
            <a:off x="7238880" y="4876920"/>
            <a:ext cx="914400" cy="3333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6"/>
          <p:cNvSpPr/>
          <p:nvPr/>
        </p:nvSpPr>
        <p:spPr>
          <a:xfrm>
            <a:off x="720" y="336780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2819520" y="5105520"/>
            <a:ext cx="685800" cy="0"/>
          </a:xfrm>
          <a:prstGeom prst="line">
            <a:avLst/>
          </a:prstGeom>
          <a:ln w="255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3505320" y="5334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22"/>
          <p:cNvSpPr/>
          <p:nvPr/>
        </p:nvSpPr>
        <p:spPr>
          <a:xfrm flipV="1">
            <a:off x="2743200" y="4266720"/>
            <a:ext cx="0" cy="762120"/>
          </a:xfrm>
          <a:prstGeom prst="line">
            <a:avLst/>
          </a:prstGeom>
          <a:ln w="255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182880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4572000" y="54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0,7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6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йт ГУЩИНА Д.Д.   «СДАМ ГИА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крытый банк ЕГЭ по математи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.Н. Балаян «Геометрия. Задачи на готовых чертеж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дготовки к ГИА и ЕГЭ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matematikalegko.ru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ые ресурсы Интерн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1600200" y="4495680"/>
            <a:ext cx="6248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3578400" y="782640"/>
            <a:ext cx="4724280" cy="439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лощадь искомой фигуры можно найти по формул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 – количество узлов на границе треугольника (на сторонах и вершина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N – количество узлов внутри  треуголь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*Под «узлами» имеется ввиду пересечение ли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йдём площадь треугольник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тметим узл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 клетка = 1 с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M = 15 (обозначены красным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N = 34 (обозначены синим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1111"/>
                </a:solidFill>
                <a:latin typeface="Tahoma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2" descr="Формула Пика"/>
          <p:cNvPicPr/>
          <p:nvPr/>
        </p:nvPicPr>
        <p:blipFill>
          <a:blip r:embed="rId1"/>
          <a:stretch/>
        </p:blipFill>
        <p:spPr>
          <a:xfrm>
            <a:off x="6397560" y="3484440"/>
            <a:ext cx="1905120" cy="92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ttp://matematikalegko.ru/wp-content/uploads/2013/09/9.jpg"/>
          <p:cNvPicPr/>
          <p:nvPr/>
        </p:nvPicPr>
        <p:blipFill>
          <a:blip r:embed="rId2"/>
          <a:stretch/>
        </p:blipFill>
        <p:spPr>
          <a:xfrm>
            <a:off x="534960" y="412920"/>
            <a:ext cx="2797200" cy="2485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matematikalegko.ru/wp-content/uploads/2013/09/10.jpg"/>
          <p:cNvPicPr/>
          <p:nvPr/>
        </p:nvPicPr>
        <p:blipFill>
          <a:blip r:embed="rId3"/>
          <a:stretch/>
        </p:blipFill>
        <p:spPr>
          <a:xfrm>
            <a:off x="638280" y="3211560"/>
            <a:ext cx="2590560" cy="239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matematikalegko.ru/wp-content/uploads/2013/09/101.gif"/>
          <p:cNvPicPr/>
          <p:nvPr/>
        </p:nvPicPr>
        <p:blipFill>
          <a:blip r:embed="rId4"/>
          <a:stretch/>
        </p:blipFill>
        <p:spPr>
          <a:xfrm>
            <a:off x="4110120" y="4981680"/>
            <a:ext cx="3662280" cy="8906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5566680" y="24300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ahoma"/>
                <a:ea typeface="Arial"/>
              </a:rPr>
              <a:t>ФОРМУЛА ПИ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351080" y="74124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ИМСЯ К ЕГ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2" descr="pic.233"/>
          <p:cNvPicPr/>
          <p:nvPr/>
        </p:nvPicPr>
        <p:blipFill>
          <a:blip r:embed="rId1"/>
          <a:stretch/>
        </p:blipFill>
        <p:spPr>
          <a:xfrm>
            <a:off x="1471680" y="1625760"/>
            <a:ext cx="205884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5"/>
          <p:cNvSpPr/>
          <p:nvPr/>
        </p:nvSpPr>
        <p:spPr>
          <a:xfrm>
            <a:off x="1760400" y="1886040"/>
            <a:ext cx="1559160" cy="1050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ый треугольник 16"/>
          <p:cNvSpPr/>
          <p:nvPr/>
        </p:nvSpPr>
        <p:spPr>
          <a:xfrm>
            <a:off x="2516040" y="2454120"/>
            <a:ext cx="773280" cy="482760"/>
          </a:xfrm>
          <a:prstGeom prst="rtTriangle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Прямоугольный треугольник 17"/>
          <p:cNvSpPr/>
          <p:nvPr/>
        </p:nvSpPr>
        <p:spPr>
          <a:xfrm flipH="1">
            <a:off x="1760400" y="2451240"/>
            <a:ext cx="749520" cy="485640"/>
          </a:xfrm>
          <a:prstGeom prst="rtTriangl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Прямоугольный треугольник 18"/>
          <p:cNvSpPr/>
          <p:nvPr/>
        </p:nvSpPr>
        <p:spPr>
          <a:xfrm flipV="1">
            <a:off x="1760400" y="1878840"/>
            <a:ext cx="738360" cy="1035000"/>
          </a:xfrm>
          <a:prstGeom prst="rtTriangl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Прямоугольный треугольник 19"/>
          <p:cNvSpPr/>
          <p:nvPr/>
        </p:nvSpPr>
        <p:spPr>
          <a:xfrm flipH="1" flipV="1">
            <a:off x="2516040" y="1869480"/>
            <a:ext cx="758880" cy="1066680"/>
          </a:xfrm>
          <a:prstGeom prst="rtTriangle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Picture 9" descr="pic.233"/>
          <p:cNvPicPr/>
          <p:nvPr/>
        </p:nvPicPr>
        <p:blipFill>
          <a:blip r:embed="rId2"/>
          <a:stretch/>
        </p:blipFill>
        <p:spPr>
          <a:xfrm>
            <a:off x="1630440" y="3809880"/>
            <a:ext cx="2058840" cy="1800360"/>
          </a:xfrm>
          <a:prstGeom prst="rect">
            <a:avLst/>
          </a:prstGeom>
          <a:ln w="0">
            <a:noFill/>
          </a:ln>
        </p:spPr>
      </p:pic>
      <p:sp>
        <p:nvSpPr>
          <p:cNvPr id="100" name="Овал 2"/>
          <p:cNvSpPr/>
          <p:nvPr/>
        </p:nvSpPr>
        <p:spPr>
          <a:xfrm>
            <a:off x="2652840" y="4038480"/>
            <a:ext cx="44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Овал 12"/>
          <p:cNvSpPr/>
          <p:nvPr/>
        </p:nvSpPr>
        <p:spPr>
          <a:xfrm>
            <a:off x="3417840" y="502920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Овал 13"/>
          <p:cNvSpPr/>
          <p:nvPr/>
        </p:nvSpPr>
        <p:spPr>
          <a:xfrm>
            <a:off x="1868400" y="50752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Овал 14"/>
          <p:cNvSpPr/>
          <p:nvPr/>
        </p:nvSpPr>
        <p:spPr>
          <a:xfrm>
            <a:off x="2624040" y="4552920"/>
            <a:ext cx="4464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Овал 22"/>
          <p:cNvSpPr/>
          <p:nvPr/>
        </p:nvSpPr>
        <p:spPr>
          <a:xfrm>
            <a:off x="2639880" y="4289400"/>
            <a:ext cx="4464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Овал 23"/>
          <p:cNvSpPr/>
          <p:nvPr/>
        </p:nvSpPr>
        <p:spPr>
          <a:xfrm>
            <a:off x="2362320" y="45766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Овал 24"/>
          <p:cNvSpPr/>
          <p:nvPr/>
        </p:nvSpPr>
        <p:spPr>
          <a:xfrm>
            <a:off x="2895480" y="45529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Овал 25"/>
          <p:cNvSpPr/>
          <p:nvPr/>
        </p:nvSpPr>
        <p:spPr>
          <a:xfrm>
            <a:off x="3154320" y="48085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Овал 26"/>
          <p:cNvSpPr/>
          <p:nvPr/>
        </p:nvSpPr>
        <p:spPr>
          <a:xfrm>
            <a:off x="2135160" y="48322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648320" y="1752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4*6 = 2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648320" y="212256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1 = (4*3)/2 =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2 = (4*3)/2 =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724280" y="2525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648320" y="2895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3 = (2*3)/2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648320" y="32018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4 = (2*3)/2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648320" y="355284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ис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24 – (6+6+3+3) =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13311"/>
          <p:cNvSpPr/>
          <p:nvPr/>
        </p:nvSpPr>
        <p:spPr>
          <a:xfrm>
            <a:off x="4724280" y="4092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Box 13313"/>
          <p:cNvSpPr/>
          <p:nvPr/>
        </p:nvSpPr>
        <p:spPr>
          <a:xfrm>
            <a:off x="5951520" y="4462560"/>
            <a:ext cx="9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 =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Box 13315"/>
          <p:cNvSpPr/>
          <p:nvPr/>
        </p:nvSpPr>
        <p:spPr>
          <a:xfrm>
            <a:off x="4724280" y="4878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(4/2) +5 -1 =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8"/>
          <p:cNvSpPr/>
          <p:nvPr/>
        </p:nvSpPr>
        <p:spPr>
          <a:xfrm>
            <a:off x="4560840" y="4498920"/>
            <a:ext cx="9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351080" y="74124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ИМСЯ К ЕГ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2" descr="prot_b6_212.eps"/>
          <p:cNvPicPr/>
          <p:nvPr/>
        </p:nvPicPr>
        <p:blipFill>
          <a:blip r:embed="rId1"/>
          <a:stretch/>
        </p:blipFill>
        <p:spPr>
          <a:xfrm>
            <a:off x="831960" y="1528920"/>
            <a:ext cx="2178000" cy="2519280"/>
          </a:xfrm>
          <a:prstGeom prst="rect">
            <a:avLst/>
          </a:prstGeom>
          <a:ln w="0">
            <a:noFill/>
          </a:ln>
        </p:spPr>
      </p:pic>
      <p:sp>
        <p:nvSpPr>
          <p:cNvPr id="121" name="Овал 3"/>
          <p:cNvSpPr/>
          <p:nvPr/>
        </p:nvSpPr>
        <p:spPr>
          <a:xfrm>
            <a:off x="4800600" y="32767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Овал 4"/>
          <p:cNvSpPr/>
          <p:nvPr/>
        </p:nvSpPr>
        <p:spPr>
          <a:xfrm>
            <a:off x="3759120" y="22096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2" descr="prot_b6_212.eps"/>
          <p:cNvPicPr/>
          <p:nvPr/>
        </p:nvPicPr>
        <p:blipFill>
          <a:blip r:embed="rId2"/>
          <a:stretch/>
        </p:blipFill>
        <p:spPr>
          <a:xfrm>
            <a:off x="3084480" y="1541520"/>
            <a:ext cx="2178000" cy="251784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9"/>
          <p:cNvSpPr/>
          <p:nvPr/>
        </p:nvSpPr>
        <p:spPr>
          <a:xfrm>
            <a:off x="4173480" y="2284560"/>
            <a:ext cx="44640" cy="45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3429000" y="19051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Овал 11"/>
          <p:cNvSpPr/>
          <p:nvPr/>
        </p:nvSpPr>
        <p:spPr>
          <a:xfrm>
            <a:off x="3733920" y="25909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Овал 14"/>
          <p:cNvSpPr/>
          <p:nvPr/>
        </p:nvSpPr>
        <p:spPr>
          <a:xfrm>
            <a:off x="3794040" y="2238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Овал 17"/>
          <p:cNvSpPr/>
          <p:nvPr/>
        </p:nvSpPr>
        <p:spPr>
          <a:xfrm>
            <a:off x="4113360" y="2585880"/>
            <a:ext cx="457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Овал 18"/>
          <p:cNvSpPr/>
          <p:nvPr/>
        </p:nvSpPr>
        <p:spPr>
          <a:xfrm>
            <a:off x="4459320" y="290196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853920" y="4462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990720" y="4832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1959120" y="4846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773280" y="5278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(4/2) +3 -1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5715000" y="1666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4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405400" y="2043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 = (2*3)/2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715000" y="2735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3 = (2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)/2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454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 = (2*3)/2 =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5646600" y="30891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 = (2*1)/2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65776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5 = 2*1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4343400" y="438480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ис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– (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+3+1+1+2+2)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1219320" y="1928880"/>
            <a:ext cx="1371600" cy="1393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Прямоугольный треугольник 5"/>
          <p:cNvSpPr/>
          <p:nvPr/>
        </p:nvSpPr>
        <p:spPr>
          <a:xfrm>
            <a:off x="1579680" y="2637000"/>
            <a:ext cx="1025280" cy="685800"/>
          </a:xfrm>
          <a:prstGeom prst="rtTriangl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Прямоугольный треугольник 6"/>
          <p:cNvSpPr/>
          <p:nvPr/>
        </p:nvSpPr>
        <p:spPr>
          <a:xfrm flipH="1" flipV="1">
            <a:off x="1920240" y="2232720"/>
            <a:ext cx="669960" cy="1055880"/>
          </a:xfrm>
          <a:prstGeom prst="rtTriangl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Прямоугольный треугольник 7"/>
          <p:cNvSpPr/>
          <p:nvPr/>
        </p:nvSpPr>
        <p:spPr>
          <a:xfrm>
            <a:off x="1219320" y="1935000"/>
            <a:ext cx="360360" cy="681120"/>
          </a:xfrm>
          <a:prstGeom prst="rtTriangle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Прямоугольный треугольник 8"/>
          <p:cNvSpPr/>
          <p:nvPr/>
        </p:nvSpPr>
        <p:spPr>
          <a:xfrm flipH="1" flipV="1">
            <a:off x="1212120" y="1928880"/>
            <a:ext cx="716040" cy="304560"/>
          </a:xfrm>
          <a:prstGeom prst="rtTriangl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Прямоугольник 12"/>
          <p:cNvSpPr/>
          <p:nvPr/>
        </p:nvSpPr>
        <p:spPr>
          <a:xfrm>
            <a:off x="1947960" y="1924200"/>
            <a:ext cx="631800" cy="342720"/>
          </a:xfrm>
          <a:prstGeom prst="rect">
            <a:avLst/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883120" y="38401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 = 2*1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Прямоугольник 13"/>
          <p:cNvSpPr/>
          <p:nvPr/>
        </p:nvSpPr>
        <p:spPr>
          <a:xfrm>
            <a:off x="1219320" y="2614680"/>
            <a:ext cx="360360" cy="685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Овал 31"/>
          <p:cNvSpPr/>
          <p:nvPr/>
        </p:nvSpPr>
        <p:spPr>
          <a:xfrm>
            <a:off x="4800600" y="33116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351080" y="74124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ТОВИМСЯ К ЕГ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2" descr="prot_b6_223.eps"/>
          <p:cNvPicPr/>
          <p:nvPr/>
        </p:nvPicPr>
        <p:blipFill>
          <a:blip r:embed="rId1"/>
          <a:stretch/>
        </p:blipFill>
        <p:spPr>
          <a:xfrm>
            <a:off x="838080" y="1511280"/>
            <a:ext cx="2095560" cy="2519280"/>
          </a:xfrm>
          <a:prstGeom prst="rect">
            <a:avLst/>
          </a:prstGeom>
          <a:ln w="0">
            <a:noFill/>
          </a:ln>
        </p:spPr>
      </p:pic>
      <p:sp>
        <p:nvSpPr>
          <p:cNvPr id="152" name="Овал 3"/>
          <p:cNvSpPr/>
          <p:nvPr/>
        </p:nvSpPr>
        <p:spPr>
          <a:xfrm>
            <a:off x="2394000" y="23320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13315"/>
          <p:cNvSpPr/>
          <p:nvPr/>
        </p:nvSpPr>
        <p:spPr>
          <a:xfrm>
            <a:off x="627120" y="4724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(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2) 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-1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903240" y="4267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1884240" y="4221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3311"/>
          <p:cNvSpPr/>
          <p:nvPr/>
        </p:nvSpPr>
        <p:spPr>
          <a:xfrm>
            <a:off x="5705640" y="16113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Овал 9"/>
          <p:cNvSpPr/>
          <p:nvPr/>
        </p:nvSpPr>
        <p:spPr>
          <a:xfrm>
            <a:off x="1400040" y="193680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Овал 10"/>
          <p:cNvSpPr/>
          <p:nvPr/>
        </p:nvSpPr>
        <p:spPr>
          <a:xfrm>
            <a:off x="1886040" y="23479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1376280" y="23320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Овал 12"/>
          <p:cNvSpPr/>
          <p:nvPr/>
        </p:nvSpPr>
        <p:spPr>
          <a:xfrm>
            <a:off x="1414440" y="31240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13"/>
          <p:cNvSpPr/>
          <p:nvPr/>
        </p:nvSpPr>
        <p:spPr>
          <a:xfrm>
            <a:off x="1390680" y="2770200"/>
            <a:ext cx="46080" cy="47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2" descr="prot_b6_223.eps"/>
          <p:cNvPicPr/>
          <p:nvPr/>
        </p:nvPicPr>
        <p:blipFill>
          <a:blip r:embed="rId2"/>
          <a:stretch/>
        </p:blipFill>
        <p:spPr>
          <a:xfrm>
            <a:off x="3121200" y="1512720"/>
            <a:ext cx="2095200" cy="2519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5827680" y="20462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*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456160" y="28368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(2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)/2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808600" y="2467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 = 2*1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483160" y="32180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3 = (2*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)/2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5246640" y="385596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ис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– (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+1+1)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3684600" y="1968480"/>
            <a:ext cx="990720" cy="120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4168800" y="2394000"/>
            <a:ext cx="479520" cy="776160"/>
          </a:xfrm>
          <a:prstGeom prst="rect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Прямоугольный треугольник 5"/>
          <p:cNvSpPr/>
          <p:nvPr/>
        </p:nvSpPr>
        <p:spPr>
          <a:xfrm flipH="1" flipV="1">
            <a:off x="3733920" y="1982880"/>
            <a:ext cx="960480" cy="42552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Прямоугольный треугольник 8"/>
          <p:cNvSpPr/>
          <p:nvPr/>
        </p:nvSpPr>
        <p:spPr>
          <a:xfrm flipH="1">
            <a:off x="3692520" y="2452680"/>
            <a:ext cx="457200" cy="717480"/>
          </a:xfrm>
          <a:prstGeom prst="rtTriangle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get_file?id=2328"/>
          <p:cNvPicPr/>
          <p:nvPr/>
        </p:nvPicPr>
        <p:blipFill>
          <a:blip r:embed="rId1"/>
          <a:stretch/>
        </p:blipFill>
        <p:spPr>
          <a:xfrm>
            <a:off x="1219320" y="1828800"/>
            <a:ext cx="2000160" cy="2009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3581280" y="1981080"/>
            <a:ext cx="47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 клетчатой бумаге с размером клетки 1см × 1см изображён параллелограмм. Найдите длину его большей высоты. Ответ дайте в сантиметр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51460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Text Box 9"/>
          <p:cNvGrpSpPr/>
          <p:nvPr/>
        </p:nvGrpSpPr>
        <p:grpSpPr>
          <a:xfrm>
            <a:off x="1731960" y="2646360"/>
            <a:ext cx="345960" cy="407880"/>
            <a:chOff x="1731960" y="2646360"/>
            <a:chExt cx="345960" cy="407880"/>
          </a:xfrm>
        </p:grpSpPr>
        <p:pic>
          <p:nvPicPr>
            <p:cNvPr id="177" name="Text Box 9" descr=""/>
            <p:cNvPicPr/>
            <p:nvPr/>
          </p:nvPicPr>
          <p:blipFill>
            <a:blip r:embed="rId2"/>
            <a:stretch/>
          </p:blipFill>
          <p:spPr>
            <a:xfrm>
              <a:off x="1731960" y="2646360"/>
              <a:ext cx="3459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752480" y="2666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Line 11"/>
          <p:cNvSpPr/>
          <p:nvPr/>
        </p:nvSpPr>
        <p:spPr>
          <a:xfrm>
            <a:off x="2133720" y="213372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814560" y="487692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get_file?id=3530"/>
          <p:cNvPicPr/>
          <p:nvPr/>
        </p:nvPicPr>
        <p:blipFill>
          <a:blip r:embed="rId1"/>
          <a:stretch/>
        </p:blipFill>
        <p:spPr>
          <a:xfrm>
            <a:off x="914400" y="1905120"/>
            <a:ext cx="2936880" cy="23349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3886200" y="182880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 клетчатой бумаге с размером клетки 1см x 1см отмечены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Найдите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до середины отрезка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Ответ выразите в сантиметрах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124080" y="4572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447920" y="243828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447920" y="373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447920" y="2438280"/>
            <a:ext cx="0" cy="6098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1447920" y="3048120"/>
            <a:ext cx="30456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1752480" y="3124080"/>
            <a:ext cx="0" cy="5335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1752480" y="3657600"/>
            <a:ext cx="2286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4"/>
          <p:cNvSpPr/>
          <p:nvPr/>
        </p:nvSpPr>
        <p:spPr>
          <a:xfrm flipH="1">
            <a:off x="1752120" y="3048120"/>
            <a:ext cx="1600200" cy="0"/>
          </a:xfrm>
          <a:prstGeom prst="line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213372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omic Sans MS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3801960" y="52228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ТОВИМСЯ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get_file?id=2268"/>
          <p:cNvPicPr/>
          <p:nvPr/>
        </p:nvPicPr>
        <p:blipFill>
          <a:blip r:embed="rId1"/>
          <a:stretch/>
        </p:blipFill>
        <p:spPr>
          <a:xfrm>
            <a:off x="1219320" y="2057400"/>
            <a:ext cx="2050920" cy="1963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352680" y="144792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На клетчатой бумаге с размером клетки 1см × 1см изображена трапеция. Найдите её площадь. Ответ дайте в квадратных сантиметр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3124080" y="3352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257800" y="34290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h * ( a + b ) / 2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Где h — высота трапеции, a и b — верхнее и нижнее основания трапе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562720" y="4724280"/>
            <a:ext cx="3047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= 2, b = 3, h =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4(2+3)/2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1600200" y="2362320"/>
            <a:ext cx="1219320" cy="12952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16002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S= ab   S=4*4=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28"/>
          <p:cNvSpPr/>
          <p:nvPr/>
        </p:nvSpPr>
        <p:spPr>
          <a:xfrm flipV="1">
            <a:off x="1600200" y="2362320"/>
            <a:ext cx="685800" cy="129528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523880" y="4800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.   S =ab/2   S=(4*2)/2=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30"/>
          <p:cNvSpPr/>
          <p:nvPr/>
        </p:nvSpPr>
        <p:spPr>
          <a:xfrm flipH="1">
            <a:off x="2513880" y="2362320"/>
            <a:ext cx="304920" cy="1295280"/>
          </a:xfrm>
          <a:prstGeom prst="rtTriangl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1676520" y="5486400"/>
            <a:ext cx="243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.    S = ab/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=(4*1)/2=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4495680" y="5791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 = 16 – (4 + 2) =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изация опорных знаний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сом острого угла в прямоугольном треугольнике называется отношение п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волежащего </a:t>
            </a:r>
            <a:r>
              <a:rPr b="1" i="1" lang="ru-RU" sz="2400" spc="-1" strike="noStrike">
                <a:solidFill>
                  <a:srgbClr val="723400"/>
                </a:solidFill>
                <a:latin typeface="Calibri"/>
              </a:rPr>
              <a:t>катета к гипотену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3571920" y="4191120"/>
                <a:ext cx="1466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AutoShape 5"/>
          <p:cNvSpPr/>
          <p:nvPr/>
        </p:nvSpPr>
        <p:spPr>
          <a:xfrm flipH="1">
            <a:off x="6324480" y="1981080"/>
            <a:ext cx="1524240" cy="28195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922880" y="3089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08660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7816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9"/>
          <p:cNvSpPr/>
          <p:nvPr/>
        </p:nvSpPr>
        <p:spPr>
          <a:xfrm flipH="1">
            <a:off x="6323760" y="4267080"/>
            <a:ext cx="304920" cy="533520"/>
          </a:xfrm>
          <a:prstGeom prst="rtTriangl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781680" y="4419720"/>
            <a:ext cx="3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67057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019920" y="4724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31"/>
          <p:cNvSpPr/>
          <p:nvPr/>
        </p:nvSpPr>
        <p:spPr>
          <a:xfrm>
            <a:off x="78487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800100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1600200" y="4495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 A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21:06:48Z</dcterms:created>
  <dc:creator>Лена</dc:creator>
  <dc:description/>
  <dc:language>en-US</dc:language>
  <cp:lastModifiedBy>Лена</cp:lastModifiedBy>
  <dcterms:modified xsi:type="dcterms:W3CDTF">2018-06-20T13:32:3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