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6E5-5BA0-4C5F-91FD-AA786284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E2E7-D9D8-497A-B640-363BEF63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234-3093-4D73-96DB-4C8A1BC8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0EB-F4B7-4926-BE65-9BA8FF92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299-4748-49D7-8A71-705BCA36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56B-94C0-40FF-A422-13B99205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6B4-F42B-4BCC-8A62-417B0387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1B2-70C6-4A1B-93B5-39648A26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FBE-81DB-4F61-B463-4CFBCDB0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B3F-F623-4BEC-9BDC-3756BF13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86C-80CF-4249-8BB2-FEB2FC46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6D2-CA56-4027-8B94-82FE9DB6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48FB-0CB2-4C33-AF90-3C98C910EE40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89C7-0F1D-4F7C-B271-3779B906BF05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7215120" y="4286160"/>
            <a:ext cx="857160" cy="111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6600" spc="-1" strike="noStrike">
                <a:solidFill>
                  <a:srgbClr val="990000"/>
                </a:solidFill>
                <a:latin typeface="Arial"/>
              </a:rPr>
              <a:t>Найди отличия</a:t>
            </a:r>
            <a:endParaRPr b="0" lang="en-US" sz="6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00000" y="4076280"/>
            <a:ext cx="53434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ba8989"/>
              </a:solidFill>
              <a:latin typeface="Arial"/>
            </a:endParaRPr>
          </a:p>
        </p:txBody>
      </p:sp>
      <p:pic>
        <p:nvPicPr>
          <p:cNvPr id="44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392904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7786800" y="542916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6"/>
          <a:stretch/>
        </p:blipFill>
        <p:spPr>
          <a:xfrm>
            <a:off x="4357800" y="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D:\Мои документы\МАМА\Скороговорки\Найди отличия\www.umnichka.ua-350-img-0c00fd8b81ba.jpg"/>
          <p:cNvPicPr/>
          <p:nvPr/>
        </p:nvPicPr>
        <p:blipFill>
          <a:blip r:embed="rId1"/>
          <a:srcRect l="15720" t="11122" r="14576" b="57075"/>
          <a:stretch/>
        </p:blipFill>
        <p:spPr>
          <a:xfrm>
            <a:off x="611280" y="549360"/>
            <a:ext cx="7920000" cy="51084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D:\Мои документы\МАМА\Скороговорки\Найди отличия\www.umnichka.ua-350-img-0c00fd8b81ba.jpg"/>
          <p:cNvPicPr/>
          <p:nvPr/>
        </p:nvPicPr>
        <p:blipFill>
          <a:blip r:embed="rId2"/>
          <a:srcRect l="16313" t="48092" r="14331" b="21123"/>
          <a:stretch/>
        </p:blipFill>
        <p:spPr>
          <a:xfrm>
            <a:off x="611280" y="549360"/>
            <a:ext cx="806436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D:\Мои документы\МАМА\Скороговорки\Найди отличия\www.umnichka.ua-350-img-0c00fd8b81ba.jpg"/>
          <p:cNvPicPr/>
          <p:nvPr/>
        </p:nvPicPr>
        <p:blipFill>
          <a:blip r:embed="rId1"/>
          <a:srcRect l="15720" t="11122" r="14576" b="57075"/>
          <a:stretch/>
        </p:blipFill>
        <p:spPr>
          <a:xfrm>
            <a:off x="250920" y="333360"/>
            <a:ext cx="4537080" cy="29275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D:\Мои документы\МАМА\Скороговорки\Найди отличия\www.umnichka.ua-350-img-0c00fd8b81ba.jpg"/>
          <p:cNvPicPr/>
          <p:nvPr/>
        </p:nvPicPr>
        <p:blipFill>
          <a:blip r:embed="rId2"/>
          <a:srcRect l="16313" t="48092" r="14331" b="21123"/>
          <a:stretch/>
        </p:blipFill>
        <p:spPr>
          <a:xfrm>
            <a:off x="3635280" y="3271680"/>
            <a:ext cx="51865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4" descr="D:\Мои документы\МАМА\Скороговорки\Найди отличия\www.umnichka.ua-352-img-c9417e3ce973.jpg"/>
          <p:cNvPicPr/>
          <p:nvPr/>
        </p:nvPicPr>
        <p:blipFill>
          <a:blip r:embed="rId1"/>
          <a:srcRect l="12717" t="10991" r="15046" b="56843"/>
          <a:stretch/>
        </p:blipFill>
        <p:spPr>
          <a:xfrm>
            <a:off x="611280" y="476280"/>
            <a:ext cx="8280360" cy="52131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D:\Мои документы\МАМА\Скороговорки\Найди отличия\www.umnichka.ua-352-img-c9417e3ce973.jpg"/>
          <p:cNvPicPr/>
          <p:nvPr/>
        </p:nvPicPr>
        <p:blipFill>
          <a:blip r:embed="rId2"/>
          <a:srcRect l="13361" t="48251" r="14372" b="19591"/>
          <a:stretch/>
        </p:blipFill>
        <p:spPr>
          <a:xfrm>
            <a:off x="539640" y="404640"/>
            <a:ext cx="820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D:\Мои документы\МАМА\Скороговорки\Найди отличия\www.umnichka.ua-352-img-c9417e3ce973.jpg"/>
          <p:cNvPicPr/>
          <p:nvPr/>
        </p:nvPicPr>
        <p:blipFill>
          <a:blip r:embed="rId1"/>
          <a:srcRect l="13361" t="48251" r="14372" b="19591"/>
          <a:stretch/>
        </p:blipFill>
        <p:spPr>
          <a:xfrm>
            <a:off x="4140360" y="3500280"/>
            <a:ext cx="4752720" cy="29926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D:\Мои документы\МАМА\Скороговорки\Найди отличия\www.umnichka.ua-352-img-c9417e3ce973.jpg"/>
          <p:cNvPicPr/>
          <p:nvPr/>
        </p:nvPicPr>
        <p:blipFill>
          <a:blip r:embed="rId2"/>
          <a:srcRect l="12717" t="10991" r="15046" b="56843"/>
          <a:stretch/>
        </p:blipFill>
        <p:spPr>
          <a:xfrm>
            <a:off x="324000" y="333360"/>
            <a:ext cx="49687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5" descr="D:\Мои документы\МАМА\Скороговорки\Найди отличия\www.umnichka.ua-353-img-d7e85cc8a444.jpg"/>
          <p:cNvPicPr/>
          <p:nvPr/>
        </p:nvPicPr>
        <p:blipFill>
          <a:blip r:embed="rId1"/>
          <a:srcRect l="13483" t="12032" r="14576" b="57082"/>
          <a:stretch/>
        </p:blipFill>
        <p:spPr>
          <a:xfrm>
            <a:off x="611280" y="549360"/>
            <a:ext cx="8028000" cy="48718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D:\Мои документы\МАМА\Скороговорки\Найди отличия\www.umnichka.ua-353-img-d7e85cc8a444.jpg"/>
          <p:cNvPicPr/>
          <p:nvPr/>
        </p:nvPicPr>
        <p:blipFill>
          <a:blip r:embed="rId2"/>
          <a:srcRect l="13483" t="48670" r="14525" b="20451"/>
          <a:stretch/>
        </p:blipFill>
        <p:spPr>
          <a:xfrm>
            <a:off x="250920" y="549360"/>
            <a:ext cx="867564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5" descr="D:\Мои документы\МАМА\Скороговорки\Найди отличия\www.umnichka.ua-353-img-d7e85cc8a444.jpg"/>
          <p:cNvPicPr/>
          <p:nvPr/>
        </p:nvPicPr>
        <p:blipFill>
          <a:blip r:embed="rId1"/>
          <a:srcRect l="13483" t="48670" r="14525" b="20451"/>
          <a:stretch/>
        </p:blipFill>
        <p:spPr>
          <a:xfrm>
            <a:off x="250920" y="333360"/>
            <a:ext cx="5041800" cy="30574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D:\Мои документы\МАМА\Скороговорки\Найди отличия\www.umnichka.ua-353-img-d7e85cc8a444.jpg"/>
          <p:cNvPicPr/>
          <p:nvPr/>
        </p:nvPicPr>
        <p:blipFill>
          <a:blip r:embed="rId2"/>
          <a:srcRect l="13483" t="12032" r="14576" b="57082"/>
          <a:stretch/>
        </p:blipFill>
        <p:spPr>
          <a:xfrm>
            <a:off x="3780000" y="3429000"/>
            <a:ext cx="50734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6" descr="D:\Мои документы\МАМА\Скороговорки\Найди отличия\www.umnichka.ua-354-img-fbb2fba0054a.jpg"/>
          <p:cNvPicPr/>
          <p:nvPr/>
        </p:nvPicPr>
        <p:blipFill>
          <a:blip r:embed="rId1"/>
          <a:srcRect l="14351" t="11230" r="13197" b="56865"/>
          <a:stretch/>
        </p:blipFill>
        <p:spPr>
          <a:xfrm>
            <a:off x="826920" y="522360"/>
            <a:ext cx="7993080" cy="4976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D:\Мои документы\МАМА\Скороговорки\Найди отличия\www.umnichka.ua-354-img-fbb2fba0054a.jpg"/>
          <p:cNvPicPr/>
          <p:nvPr/>
        </p:nvPicPr>
        <p:blipFill>
          <a:blip r:embed="rId2"/>
          <a:srcRect l="13003" t="47977" r="13861" b="19165"/>
          <a:stretch/>
        </p:blipFill>
        <p:spPr>
          <a:xfrm>
            <a:off x="684360" y="476280"/>
            <a:ext cx="791820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6" descr="D:\Мои документы\МАМА\Скороговорки\Найди отличия\www.umnichka.ua-354-img-fbb2fba0054a.jpg"/>
          <p:cNvPicPr/>
          <p:nvPr/>
        </p:nvPicPr>
        <p:blipFill>
          <a:blip r:embed="rId1"/>
          <a:srcRect l="13003" t="47977" r="13861" b="19165"/>
          <a:stretch/>
        </p:blipFill>
        <p:spPr>
          <a:xfrm>
            <a:off x="4211640" y="3532320"/>
            <a:ext cx="4751280" cy="30193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D:\Мои документы\МАМА\Скороговорки\Найди отличия\www.umnichka.ua-354-img-fbb2fba0054a.jpg"/>
          <p:cNvPicPr/>
          <p:nvPr/>
        </p:nvPicPr>
        <p:blipFill>
          <a:blip r:embed="rId2"/>
          <a:srcRect l="14351" t="11230" r="13197" b="56865"/>
          <a:stretch/>
        </p:blipFill>
        <p:spPr>
          <a:xfrm>
            <a:off x="395280" y="333360"/>
            <a:ext cx="5040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8" descr="D:\Мои документы\МАМА\Скороговорки\Найди отличия\www.umnichka.ua-991-img-32114651190a.jpg"/>
          <p:cNvPicPr/>
          <p:nvPr/>
        </p:nvPicPr>
        <p:blipFill>
          <a:blip r:embed="rId1"/>
          <a:srcRect l="13871" t="10841" r="13432" b="56484"/>
          <a:stretch/>
        </p:blipFill>
        <p:spPr>
          <a:xfrm>
            <a:off x="468360" y="765000"/>
            <a:ext cx="8351640" cy="53150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D:\Мои документы\МАМА\Скороговорки\Найди отличия\www.umnichka.ua-991-img-32114651190a.jpg"/>
          <p:cNvPicPr/>
          <p:nvPr/>
        </p:nvPicPr>
        <p:blipFill>
          <a:blip r:embed="rId2"/>
          <a:srcRect l="13197" t="48521" r="14106" b="19756"/>
          <a:stretch/>
        </p:blipFill>
        <p:spPr>
          <a:xfrm>
            <a:off x="395280" y="765000"/>
            <a:ext cx="84247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8" descr="D:\Мои документы\МАМА\Скороговорки\Найди отличия\www.umnichka.ua-991-img-32114651190a.jpg"/>
          <p:cNvPicPr/>
          <p:nvPr/>
        </p:nvPicPr>
        <p:blipFill>
          <a:blip r:embed="rId1"/>
          <a:srcRect l="13871" t="10841" r="13432" b="56484"/>
          <a:stretch/>
        </p:blipFill>
        <p:spPr>
          <a:xfrm>
            <a:off x="324000" y="404640"/>
            <a:ext cx="4824360" cy="30704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D:\Мои документы\МАМА\Скороговорки\Найди отличия\www.umnichka.ua-991-img-32114651190a.jpg"/>
          <p:cNvPicPr/>
          <p:nvPr/>
        </p:nvPicPr>
        <p:blipFill>
          <a:blip r:embed="rId2"/>
          <a:srcRect l="13197" t="50548" r="14106" b="19756"/>
          <a:stretch/>
        </p:blipFill>
        <p:spPr>
          <a:xfrm>
            <a:off x="3419640" y="3357720"/>
            <a:ext cx="54734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9"/>
          <p:cNvPicPr/>
          <p:nvPr/>
        </p:nvPicPr>
        <p:blipFill>
          <a:blip r:embed="rId1"/>
          <a:srcRect l="6471" t="4860" r="8181" b="5902"/>
          <a:stretch/>
        </p:blipFill>
        <p:spPr>
          <a:xfrm>
            <a:off x="2195640" y="260280"/>
            <a:ext cx="50274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0" descr="D:\Мои документы\МАМА\Скороговорки\Найди отличия\www.umnichka.ua-993-img-70af4c431c3f.jpg"/>
          <p:cNvPicPr/>
          <p:nvPr/>
        </p:nvPicPr>
        <p:blipFill>
          <a:blip r:embed="rId1"/>
          <a:srcRect l="15434" t="11049" r="15434" b="56721"/>
          <a:stretch/>
        </p:blipFill>
        <p:spPr>
          <a:xfrm>
            <a:off x="1116000" y="907920"/>
            <a:ext cx="7201080" cy="47498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0" descr="D:\Мои документы\МАМА\Скороговорки\Найди отличия\www.umnichka.ua-993-img-70af4c431c3f.jpg"/>
          <p:cNvPicPr/>
          <p:nvPr/>
        </p:nvPicPr>
        <p:blipFill>
          <a:blip r:embed="rId2"/>
          <a:srcRect l="14688" t="48858" r="14688" b="19945"/>
          <a:stretch/>
        </p:blipFill>
        <p:spPr>
          <a:xfrm>
            <a:off x="826920" y="907920"/>
            <a:ext cx="7632720" cy="47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0" descr="D:\Мои документы\МАМА\Скороговорки\Найди отличия\www.umnichka.ua-993-img-70af4c431c3f.jpg"/>
          <p:cNvPicPr/>
          <p:nvPr/>
        </p:nvPicPr>
        <p:blipFill>
          <a:blip r:embed="rId1"/>
          <a:srcRect l="15434" t="11049" r="15434" b="56721"/>
          <a:stretch/>
        </p:blipFill>
        <p:spPr>
          <a:xfrm>
            <a:off x="4211640" y="3429000"/>
            <a:ext cx="4680000" cy="30862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D:\Мои документы\МАМА\Скороговорки\Найди отличия\www.umnichka.ua-993-img-70af4c431c3f.jpg"/>
          <p:cNvPicPr/>
          <p:nvPr/>
        </p:nvPicPr>
        <p:blipFill>
          <a:blip r:embed="rId2"/>
          <a:srcRect l="14688" t="48858" r="14688" b="19945"/>
          <a:stretch/>
        </p:blipFill>
        <p:spPr>
          <a:xfrm>
            <a:off x="324000" y="260280"/>
            <a:ext cx="50400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9" descr="D:\Мои документы\МАМА\Скороговорки\Найди отличия\www.umnichka.ua-992-img-59505003b1f2.jpg"/>
          <p:cNvPicPr/>
          <p:nvPr/>
        </p:nvPicPr>
        <p:blipFill>
          <a:blip r:embed="rId1"/>
          <a:srcRect l="14770" t="11476" r="14515" b="57588"/>
          <a:stretch/>
        </p:blipFill>
        <p:spPr>
          <a:xfrm>
            <a:off x="1042920" y="836640"/>
            <a:ext cx="7488360" cy="46306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9" descr="D:\Мои документы\МАМА\Скороговорки\Найди отличия\www.umnichka.ua-992-img-59505003b1f2.jpg"/>
          <p:cNvPicPr/>
          <p:nvPr/>
        </p:nvPicPr>
        <p:blipFill>
          <a:blip r:embed="rId2"/>
          <a:srcRect l="14515" t="48215" r="13493" b="20863"/>
          <a:stretch/>
        </p:blipFill>
        <p:spPr>
          <a:xfrm>
            <a:off x="755640" y="765000"/>
            <a:ext cx="77770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9" descr="D:\Мои документы\МАМА\Скороговорки\Найди отличия\www.umnichka.ua-992-img-59505003b1f2.jpg"/>
          <p:cNvPicPr/>
          <p:nvPr/>
        </p:nvPicPr>
        <p:blipFill>
          <a:blip r:embed="rId1"/>
          <a:srcRect l="14770" t="11476" r="14515" b="57588"/>
          <a:stretch/>
        </p:blipFill>
        <p:spPr>
          <a:xfrm>
            <a:off x="324000" y="404640"/>
            <a:ext cx="4895640" cy="30276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9" descr="D:\Мои документы\МАМА\Скороговорки\Найди отличия\www.umnichka.ua-992-img-59505003b1f2.jpg"/>
          <p:cNvPicPr/>
          <p:nvPr/>
        </p:nvPicPr>
        <p:blipFill>
          <a:blip r:embed="rId2"/>
          <a:srcRect l="14515" t="48215" r="13493" b="20863"/>
          <a:stretch/>
        </p:blipFill>
        <p:spPr>
          <a:xfrm>
            <a:off x="3780000" y="3429000"/>
            <a:ext cx="51130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1" descr="D:\Мои документы\МАМА\Скороговорки\Найди отличия\www.umnichka.ua-994-img-cf70b54520d1.jpg"/>
          <p:cNvPicPr/>
          <p:nvPr/>
        </p:nvPicPr>
        <p:blipFill>
          <a:blip r:embed="rId1"/>
          <a:srcRect l="14413" t="11208" r="15046" b="57212"/>
          <a:stretch/>
        </p:blipFill>
        <p:spPr>
          <a:xfrm>
            <a:off x="755640" y="765000"/>
            <a:ext cx="7920000" cy="5011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1" descr="D:\Мои документы\МАМА\Скороговорки\Найди отличия\www.umnichka.ua-994-img-cf70b54520d1.jpg"/>
          <p:cNvPicPr/>
          <p:nvPr/>
        </p:nvPicPr>
        <p:blipFill>
          <a:blip r:embed="rId2"/>
          <a:srcRect l="14413" t="47868" r="13585" b="20530"/>
          <a:stretch/>
        </p:blipFill>
        <p:spPr>
          <a:xfrm>
            <a:off x="539640" y="692280"/>
            <a:ext cx="81378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1" descr="D:\Мои документы\МАМА\Скороговорки\Найди отличия\www.umnichka.ua-994-img-cf70b54520d1.jpg"/>
          <p:cNvPicPr/>
          <p:nvPr/>
        </p:nvPicPr>
        <p:blipFill>
          <a:blip r:embed="rId1"/>
          <a:srcRect l="14413" t="11208" r="15046" b="57212"/>
          <a:stretch/>
        </p:blipFill>
        <p:spPr>
          <a:xfrm>
            <a:off x="324000" y="333360"/>
            <a:ext cx="4752720" cy="30067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1" descr="D:\Мои документы\МАМА\Скороговорки\Найди отличия\www.umnichka.ua-994-img-cf70b54520d1.jpg"/>
          <p:cNvPicPr/>
          <p:nvPr/>
        </p:nvPicPr>
        <p:blipFill>
          <a:blip r:embed="rId2"/>
          <a:srcRect l="14413" t="47868" r="13585" b="20530"/>
          <a:stretch/>
        </p:blipFill>
        <p:spPr>
          <a:xfrm>
            <a:off x="3851280" y="3398760"/>
            <a:ext cx="50418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7" descr="D:\Мои документы\МАМА\Скороговорки\Найди отличия\www.umnichka.ua-990-img-30fce869ac20.jpg"/>
          <p:cNvPicPr/>
          <p:nvPr/>
        </p:nvPicPr>
        <p:blipFill>
          <a:blip r:embed="rId1"/>
          <a:srcRect l="15771" t="11122" r="16762" b="57039"/>
          <a:stretch/>
        </p:blipFill>
        <p:spPr>
          <a:xfrm>
            <a:off x="684360" y="620640"/>
            <a:ext cx="7920000" cy="5284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D:\Мои документы\МАМА\Скороговорки\Найди отличия\www.umnichka.ua-990-img-30fce869ac20.jpg"/>
          <p:cNvPicPr/>
          <p:nvPr/>
        </p:nvPicPr>
        <p:blipFill>
          <a:blip r:embed="rId2"/>
          <a:srcRect l="13483" t="47738" r="14525" b="20451"/>
          <a:stretch/>
        </p:blipFill>
        <p:spPr>
          <a:xfrm>
            <a:off x="539640" y="693720"/>
            <a:ext cx="81360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7" descr="D:\Мои документы\МАМА\Скороговорки\Найди отличия\www.umnichka.ua-990-img-30fce869ac20.jpg"/>
          <p:cNvPicPr/>
          <p:nvPr/>
        </p:nvPicPr>
        <p:blipFill>
          <a:blip r:embed="rId1"/>
          <a:srcRect l="15771" t="11122" r="16762" b="57039"/>
          <a:stretch/>
        </p:blipFill>
        <p:spPr>
          <a:xfrm>
            <a:off x="324000" y="333360"/>
            <a:ext cx="4824360" cy="3218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D:\Мои документы\МАМА\Скороговорки\Найди отличия\www.umnichka.ua-990-img-30fce869ac20.jpg"/>
          <p:cNvPicPr/>
          <p:nvPr/>
        </p:nvPicPr>
        <p:blipFill>
          <a:blip r:embed="rId2"/>
          <a:srcRect l="13483" t="47738" r="14525" b="20451"/>
          <a:stretch/>
        </p:blipFill>
        <p:spPr>
          <a:xfrm>
            <a:off x="4067280" y="3573360"/>
            <a:ext cx="482436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97" name="Рисунок 1" descr="D:\Мои документы\МАМА\Скороговорки\Найди отличия\www.umnichka.ua-349-img-0a5f3add913d.jpg"/>
          <p:cNvPicPr/>
          <p:nvPr/>
        </p:nvPicPr>
        <p:blipFill>
          <a:blip r:embed="rId1"/>
          <a:srcRect l="59694" t="81768" r="1175" b="0"/>
          <a:stretch/>
        </p:blipFill>
        <p:spPr>
          <a:xfrm>
            <a:off x="1835280" y="1700280"/>
            <a:ext cx="561636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0"/>
          <p:cNvPicPr/>
          <p:nvPr/>
        </p:nvPicPr>
        <p:blipFill>
          <a:blip r:embed="rId1"/>
          <a:srcRect l="5144" t="3796" r="6411" b="4865"/>
          <a:stretch/>
        </p:blipFill>
        <p:spPr>
          <a:xfrm>
            <a:off x="2124000" y="549360"/>
            <a:ext cx="48355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"/>
          <p:cNvPicPr/>
          <p:nvPr/>
        </p:nvPicPr>
        <p:blipFill>
          <a:blip r:embed="rId1"/>
          <a:srcRect l="6146" t="5904" r="10348" b="4862"/>
          <a:stretch/>
        </p:blipFill>
        <p:spPr>
          <a:xfrm>
            <a:off x="2124000" y="404640"/>
            <a:ext cx="48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"/>
          <p:cNvPicPr/>
          <p:nvPr/>
        </p:nvPicPr>
        <p:blipFill>
          <a:blip r:embed="rId1"/>
          <a:srcRect l="8297" t="4860" r="10049" b="4860"/>
          <a:stretch/>
        </p:blipFill>
        <p:spPr>
          <a:xfrm>
            <a:off x="1908000" y="333360"/>
            <a:ext cx="4969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D:\Мои документы\МАМА\Скороговорки\Найди отличия\www.umnichka.ua-349-img-0a5f3add913d.jpg"/>
          <p:cNvPicPr/>
          <p:nvPr/>
        </p:nvPicPr>
        <p:blipFill>
          <a:blip r:embed="rId1"/>
          <a:srcRect l="13483" t="11122" r="16813" b="57039"/>
          <a:stretch/>
        </p:blipFill>
        <p:spPr>
          <a:xfrm>
            <a:off x="1042920" y="765000"/>
            <a:ext cx="7524720" cy="4859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D:\Мои документы\МАМА\Скороговорки\Найди отличия\www.umnichka.ua-349-img-0a5f3add913d.jpg"/>
          <p:cNvPicPr/>
          <p:nvPr/>
        </p:nvPicPr>
        <p:blipFill>
          <a:blip r:embed="rId2"/>
          <a:srcRect l="13534" t="47738" r="16762" b="20451"/>
          <a:stretch/>
        </p:blipFill>
        <p:spPr>
          <a:xfrm>
            <a:off x="539640" y="620640"/>
            <a:ext cx="820908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D:\Мои документы\МАМА\Скороговорки\Найди отличия\www.umnichka.ua-349-img-0a5f3add913d.jpg"/>
          <p:cNvPicPr/>
          <p:nvPr/>
        </p:nvPicPr>
        <p:blipFill>
          <a:blip r:embed="rId1"/>
          <a:srcRect l="13483" t="11122" r="16813" b="57039"/>
          <a:stretch/>
        </p:blipFill>
        <p:spPr>
          <a:xfrm>
            <a:off x="324000" y="260280"/>
            <a:ext cx="4895640" cy="31608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D:\Мои документы\МАМА\Скороговорки\Найди отличия\www.umnichka.ua-349-img-0a5f3add913d.jpg"/>
          <p:cNvPicPr/>
          <p:nvPr/>
        </p:nvPicPr>
        <p:blipFill>
          <a:blip r:embed="rId2"/>
          <a:srcRect l="13534" t="47738" r="16762" b="20451"/>
          <a:stretch/>
        </p:blipFill>
        <p:spPr>
          <a:xfrm>
            <a:off x="3924360" y="3357720"/>
            <a:ext cx="496872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D:\Мои документы\МАМА\Скороговорки\Найди отличия\www.umnichka.ua-351-img-a466be0050ec.jpg"/>
          <p:cNvPicPr/>
          <p:nvPr/>
        </p:nvPicPr>
        <p:blipFill>
          <a:blip r:embed="rId1"/>
          <a:srcRect l="16823" t="11122" r="16639" b="57039"/>
          <a:stretch/>
        </p:blipFill>
        <p:spPr>
          <a:xfrm>
            <a:off x="324000" y="333360"/>
            <a:ext cx="8569080" cy="57974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D:\Мои документы\МАМА\Скороговорки\Найди отличия\www.umnichka.ua-351-img-a466be0050ec.jpg"/>
          <p:cNvPicPr/>
          <p:nvPr/>
        </p:nvPicPr>
        <p:blipFill>
          <a:blip r:embed="rId2"/>
          <a:srcRect l="18488" t="48071" r="16078" b="20653"/>
          <a:stretch/>
        </p:blipFill>
        <p:spPr>
          <a:xfrm>
            <a:off x="324000" y="476280"/>
            <a:ext cx="856908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D:\Мои документы\МАМА\Скороговорки\Найди отличия\www.umnichka.ua-351-img-a466be0050ec.jpg"/>
          <p:cNvPicPr/>
          <p:nvPr/>
        </p:nvPicPr>
        <p:blipFill>
          <a:blip r:embed="rId1"/>
          <a:srcRect l="13483" t="11122" r="14525" b="57039"/>
          <a:stretch/>
        </p:blipFill>
        <p:spPr>
          <a:xfrm>
            <a:off x="324000" y="260280"/>
            <a:ext cx="4895640" cy="3062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D:\Мои документы\МАМА\Скороговорки\Найди отличия\www.umnichka.ua-351-img-a466be0050ec.jpg"/>
          <p:cNvPicPr/>
          <p:nvPr/>
        </p:nvPicPr>
        <p:blipFill>
          <a:blip r:embed="rId2"/>
          <a:srcRect l="16578" t="48071" r="14974" b="20653"/>
          <a:stretch/>
        </p:blipFill>
        <p:spPr>
          <a:xfrm>
            <a:off x="3924360" y="3316320"/>
            <a:ext cx="49672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01:39:06Z</dcterms:created>
  <dc:creator>1</dc:creator>
  <dc:description>http://aida.ucoz.ru</dc:description>
  <dc:language>en-US</dc:language>
  <cp:lastModifiedBy>Админ</cp:lastModifiedBy>
  <dcterms:modified xsi:type="dcterms:W3CDTF">2014-05-05T18:47:09Z</dcterms:modified>
  <cp:revision>5</cp:revision>
  <dc:subject/>
  <dc:title>Слайд 1</dc:title>
</cp:coreProperties>
</file>