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9.jpeg" ContentType="image/jpeg"/>
  <Override PartName="/ppt/media/image1.jpeg" ContentType="image/jpeg"/>
  <Override PartName="/ppt/media/image5.png" ContentType="image/png"/>
  <Override PartName="/ppt/media/image10.png" ContentType="image/png"/>
  <Override PartName="/ppt/media/image16.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48CCE-061A-4F27-81C1-D92AB21E0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BBD9-5361-412E-B9CB-6959566F3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40066-19B2-4028-83DE-827BED00C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C8533-A984-4895-8589-6CE1DF3F3E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3E6B6-F388-47ED-B9DF-ABD397C4C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3342F6-B6D9-4D58-9949-2705014087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0BA2F-B837-4B6D-AF76-D44EA9508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3B50DD-29C0-4570-B0CA-1FB607B7C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26F7F-FAF6-40B8-9B74-75B13EEF2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0FBA9-585C-47C0-BC63-6BB325540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1A39E-0415-4FE8-A64F-7402D6AAC5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8F042-840D-458D-A477-022D64FC5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D9E84-C0A8-4783-B033-1DA6EB7F9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B138-DB70-41FF-9754-8EDD44C46E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3F411-2981-4941-AD2E-9FF36C1CE0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C181FD-2E82-41CB-9C48-F72AE00A4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32483-902E-4569-9B7D-6B286EFA9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141FF3-8554-43E4-BFC9-4F4910318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A32426-6C83-48E8-B7A8-1BCF90F42D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4E6CB5-1FBB-4AE3-A58C-85787DDBBD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82BBA-22EC-4D38-B012-5FA326A5D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87C5AB-CF83-40EB-A443-11F1FCCC9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41631-D1A8-40F5-BE36-3EFA84752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3AB2C-95CF-4766-9D0F-46D99365DB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6A39E-9B5C-4790-82C1-A9B4B0FC0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345400-D434-452F-AA7D-291D42DE0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F60969-7523-4EE5-A8FF-2147F2DF3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BD98EA-1C31-4D2F-8C06-70ECE6913F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373B1E-9D20-44DA-912A-9FCD01079C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F7715-375E-4A80-9B71-1562046C6A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9517F2-B5D1-45CF-BC1F-71679879446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3AF6AE-CC6E-4ABD-B877-4D8E48FEA2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0533FA-EAAB-4F24-8993-814836A59B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51169E-C05B-4028-AECD-739844AD1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FCD518-5DCA-4078-A0FE-08C23D3B2E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5833F7-D37F-4351-A78C-DC7AA0040D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C44707-123F-49DE-AE3B-3F7071A81D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EB2BB8-833C-44D0-B9B6-1CF247B9E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237896-97A8-4ACC-A6F9-9251150461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B2F5DC-33DC-408E-A922-CC088F14B7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99E81-4D5A-41F2-9DB2-ACE94F4A3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E459D7-CAC6-4870-865D-61B2773A96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1A1605-DC29-46CC-BCCA-1226074578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23603D-717B-4266-8956-4E226EFD0C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6C7F6-1A20-4D2C-825A-28FDC21B8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8577F2-4219-4572-85EA-F655007DD7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6E9960-A9CE-44A0-A18E-316B14E4E7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45EAED-30DA-46C6-98DC-935E8B9AE4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C007FF-3E4E-4C8E-9E30-18AF27A757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50E753-FD68-4D21-AA71-65435B8E3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D00C25-136A-4B19-9240-1EDE16138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8DCFB0-886F-471E-BF85-EF80A76401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6C608D-636D-49D3-BD5A-A63CF5F9C2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CCF724-3A6E-402C-A126-D018553C48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B66FD1-0148-438A-BC57-51CCA382345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D7597-0BDD-4FF7-8C65-2A74F2E73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9F2BB7-E7FE-4827-940B-24C7F131C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8CB967-B37E-4BF2-93D6-31E44BDD13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E4C6C-CDD7-4A00-B8D8-AF3697B243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06F48E-72F1-43F4-8E49-F22C082CB8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EA9B0E-F2E5-468A-83B0-48ABD2886D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7E257B-8AD1-4E41-B8E5-B41B5F1823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0048A-E754-4B28-A54D-4DCDEE72A4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EE64EB-06C3-4601-9BF5-078D5CB51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F04F1E-72BD-40D2-91F8-5747ECEC1C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B39FD-3E01-4C28-AA4F-29F633E983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D5532-F25A-4E0A-A9EE-FB9BD313E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33A489-9F67-4C6F-89F9-90AE386F3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C37192-3515-4F49-B7D6-38B7B17DF4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0E3E6AE-0964-4756-AB5E-D7D3E75868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3DBDCA-3CEB-476D-9195-5D95E3421E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60A21B-2B47-4977-8F9D-674B59E8931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62449E-9DF0-493E-95AA-BE8B045493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CA0D2C-86E5-497D-8B9D-2AA29C84B1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017AFC-A481-4CC2-86D7-15D363116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7D19B1-C18F-48BD-85FF-D396D5923A6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9EC071-6CBE-4D00-A1B2-9775D1E70B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94BBD-3EE5-468B-AA85-363987583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639C50-C604-4391-9D7B-3A42F3CB9D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B8C0B3-32F1-46B8-BDCF-2BEAE1E87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519E0-E258-4835-B388-F10C294EC5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501A852-6BFF-4CF1-83A5-039383C6FE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477892-5297-4D69-A3E5-11C832B69EB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648F2-E542-48C7-B324-FF1ADBC88E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E762A-9B72-4F63-AAAE-39C225F581BF}"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2DF9-51B5-459B-815C-32FE412FECFC}"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C32F9-B2CA-42A4-AEE6-E331382DEA72}"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B5452-6D41-42F0-838F-781B994457EC}"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0F0F-AA89-4378-8394-887FCABF6143}"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2383-075C-45E9-A12A-0414B1ABFCE2}"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1B2AA-EB47-44BC-8816-FE2C2DC0D4A5}"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1" descr=""/>
          <p:cNvPicPr/>
          <p:nvPr/>
        </p:nvPicPr>
        <p:blipFill>
          <a:blip r:embed="rId1"/>
          <a:stretch/>
        </p:blipFill>
        <p:spPr>
          <a:xfrm>
            <a:off x="390600" y="1146240"/>
            <a:ext cx="8381880" cy="388944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Заголовок 1" descr=""/>
          <p:cNvPicPr/>
          <p:nvPr/>
        </p:nvPicPr>
        <p:blipFill>
          <a:blip r:embed="rId1"/>
          <a:stretch/>
        </p:blipFill>
        <p:spPr>
          <a:xfrm>
            <a:off x="450720" y="-6480"/>
            <a:ext cx="8242560" cy="1427400"/>
          </a:xfrm>
          <a:prstGeom prst="rect">
            <a:avLst/>
          </a:prstGeom>
          <a:ln w="0">
            <a:noFill/>
          </a:ln>
        </p:spPr>
      </p:pic>
      <p:sp>
        <p:nvSpPr>
          <p:cNvPr id="322" name=""/>
          <p:cNvSpPr txBox="1"/>
          <p:nvPr/>
        </p:nvSpPr>
        <p:spPr>
          <a:xfrm>
            <a:off x="4284720" y="1412640"/>
            <a:ext cx="4402080" cy="4987800"/>
          </a:xfrm>
          <a:prstGeom prst="rect">
            <a:avLst/>
          </a:prstGeom>
          <a:noFill/>
          <a:ln w="0">
            <a:noFill/>
          </a:ln>
        </p:spPr>
        <p:txBody>
          <a:bodyPr lIns="54720" rIns="90000" tIns="91440" bIns="46800" anchor="t">
            <a:normAutofit fontScale="90000"/>
          </a:bodyPr>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Персонажей покемонов придумал в 1978 году тринадцатилетний японский школьник Тадзиро Сатоши. А в 1996 году японская фирма Game Freak выпустила в свет первую версию игры «Покемоны». Только за первые два года было продано семь миллионов экземпляров, а это рекорд индустрии. </a:t>
            </a:r>
            <a:endParaRPr b="0" lang="en-US" sz="2700" spc="-1" strike="noStrike">
              <a:solidFill>
                <a:srgbClr val="000000"/>
              </a:solidFill>
              <a:latin typeface="Corbel"/>
            </a:endParaRPr>
          </a:p>
        </p:txBody>
      </p:sp>
      <p:pic>
        <p:nvPicPr>
          <p:cNvPr id="323" name="Рисунок 3" descr="detstvo pod ugrozoj 6 Детство под угрозой: Вредные мультфильмы"/>
          <p:cNvPicPr/>
          <p:nvPr/>
        </p:nvPicPr>
        <p:blipFill>
          <a:blip r:embed="rId2"/>
          <a:stretch/>
        </p:blipFill>
        <p:spPr>
          <a:xfrm>
            <a:off x="179280" y="1700280"/>
            <a:ext cx="3816360" cy="48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16 декабря 1997 после просмотра «Покемонов» было срочно госпитализировано 685 японских детей. Детей стали мучить приступы тошноты, рвоты и судороги. Серьезно пострадали 208 детей в возрасте от 3 лет и старше. В легкой форме пострадало еще около 10 000 человек. По мнению специалистов, судороги были вызваны красными огнями в глазах одного из персонажей – Пикачу. Этот спецэффект – быстрое мигание синего и красного цветов при частоте колебаний 12 Гц на протяжении 6 секунд – может вызвать у некоторых людей симптомы, похожие на эпилептический припадок. Японские власти приняли решение закрыть сериал. Сериал закрыли,но спустя некоторое время  возвратили на телеэкраны. В период пика его популярности сериал смотрело до 90% всех младших школьников Японии.</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Заголовок 1" descr=""/>
          <p:cNvPicPr/>
          <p:nvPr/>
        </p:nvPicPr>
        <p:blipFill>
          <a:blip r:embed="rId1"/>
          <a:stretch/>
        </p:blipFill>
        <p:spPr>
          <a:xfrm>
            <a:off x="219240" y="-6480"/>
            <a:ext cx="8474040" cy="1427400"/>
          </a:xfrm>
          <a:prstGeom prst="rect">
            <a:avLst/>
          </a:prstGeom>
          <a:ln w="0">
            <a:noFill/>
          </a:ln>
        </p:spPr>
      </p:pic>
      <p:sp>
        <p:nvSpPr>
          <p:cNvPr id="327" name=""/>
          <p:cNvSpPr txBox="1"/>
          <p:nvPr/>
        </p:nvSpPr>
        <p:spPr>
          <a:xfrm>
            <a:off x="4284720" y="1484280"/>
            <a:ext cx="4402080" cy="511344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Это огр, которым всегда пугали детей в Европе. Эти чудовища изображались с ребенком во рту, ведь они ели детей. Взрослых они не ели, потому что взрослые могут дать сдачу. Согласно пересказам, огры приходили ночью, перерезали детям горло и пили их кровь.  </a:t>
            </a:r>
            <a:endParaRPr b="0" lang="en-US" sz="27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28" name="Содержимое 3" descr="detstvo pod ugrozoj 15 Детство под угрозой: Вредные мультфильмы"/>
          <p:cNvPicPr/>
          <p:nvPr/>
        </p:nvPicPr>
        <p:blipFill>
          <a:blip r:embed="rId2"/>
          <a:stretch/>
        </p:blipFill>
        <p:spPr>
          <a:xfrm>
            <a:off x="250920" y="1700280"/>
            <a:ext cx="424980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Заголовок 1" descr=""/>
          <p:cNvPicPr/>
          <p:nvPr/>
        </p:nvPicPr>
        <p:blipFill>
          <a:blip r:embed="rId1"/>
          <a:stretch/>
        </p:blipFill>
        <p:spPr>
          <a:xfrm>
            <a:off x="219240" y="-195120"/>
            <a:ext cx="8474040" cy="16095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Наиболее опасным орудием разрушения половой идентификации являются популярные японские мультфильмы «Аниме». Речь идет о твердой пропаганде садизма и других отклонений в яркой обложке.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Стиль этих мультфильмов называется </a:t>
            </a:r>
            <a:r>
              <a:rPr b="1" lang="ru-RU" sz="2400" spc="-1" strike="noStrike">
                <a:solidFill>
                  <a:srgbClr val="000000"/>
                </a:solidFill>
                <a:latin typeface="Corbel"/>
              </a:rPr>
              <a:t>гендер-</a:t>
            </a:r>
            <a:r>
              <a:rPr b="0" lang="ru-RU" sz="2400" spc="-1" strike="noStrike">
                <a:solidFill>
                  <a:srgbClr val="000000"/>
                </a:solidFill>
                <a:latin typeface="Corbel"/>
              </a:rPr>
              <a:t>бендер, а это означает, что внешне сложно отличить, кто какого пола: мальчик или девочка. Кроме того, герои легко меняют пол.</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
          <p:cNvSpPr txBox="1"/>
          <p:nvPr/>
        </p:nvSpPr>
        <p:spPr>
          <a:xfrm>
            <a:off x="395280" y="1773360"/>
            <a:ext cx="8291520" cy="462744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Гендер представляется обычно как защита прав женщин, однако на самом деле, это социальный пол, то есть якобы важно не то, как человек рождается, а как он себя чувствует. Понятие гендер (социальный пол) хочет полностью заменить собой понятие пол (биологический).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4" name=""/>
          <p:cNvSpPr txBox="1"/>
          <p:nvPr/>
        </p:nvSpPr>
        <p:spPr>
          <a:xfrm>
            <a:off x="3419280" y="1628640"/>
            <a:ext cx="5267160" cy="4896000"/>
          </a:xfrm>
          <a:prstGeom prst="rect">
            <a:avLst/>
          </a:prstGeom>
          <a:noFill/>
          <a:ln w="0">
            <a:noFill/>
          </a:ln>
        </p:spPr>
        <p:txBody>
          <a:bodyPr lIns="54720" rIns="90000" tIns="91440" bIns="4680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Гендерные эксперименты начинают именно с детей. Их цель – высмеять семью и традиционное разделение общества на женщин и мужчин, навязать мысль, что девочек надо воспитывать, как мальчиков, а мальчиков, как девочек, а ребенку – что он имеет право сам выбирать свой пол. Пол – это не шуба или пальто, которые можно менять каждый год. </a:t>
            </a: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Пол дан нам природой и Богом.</a:t>
            </a: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Гендерная политика – это жесточайшая идеология, которая выступает против человеческой природы, против морали, против христианских ценностей, против Бога. </a:t>
            </a:r>
            <a:endParaRPr b="0" lang="en-US" sz="2200" spc="-1" strike="noStrike">
              <a:solidFill>
                <a:srgbClr val="000000"/>
              </a:solidFill>
              <a:latin typeface="Corbel"/>
            </a:endParaRPr>
          </a:p>
        </p:txBody>
      </p:sp>
      <p:pic>
        <p:nvPicPr>
          <p:cNvPr id="335" name="Рисунок 6" descr="detstvo pod ugrozoj 19 Детство под угрозой: Вредные мультфильмы"/>
          <p:cNvPicPr/>
          <p:nvPr/>
        </p:nvPicPr>
        <p:blipFill>
          <a:blip r:embed="rId1"/>
          <a:stretch/>
        </p:blipFill>
        <p:spPr>
          <a:xfrm>
            <a:off x="179280" y="2349360"/>
            <a:ext cx="3456000" cy="374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США насилие в школах стало огромной проблемой, ежегодно в перестрелках гибнут десятки человек, серьезно пострадали уже примерно четверть миллиона детей.</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ультфильмы, «разлагающие» общество стали запрещать, многим компаниям и корпорациям объявлен бойкот.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9"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Виктор Чибрикин, ученый из Института химической физики РАН, убежден, что над людьми проводят ужасный эксперимент – испытание нового оружия массового поражения. Действие нового оружия основано на естественных электромагнитных колебаниях с частотами 7,5, 14 и 32 герца, которые в геофизике известны как «шумановские резонансы». Шумановские резонансы ведут к десинхронизации биоритмов организма человека, а это в свою очередь приводит к психическим расстройствам.</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Заголовок 1" descr=""/>
          <p:cNvPicPr/>
          <p:nvPr/>
        </p:nvPicPr>
        <p:blipFill>
          <a:blip r:embed="rId1"/>
          <a:stretch/>
        </p:blipFill>
        <p:spPr>
          <a:xfrm>
            <a:off x="396720" y="3157560"/>
            <a:ext cx="8375760" cy="1878120"/>
          </a:xfrm>
          <a:prstGeom prst="rect">
            <a:avLst/>
          </a:prstGeom>
          <a:ln w="0">
            <a:noFill/>
          </a:ln>
        </p:spPr>
      </p:pic>
      <p:sp>
        <p:nvSpPr>
          <p:cNvPr id="34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Заголовок 1" descr=""/>
          <p:cNvPicPr/>
          <p:nvPr/>
        </p:nvPicPr>
        <p:blipFill>
          <a:blip r:embed="rId1"/>
          <a:stretch/>
        </p:blipFill>
        <p:spPr>
          <a:xfrm>
            <a:off x="219240" y="152280"/>
            <a:ext cx="8474040" cy="1262160"/>
          </a:xfrm>
          <a:prstGeom prst="rect">
            <a:avLst/>
          </a:prstGeom>
          <a:ln w="0">
            <a:noFill/>
          </a:ln>
        </p:spPr>
      </p:pic>
      <p:sp>
        <p:nvSpPr>
          <p:cNvPr id="34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Насилие, жестокость, садизм</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Деформирование сознания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Навязывание стереотипов</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Пропаганда извращений</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Разрушение семейных ценностей</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Унижение родителей, учителей</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Пропаганда примитивности, тупости, отсутствие развития</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Уничтожение нравственных качеств, идеологических взглядов</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603360" y="1792440"/>
            <a:ext cx="8169120" cy="3243240"/>
          </a:xfrm>
          <a:prstGeom prst="rect">
            <a:avLst/>
          </a:prstGeom>
          <a:ln w="0">
            <a:noFill/>
          </a:ln>
        </p:spPr>
      </p:pic>
      <p:sp>
        <p:nvSpPr>
          <p:cNvPr id="306"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
          <p:cNvSpPr txBox="1"/>
          <p:nvPr/>
        </p:nvSpPr>
        <p:spPr>
          <a:xfrm>
            <a:off x="179280" y="1628640"/>
            <a:ext cx="8507520" cy="477216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ависимость от компьютерных и мобильных игр, мультов и анимэ сродни зависимости от наркотиков или алкоголя. У этой зависимости есть свои стадии, отличающиеся своими особенностями. </a:t>
            </a:r>
            <a:endParaRPr b="0" lang="en-US" sz="1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ервая стадия наиболее приятная и легкая, как и у наркоманов. Это радостная эйфория от познания чего то нового и интересного. «Больной» судорожно выискивает в интернете, на прилавках магазинов и рынков все, что хоть как то напоминает об увлечении. На этом неплохо наживаются коммерсанты. </a:t>
            </a:r>
            <a:endParaRPr b="0" lang="en-US" sz="1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Вторая стадия более тяжелая. Человек перестает смотреть телевизор, настоящее кино и другие мультфильмы, читать книги, с товарищами предпочитает говорить только об играх или недавно посмотренном анимэ. События в мире и в стране перестают интересовать, потому что "По нашему отсталому телевидению все равно ничего путевого не расскажут!". Общее падение жизненого тонуса, замкнутость в себе - перед нами настоящий наркоман, только компьютерный или анимэшный! </a:t>
            </a:r>
            <a:endParaRPr b="0" lang="en-US" sz="1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Третья стадия самая тяжелая. В играх и анимэ мало действительно интересных и стоящих вещей, и когда «больной» пресыщается своим хобби, оно перестает его интересовать по-настоящему. Но при этом он не начинает вновь смотреть то, что смотрел раньше! Ни новейшие голливудские блокбастеры, ни интереснейшие российские телесериалы, тем более книги, этих людей уже не прельщают. Все вокруг кажется блеклым и недоразвитым, бездарным и тупым. Пропадает интерес ко всему! </a:t>
            </a:r>
            <a:br>
              <a:rPr sz="1600"/>
            </a:br>
            <a:r>
              <a:rPr b="0" lang="ru-RU" sz="1600" spc="-1" strike="noStrike">
                <a:solidFill>
                  <a:srgbClr val="000000"/>
                </a:solidFill>
                <a:latin typeface="Corbel"/>
              </a:rPr>
              <a:t> </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Black"/>
              </a:rPr>
              <a:t>Россия будущего – это страна образованных людей</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Black"/>
              </a:rPr>
              <a:t>Россия будущего – это страна здоровых, спортивных людей, достижениями которых будет восхищаться весь мир.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Black"/>
              </a:rPr>
              <a:t>Россия будущего– это страна душевных, открытых, толерантных людей, для которых нет разницы между народами.</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72020"/>
                </a:solidFill>
                <a:latin typeface="Arial Black"/>
              </a:rPr>
              <a:t>Россия будущего – это страна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72020"/>
                </a:solidFill>
                <a:latin typeface="Arial Black"/>
              </a:rPr>
              <a:t>счастливых людей</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Заголовок 1" descr=""/>
          <p:cNvPicPr/>
          <p:nvPr/>
        </p:nvPicPr>
        <p:blipFill>
          <a:blip r:embed="rId1"/>
          <a:stretch/>
        </p:blipFill>
        <p:spPr>
          <a:xfrm>
            <a:off x="189000" y="152280"/>
            <a:ext cx="8504280" cy="1262160"/>
          </a:xfrm>
          <a:prstGeom prst="rect">
            <a:avLst/>
          </a:prstGeom>
          <a:ln w="0">
            <a:noFill/>
          </a:ln>
        </p:spPr>
      </p:pic>
      <p:pic>
        <p:nvPicPr>
          <p:cNvPr id="349" name="Объект 3" descr=""/>
          <p:cNvPicPr/>
          <p:nvPr/>
        </p:nvPicPr>
        <p:blipFill>
          <a:blip r:embed="rId2"/>
          <a:stretch/>
        </p:blipFill>
        <p:spPr>
          <a:xfrm>
            <a:off x="457200" y="1778040"/>
            <a:ext cx="8229600" cy="46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Заголовок 1" descr=""/>
          <p:cNvPicPr/>
          <p:nvPr/>
        </p:nvPicPr>
        <p:blipFill>
          <a:blip r:embed="rId1"/>
          <a:stretch/>
        </p:blipFill>
        <p:spPr>
          <a:xfrm>
            <a:off x="384120" y="-6480"/>
            <a:ext cx="8515440" cy="1427400"/>
          </a:xfrm>
          <a:prstGeom prst="rect">
            <a:avLst/>
          </a:prstGeom>
          <a:ln w="0">
            <a:noFill/>
          </a:ln>
        </p:spPr>
      </p:pic>
      <p:pic>
        <p:nvPicPr>
          <p:cNvPr id="351" name="Picture 2" descr="C:\Users\USER\Desktop\Новая папка\2.jpg"/>
          <p:cNvPicPr/>
          <p:nvPr/>
        </p:nvPicPr>
        <p:blipFill>
          <a:blip r:embed="rId2"/>
          <a:stretch/>
        </p:blipFill>
        <p:spPr>
          <a:xfrm>
            <a:off x="611280" y="1413000"/>
            <a:ext cx="7632720" cy="547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Заголовок 1" descr=""/>
          <p:cNvPicPr/>
          <p:nvPr/>
        </p:nvPicPr>
        <p:blipFill>
          <a:blip r:embed="rId1"/>
          <a:stretch/>
        </p:blipFill>
        <p:spPr>
          <a:xfrm>
            <a:off x="450720" y="152280"/>
            <a:ext cx="8242560" cy="1262160"/>
          </a:xfrm>
          <a:prstGeom prst="rect">
            <a:avLst/>
          </a:prstGeom>
          <a:ln w="0">
            <a:noFill/>
          </a:ln>
        </p:spPr>
      </p:pic>
      <p:pic>
        <p:nvPicPr>
          <p:cNvPr id="353" name="Объект 3" descr=""/>
          <p:cNvPicPr/>
          <p:nvPr/>
        </p:nvPicPr>
        <p:blipFill>
          <a:blip r:embed="rId2"/>
          <a:stretch/>
        </p:blipFill>
        <p:spPr>
          <a:xfrm>
            <a:off x="1979640" y="1916280"/>
            <a:ext cx="5510160" cy="449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487440" y="712800"/>
            <a:ext cx="8626320" cy="4322880"/>
          </a:xfrm>
          <a:prstGeom prst="rect">
            <a:avLst/>
          </a:prstGeom>
          <a:ln w="0">
            <a:noFill/>
          </a:ln>
        </p:spPr>
      </p:pic>
      <p:sp>
        <p:nvSpPr>
          <p:cNvPr id="308"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450720" y="152280"/>
            <a:ext cx="8242560" cy="1262160"/>
          </a:xfrm>
          <a:prstGeom prst="rect">
            <a:avLst/>
          </a:prstGeom>
          <a:ln w="0">
            <a:noFill/>
          </a:ln>
        </p:spPr>
      </p:pic>
      <p:sp>
        <p:nvSpPr>
          <p:cNvPr id="310" name=""/>
          <p:cNvSpPr txBox="1"/>
          <p:nvPr/>
        </p:nvSpPr>
        <p:spPr>
          <a:xfrm>
            <a:off x="179280" y="1628640"/>
            <a:ext cx="8507520" cy="4772160"/>
          </a:xfrm>
          <a:prstGeom prst="rect">
            <a:avLst/>
          </a:prstGeom>
          <a:noFill/>
          <a:ln w="0">
            <a:noFill/>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На протяжении последнего десятилетия ученые всего мира активно пытаются установить характер и степень влияния на наш организм излучения мобильных телефонов. </a:t>
            </a:r>
            <a:endParaRPr b="0" lang="en-US" sz="1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Ученые настаивают на том, что долговременное воздействие на человека излучения мобильного телефона </a:t>
            </a:r>
            <a:r>
              <a:rPr b="1" lang="ru-RU" sz="1600" spc="-1" strike="noStrike">
                <a:solidFill>
                  <a:srgbClr val="000000"/>
                </a:solidFill>
                <a:latin typeface="Corbel"/>
              </a:rPr>
              <a:t>ведет к непредсказуемым последствиям для здоровья</a:t>
            </a:r>
            <a:r>
              <a:rPr b="0" lang="ru-RU" sz="1600" spc="-1" strike="noStrike">
                <a:solidFill>
                  <a:srgbClr val="000000"/>
                </a:solidFill>
                <a:latin typeface="Corbel"/>
              </a:rPr>
              <a:t>, и приводят весьма убедительные факты. </a:t>
            </a:r>
            <a:br>
              <a:rPr sz="1600"/>
            </a:br>
            <a:r>
              <a:rPr b="0" lang="ru-RU" sz="1600" spc="-1" strike="noStrike">
                <a:solidFill>
                  <a:srgbClr val="000000"/>
                </a:solidFill>
                <a:latin typeface="Corbel"/>
              </a:rPr>
              <a:t>Например, в ходе двухгодичного исследования, проводившегося учеными из Совета по радиационной и ядерной безопасности Финляндии, были получены доказательства того, что излучение мобильных телефонов вызывает необратимые изменения в живых клетках организма, в том числе и клетках головного мозга. В основе эксперимента лежало изучение деятельности живых клеток, специально выращиваемых в искусственной среде под регулярным воздействием излучения, эквивалентного тому, которое генерируют мобильные телефоны. Оказалось, что в этих условиях одни клетки мутируют, другие начинают усиленно синтезировать несколько сотен различных белков. Было установлено, что один из них вызывает ослабление защитных механизмов, которыми наделен головной мозг человека, что в свою очередь приводит к головным болям, повышенной утомляемости, расстройству сна, а также способствует возникновению болезни Альцгеймера. Эти данные подтвердили и шведские ученые.</a:t>
            </a:r>
            <a:br>
              <a:rPr sz="1600"/>
            </a:br>
            <a:r>
              <a:rPr b="0" lang="ru-RU" sz="1600" spc="-1" strike="noStrike">
                <a:solidFill>
                  <a:srgbClr val="000000"/>
                </a:solidFill>
                <a:latin typeface="Corbel"/>
              </a:rPr>
              <a:t> </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В Дании ученые-медики проводили исследования с целью проверить гипотезу о причастности мобильных телефонов к возникновению рака. Некоторые ученые  в своих последних работах отмечают учащение случаев возникновения опухолей мозга именно с той стороны головы, где обычно находится во время разговора сотовый телефон.</a:t>
            </a:r>
            <a:r>
              <a:rPr b="0" lang="ru-RU" sz="3200" spc="-1" strike="noStrike">
                <a:solidFill>
                  <a:srgbClr val="000000"/>
                </a:solidFill>
                <a:latin typeface="Corbel"/>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Швейцарские медики сообщили о распространении новой формы психического расстройства — навязчивом желании беспрестанно звонить по мобильному телефону. По словам психиатров, подобная «телефономания» представляет собой вид агрессивного поведения по отношению к окружающим, которые вынуждены выслушивать пустую болтовню, как правило, навеянную только желанием звонящего постоянно напоминать о себе многочисленным друзьям и знакомым.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О том, что молодые люди более подвержены влиянию излучения, говорит и исследование, проведенное среди молодежи Швеции и Норвегии. Оно показало, что пользование телефоном около 30 минут ежедневно повышает вероятность потери памяти почти в 2 раза по сравнению с ограничением разговоров до двух минут в день. Более половины опрошенных сообщили, что при пользовании сотовыми телефонами испытывают неприятный разогрев головы в области уха.</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Последние исследования научных коллективов из Англии и Австралии подтвердили опасения о небезопасности сотовых телефонов для здоровья человека. Ученые установили, что температура кожи вблизи телефонной трубки возрастает на 2,3 градуса через шесть минут разговора, а также изменяется интенсивность потока воздуха, вдыхаемого через нос со стороны, ближайшей к телефону. Какие последствия это может повлечь, ученым еще предстоит выяснить.</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собого внимания заслуживают и миниатюрные наушники для мобильных телефонов, так называемые «hands free». Многие используют их, предполагая, что снижают вредное воздействие антенны сотового телефона, но получается как раз наоборот. Исследования Британской ассоциации потребителей показали, что эти устройства действуют как своеобразные антенны, и уровень электромагнитного излучения, поступающего в мозг абонента, в три раза превышает уровень излучения от трубки. </a:t>
            </a:r>
            <a:br>
              <a:rPr sz="1800"/>
            </a:br>
            <a:br>
              <a:rPr sz="1800"/>
            </a:br>
            <a:r>
              <a:rPr b="0" lang="ru-RU" sz="1800" spc="-1" strike="noStrike">
                <a:solidFill>
                  <a:srgbClr val="000000"/>
                </a:solidFill>
                <a:latin typeface="Corbel"/>
              </a:rPr>
              <a:t>Чем больше время разговора по мобильному телефону, тем большее воздействие он оказывает на человека. Так как излучение мобильного телефона вызывает мутации клеток, не стоит держать его в кармане или на поясе. По этой же причине не нужно вешать телефон на шею, как сейчас модно. Особенно это касается женщин — есть риск получить злокачественные изменения груди. Находясь дома, по возможности отключайте мобильный. Ведь излучений от бытовых приборов и так хватает. И ни в коем случае не оставляйте сотовый телефон у изголовья, когда ложитесь спать.</a:t>
            </a:r>
            <a:br>
              <a:rPr sz="1800"/>
            </a:br>
            <a:r>
              <a:rPr b="0" lang="ru-RU" sz="1800" spc="-1" strike="noStrike">
                <a:solidFill>
                  <a:srgbClr val="000000"/>
                </a:solidFill>
                <a:latin typeface="Corbel"/>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 сожалению, подавляющее большинство современной кинопродукции для детей не только не соответствует простейшим требованиям нравственности и морали, но и прямо нацелены на воспитание в детях эгоизма, жестокости, агрессивности и глупости.</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2T12:23:10Z</dcterms:created>
  <dc:creator>STAR</dc:creator>
  <dc:description/>
  <dc:language>en-US</dc:language>
  <cp:lastModifiedBy>STAR</cp:lastModifiedBy>
  <dcterms:modified xsi:type="dcterms:W3CDTF">2017-11-02T13:42:01Z</dcterms:modified>
  <cp:revision>9</cp:revision>
  <dc:subject/>
  <dc:title>Здоровье  под угрозой</dc:title>
</cp:coreProperties>
</file>