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273-8AE2-4A6C-9D0D-5D724130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1C8-7761-41FB-A0C2-2657341E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DDE-75E6-4F54-B3CB-1E4C9C89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3BE-9335-4E94-BB86-D1A4469F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0241-A9D2-4BD5-9F2B-6076B6E5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2A9C-8B20-48B0-B73C-49F6F186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DCFA-0497-4016-84CD-AA9BF806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F154-82B0-465B-BE7B-6D044E29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9635-220E-4AAD-98DB-BE3B329D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98EF-95D0-4B2F-B2C1-6DE213EC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DAFC-C317-4D4E-80A1-3DA4262D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0C9-9B03-425D-B6ED-56D3D425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6835-3E22-403D-8107-E61FA0F0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ADC2-9E40-4492-8C64-4DA458EA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8CBC-64E2-4BC7-912E-69F85040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207C-82BB-46B9-A756-22FCF33C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4C34-61C5-42A1-8CB9-06C65593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FE9-5B88-445F-B8AB-42E7A1A2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7FE-919C-46CB-A763-80349DF2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464-7A92-4618-A7F9-08BF7F5D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17D-84F2-4165-A895-929CAD22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B6D-DE95-4E45-B107-724366A3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68F-C859-4CB1-AE34-2451D569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5F7-5405-46E9-A251-2FCF7AF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3108-DAFB-44BF-A10C-DEB236F1E0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B183-4DC5-4DA5-911E-52D550B5B3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76000" y="2060640"/>
            <a:ext cx="641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еч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берём материалы к сочинению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словосочетания к подпунктам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ть и оформить домашнее сочинение «Моя любимая игр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Times New Roman"/>
              </a:rPr>
              <a:t>Среди двух текстов найдите тот, который представляет собой описание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 один из неуютных дождливых вечеров задумчивый кот взобрался на радиоприёмник! Лёг и стал слушать музы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медленно приоткрывал и открывал свои прекрасные громадные глаза, и вся морда с точёным носом и пышными бакенбардами выражала углублё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71520" y="1599840"/>
            <a:ext cx="3814920" cy="318924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Есть у меня кот – серый в чёрных пятнышках, как в бусинках. Зовут его Василий Васильевич. Толстый кот. Уши у него круглые. На каждой лапе по пяти кривых когтей. Да зубы как иголки остр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9640" y="16286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– это тип речи, цель которого – описать предмет, растение, человека, помещение, природу. Основные средства в художественном описании: красочные определения, срав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писании описания в художественном стиле важно отобрать значимые для вас детали, а не описывать всё под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ветьте на вопро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описанием предмета такой текст: «Какой у меня замечательный щенок! Просто чудо! Я его очень люблю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о ли в тексте о признаках предмета или только дана оце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7" descr="щенок.jpg"/>
          <p:cNvPicPr/>
          <p:nvPr/>
        </p:nvPicPr>
        <p:blipFill>
          <a:blip r:embed="rId1"/>
          <a:stretch/>
        </p:blipFill>
        <p:spPr>
          <a:xfrm>
            <a:off x="4363920" y="1152360"/>
            <a:ext cx="474984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Times New Roman"/>
              </a:rPr>
              <a:t>Чем неудачны отрывки из сочинений-описаний на тему «Моя любимая вещь»?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599840"/>
            <a:ext cx="3814920" cy="190188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я любимая вещь – лыжи. Они коричневые. Их длина 2 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90600" y="3215880"/>
            <a:ext cx="3814920" cy="270036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я любимая вещь – коньки. Они предназначены для катания. Коньки сделаны из стали. Они хорошо наточ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лыжи.gif"/>
          <p:cNvPicPr/>
          <p:nvPr/>
        </p:nvPicPr>
        <p:blipFill>
          <a:blip r:embed="rId1"/>
          <a:stretch/>
        </p:blipFill>
        <p:spPr>
          <a:xfrm>
            <a:off x="115920" y="3614760"/>
            <a:ext cx="2657520" cy="3340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коньки.jpg"/>
          <p:cNvPicPr/>
          <p:nvPr/>
        </p:nvPicPr>
        <p:blipFill>
          <a:blip r:embed="rId2"/>
          <a:stretch/>
        </p:blipFill>
        <p:spPr>
          <a:xfrm>
            <a:off x="5877000" y="1305000"/>
            <a:ext cx="20415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5840" y="285840"/>
            <a:ext cx="4038480" cy="357192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речевой недочёт в тексте. В чём он состоит? Устраните его, воспользовавшись способами из приведённого перечня: а) замена местоимением, б) замена синонимом, в) исключени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85840" y="2071800"/>
            <a:ext cx="4038840" cy="325728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ё любимое дерево – берёза. У берёзы стройный ствол. Кора у берёзы тонкая, белая, с тёмными линиями. Ветви берёзы свисают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одержимое 3"/>
          <p:cNvSpPr/>
          <p:nvPr/>
        </p:nvSpPr>
        <p:spPr>
          <a:xfrm>
            <a:off x="4786200" y="2071800"/>
            <a:ext cx="4038840" cy="325728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ё любимое дерево – берёза. 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ё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йный ствол. Кора тонкая, белая, с тёмными линиями. Ветв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асав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исают вн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редактируйте текс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600200"/>
            <a:ext cx="3814920" cy="2403360"/>
          </a:xfrm>
          <a:prstGeom prst="rect">
            <a:avLst/>
          </a:prstGeom>
          <a:solidFill>
            <a:srgbClr val="ffffe1"/>
          </a:solidFill>
          <a:ln w="25560">
            <a:solidFill>
              <a:srgbClr val="cc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и Деда Мороза были красивые и лёгкие. Посох был блестящий, на посохе были нарисованы ё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solidFill>
            <a:srgbClr val="ffffe1"/>
          </a:solidFill>
          <a:ln w="25560">
            <a:solidFill>
              <a:srgbClr val="cc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ька был чёрный, пушистый, а лапки у Васьки были белые, как в тапочках. Хвост у Васьки на кончике тоже был беленький, будто в мелу испачкан. Глаза у него были зелёные, а зрачки узкие-уз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одержимое 3"/>
          <p:cNvSpPr/>
          <p:nvPr/>
        </p:nvSpPr>
        <p:spPr>
          <a:xfrm>
            <a:off x="4643280" y="1571760"/>
            <a:ext cx="4038840" cy="4525920"/>
          </a:xfrm>
          <a:prstGeom prst="rect">
            <a:avLst/>
          </a:prstGeom>
          <a:solidFill>
            <a:srgbClr val="ffffe1"/>
          </a:solidFill>
          <a:ln w="255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ська чёрный, пушистый, а лапки 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лые, как в тапочках. Хвост 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кончике тоже беленький, будто в мелу испачкан. Глаза 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его любим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ёные, а зрачки узкие-уз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держимое 2"/>
          <p:cNvSpPr/>
          <p:nvPr/>
        </p:nvSpPr>
        <p:spPr>
          <a:xfrm>
            <a:off x="428760" y="1571760"/>
            <a:ext cx="4038480" cy="2400120"/>
          </a:xfrm>
          <a:prstGeom prst="rect">
            <a:avLst/>
          </a:prstGeom>
          <a:solidFill>
            <a:srgbClr val="ffffe1"/>
          </a:solidFill>
          <a:ln w="255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и Деда Мороза красивые и лёгкие. Посох блестящий, на нем нарисованы ёл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уктура опис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ед нами веселый маленький щенок. У него большая голова со смешными ушами-лопушками. Задорно торчит хвостик. Шерстка густая и мягкая, темно-коричневого ц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за-пуговки ласково поблескивают из-под шерстки. Любопытный носик похож на черную кноп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Щенок просто как живой!  Мне он очень нравится. А в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Times New Roman"/>
              </a:rPr>
              <a:t>Составим план к сочинению-описанию своей любимой игрушки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Название иг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Материал, из которого сделана игр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Внешний вид иг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Отношение к игр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Роль игрушки в ваш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7:27:40Z</dcterms:created>
  <dc:creator>Инна</dc:creator>
  <dc:description/>
  <dc:language>en-US</dc:language>
  <cp:lastModifiedBy>Кабинет №2</cp:lastModifiedBy>
  <dcterms:modified xsi:type="dcterms:W3CDTF">2018-06-20T05:21:58Z</dcterms:modified>
  <cp:revision>17</cp:revision>
  <dc:subject/>
  <dc:title>Описание</dc:title>
</cp:coreProperties>
</file>