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DFB-A168-4A18-B00B-1B7489F7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EAE-1178-4975-B910-E1DDE84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643-6DE4-4040-9915-9AD34A78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FC6-AD59-4BDA-AC16-0831B096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85E9-2A92-4D07-902C-6BFC1900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F13-0E86-450A-981E-2A5FE578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F30-E58E-439A-8FC8-3EC10B5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A276-EE91-4E5C-ACE1-A7E8FE01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B7AE-B934-44F0-AC91-9B4C9F7C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6C8-1FE2-478E-9BEC-86616FB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A584-FC94-4F1A-B3D9-FC939A7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3F1-A2B1-4126-90D2-29BB5621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D2CF-BA60-4602-9DFC-F7BBCAB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C82-72EC-4D14-808E-CAF4CD0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D8F2-66DE-4122-B204-F839387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640-2A2F-443B-8270-3F7D73BC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591C-2340-49E2-A674-D0B31383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94B-1B3E-48EE-BBE1-92B0864B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F8-12FB-415E-89B5-D052938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E14-7935-4E09-A45F-6F97C60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88E-446B-42BB-8E3B-284DBC7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850-36F1-497E-9973-CEB4AC1D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A91-A5A1-4654-A5BE-7C00E2C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417-CC77-4765-B0C4-D32AB8C3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EE9-2136-4DE2-ACC1-41708003FD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33EB-1AD6-4BB4-BC61-6536475A28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000" y="2060640"/>
            <a:ext cx="641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е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берём материалы к сочинению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словосочетания к подпунктам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и оформить домашнее сочинение «Моя любимая игр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Среди двух текстов найдите тот, который представляет собой описание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 один из неуютных дождливых вечеров задумчивый кот взобрался на радиоприёмник! Лёг и стал слушать музы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медленно приоткрывал и открывал свои прекрасные громадные глаза, и вся морда с точёным носом и пышными бакенбардами выражала углублё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1520" y="1599840"/>
            <a:ext cx="3814920" cy="318924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Есть у меня кот – серый в чёрных пятнышках, как в бусинках. Зовут его Василий Васильевич. Толстый кот. Уши у него круглые. На каждой лапе по пяти кривых когтей. Да зубы как иголки остр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16286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– это тип речи, цель которого – описать предмет, растение, человека, помещение, природу. Основные средства в художественном описании: красочные определения, срав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писании описания в художественном стиле важно отобрать значимые для вас детали, а не описывать всё под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ветьте на вопро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писанием предмета такой текст: «Какой у меня замечательный щенок! Просто чудо! Я его очень люблю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о ли в тексте о признаках предмета или только дана оце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7" descr="щенок.jpg"/>
          <p:cNvPicPr/>
          <p:nvPr/>
        </p:nvPicPr>
        <p:blipFill>
          <a:blip r:embed="rId1"/>
          <a:stretch/>
        </p:blipFill>
        <p:spPr>
          <a:xfrm>
            <a:off x="4363920" y="1152360"/>
            <a:ext cx="474984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Чем неудачны отрывки из сочинений-описаний на тему «Моя любимая вещь»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99840"/>
            <a:ext cx="3814920" cy="19018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любимая вещь – лыжи. Они коричневые. Их длина 2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90600" y="3215880"/>
            <a:ext cx="3814920" cy="270036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я любимая вещь – коньки. Они предназначены для катания. Коньки сделаны из стали. Они хорошо наточ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лыжи.gif"/>
          <p:cNvPicPr/>
          <p:nvPr/>
        </p:nvPicPr>
        <p:blipFill>
          <a:blip r:embed="rId1"/>
          <a:stretch/>
        </p:blipFill>
        <p:spPr>
          <a:xfrm>
            <a:off x="115920" y="3614760"/>
            <a:ext cx="265752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коньки.jpg"/>
          <p:cNvPicPr/>
          <p:nvPr/>
        </p:nvPicPr>
        <p:blipFill>
          <a:blip r:embed="rId2"/>
          <a:stretch/>
        </p:blipFill>
        <p:spPr>
          <a:xfrm>
            <a:off x="5877000" y="1305000"/>
            <a:ext cx="20415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5840" y="285840"/>
            <a:ext cx="4038480" cy="357192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речевой недочёт в тексте. В чём он состоит? Устраните его, воспользовавшись способами из приведённого перечня: а) замена местоимением, б) замена синонимом, в) исключени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5840" y="2071800"/>
            <a:ext cx="4038840" cy="32572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ё любимое дерево – берёза. У берёзы стройный ствол. Кора у берёзы тонкая, белая, с тёмными линиями. Ветви берёзы свисают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3"/>
          <p:cNvSpPr/>
          <p:nvPr/>
        </p:nvSpPr>
        <p:spPr>
          <a:xfrm>
            <a:off x="4786200" y="2071800"/>
            <a:ext cx="4038840" cy="3257280"/>
          </a:xfrm>
          <a:prstGeom prst="rect">
            <a:avLst/>
          </a:pr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ё любимое дерево – берёза.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ё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йный ствол. Кора тонкая, белая, с тёмными линиями. Ветв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сав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исают вн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редактируйте текс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600200"/>
            <a:ext cx="3814920" cy="240336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и Деда Мороза были красивые и лёгкие. Посох был блестящий, на посохе были нарисованы ё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ька был чёрный, пушистый, а лапки у Васьки были белые, как в тапочках. Хвост у Васьки на кончике тоже был беленький, будто в мелу испачкан. Глаза у него были зелёные, а зрачки узкие-уз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держимое 3"/>
          <p:cNvSpPr/>
          <p:nvPr/>
        </p:nvSpPr>
        <p:spPr>
          <a:xfrm>
            <a:off x="4643280" y="1571760"/>
            <a:ext cx="4038840" cy="452592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ька чёрный, пушистый, а лапки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лые, как в тапочках. Хвост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ончике тоже беленький, будто в мелу испачкан. Глаза у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его любим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ёные, а зрачки узкие-уз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держимое 2"/>
          <p:cNvSpPr/>
          <p:nvPr/>
        </p:nvSpPr>
        <p:spPr>
          <a:xfrm>
            <a:off x="428760" y="1571760"/>
            <a:ext cx="4038480" cy="2400120"/>
          </a:xfrm>
          <a:prstGeom prst="rect">
            <a:avLst/>
          </a:prstGeom>
          <a:solidFill>
            <a:srgbClr val="ffffe1"/>
          </a:solidFill>
          <a:ln w="255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и Деда Мороза красивые и лёгкие. Посох блестящий, на нем нарисованы ё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уктура опис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ед нами веселый маленький щенок. У него большая голова со смешными ушами-лопушками. Задорно торчит хвостик. Шерстка густая и мягкая, темно-коричнев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за-пуговки ласково поблескивают из-под шерстки. Любопытный носик похож на черную кноп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Щенок просто как живой!  Мне он очень нравится. А в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Times New Roman"/>
              </a:rPr>
              <a:t>Составим план к сочинению-описанию своей любимой игрушк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Название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Материал, из которого сделана игр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Внешний вид игр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Отношение к игр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Роль игрушки в ваш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7:27:40Z</dcterms:created>
  <dc:creator>Инна</dc:creator>
  <dc:description/>
  <dc:language>en-US</dc:language>
  <cp:lastModifiedBy>Кабинет №2</cp:lastModifiedBy>
  <dcterms:modified xsi:type="dcterms:W3CDTF">2018-06-20T05:21:58Z</dcterms:modified>
  <cp:revision>17</cp:revision>
  <dc:subject/>
  <dc:title>Описание</dc:title>
</cp:coreProperties>
</file>