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jpeg" ContentType="image/jpeg"/>
  <Override PartName="/ppt/media/image25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6.png" ContentType="image/png"/>
  <Override PartName="/ppt/media/image7.png" ContentType="image/png"/>
  <Override PartName="/ppt/media/image34.jpeg" ContentType="image/jpeg"/>
  <Override PartName="/ppt/media/image15.gif" ContentType="image/gif"/>
  <Override PartName="/ppt/media/image18.png" ContentType="image/png"/>
  <Override PartName="/ppt/media/image28.jpeg" ContentType="image/jpeg"/>
  <Override PartName="/ppt/media/image8.png" ContentType="image/png"/>
  <Override PartName="/ppt/media/chimes.wav" ContentType="audio/x-wav"/>
  <Override PartName="/ppt/media/image16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17.wmf" ContentType="image/x-wmf"/>
  <Override PartName="/ppt/media/image9.png" ContentType="image/png"/>
  <Override PartName="/ppt/media/image31.jpeg" ContentType="image/jpeg"/>
  <Override PartName="/ppt/media/image32.jpeg" ContentType="image/jpeg"/>
  <Override PartName="/ppt/media/image33.jpeg" ContentType="image/jpeg"/>
  <Override PartName="/ppt/media/image10.png" ContentType="image/pn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1.wmf" ContentType="image/x-wmf"/>
  <Override PartName="/ppt/media/image13.jpeg" ContentType="image/jpeg"/>
  <Override PartName="/ppt/media/image23.png" ContentType="image/png"/>
  <Override PartName="/ppt/media/image14.png" ContentType="image/png"/>
  <Override PartName="/ppt/media/image20.png" ContentType="image/png"/>
  <Override PartName="/ppt/media/image2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A149-5C6A-4B6D-9DED-283138CF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0351-C74C-4F9F-996C-9F964D05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46D1-7CD5-459A-8C21-820DA3FC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30E-1151-4DEF-974F-AFA83147C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FC67-F0CF-4798-8953-C33A02FE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68C3-D957-4ED2-ADDC-A07CC31C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E4F2-0578-47C0-A607-04F58374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782B-6D66-4729-BB84-C73CFEC4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8B3F-EB05-4B4C-B9EB-ADE8E9CF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389A-E3BA-4B30-B18D-2A12DB9C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205-1120-44CB-9E0A-76DD4DF6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E716-6666-4F52-8B9B-B3EB80CB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0ff"/>
            </a:gs>
            <a:gs pos="50000">
              <a:srgbClr val="ffdff7"/>
            </a:gs>
            <a:gs pos="100000">
              <a:srgbClr val="cbe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6D18-B3C9-441F-852E-5027BBF753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image" Target="../media/image13.jpeg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18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QG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WordArt 14"/>
          <p:cNvSpPr txBox="1"/>
          <p:nvPr/>
        </p:nvSpPr>
        <p:spPr>
          <a:xfrm>
            <a:off x="1692360" y="2060640"/>
            <a:ext cx="5981760" cy="20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священие в </a:t>
            </a:r>
            <a:endParaRPr b="0" lang="en-US" sz="1800" spc="1" strike="noStrike">
              <a:ln w="9360">
                <a:solidFill>
                  <a:srgbClr val="0000cc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ЕРВОКЛАССНИКИ.</a:t>
            </a:r>
            <a:endParaRPr b="0" lang="en-US" sz="1800" spc="1" strike="noStrike">
              <a:ln w="9360">
                <a:solidFill>
                  <a:srgbClr val="0000cc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Picture 15" descr="6"/>
          <p:cNvPicPr/>
          <p:nvPr/>
        </p:nvPicPr>
        <p:blipFill>
          <a:blip r:embed="rId2"/>
          <a:stretch/>
        </p:blipFill>
        <p:spPr>
          <a:xfrm>
            <a:off x="755640" y="476280"/>
            <a:ext cx="1655640" cy="1152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12 (2)"/>
          <p:cNvPicPr/>
          <p:nvPr/>
        </p:nvPicPr>
        <p:blipFill>
          <a:blip r:embed="rId3"/>
          <a:stretch/>
        </p:blipFill>
        <p:spPr>
          <a:xfrm>
            <a:off x="3348000" y="4653000"/>
            <a:ext cx="253692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2"/>
          <p:cNvSpPr/>
          <p:nvPr/>
        </p:nvSpPr>
        <p:spPr>
          <a:xfrm>
            <a:off x="1763640" y="189000"/>
            <a:ext cx="6912000" cy="2950920"/>
          </a:xfrm>
          <a:prstGeom prst="wedgeRoundRectCallout">
            <a:avLst>
              <a:gd name="adj1" fmla="val -44439"/>
              <a:gd name="adj2" fmla="val 79208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050920" y="404640"/>
            <a:ext cx="6624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Хоть дерись ты, хоть ты плачь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Не могу решать задач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Помогите, объяснит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Мою сказку посетите.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4932360" y="393372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Untitled-2"/>
          <p:cNvPicPr/>
          <p:nvPr/>
        </p:nvPicPr>
        <p:blipFill>
          <a:blip r:embed="rId2"/>
          <a:stretch/>
        </p:blipFill>
        <p:spPr>
          <a:xfrm>
            <a:off x="611280" y="549360"/>
            <a:ext cx="4824360" cy="42688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395280" y="4365720"/>
            <a:ext cx="46083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Н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_  _  _  _  _  _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 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1979640" y="4581360"/>
            <a:ext cx="6711840" cy="180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. Нос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"Приключения Незнай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 его друзей"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1243080" y="4005360"/>
            <a:ext cx="7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вопрос 4"/>
          <p:cNvPicPr/>
          <p:nvPr/>
        </p:nvPicPr>
        <p:blipFill>
          <a:blip r:embed="rId2"/>
          <a:stretch/>
        </p:blipFill>
        <p:spPr>
          <a:xfrm>
            <a:off x="324000" y="404640"/>
            <a:ext cx="936360" cy="943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971640" y="333360"/>
            <a:ext cx="7920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 крышки стола 4 угла. Сколько останется углов, если 1 угол отпили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1187280" y="3500280"/>
            <a:ext cx="5329440" cy="302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 flipV="1" rot="5512800">
            <a:off x="5253480" y="3179160"/>
            <a:ext cx="1228680" cy="15829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6"/>
          <p:cNvSpPr/>
          <p:nvPr/>
        </p:nvSpPr>
        <p:spPr>
          <a:xfrm>
            <a:off x="1042920" y="335772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7"/>
          <p:cNvSpPr/>
          <p:nvPr/>
        </p:nvSpPr>
        <p:spPr>
          <a:xfrm>
            <a:off x="5148360" y="335772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8"/>
          <p:cNvSpPr/>
          <p:nvPr/>
        </p:nvSpPr>
        <p:spPr>
          <a:xfrm>
            <a:off x="6372360" y="443700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9"/>
          <p:cNvSpPr/>
          <p:nvPr/>
        </p:nvSpPr>
        <p:spPr>
          <a:xfrm>
            <a:off x="1042920" y="630864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0"/>
          <p:cNvSpPr/>
          <p:nvPr/>
        </p:nvSpPr>
        <p:spPr>
          <a:xfrm>
            <a:off x="6372360" y="630864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WordArt 11"/>
          <p:cNvSpPr txBox="1"/>
          <p:nvPr/>
        </p:nvSpPr>
        <p:spPr>
          <a:xfrm>
            <a:off x="1979640" y="620640"/>
            <a:ext cx="50418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5 углов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248" name="Picture 12" descr="W12"/>
          <p:cNvPicPr/>
          <p:nvPr/>
        </p:nvPicPr>
        <p:blipFill>
          <a:blip r:embed="rId5"/>
          <a:stretch/>
        </p:blipFill>
        <p:spPr>
          <a:xfrm flipH="1" rot="1402200">
            <a:off x="4095360" y="3652920"/>
            <a:ext cx="4159440" cy="2004840"/>
          </a:xfrm>
          <a:prstGeom prst="rect">
            <a:avLst/>
          </a:prstGeom>
          <a:ln w="0">
            <a:noFill/>
          </a:ln>
        </p:spPr>
      </p:pic>
      <p:pic>
        <p:nvPicPr>
          <p:cNvPr id="249" name="ПИЛА3205.WAV" descr=""/>
          <p:cNvPicPr/>
          <p:nvPr/>
        </p:nvPicPr>
        <p:blipFill>
          <a:blip r:embed="rId6"/>
          <a:stretch/>
        </p:blipFill>
        <p:spPr>
          <a:xfrm>
            <a:off x="9144000" y="7174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5.92593E-006 C -0.00589 -0.01203 -0.01319 -0.01689 -0.02083 -0.02592 C -0.02638 -0.0324 -0.03211 -0.04004 -0.03888 -0.04444 C -0.04339 -0.04745 -0.04878 -0.04745 -0.05277 -0.05184 C -0.05589 -0.05508 -0.0578 -0.05995 -0.0611 -0.06296 C -0.06249 -0.06411 -0.06388 -0.0655 -0.06527 -0.06666 C -0.06926 -0.07453 -0.07551 -0.08032 -0.08055 -0.08703 C -0.08541 -0.09351 -0.0901 -0.10231 -0.09583 -0.1074 C -0.0967 -0.10925 -0.10017 -0.11249 -0.0986 -0.11296 C -0.0986 -0.11296 -0.08819 -0.10833 -0.0861 -0.1074 C -0.08472 -0.10671 -0.08194 -0.10555 -0.08194 -0.10555 C -0.07882 -0.10231 -0.07482 -0.10022 -0.07221 -0.09629 C -0.06683 -0.08819 -0.06336 -0.07569 -0.05694 -0.06851 C -0.05537 -0.06666 -0.05312 -0.06643 -0.05138 -0.06481 C -0.0493 -0.06272 -0.04792 -0.05948 -0.04583 -0.0574 C -0.0401 -0.05138 -0.03367 -0.04791 -0.02777 -0.04258 C -0.02378 -0.03448 -0.01475 -0.02175 -0.01249 -0.01296 C -0.0111 -0.0074 -0.01128 -0.00671 -0.00833 -0.00184 C -0.00711 0.00024 -0.00572 0.00209 -0.00416 0.00371 C -0.00155 0.00649 0.00417 0.01112 0.00417 0.01112 C 0.00869 0.02015 0.0172 0.02617 0.02362 0.03334 C 0.02518 0.03496 0.02622 0.03728 0.02779 0.0389 C 0.03039 0.04167 0.03612 0.0463 0.03612 0.0463 C 0.03803 0.05001 0.03924 0.05417 0.04167 0.05742 C 0.04445 0.06112 0.05001 0.06853 0.05001 0.06853 C 0.04827 0.05973 0.04411 0.05117 0.03751 0.04816 C 0.03334 0.03982 0.02692 0.03404 0.02223 0.02593 C 0.01286 0.00927 0.00417 -0.00925 -0.00694 -0.02407 C -0.0099 -0.03958 -0.00572 -0.02499 -0.01249 -0.03518 C -0.01579 -0.04027 -0.01735 -0.04721 -0.02083 -0.05184 C -0.0236 -0.05555 -0.02586 -0.05995 -0.02916 -0.06296 C -0.03055 -0.06411 -0.03211 -0.06527 -0.03333 -0.06666 C -0.04027 -0.0743 -0.03437 -0.07083 -0.04166 -0.07407 C -0.04739 -0.08171 -0.05468 -0.08772 -0.0611 -0.09444 C -0.0651 -0.0986 -0.07013 -0.10092 -0.0736 -0.10555 C -0.07621 -0.10902 -0.07794 -0.11319 -0.08055 -0.11666 C -0.08177 -0.11828 -0.08472 -0.12036 -0.08472 -0.12036 E">
                                      <p:cBhvr>
                                        <p:cTn id="157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864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Untitled-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"/>
          <p:cNvSpPr/>
          <p:nvPr/>
        </p:nvSpPr>
        <p:spPr>
          <a:xfrm>
            <a:off x="6877080" y="3429000"/>
            <a:ext cx="2266920" cy="3429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2484360" y="5084640"/>
            <a:ext cx="2735280" cy="1773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2484360" y="1773360"/>
            <a:ext cx="2735280" cy="335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0" y="3716280"/>
            <a:ext cx="2482920" cy="3141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0" y="0"/>
            <a:ext cx="2484360" cy="371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усская народная сказка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урочка Ряб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»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2484360" y="0"/>
            <a:ext cx="2735280" cy="17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6877080" y="0"/>
            <a:ext cx="2266920" cy="34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5219640" y="0"/>
            <a:ext cx="165744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210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234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5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179280" y="3716280"/>
            <a:ext cx="8748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Жили - были  дед и  баба,  и  была     у  них  курочка  Ряба. Вот только кроме Рябы во дворе гуляли  цыплята и  поросята. У них всех </a:t>
            </a: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5 голов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 и </a:t>
            </a: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14 ног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. Как это может бы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Untitled-8"/>
          <p:cNvPicPr/>
          <p:nvPr/>
        </p:nvPicPr>
        <p:blipFill>
          <a:blip r:embed="rId1"/>
          <a:stretch/>
        </p:blipFill>
        <p:spPr>
          <a:xfrm>
            <a:off x="4067280" y="333360"/>
            <a:ext cx="4825800" cy="32608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79280" y="0"/>
            <a:ext cx="619308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усская народная сказ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Курочка Ряба»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5"/>
          <p:cNvSpPr txBox="1"/>
          <p:nvPr/>
        </p:nvSpPr>
        <p:spPr>
          <a:xfrm>
            <a:off x="468360" y="3716280"/>
            <a:ext cx="8280360" cy="28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Курочка Ряба +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2 цыплёнка + 2 поросён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264" name="Group 6"/>
          <p:cNvGrpSpPr/>
          <p:nvPr/>
        </p:nvGrpSpPr>
        <p:grpSpPr>
          <a:xfrm>
            <a:off x="324000" y="692280"/>
            <a:ext cx="8497800" cy="2853720"/>
            <a:chOff x="324000" y="692280"/>
            <a:chExt cx="8497800" cy="2853720"/>
          </a:xfrm>
        </p:grpSpPr>
        <p:pic>
          <p:nvPicPr>
            <p:cNvPr id="265" name="Picture 7" descr="КУРИЦА"/>
            <p:cNvPicPr/>
            <p:nvPr/>
          </p:nvPicPr>
          <p:blipFill>
            <a:blip r:embed="rId2"/>
            <a:srcRect l="0" t="0" r="17" b="0"/>
            <a:stretch/>
          </p:blipFill>
          <p:spPr>
            <a:xfrm>
              <a:off x="324000" y="692280"/>
              <a:ext cx="2168280" cy="23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8" descr="ЦЫПЛЯТА"/>
            <p:cNvPicPr/>
            <p:nvPr/>
          </p:nvPicPr>
          <p:blipFill>
            <a:blip r:embed="rId3"/>
            <a:srcRect l="0" t="0" r="22" b="0"/>
            <a:stretch/>
          </p:blipFill>
          <p:spPr>
            <a:xfrm>
              <a:off x="2700360" y="1197000"/>
              <a:ext cx="1641600" cy="23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9" descr="ПОРОСЯТА"/>
            <p:cNvPicPr/>
            <p:nvPr/>
          </p:nvPicPr>
          <p:blipFill>
            <a:blip r:embed="rId4"/>
            <a:srcRect l="0" t="0" r="24" b="20"/>
            <a:stretch/>
          </p:blipFill>
          <p:spPr>
            <a:xfrm flipH="1">
              <a:off x="4787640" y="1052280"/>
              <a:ext cx="1733400" cy="22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10" descr="ПОРОСЯТА"/>
            <p:cNvPicPr/>
            <p:nvPr/>
          </p:nvPicPr>
          <p:blipFill>
            <a:blip r:embed="rId5"/>
            <a:srcRect l="0" t="0" r="24" b="20"/>
            <a:stretch/>
          </p:blipFill>
          <p:spPr>
            <a:xfrm>
              <a:off x="6877080" y="1052280"/>
              <a:ext cx="1944720" cy="2274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9" name="5.wma" descr=""/>
          <p:cNvPicPr/>
          <p:nvPr/>
        </p:nvPicPr>
        <p:blipFill>
          <a:blip r:embed="rId6"/>
          <a:stretch/>
        </p:blipFill>
        <p:spPr>
          <a:xfrm>
            <a:off x="9325080" y="731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2"/>
          <p:cNvSpPr/>
          <p:nvPr/>
        </p:nvSpPr>
        <p:spPr>
          <a:xfrm>
            <a:off x="1116000" y="189000"/>
            <a:ext cx="6912000" cy="2592360"/>
          </a:xfrm>
          <a:prstGeom prst="wedgeRoundRectCallout">
            <a:avLst>
              <a:gd name="adj1" fmla="val 1675"/>
              <a:gd name="adj2" fmla="val 7296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Буратино 02"/>
          <p:cNvPicPr/>
          <p:nvPr/>
        </p:nvPicPr>
        <p:blipFill>
          <a:blip r:embed="rId1"/>
          <a:stretch/>
        </p:blipFill>
        <p:spPr>
          <a:xfrm>
            <a:off x="5724360" y="1052640"/>
            <a:ext cx="2883240" cy="41767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4"/>
          <p:cNvSpPr/>
          <p:nvPr/>
        </p:nvSpPr>
        <p:spPr>
          <a:xfrm>
            <a:off x="1332000" y="475200"/>
            <a:ext cx="627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Это что за очень странный </a:t>
            </a:r>
            <a:br>
              <a:rPr sz="3200"/>
            </a:b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Человечек деревянный? </a:t>
            </a:r>
            <a:br>
              <a:rPr sz="3200"/>
            </a:b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На земле и под водой </a:t>
            </a:r>
            <a:br>
              <a:rPr sz="3200"/>
            </a:b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Ищет ключик зол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468360" y="3500280"/>
            <a:ext cx="4176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Б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_  _  _ _  _  _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250920" y="4941720"/>
            <a:ext cx="619272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.Н. Толст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Сказка о золотом ключике, или приключения Буратино»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3475440" y="3357720"/>
            <a:ext cx="7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Бу-ра-ти-но!, фрагмент.mp3" descr=""/>
          <p:cNvPicPr/>
          <p:nvPr/>
        </p:nvPicPr>
        <p:blipFill>
          <a:blip r:embed="rId2"/>
          <a:stretch/>
        </p:blipFill>
        <p:spPr>
          <a:xfrm>
            <a:off x="9828360" y="6705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" dur="13383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78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4"/>
            <p:cNvGrpSpPr/>
            <p:nvPr/>
          </p:nvGrpSpPr>
          <p:grpSpPr>
            <a:xfrm>
              <a:off x="1704240" y="352440"/>
              <a:ext cx="5359680" cy="5964120"/>
              <a:chOff x="1704240" y="352440"/>
              <a:chExt cx="5359680" cy="5964120"/>
            </a:xfrm>
          </p:grpSpPr>
          <p:sp>
            <p:nvSpPr>
              <p:cNvPr id="280" name="AutoShape 5"/>
              <p:cNvSpPr/>
              <p:nvPr/>
            </p:nvSpPr>
            <p:spPr>
              <a:xfrm rot="3102600">
                <a:off x="2610720" y="637920"/>
                <a:ext cx="1943640" cy="2508840"/>
              </a:xfrm>
              <a:custGeom>
                <a:avLst/>
                <a:gdLst>
                  <a:gd name="textAreaLeft" fmla="*/ 0 w 1943640"/>
                  <a:gd name="textAreaRight" fmla="*/ 1944000 w 1943640"/>
                  <a:gd name="textAreaTop" fmla="*/ 0 h 2508840"/>
                  <a:gd name="textAreaBottom" fmla="*/ 896400 h 2508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AutoShape 6"/>
              <p:cNvSpPr/>
              <p:nvPr/>
            </p:nvSpPr>
            <p:spPr>
              <a:xfrm rot="13902600">
                <a:off x="2318760" y="867600"/>
                <a:ext cx="1943640" cy="2508840"/>
              </a:xfrm>
              <a:custGeom>
                <a:avLst/>
                <a:gdLst>
                  <a:gd name="textAreaLeft" fmla="*/ 0 w 1943640"/>
                  <a:gd name="textAreaRight" fmla="*/ 1944000 w 1943640"/>
                  <a:gd name="textAreaTop" fmla="*/ 0 h 2508840"/>
                  <a:gd name="textAreaBottom" fmla="*/ 896400 h 2508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7"/>
              <p:cNvSpPr/>
              <p:nvPr/>
            </p:nvSpPr>
            <p:spPr>
              <a:xfrm rot="3102600">
                <a:off x="1406160" y="3216600"/>
                <a:ext cx="6335640" cy="464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AutoShape 8"/>
              <p:cNvSpPr/>
              <p:nvPr/>
            </p:nvSpPr>
            <p:spPr>
              <a:xfrm rot="19302600">
                <a:off x="4544280" y="4311720"/>
                <a:ext cx="2323080" cy="1439640"/>
              </a:xfrm>
              <a:prstGeom prst="plus">
                <a:avLst>
                  <a:gd name="adj" fmla="val 2500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84" name="Picture 9" descr="QG1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сканирование0002"/>
          <p:cNvPicPr/>
          <p:nvPr/>
        </p:nvPicPr>
        <p:blipFill>
          <a:blip r:embed="rId1"/>
          <a:stretch/>
        </p:blipFill>
        <p:spPr>
          <a:xfrm>
            <a:off x="2057400" y="762120"/>
            <a:ext cx="5238720" cy="5427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QG1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1332000" y="711000"/>
            <a:ext cx="6408720" cy="4732560"/>
            <a:chOff x="1332000" y="711000"/>
            <a:chExt cx="6408720" cy="4732560"/>
          </a:xfrm>
        </p:grpSpPr>
        <p:sp>
          <p:nvSpPr>
            <p:cNvPr id="288" name="Oval 3"/>
            <p:cNvSpPr/>
            <p:nvPr/>
          </p:nvSpPr>
          <p:spPr>
            <a:xfrm>
              <a:off x="1332000" y="3355920"/>
              <a:ext cx="6408720" cy="2087640"/>
            </a:xfrm>
            <a:prstGeom prst="ellipse">
              <a:avLst/>
            </a:prstGeom>
            <a:solidFill>
              <a:srgbClr val="33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4"/>
            <p:cNvSpPr/>
            <p:nvPr/>
          </p:nvSpPr>
          <p:spPr>
            <a:xfrm>
              <a:off x="3421080" y="1555920"/>
              <a:ext cx="2305080" cy="2808000"/>
            </a:xfrm>
            <a:prstGeom prst="triangle">
              <a:avLst>
                <a:gd name="adj" fmla="val 50000"/>
              </a:avLst>
            </a:prstGeom>
            <a:solidFill>
              <a:srgbClr val="33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5"/>
            <p:cNvGrpSpPr/>
            <p:nvPr/>
          </p:nvGrpSpPr>
          <p:grpSpPr>
            <a:xfrm>
              <a:off x="4069440" y="711000"/>
              <a:ext cx="1163880" cy="1144800"/>
              <a:chOff x="4069440" y="711000"/>
              <a:chExt cx="1163880" cy="1144800"/>
            </a:xfrm>
          </p:grpSpPr>
          <p:sp>
            <p:nvSpPr>
              <p:cNvPr id="291" name="AutoShape 6"/>
              <p:cNvSpPr/>
              <p:nvPr/>
            </p:nvSpPr>
            <p:spPr>
              <a:xfrm rot="20398800">
                <a:off x="4198320" y="1023120"/>
                <a:ext cx="294120" cy="80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AutoShape 7"/>
              <p:cNvSpPr/>
              <p:nvPr/>
            </p:nvSpPr>
            <p:spPr>
              <a:xfrm rot="2425800">
                <a:off x="4560840" y="783720"/>
                <a:ext cx="402120" cy="981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AutoShape 8"/>
              <p:cNvSpPr/>
              <p:nvPr/>
            </p:nvSpPr>
            <p:spPr>
              <a:xfrm rot="3118800">
                <a:off x="4553280" y="1033920"/>
                <a:ext cx="453600" cy="73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AutoShape 9"/>
              <p:cNvSpPr/>
              <p:nvPr/>
            </p:nvSpPr>
            <p:spPr>
              <a:xfrm rot="835200">
                <a:off x="4345200" y="743040"/>
                <a:ext cx="390960" cy="1006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Oval 10"/>
            <p:cNvSpPr/>
            <p:nvPr/>
          </p:nvSpPr>
          <p:spPr>
            <a:xfrm>
              <a:off x="3348000" y="4075200"/>
              <a:ext cx="2376360" cy="720720"/>
            </a:xfrm>
            <a:prstGeom prst="ellipse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3492360" y="4363920"/>
              <a:ext cx="2303640" cy="216000"/>
            </a:xfrm>
            <a:custGeom>
              <a:avLst/>
              <a:gdLst/>
              <a:ahLst/>
              <a:rect l="l" t="t" r="r" b="b"/>
              <a:pathLst>
                <a:path w="1587" h="197">
                  <a:moveTo>
                    <a:pt x="0" y="0"/>
                  </a:moveTo>
                  <a:cubicBezTo>
                    <a:pt x="174" y="83"/>
                    <a:pt x="348" y="167"/>
                    <a:pt x="590" y="182"/>
                  </a:cubicBezTo>
                  <a:cubicBezTo>
                    <a:pt x="832" y="197"/>
                    <a:pt x="1315" y="106"/>
                    <a:pt x="1451" y="91"/>
                  </a:cubicBezTo>
                  <a:cubicBezTo>
                    <a:pt x="1587" y="76"/>
                    <a:pt x="1496" y="83"/>
                    <a:pt x="1406" y="91"/>
                  </a:cubicBezTo>
                </a:path>
              </a:pathLst>
            </a:custGeom>
            <a:solidFill>
              <a:srgbClr val="33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Picture 12" descr="QG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QG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82"/>
          <p:cNvPicPr/>
          <p:nvPr/>
        </p:nvPicPr>
        <p:blipFill>
          <a:blip r:embed="rId2"/>
          <a:stretch/>
        </p:blipFill>
        <p:spPr>
          <a:xfrm>
            <a:off x="2195640" y="765000"/>
            <a:ext cx="444024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pechkinnpach-crazynet"/>
          <p:cNvPicPr/>
          <p:nvPr/>
        </p:nvPicPr>
        <p:blipFill>
          <a:blip r:embed="rId2"/>
          <a:srcRect l="0" t="0" r="-113" b="106"/>
          <a:stretch/>
        </p:blipFill>
        <p:spPr>
          <a:xfrm>
            <a:off x="2411280" y="1628640"/>
            <a:ext cx="6524640" cy="505800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3"/>
          <p:cNvSpPr/>
          <p:nvPr/>
        </p:nvSpPr>
        <p:spPr>
          <a:xfrm>
            <a:off x="395280" y="333360"/>
            <a:ext cx="6842160" cy="2952720"/>
          </a:xfrm>
          <a:prstGeom prst="wedgeRoundRectCallout">
            <a:avLst>
              <a:gd name="adj1" fmla="val 50277"/>
              <a:gd name="adj2" fmla="val 6440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1045800" y="692280"/>
            <a:ext cx="553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Я весёлый почтальон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Детям я давно зна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Много писем и газ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Возит мой велосипе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4284720" y="4149720"/>
            <a:ext cx="4176720" cy="153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_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_  _  _  _  _  _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_  _  _  _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24000" y="260280"/>
            <a:ext cx="619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250920" y="189000"/>
            <a:ext cx="576108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.Успен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Трое из Простоквашино»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7652160" y="3429000"/>
            <a:ext cx="7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QG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WordArt 4"/>
          <p:cNvSpPr txBox="1"/>
          <p:nvPr/>
        </p:nvSpPr>
        <p:spPr>
          <a:xfrm>
            <a:off x="1619280" y="1341360"/>
            <a:ext cx="5832360" cy="17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бери портфель.</a:t>
            </a:r>
            <a:endParaRPr b="0" lang="en-US" sz="1800" spc="1" strike="noStrike">
              <a:ln w="12600">
                <a:solidFill>
                  <a:srgbClr val="0000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7" name="Picture 5" descr="47"/>
          <p:cNvPicPr/>
          <p:nvPr/>
        </p:nvPicPr>
        <p:blipFill>
          <a:blip r:embed="rId2"/>
          <a:stretch/>
        </p:blipFill>
        <p:spPr>
          <a:xfrm>
            <a:off x="3059280" y="3645000"/>
            <a:ext cx="3527280" cy="27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AutoShape 2"/>
          <p:cNvSpPr/>
          <p:nvPr/>
        </p:nvSpPr>
        <p:spPr>
          <a:xfrm>
            <a:off x="250920" y="189000"/>
            <a:ext cx="8642160" cy="3960720"/>
          </a:xfrm>
          <a:prstGeom prst="wedgeRoundRectCallout">
            <a:avLst>
              <a:gd name="adj1" fmla="val 40870"/>
              <a:gd name="adj2" fmla="val 64148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10920" y="333000"/>
            <a:ext cx="83516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Мне приятно быть у неё на голо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Она за мной ухаживает. Всегда я чиста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глаженая. Мне нравится вместе с девоч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гулять по лесу, ходить в гости. Но в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беда: моя хозяйка очень доверчи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И из-за этого с ней происходят вся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неприятности.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3203640" y="4941720"/>
            <a:ext cx="5689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_  _  _  _  _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Ш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_  _  _  _  _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324000" y="5229360"/>
            <a:ext cx="431928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Ш.Перро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Красная Шапочка»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6" descr="Красная шапочка 04"/>
          <p:cNvPicPr/>
          <p:nvPr/>
        </p:nvPicPr>
        <p:blipFill>
          <a:blip r:embed="rId1"/>
          <a:stretch/>
        </p:blipFill>
        <p:spPr>
          <a:xfrm>
            <a:off x="5219640" y="1197000"/>
            <a:ext cx="3181320" cy="461016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7"/>
          <p:cNvSpPr/>
          <p:nvPr/>
        </p:nvSpPr>
        <p:spPr>
          <a:xfrm>
            <a:off x="7940880" y="4797360"/>
            <a:ext cx="7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QG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WordArt 4"/>
          <p:cNvSpPr txBox="1"/>
          <p:nvPr/>
        </p:nvSpPr>
        <p:spPr>
          <a:xfrm>
            <a:off x="1476360" y="1628640"/>
            <a:ext cx="633564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лятв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ВОКЛАССНИКА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QG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WordArt 3"/>
          <p:cNvSpPr txBox="1"/>
          <p:nvPr/>
        </p:nvSpPr>
        <p:spPr>
          <a:xfrm>
            <a:off x="1042920" y="549360"/>
            <a:ext cx="71280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5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latin typeface="Comic Sans MS"/>
              </a:rPr>
              <a:t>МОЛОДЦЫ!</a:t>
            </a:r>
            <a:endParaRPr b="1" lang="en-US" sz="72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latin typeface="Comic Sans MS"/>
              <a:ea typeface="Comic Sans MS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2759400" y="4338000"/>
            <a:ext cx="3467880" cy="2184840"/>
            <a:chOff x="2759400" y="4338000"/>
            <a:chExt cx="3467880" cy="2184840"/>
          </a:xfrm>
        </p:grpSpPr>
        <p:pic>
          <p:nvPicPr>
            <p:cNvPr id="318" name="Picture 5" descr="медалька"/>
            <p:cNvPicPr/>
            <p:nvPr/>
          </p:nvPicPr>
          <p:blipFill>
            <a:blip r:embed="rId2"/>
            <a:stretch/>
          </p:blipFill>
          <p:spPr>
            <a:xfrm>
              <a:off x="4004640" y="4437000"/>
              <a:ext cx="113220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6" descr="медалька"/>
            <p:cNvPicPr/>
            <p:nvPr/>
          </p:nvPicPr>
          <p:blipFill>
            <a:blip r:embed="rId3"/>
            <a:stretch/>
          </p:blipFill>
          <p:spPr>
            <a:xfrm rot="20743200">
              <a:off x="4634280" y="5376240"/>
              <a:ext cx="101988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7" descr="медалька"/>
            <p:cNvPicPr/>
            <p:nvPr/>
          </p:nvPicPr>
          <p:blipFill>
            <a:blip r:embed="rId4"/>
            <a:stretch/>
          </p:blipFill>
          <p:spPr>
            <a:xfrm>
              <a:off x="3489480" y="5376240"/>
              <a:ext cx="1032840" cy="104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8" descr="медалька"/>
            <p:cNvPicPr/>
            <p:nvPr/>
          </p:nvPicPr>
          <p:blipFill>
            <a:blip r:embed="rId5"/>
            <a:stretch/>
          </p:blipFill>
          <p:spPr>
            <a:xfrm>
              <a:off x="5149440" y="4491360"/>
              <a:ext cx="1077840" cy="10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9" descr="медалька"/>
            <p:cNvPicPr/>
            <p:nvPr/>
          </p:nvPicPr>
          <p:blipFill>
            <a:blip r:embed="rId6"/>
            <a:stretch/>
          </p:blipFill>
          <p:spPr>
            <a:xfrm rot="20361000">
              <a:off x="2916360" y="4491000"/>
              <a:ext cx="1065240" cy="108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3" name="Picture 10" descr="сканирование0005"/>
          <p:cNvPicPr/>
          <p:nvPr/>
        </p:nvPicPr>
        <p:blipFill>
          <a:blip r:embed="rId7"/>
          <a:stretch/>
        </p:blipFill>
        <p:spPr>
          <a:xfrm rot="19810800">
            <a:off x="826920" y="3141360"/>
            <a:ext cx="1598760" cy="21938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сканирование0002"/>
          <p:cNvPicPr/>
          <p:nvPr/>
        </p:nvPicPr>
        <p:blipFill>
          <a:blip r:embed="rId8"/>
          <a:stretch/>
        </p:blipFill>
        <p:spPr>
          <a:xfrm rot="20935200">
            <a:off x="2266560" y="2204640"/>
            <a:ext cx="1575000" cy="21607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сканирование0003"/>
          <p:cNvPicPr/>
          <p:nvPr/>
        </p:nvPicPr>
        <p:blipFill>
          <a:blip r:embed="rId9"/>
          <a:stretch/>
        </p:blipFill>
        <p:spPr>
          <a:xfrm rot="689400">
            <a:off x="5435280" y="2276640"/>
            <a:ext cx="1558800" cy="21603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сканирование0004"/>
          <p:cNvPicPr/>
          <p:nvPr/>
        </p:nvPicPr>
        <p:blipFill>
          <a:blip r:embed="rId10"/>
          <a:stretch/>
        </p:blipFill>
        <p:spPr>
          <a:xfrm rot="1396200">
            <a:off x="6803640" y="3068640"/>
            <a:ext cx="1631880" cy="22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3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250" autoRev="1" fill="hold"/>
                                        <p:tgtEl>
                                          <p:spTgt spid="3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QG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WordArt 4"/>
          <p:cNvSpPr txBox="1"/>
          <p:nvPr/>
        </p:nvSpPr>
        <p:spPr>
          <a:xfrm>
            <a:off x="1763640" y="620640"/>
            <a:ext cx="6120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о я, это я,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о все мои друзья!!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" name="Picture 5" descr="142 (2)"/>
          <p:cNvPicPr/>
          <p:nvPr/>
        </p:nvPicPr>
        <p:blipFill>
          <a:blip r:embed="rId2"/>
          <a:stretch/>
        </p:blipFill>
        <p:spPr>
          <a:xfrm>
            <a:off x="2195640" y="3573360"/>
            <a:ext cx="5456160" cy="284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QG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Picture 6" descr="140"/>
          <p:cNvPicPr/>
          <p:nvPr/>
        </p:nvPicPr>
        <p:blipFill>
          <a:blip r:embed="rId2"/>
          <a:stretch/>
        </p:blipFill>
        <p:spPr>
          <a:xfrm>
            <a:off x="2124000" y="1773360"/>
            <a:ext cx="4514760" cy="4800600"/>
          </a:xfrm>
          <a:prstGeom prst="rect">
            <a:avLst/>
          </a:prstGeom>
          <a:ln w="0">
            <a:noFill/>
          </a:ln>
        </p:spPr>
      </p:pic>
      <p:sp>
        <p:nvSpPr>
          <p:cNvPr id="53" name="WordArt 7"/>
          <p:cNvSpPr txBox="1"/>
          <p:nvPr/>
        </p:nvSpPr>
        <p:spPr>
          <a:xfrm>
            <a:off x="3348000" y="765000"/>
            <a:ext cx="2733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АСТУШКИ.</a:t>
            </a:r>
            <a:endParaRPr b="0" lang="en-US" sz="1800" spc="1" strike="noStrike">
              <a:ln w="0">
                <a:noFill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" name="chastushki.mp3" descr=""/>
          <p:cNvPicPr/>
          <p:nvPr/>
        </p:nvPicPr>
        <p:blipFill>
          <a:blip r:embed="rId3"/>
          <a:stretch/>
        </p:blipFill>
        <p:spPr>
          <a:xfrm>
            <a:off x="971640" y="530064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5709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0ff"/>
            </a:gs>
            <a:gs pos="50000">
              <a:srgbClr val="ffdff7"/>
            </a:gs>
            <a:gs pos="100000">
              <a:srgbClr val="cbe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QG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71640" y="1267920"/>
            <a:ext cx="763416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Давайте поигра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И вместе угадае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Кто пришёл сегодня к на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В этот день и в этот час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Да задание припас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0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>
            <a:off x="324000" y="189000"/>
            <a:ext cx="8569080" cy="2808360"/>
          </a:xfrm>
          <a:prstGeom prst="wedgeRoundRectCallout">
            <a:avLst>
              <a:gd name="adj1" fmla="val -629"/>
              <a:gd name="adj2" fmla="val 7040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16"/>
          <p:cNvPicPr/>
          <p:nvPr/>
        </p:nvPicPr>
        <p:blipFill>
          <a:blip r:embed="rId1"/>
          <a:srcRect l="0" t="0" r="-135" b="-95"/>
          <a:stretch/>
        </p:blipFill>
        <p:spPr>
          <a:xfrm>
            <a:off x="3203640" y="1628640"/>
            <a:ext cx="2502000" cy="35751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395280" y="333360"/>
            <a:ext cx="8317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Я знал, что всё так кончится. Уж больно ветхий я и старый, столько лет в поле стою. Мечтал, конечно, чтобы кто-нибудь во мне поселился, но их было так много, что я просто не выдержал и рухн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859280" y="3284640"/>
            <a:ext cx="35290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Т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_  _  _  _  _ 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50920" y="5589720"/>
            <a:ext cx="8677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усская народная сказка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ремок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»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915080" y="3213000"/>
            <a:ext cx="7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0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395280" y="333360"/>
            <a:ext cx="6192720" cy="6192720"/>
            <a:chOff x="395280" y="333360"/>
            <a:chExt cx="6192720" cy="6192720"/>
          </a:xfrm>
        </p:grpSpPr>
        <p:grpSp>
          <p:nvGrpSpPr>
            <p:cNvPr id="64" name="Group 3"/>
            <p:cNvGrpSpPr/>
            <p:nvPr/>
          </p:nvGrpSpPr>
          <p:grpSpPr>
            <a:xfrm>
              <a:off x="395280" y="333360"/>
              <a:ext cx="6192720" cy="6192720"/>
              <a:chOff x="395280" y="333360"/>
              <a:chExt cx="6192720" cy="6192720"/>
            </a:xfrm>
          </p:grpSpPr>
          <p:sp>
            <p:nvSpPr>
              <p:cNvPr id="65" name="Rectangle 4"/>
              <p:cNvSpPr/>
              <p:nvPr/>
            </p:nvSpPr>
            <p:spPr>
              <a:xfrm>
                <a:off x="4523760" y="4462560"/>
                <a:ext cx="2064240" cy="206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5"/>
              <p:cNvSpPr/>
              <p:nvPr/>
            </p:nvSpPr>
            <p:spPr>
              <a:xfrm>
                <a:off x="2459520" y="4462560"/>
                <a:ext cx="2064240" cy="206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6"/>
              <p:cNvSpPr/>
              <p:nvPr/>
            </p:nvSpPr>
            <p:spPr>
              <a:xfrm>
                <a:off x="395280" y="4462560"/>
                <a:ext cx="2064240" cy="206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7"/>
              <p:cNvSpPr/>
              <p:nvPr/>
            </p:nvSpPr>
            <p:spPr>
              <a:xfrm>
                <a:off x="4523760" y="2396520"/>
                <a:ext cx="2064240" cy="206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2459520" y="2396520"/>
                <a:ext cx="2064240" cy="206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9"/>
              <p:cNvSpPr/>
              <p:nvPr/>
            </p:nvSpPr>
            <p:spPr>
              <a:xfrm>
                <a:off x="395280" y="2396520"/>
                <a:ext cx="2064240" cy="206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0"/>
              <p:cNvSpPr/>
              <p:nvPr/>
            </p:nvSpPr>
            <p:spPr>
              <a:xfrm>
                <a:off x="4523760" y="333360"/>
                <a:ext cx="2064240" cy="206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1"/>
              <p:cNvSpPr/>
              <p:nvPr/>
            </p:nvSpPr>
            <p:spPr>
              <a:xfrm>
                <a:off x="2459520" y="333360"/>
                <a:ext cx="2064240" cy="206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2"/>
              <p:cNvSpPr/>
              <p:nvPr/>
            </p:nvSpPr>
            <p:spPr>
              <a:xfrm>
                <a:off x="395280" y="333360"/>
                <a:ext cx="2064240" cy="206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13"/>
              <p:cNvSpPr/>
              <p:nvPr/>
            </p:nvSpPr>
            <p:spPr>
              <a:xfrm>
                <a:off x="395280" y="333360"/>
                <a:ext cx="61927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14"/>
              <p:cNvSpPr/>
              <p:nvPr/>
            </p:nvSpPr>
            <p:spPr>
              <a:xfrm>
                <a:off x="395280" y="2396520"/>
                <a:ext cx="619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15"/>
              <p:cNvSpPr/>
              <p:nvPr/>
            </p:nvSpPr>
            <p:spPr>
              <a:xfrm>
                <a:off x="395280" y="4462560"/>
                <a:ext cx="619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16"/>
              <p:cNvSpPr/>
              <p:nvPr/>
            </p:nvSpPr>
            <p:spPr>
              <a:xfrm>
                <a:off x="395280" y="6526080"/>
                <a:ext cx="61927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7"/>
              <p:cNvSpPr/>
              <p:nvPr/>
            </p:nvSpPr>
            <p:spPr>
              <a:xfrm>
                <a:off x="395280" y="333360"/>
                <a:ext cx="0" cy="61927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8"/>
              <p:cNvSpPr/>
              <p:nvPr/>
            </p:nvSpPr>
            <p:spPr>
              <a:xfrm>
                <a:off x="2459520" y="333360"/>
                <a:ext cx="0" cy="619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19"/>
              <p:cNvSpPr/>
              <p:nvPr/>
            </p:nvSpPr>
            <p:spPr>
              <a:xfrm>
                <a:off x="4523760" y="333360"/>
                <a:ext cx="0" cy="619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0"/>
              <p:cNvSpPr/>
              <p:nvPr/>
            </p:nvSpPr>
            <p:spPr>
              <a:xfrm>
                <a:off x="6588000" y="333360"/>
                <a:ext cx="0" cy="61927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Rectangle 21"/>
            <p:cNvSpPr/>
            <p:nvPr/>
          </p:nvSpPr>
          <p:spPr>
            <a:xfrm>
              <a:off x="662040" y="1158480"/>
              <a:ext cx="1465200" cy="103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22"/>
            <p:cNvSpPr/>
            <p:nvPr/>
          </p:nvSpPr>
          <p:spPr>
            <a:xfrm>
              <a:off x="662040" y="5356080"/>
              <a:ext cx="1465200" cy="96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3"/>
            <p:cNvSpPr/>
            <p:nvPr/>
          </p:nvSpPr>
          <p:spPr>
            <a:xfrm>
              <a:off x="2726280" y="3291480"/>
              <a:ext cx="1465200" cy="103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24"/>
            <p:cNvSpPr/>
            <p:nvPr/>
          </p:nvSpPr>
          <p:spPr>
            <a:xfrm>
              <a:off x="2726280" y="1158480"/>
              <a:ext cx="1465200" cy="1031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5"/>
            <p:cNvSpPr/>
            <p:nvPr/>
          </p:nvSpPr>
          <p:spPr>
            <a:xfrm>
              <a:off x="4790520" y="3223080"/>
              <a:ext cx="1465200" cy="1031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6"/>
            <p:cNvSpPr/>
            <p:nvPr/>
          </p:nvSpPr>
          <p:spPr>
            <a:xfrm>
              <a:off x="2726280" y="5288040"/>
              <a:ext cx="1465200" cy="1031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7"/>
            <p:cNvSpPr/>
            <p:nvPr/>
          </p:nvSpPr>
          <p:spPr>
            <a:xfrm>
              <a:off x="4790520" y="1158480"/>
              <a:ext cx="1465200" cy="1031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8"/>
            <p:cNvSpPr/>
            <p:nvPr/>
          </p:nvSpPr>
          <p:spPr>
            <a:xfrm>
              <a:off x="728280" y="3223080"/>
              <a:ext cx="1465200" cy="10317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29"/>
            <p:cNvSpPr/>
            <p:nvPr/>
          </p:nvSpPr>
          <p:spPr>
            <a:xfrm flipV="1">
              <a:off x="462600" y="745200"/>
              <a:ext cx="1864440" cy="412560"/>
            </a:xfrm>
            <a:custGeom>
              <a:avLst/>
              <a:gdLst>
                <a:gd name="textAreaLeft" fmla="*/ 388800 w 1864440"/>
                <a:gd name="textAreaRight" fmla="*/ 1475640 w 1864440"/>
                <a:gd name="textAreaTop" fmla="*/ 86400 h 412560"/>
                <a:gd name="textAreaBottom" fmla="*/ 326160 h 41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30"/>
            <p:cNvSpPr/>
            <p:nvPr/>
          </p:nvSpPr>
          <p:spPr>
            <a:xfrm flipV="1">
              <a:off x="4591080" y="2809800"/>
              <a:ext cx="1864440" cy="412200"/>
            </a:xfrm>
            <a:custGeom>
              <a:avLst/>
              <a:gdLst>
                <a:gd name="textAreaLeft" fmla="*/ 388800 w 1864440"/>
                <a:gd name="textAreaRight" fmla="*/ 1475640 w 1864440"/>
                <a:gd name="textAreaTop" fmla="*/ 86400 h 412200"/>
                <a:gd name="textAreaBottom" fmla="*/ 325800 h 41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31"/>
            <p:cNvSpPr/>
            <p:nvPr/>
          </p:nvSpPr>
          <p:spPr>
            <a:xfrm flipV="1">
              <a:off x="462600" y="4942800"/>
              <a:ext cx="1864440" cy="412200"/>
            </a:xfrm>
            <a:custGeom>
              <a:avLst/>
              <a:gdLst>
                <a:gd name="textAreaLeft" fmla="*/ 388800 w 1864440"/>
                <a:gd name="textAreaRight" fmla="*/ 1475640 w 1864440"/>
                <a:gd name="textAreaTop" fmla="*/ 86400 h 412200"/>
                <a:gd name="textAreaBottom" fmla="*/ 325800 h 41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32"/>
            <p:cNvSpPr/>
            <p:nvPr/>
          </p:nvSpPr>
          <p:spPr>
            <a:xfrm>
              <a:off x="2526840" y="471240"/>
              <a:ext cx="1798560" cy="6872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33"/>
            <p:cNvSpPr/>
            <p:nvPr/>
          </p:nvSpPr>
          <p:spPr>
            <a:xfrm>
              <a:off x="2526840" y="4599360"/>
              <a:ext cx="1798560" cy="6872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34"/>
            <p:cNvSpPr/>
            <p:nvPr/>
          </p:nvSpPr>
          <p:spPr>
            <a:xfrm>
              <a:off x="528480" y="2534400"/>
              <a:ext cx="1798560" cy="6872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35"/>
            <p:cNvSpPr/>
            <p:nvPr/>
          </p:nvSpPr>
          <p:spPr>
            <a:xfrm rot="16200000">
              <a:off x="5282640" y="51840"/>
              <a:ext cx="480960" cy="1732320"/>
            </a:xfrm>
            <a:prstGeom prst="flowChartDelay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36"/>
            <p:cNvSpPr/>
            <p:nvPr/>
          </p:nvSpPr>
          <p:spPr>
            <a:xfrm rot="16200000">
              <a:off x="3218400" y="2184840"/>
              <a:ext cx="480960" cy="1732320"/>
            </a:xfrm>
            <a:prstGeom prst="flowChartDelay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7"/>
            <p:cNvSpPr/>
            <p:nvPr/>
          </p:nvSpPr>
          <p:spPr>
            <a:xfrm>
              <a:off x="5123880" y="1296360"/>
              <a:ext cx="798480" cy="75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8"/>
            <p:cNvSpPr/>
            <p:nvPr/>
          </p:nvSpPr>
          <p:spPr>
            <a:xfrm>
              <a:off x="3059640" y="1296360"/>
              <a:ext cx="798480" cy="75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9"/>
            <p:cNvSpPr/>
            <p:nvPr/>
          </p:nvSpPr>
          <p:spPr>
            <a:xfrm>
              <a:off x="995400" y="1296360"/>
              <a:ext cx="798480" cy="75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40"/>
            <p:cNvSpPr/>
            <p:nvPr/>
          </p:nvSpPr>
          <p:spPr>
            <a:xfrm>
              <a:off x="5123880" y="3361320"/>
              <a:ext cx="798480" cy="75672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41"/>
            <p:cNvSpPr/>
            <p:nvPr/>
          </p:nvSpPr>
          <p:spPr>
            <a:xfrm>
              <a:off x="3059640" y="3429720"/>
              <a:ext cx="798480" cy="75672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2"/>
            <p:cNvSpPr/>
            <p:nvPr/>
          </p:nvSpPr>
          <p:spPr>
            <a:xfrm>
              <a:off x="995400" y="3361320"/>
              <a:ext cx="798480" cy="75672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43"/>
            <p:cNvSpPr/>
            <p:nvPr/>
          </p:nvSpPr>
          <p:spPr>
            <a:xfrm>
              <a:off x="995400" y="5424480"/>
              <a:ext cx="798480" cy="75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44"/>
            <p:cNvSpPr/>
            <p:nvPr/>
          </p:nvSpPr>
          <p:spPr>
            <a:xfrm>
              <a:off x="3059640" y="5494320"/>
              <a:ext cx="798480" cy="75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45"/>
          <p:cNvGrpSpPr/>
          <p:nvPr/>
        </p:nvGrpSpPr>
        <p:grpSpPr>
          <a:xfrm>
            <a:off x="7164360" y="907560"/>
            <a:ext cx="1582920" cy="1366920"/>
            <a:chOff x="7164360" y="907560"/>
            <a:chExt cx="1582920" cy="1366920"/>
          </a:xfrm>
        </p:grpSpPr>
        <p:sp>
          <p:nvSpPr>
            <p:cNvPr id="107" name="Rectangle 46"/>
            <p:cNvSpPr/>
            <p:nvPr/>
          </p:nvSpPr>
          <p:spPr>
            <a:xfrm>
              <a:off x="7284960" y="1342440"/>
              <a:ext cx="1338480" cy="9320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47"/>
            <p:cNvSpPr/>
            <p:nvPr/>
          </p:nvSpPr>
          <p:spPr>
            <a:xfrm rot="16200000">
              <a:off x="7738560" y="333360"/>
              <a:ext cx="434520" cy="1582920"/>
            </a:xfrm>
            <a:prstGeom prst="flowChartDelay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48"/>
            <p:cNvSpPr/>
            <p:nvPr/>
          </p:nvSpPr>
          <p:spPr>
            <a:xfrm>
              <a:off x="7589520" y="1467360"/>
              <a:ext cx="729360" cy="683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49"/>
          <p:cNvGrpSpPr/>
          <p:nvPr/>
        </p:nvGrpSpPr>
        <p:grpSpPr>
          <a:xfrm>
            <a:off x="7093080" y="2708280"/>
            <a:ext cx="1799640" cy="3096720"/>
            <a:chOff x="7093080" y="2708280"/>
            <a:chExt cx="1799640" cy="3096720"/>
          </a:xfrm>
        </p:grpSpPr>
        <p:sp>
          <p:nvSpPr>
            <p:cNvPr id="111" name="Rectangle 50"/>
            <p:cNvSpPr/>
            <p:nvPr/>
          </p:nvSpPr>
          <p:spPr>
            <a:xfrm>
              <a:off x="7275960" y="4857840"/>
              <a:ext cx="1342080" cy="947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51"/>
            <p:cNvSpPr/>
            <p:nvPr/>
          </p:nvSpPr>
          <p:spPr>
            <a:xfrm>
              <a:off x="7337520" y="3088440"/>
              <a:ext cx="1342440" cy="947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52"/>
            <p:cNvSpPr/>
            <p:nvPr/>
          </p:nvSpPr>
          <p:spPr>
            <a:xfrm>
              <a:off x="7093080" y="4225320"/>
              <a:ext cx="1648080" cy="63108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53"/>
            <p:cNvSpPr/>
            <p:nvPr/>
          </p:nvSpPr>
          <p:spPr>
            <a:xfrm flipV="1">
              <a:off x="7184520" y="2708280"/>
              <a:ext cx="1708200" cy="378720"/>
            </a:xfrm>
            <a:custGeom>
              <a:avLst/>
              <a:gdLst>
                <a:gd name="textAreaLeft" fmla="*/ 356400 w 1708200"/>
                <a:gd name="textAreaRight" fmla="*/ 1351800 w 1708200"/>
                <a:gd name="textAreaTop" fmla="*/ 79200 h 378720"/>
                <a:gd name="textAreaBottom" fmla="*/ 299520 h 37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54"/>
            <p:cNvSpPr/>
            <p:nvPr/>
          </p:nvSpPr>
          <p:spPr>
            <a:xfrm>
              <a:off x="7641720" y="3213720"/>
              <a:ext cx="731880" cy="6951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55"/>
            <p:cNvSpPr/>
            <p:nvPr/>
          </p:nvSpPr>
          <p:spPr>
            <a:xfrm>
              <a:off x="7581240" y="4983120"/>
              <a:ext cx="731520" cy="694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56"/>
          <p:cNvSpPr/>
          <p:nvPr/>
        </p:nvSpPr>
        <p:spPr>
          <a:xfrm>
            <a:off x="5292720" y="4726080"/>
            <a:ext cx="10652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Motion origin="layout" path="M 4.72222E-006 -4.44444E-006 L -0.25973 0.59352 E">
                                      <p:cBhvr>
                                        <p:cTn id="39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Золотая рыбка 01"/>
          <p:cNvPicPr/>
          <p:nvPr/>
        </p:nvPicPr>
        <p:blipFill>
          <a:blip r:embed="rId2"/>
          <a:srcRect l="0" t="0" r="0" b="133"/>
          <a:stretch/>
        </p:blipFill>
        <p:spPr>
          <a:xfrm>
            <a:off x="4716360" y="1052640"/>
            <a:ext cx="3546720" cy="45352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3"/>
          <p:cNvSpPr/>
          <p:nvPr/>
        </p:nvSpPr>
        <p:spPr>
          <a:xfrm>
            <a:off x="179280" y="115920"/>
            <a:ext cx="8713800" cy="2952720"/>
          </a:xfrm>
          <a:prstGeom prst="wedgeRoundRectCallout">
            <a:avLst>
              <a:gd name="adj1" fmla="val -1611"/>
              <a:gd name="adj2" fmla="val 61828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95280" y="189000"/>
            <a:ext cx="81374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Я, конечно, готова была выполнить все её желания, ведь её муж спас мне жизнь. Но, в конце концов, я поняла: чем больше человеку даёшь, тем больше ему хочется. Вот и приходится таким людям оставаться у разбитого коры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43280" y="3357720"/>
            <a:ext cx="61196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З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_  _  _  _  _ 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_  _  _ 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79280" y="5445000"/>
            <a:ext cx="662472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А.С. Пушки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Сказка о золотой рыбке»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915080" y="3213000"/>
            <a:ext cx="7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250920" y="189000"/>
            <a:ext cx="8713800" cy="115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Какие слова задумала рыбка</a:t>
            </a: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250920" y="2135160"/>
            <a:ext cx="3398760" cy="1218600"/>
            <a:chOff x="250920" y="2135160"/>
            <a:chExt cx="3398760" cy="1218600"/>
          </a:xfrm>
        </p:grpSpPr>
        <p:grpSp>
          <p:nvGrpSpPr>
            <p:cNvPr id="126" name="Group 4"/>
            <p:cNvGrpSpPr/>
            <p:nvPr/>
          </p:nvGrpSpPr>
          <p:grpSpPr>
            <a:xfrm>
              <a:off x="250920" y="2262240"/>
              <a:ext cx="1616400" cy="1091520"/>
              <a:chOff x="250920" y="2262240"/>
              <a:chExt cx="1616400" cy="1091520"/>
            </a:xfrm>
          </p:grpSpPr>
          <p:sp>
            <p:nvSpPr>
              <p:cNvPr id="127" name="AutoShape 5"/>
              <p:cNvSpPr/>
              <p:nvPr/>
            </p:nvSpPr>
            <p:spPr>
              <a:xfrm flipV="1" rot="1122000">
                <a:off x="1040400" y="2777400"/>
                <a:ext cx="772920" cy="464400"/>
              </a:xfrm>
              <a:prstGeom prst="flowChartPunchedTap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6"/>
              <p:cNvSpPr/>
              <p:nvPr/>
            </p:nvSpPr>
            <p:spPr>
              <a:xfrm flipV="1" rot="364200">
                <a:off x="1006560" y="2677680"/>
                <a:ext cx="773280" cy="465120"/>
              </a:xfrm>
              <a:prstGeom prst="flowChartPunchedTap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AutoShape 7"/>
              <p:cNvSpPr/>
              <p:nvPr/>
            </p:nvSpPr>
            <p:spPr>
              <a:xfrm rot="20771400">
                <a:off x="1074240" y="2479320"/>
                <a:ext cx="705600" cy="390960"/>
              </a:xfrm>
              <a:prstGeom prst="flowChartPunchedTap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AutoShape 8"/>
              <p:cNvSpPr/>
              <p:nvPr/>
            </p:nvSpPr>
            <p:spPr>
              <a:xfrm flipV="1" rot="20482200">
                <a:off x="906480" y="3075480"/>
                <a:ext cx="150840" cy="159120"/>
              </a:xfrm>
              <a:prstGeom prst="flowChartManualInpu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utoShape 9"/>
              <p:cNvSpPr/>
              <p:nvPr/>
            </p:nvSpPr>
            <p:spPr>
              <a:xfrm>
                <a:off x="586800" y="2400120"/>
                <a:ext cx="302040" cy="158760"/>
              </a:xfrm>
              <a:prstGeom prst="flowChartManualInpu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AutoShape 10"/>
              <p:cNvSpPr/>
              <p:nvPr/>
            </p:nvSpPr>
            <p:spPr>
              <a:xfrm flipV="1">
                <a:off x="485640" y="3075480"/>
                <a:ext cx="335880" cy="198360"/>
              </a:xfrm>
              <a:prstGeom prst="flowChartManualInpu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1"/>
              <p:cNvSpPr/>
              <p:nvPr/>
            </p:nvSpPr>
            <p:spPr>
              <a:xfrm rot="19844400">
                <a:off x="996840" y="2409480"/>
                <a:ext cx="705960" cy="390240"/>
              </a:xfrm>
              <a:prstGeom prst="flowChartPunchedTap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12"/>
              <p:cNvSpPr/>
              <p:nvPr/>
            </p:nvSpPr>
            <p:spPr>
              <a:xfrm>
                <a:off x="250920" y="2495880"/>
                <a:ext cx="957240" cy="654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13"/>
              <p:cNvSpPr/>
              <p:nvPr/>
            </p:nvSpPr>
            <p:spPr>
              <a:xfrm>
                <a:off x="385560" y="2618640"/>
                <a:ext cx="167400" cy="179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14"/>
              <p:cNvSpPr/>
              <p:nvPr/>
            </p:nvSpPr>
            <p:spPr>
              <a:xfrm>
                <a:off x="452160" y="2639160"/>
                <a:ext cx="100800" cy="13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AutoShape 15"/>
              <p:cNvSpPr/>
              <p:nvPr/>
            </p:nvSpPr>
            <p:spPr>
              <a:xfrm>
                <a:off x="424080" y="2523960"/>
                <a:ext cx="16920" cy="9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AutoShape 16"/>
              <p:cNvSpPr/>
              <p:nvPr/>
            </p:nvSpPr>
            <p:spPr>
              <a:xfrm>
                <a:off x="478080" y="2523960"/>
                <a:ext cx="16200" cy="9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AutoShape 17"/>
              <p:cNvSpPr/>
              <p:nvPr/>
            </p:nvSpPr>
            <p:spPr>
              <a:xfrm>
                <a:off x="491400" y="27842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AutoShape 18"/>
              <p:cNvSpPr/>
              <p:nvPr/>
            </p:nvSpPr>
            <p:spPr>
              <a:xfrm>
                <a:off x="452160" y="2519640"/>
                <a:ext cx="16920" cy="9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19"/>
              <p:cNvSpPr/>
              <p:nvPr/>
            </p:nvSpPr>
            <p:spPr>
              <a:xfrm flipH="1" rot="5451600">
                <a:off x="309960" y="2909160"/>
                <a:ext cx="99000" cy="151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AutoShape 20"/>
              <p:cNvSpPr/>
              <p:nvPr/>
            </p:nvSpPr>
            <p:spPr>
              <a:xfrm>
                <a:off x="451440" y="2798280"/>
                <a:ext cx="13320" cy="43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21"/>
              <p:cNvSpPr/>
              <p:nvPr/>
            </p:nvSpPr>
            <p:spPr>
              <a:xfrm>
                <a:off x="504720" y="2523960"/>
                <a:ext cx="13320" cy="113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AutoShape 22"/>
              <p:cNvSpPr/>
              <p:nvPr/>
            </p:nvSpPr>
            <p:spPr>
              <a:xfrm>
                <a:off x="518040" y="2755440"/>
                <a:ext cx="13320" cy="72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Text Box 23"/>
            <p:cNvSpPr/>
            <p:nvPr/>
          </p:nvSpPr>
          <p:spPr>
            <a:xfrm>
              <a:off x="1792440" y="2135160"/>
              <a:ext cx="185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cc"/>
                  </a:solidFill>
                  <a:latin typeface="Arial"/>
                </a:rPr>
                <a:t>ёш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24"/>
          <p:cNvGrpSpPr/>
          <p:nvPr/>
        </p:nvGrpSpPr>
        <p:grpSpPr>
          <a:xfrm>
            <a:off x="900000" y="4726080"/>
            <a:ext cx="3435120" cy="1158480"/>
            <a:chOff x="900000" y="4726080"/>
            <a:chExt cx="3435120" cy="1158480"/>
          </a:xfrm>
        </p:grpSpPr>
        <p:grpSp>
          <p:nvGrpSpPr>
            <p:cNvPr id="147" name="Group 25"/>
            <p:cNvGrpSpPr/>
            <p:nvPr/>
          </p:nvGrpSpPr>
          <p:grpSpPr>
            <a:xfrm>
              <a:off x="900000" y="4830840"/>
              <a:ext cx="1679040" cy="1053720"/>
              <a:chOff x="900000" y="4830840"/>
              <a:chExt cx="1679040" cy="1053720"/>
            </a:xfrm>
          </p:grpSpPr>
          <p:sp>
            <p:nvSpPr>
              <p:cNvPr id="148" name="AutoShape 26"/>
              <p:cNvSpPr/>
              <p:nvPr/>
            </p:nvSpPr>
            <p:spPr>
              <a:xfrm flipV="1" rot="1122000">
                <a:off x="1723680" y="5331960"/>
                <a:ext cx="806760" cy="434880"/>
              </a:xfrm>
              <a:prstGeom prst="flowChartPunchedTap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AutoShape 27"/>
              <p:cNvSpPr/>
              <p:nvPr/>
            </p:nvSpPr>
            <p:spPr>
              <a:xfrm flipV="1" rot="364200">
                <a:off x="1688400" y="5237640"/>
                <a:ext cx="806760" cy="435240"/>
              </a:xfrm>
              <a:prstGeom prst="flowChartPunchedTap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AutoShape 28"/>
              <p:cNvSpPr/>
              <p:nvPr/>
            </p:nvSpPr>
            <p:spPr>
              <a:xfrm rot="20771400">
                <a:off x="1758960" y="5052600"/>
                <a:ext cx="736560" cy="365760"/>
              </a:xfrm>
              <a:prstGeom prst="flowChartPunchedTap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29"/>
              <p:cNvSpPr/>
              <p:nvPr/>
            </p:nvSpPr>
            <p:spPr>
              <a:xfrm flipV="1" rot="20482200">
                <a:off x="1583640" y="5610600"/>
                <a:ext cx="157680" cy="148680"/>
              </a:xfrm>
              <a:prstGeom prst="flowChartManualInpu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AutoShape 30"/>
              <p:cNvSpPr/>
              <p:nvPr/>
            </p:nvSpPr>
            <p:spPr>
              <a:xfrm>
                <a:off x="1250640" y="4978440"/>
                <a:ext cx="315360" cy="148680"/>
              </a:xfrm>
              <a:prstGeom prst="flowChartManualInpu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AutoShape 31"/>
              <p:cNvSpPr/>
              <p:nvPr/>
            </p:nvSpPr>
            <p:spPr>
              <a:xfrm flipV="1">
                <a:off x="1145160" y="5611320"/>
                <a:ext cx="350640" cy="185760"/>
              </a:xfrm>
              <a:prstGeom prst="flowChartManualInpu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AutoShape 32"/>
              <p:cNvSpPr/>
              <p:nvPr/>
            </p:nvSpPr>
            <p:spPr>
              <a:xfrm rot="19844400">
                <a:off x="1679040" y="4987440"/>
                <a:ext cx="736560" cy="365400"/>
              </a:xfrm>
              <a:prstGeom prst="flowChartPunchedTap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33"/>
              <p:cNvSpPr/>
              <p:nvPr/>
            </p:nvSpPr>
            <p:spPr>
              <a:xfrm>
                <a:off x="900000" y="5068080"/>
                <a:ext cx="999000" cy="613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34"/>
              <p:cNvSpPr/>
              <p:nvPr/>
            </p:nvSpPr>
            <p:spPr>
              <a:xfrm>
                <a:off x="1040400" y="5182920"/>
                <a:ext cx="174960" cy="16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35"/>
              <p:cNvSpPr/>
              <p:nvPr/>
            </p:nvSpPr>
            <p:spPr>
              <a:xfrm>
                <a:off x="1109880" y="5202360"/>
                <a:ext cx="105480" cy="130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utoShape 36"/>
              <p:cNvSpPr/>
              <p:nvPr/>
            </p:nvSpPr>
            <p:spPr>
              <a:xfrm>
                <a:off x="1080720" y="5094360"/>
                <a:ext cx="17640" cy="92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utoShape 37"/>
              <p:cNvSpPr/>
              <p:nvPr/>
            </p:nvSpPr>
            <p:spPr>
              <a:xfrm>
                <a:off x="1136880" y="5094360"/>
                <a:ext cx="16920" cy="92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utoShape 38"/>
              <p:cNvSpPr/>
              <p:nvPr/>
            </p:nvSpPr>
            <p:spPr>
              <a:xfrm>
                <a:off x="1150920" y="5338080"/>
                <a:ext cx="13680" cy="5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utoShape 39"/>
              <p:cNvSpPr/>
              <p:nvPr/>
            </p:nvSpPr>
            <p:spPr>
              <a:xfrm>
                <a:off x="1109880" y="5090040"/>
                <a:ext cx="17640" cy="92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utoShape 40"/>
              <p:cNvSpPr/>
              <p:nvPr/>
            </p:nvSpPr>
            <p:spPr>
              <a:xfrm flipH="1" rot="5451600">
                <a:off x="966600" y="5447160"/>
                <a:ext cx="92880" cy="15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41"/>
              <p:cNvSpPr/>
              <p:nvPr/>
            </p:nvSpPr>
            <p:spPr>
              <a:xfrm>
                <a:off x="1109160" y="5351040"/>
                <a:ext cx="13680" cy="40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utoShape 42"/>
              <p:cNvSpPr/>
              <p:nvPr/>
            </p:nvSpPr>
            <p:spPr>
              <a:xfrm>
                <a:off x="1164600" y="5094360"/>
                <a:ext cx="13680" cy="10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utoShape 43"/>
              <p:cNvSpPr/>
              <p:nvPr/>
            </p:nvSpPr>
            <p:spPr>
              <a:xfrm>
                <a:off x="1178640" y="5311080"/>
                <a:ext cx="13680" cy="67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Text Box 44"/>
            <p:cNvSpPr/>
            <p:nvPr/>
          </p:nvSpPr>
          <p:spPr>
            <a:xfrm>
              <a:off x="2458080" y="4726080"/>
              <a:ext cx="1877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cc"/>
                  </a:solidFill>
                  <a:latin typeface="Arial"/>
                </a:rPr>
                <a:t>олов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45"/>
          <p:cNvGrpSpPr/>
          <p:nvPr/>
        </p:nvGrpSpPr>
        <p:grpSpPr>
          <a:xfrm>
            <a:off x="3635280" y="3502080"/>
            <a:ext cx="3083760" cy="1066320"/>
            <a:chOff x="3635280" y="3502080"/>
            <a:chExt cx="3083760" cy="1066320"/>
          </a:xfrm>
        </p:grpSpPr>
        <p:grpSp>
          <p:nvGrpSpPr>
            <p:cNvPr id="168" name="Group 46"/>
            <p:cNvGrpSpPr/>
            <p:nvPr/>
          </p:nvGrpSpPr>
          <p:grpSpPr>
            <a:xfrm>
              <a:off x="3635280" y="3517920"/>
              <a:ext cx="1662480" cy="1050480"/>
              <a:chOff x="3635280" y="3517920"/>
              <a:chExt cx="1662480" cy="1050480"/>
            </a:xfrm>
          </p:grpSpPr>
          <p:sp>
            <p:nvSpPr>
              <p:cNvPr id="169" name="AutoShape 47"/>
              <p:cNvSpPr/>
              <p:nvPr/>
            </p:nvSpPr>
            <p:spPr>
              <a:xfrm flipV="1" rot="1122000">
                <a:off x="4450680" y="4016520"/>
                <a:ext cx="798480" cy="434880"/>
              </a:xfrm>
              <a:prstGeom prst="flowChartPunchedTap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AutoShape 48"/>
              <p:cNvSpPr/>
              <p:nvPr/>
            </p:nvSpPr>
            <p:spPr>
              <a:xfrm flipV="1" rot="364200">
                <a:off x="4415760" y="3923280"/>
                <a:ext cx="798840" cy="435600"/>
              </a:xfrm>
              <a:prstGeom prst="flowChartPunchedTap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49"/>
              <p:cNvSpPr/>
              <p:nvPr/>
            </p:nvSpPr>
            <p:spPr>
              <a:xfrm rot="20771400">
                <a:off x="4485240" y="3737880"/>
                <a:ext cx="729000" cy="365760"/>
              </a:xfrm>
              <a:prstGeom prst="flowChartPunchedTap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AutoShape 50"/>
              <p:cNvSpPr/>
              <p:nvPr/>
            </p:nvSpPr>
            <p:spPr>
              <a:xfrm flipV="1" rot="20482200">
                <a:off x="4312080" y="4296960"/>
                <a:ext cx="155880" cy="149040"/>
              </a:xfrm>
              <a:prstGeom prst="flowChartManualInpu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AutoShape 51"/>
              <p:cNvSpPr/>
              <p:nvPr/>
            </p:nvSpPr>
            <p:spPr>
              <a:xfrm>
                <a:off x="3982320" y="3664080"/>
                <a:ext cx="312120" cy="148680"/>
              </a:xfrm>
              <a:prstGeom prst="flowChartManualInpu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utoShape 52"/>
              <p:cNvSpPr/>
              <p:nvPr/>
            </p:nvSpPr>
            <p:spPr>
              <a:xfrm flipV="1">
                <a:off x="3877920" y="4296960"/>
                <a:ext cx="347040" cy="185760"/>
              </a:xfrm>
              <a:prstGeom prst="flowChartManualInpu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utoShape 53"/>
              <p:cNvSpPr/>
              <p:nvPr/>
            </p:nvSpPr>
            <p:spPr>
              <a:xfrm rot="19844400">
                <a:off x="4406040" y="3672720"/>
                <a:ext cx="729000" cy="365400"/>
              </a:xfrm>
              <a:prstGeom prst="flowChartPunchedTap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54"/>
              <p:cNvSpPr/>
              <p:nvPr/>
            </p:nvSpPr>
            <p:spPr>
              <a:xfrm>
                <a:off x="3635280" y="3753720"/>
                <a:ext cx="988920" cy="613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55"/>
              <p:cNvSpPr/>
              <p:nvPr/>
            </p:nvSpPr>
            <p:spPr>
              <a:xfrm>
                <a:off x="3774240" y="3868560"/>
                <a:ext cx="173160" cy="16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56"/>
              <p:cNvSpPr/>
              <p:nvPr/>
            </p:nvSpPr>
            <p:spPr>
              <a:xfrm>
                <a:off x="3843000" y="3888000"/>
                <a:ext cx="104400" cy="130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AutoShape 57"/>
              <p:cNvSpPr/>
              <p:nvPr/>
            </p:nvSpPr>
            <p:spPr>
              <a:xfrm>
                <a:off x="3814200" y="3780000"/>
                <a:ext cx="17640" cy="92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58"/>
              <p:cNvSpPr/>
              <p:nvPr/>
            </p:nvSpPr>
            <p:spPr>
              <a:xfrm>
                <a:off x="3870000" y="3780000"/>
                <a:ext cx="16560" cy="92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AutoShape 59"/>
              <p:cNvSpPr/>
              <p:nvPr/>
            </p:nvSpPr>
            <p:spPr>
              <a:xfrm>
                <a:off x="3883680" y="4023720"/>
                <a:ext cx="13680" cy="5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AutoShape 60"/>
              <p:cNvSpPr/>
              <p:nvPr/>
            </p:nvSpPr>
            <p:spPr>
              <a:xfrm>
                <a:off x="3843000" y="3775680"/>
                <a:ext cx="17640" cy="92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AutoShape 61"/>
              <p:cNvSpPr/>
              <p:nvPr/>
            </p:nvSpPr>
            <p:spPr>
              <a:xfrm flipH="1" rot="5451600">
                <a:off x="3700800" y="4133520"/>
                <a:ext cx="92880" cy="15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AutoShape 62"/>
              <p:cNvSpPr/>
              <p:nvPr/>
            </p:nvSpPr>
            <p:spPr>
              <a:xfrm>
                <a:off x="3842280" y="4036680"/>
                <a:ext cx="13680" cy="40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63"/>
              <p:cNvSpPr/>
              <p:nvPr/>
            </p:nvSpPr>
            <p:spPr>
              <a:xfrm>
                <a:off x="3897360" y="3780000"/>
                <a:ext cx="13680" cy="10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AutoShape 64"/>
              <p:cNvSpPr/>
              <p:nvPr/>
            </p:nvSpPr>
            <p:spPr>
              <a:xfrm>
                <a:off x="3911040" y="3996720"/>
                <a:ext cx="13680" cy="67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Text Box 65"/>
            <p:cNvSpPr/>
            <p:nvPr/>
          </p:nvSpPr>
          <p:spPr>
            <a:xfrm>
              <a:off x="5342040" y="3502080"/>
              <a:ext cx="1377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cc"/>
                  </a:solidFill>
                  <a:latin typeface="Arial"/>
                </a:rPr>
                <a:t>ная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66"/>
          <p:cNvGrpSpPr/>
          <p:nvPr/>
        </p:nvGrpSpPr>
        <p:grpSpPr>
          <a:xfrm>
            <a:off x="5580000" y="1844640"/>
            <a:ext cx="3227760" cy="1121400"/>
            <a:chOff x="5580000" y="1844640"/>
            <a:chExt cx="3227760" cy="1121400"/>
          </a:xfrm>
        </p:grpSpPr>
        <p:grpSp>
          <p:nvGrpSpPr>
            <p:cNvPr id="189" name="Group 67"/>
            <p:cNvGrpSpPr/>
            <p:nvPr/>
          </p:nvGrpSpPr>
          <p:grpSpPr>
            <a:xfrm>
              <a:off x="5580000" y="1875960"/>
              <a:ext cx="1599480" cy="1090080"/>
              <a:chOff x="5580000" y="1875960"/>
              <a:chExt cx="1599480" cy="1090080"/>
            </a:xfrm>
          </p:grpSpPr>
          <p:sp>
            <p:nvSpPr>
              <p:cNvPr id="190" name="AutoShape 68"/>
              <p:cNvSpPr/>
              <p:nvPr/>
            </p:nvSpPr>
            <p:spPr>
              <a:xfrm flipV="1" rot="1122000">
                <a:off x="6360480" y="2389320"/>
                <a:ext cx="764280" cy="465840"/>
              </a:xfrm>
              <a:prstGeom prst="flowChartPunchedTap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69"/>
              <p:cNvSpPr/>
              <p:nvPr/>
            </p:nvSpPr>
            <p:spPr>
              <a:xfrm flipV="1" rot="364200">
                <a:off x="6326640" y="2290320"/>
                <a:ext cx="764280" cy="466200"/>
              </a:xfrm>
              <a:prstGeom prst="flowChartPunchedTap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70"/>
              <p:cNvSpPr/>
              <p:nvPr/>
            </p:nvSpPr>
            <p:spPr>
              <a:xfrm rot="20771400">
                <a:off x="6393600" y="2090880"/>
                <a:ext cx="697680" cy="392040"/>
              </a:xfrm>
              <a:prstGeom prst="flowChartPunchedTap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utoShape 71"/>
              <p:cNvSpPr/>
              <p:nvPr/>
            </p:nvSpPr>
            <p:spPr>
              <a:xfrm flipV="1" rot="20482200">
                <a:off x="6227640" y="2689200"/>
                <a:ext cx="149400" cy="159120"/>
              </a:xfrm>
              <a:prstGeom prst="flowChartManualInpu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AutoShape 72"/>
              <p:cNvSpPr/>
              <p:nvPr/>
            </p:nvSpPr>
            <p:spPr>
              <a:xfrm>
                <a:off x="5911920" y="2011680"/>
                <a:ext cx="298800" cy="159120"/>
              </a:xfrm>
              <a:prstGeom prst="flowChartManualInpu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73"/>
              <p:cNvSpPr/>
              <p:nvPr/>
            </p:nvSpPr>
            <p:spPr>
              <a:xfrm flipV="1">
                <a:off x="5812200" y="2689560"/>
                <a:ext cx="331920" cy="198720"/>
              </a:xfrm>
              <a:prstGeom prst="flowChartManualInpu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74"/>
              <p:cNvSpPr/>
              <p:nvPr/>
            </p:nvSpPr>
            <p:spPr>
              <a:xfrm rot="19844400">
                <a:off x="6317640" y="2021400"/>
                <a:ext cx="697680" cy="391320"/>
              </a:xfrm>
              <a:prstGeom prst="flowChartPunchedTap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75"/>
              <p:cNvSpPr/>
              <p:nvPr/>
            </p:nvSpPr>
            <p:spPr>
              <a:xfrm>
                <a:off x="5580000" y="2107800"/>
                <a:ext cx="946080" cy="657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76"/>
              <p:cNvSpPr/>
              <p:nvPr/>
            </p:nvSpPr>
            <p:spPr>
              <a:xfrm>
                <a:off x="5712840" y="2230920"/>
                <a:ext cx="165600" cy="179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77"/>
              <p:cNvSpPr/>
              <p:nvPr/>
            </p:nvSpPr>
            <p:spPr>
              <a:xfrm>
                <a:off x="5778720" y="2251440"/>
                <a:ext cx="99720" cy="139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utoShape 78"/>
              <p:cNvSpPr/>
              <p:nvPr/>
            </p:nvSpPr>
            <p:spPr>
              <a:xfrm>
                <a:off x="5751000" y="2135880"/>
                <a:ext cx="16920" cy="9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utoShape 79"/>
              <p:cNvSpPr/>
              <p:nvPr/>
            </p:nvSpPr>
            <p:spPr>
              <a:xfrm>
                <a:off x="5804280" y="21358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utoShape 80"/>
              <p:cNvSpPr/>
              <p:nvPr/>
            </p:nvSpPr>
            <p:spPr>
              <a:xfrm>
                <a:off x="5817600" y="2396880"/>
                <a:ext cx="12960" cy="57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utoShape 81"/>
              <p:cNvSpPr/>
              <p:nvPr/>
            </p:nvSpPr>
            <p:spPr>
              <a:xfrm>
                <a:off x="5778720" y="2131200"/>
                <a:ext cx="16920" cy="9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AutoShape 82"/>
              <p:cNvSpPr/>
              <p:nvPr/>
            </p:nvSpPr>
            <p:spPr>
              <a:xfrm flipH="1" rot="5451600">
                <a:off x="5636880" y="2523600"/>
                <a:ext cx="99360" cy="150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AutoShape 83"/>
              <p:cNvSpPr/>
              <p:nvPr/>
            </p:nvSpPr>
            <p:spPr>
              <a:xfrm>
                <a:off x="5778000" y="2410920"/>
                <a:ext cx="12960" cy="43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utoShape 84"/>
              <p:cNvSpPr/>
              <p:nvPr/>
            </p:nvSpPr>
            <p:spPr>
              <a:xfrm>
                <a:off x="5830920" y="2135880"/>
                <a:ext cx="12960" cy="113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AutoShape 85"/>
              <p:cNvSpPr/>
              <p:nvPr/>
            </p:nvSpPr>
            <p:spPr>
              <a:xfrm>
                <a:off x="5843880" y="2368080"/>
                <a:ext cx="12960" cy="72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Text Box 86"/>
            <p:cNvSpPr/>
            <p:nvPr/>
          </p:nvSpPr>
          <p:spPr>
            <a:xfrm>
              <a:off x="7086240" y="1844640"/>
              <a:ext cx="1721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cc"/>
                  </a:solidFill>
                  <a:latin typeface="Arial"/>
                </a:rPr>
                <a:t>ал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87"/>
          <p:cNvGrpSpPr/>
          <p:nvPr/>
        </p:nvGrpSpPr>
        <p:grpSpPr>
          <a:xfrm>
            <a:off x="4718160" y="5300640"/>
            <a:ext cx="3846240" cy="1088280"/>
            <a:chOff x="4718160" y="5300640"/>
            <a:chExt cx="3846240" cy="1088280"/>
          </a:xfrm>
        </p:grpSpPr>
        <p:grpSp>
          <p:nvGrpSpPr>
            <p:cNvPr id="210" name="Group 88"/>
            <p:cNvGrpSpPr/>
            <p:nvPr/>
          </p:nvGrpSpPr>
          <p:grpSpPr>
            <a:xfrm>
              <a:off x="6048000" y="5401080"/>
              <a:ext cx="1587600" cy="987840"/>
              <a:chOff x="6048000" y="5401080"/>
              <a:chExt cx="1587600" cy="987840"/>
            </a:xfrm>
          </p:grpSpPr>
          <p:sp>
            <p:nvSpPr>
              <p:cNvPr id="211" name="AutoShape 89"/>
              <p:cNvSpPr/>
              <p:nvPr/>
            </p:nvSpPr>
            <p:spPr>
              <a:xfrm flipV="1" rot="1122000">
                <a:off x="6827040" y="5871240"/>
                <a:ext cx="763200" cy="405720"/>
              </a:xfrm>
              <a:prstGeom prst="flowChartPunchedTap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utoShape 90"/>
              <p:cNvSpPr/>
              <p:nvPr/>
            </p:nvSpPr>
            <p:spPr>
              <a:xfrm flipV="1" rot="364200">
                <a:off x="6793920" y="5783760"/>
                <a:ext cx="763560" cy="405720"/>
              </a:xfrm>
              <a:prstGeom prst="flowChartPunchedTap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AutoShape 91"/>
              <p:cNvSpPr/>
              <p:nvPr/>
            </p:nvSpPr>
            <p:spPr>
              <a:xfrm rot="20771400">
                <a:off x="6860880" y="5610600"/>
                <a:ext cx="696600" cy="341280"/>
              </a:xfrm>
              <a:prstGeom prst="flowChartPunchedTap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AutoShape 92"/>
              <p:cNvSpPr/>
              <p:nvPr/>
            </p:nvSpPr>
            <p:spPr>
              <a:xfrm flipV="1" rot="20482200">
                <a:off x="6695280" y="6131520"/>
                <a:ext cx="149040" cy="138960"/>
              </a:xfrm>
              <a:prstGeom prst="flowChartManualInpu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AutoShape 93"/>
              <p:cNvSpPr/>
              <p:nvPr/>
            </p:nvSpPr>
            <p:spPr>
              <a:xfrm>
                <a:off x="6379560" y="5541480"/>
                <a:ext cx="298440" cy="138600"/>
              </a:xfrm>
              <a:prstGeom prst="flowChartManualInpu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AutoShape 94"/>
              <p:cNvSpPr/>
              <p:nvPr/>
            </p:nvSpPr>
            <p:spPr>
              <a:xfrm flipV="1">
                <a:off x="6279840" y="6131160"/>
                <a:ext cx="331560" cy="173160"/>
              </a:xfrm>
              <a:prstGeom prst="flowChartManualInpu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AutoShape 95"/>
              <p:cNvSpPr/>
              <p:nvPr/>
            </p:nvSpPr>
            <p:spPr>
              <a:xfrm rot="19844400">
                <a:off x="6784560" y="5549400"/>
                <a:ext cx="696960" cy="340560"/>
              </a:xfrm>
              <a:prstGeom prst="flowChartPunchedTap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96"/>
              <p:cNvSpPr/>
              <p:nvPr/>
            </p:nvSpPr>
            <p:spPr>
              <a:xfrm>
                <a:off x="6048000" y="5625000"/>
                <a:ext cx="945000" cy="572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97"/>
              <p:cNvSpPr/>
              <p:nvPr/>
            </p:nvSpPr>
            <p:spPr>
              <a:xfrm>
                <a:off x="6180840" y="5732280"/>
                <a:ext cx="165240" cy="156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98"/>
              <p:cNvSpPr/>
              <p:nvPr/>
            </p:nvSpPr>
            <p:spPr>
              <a:xfrm>
                <a:off x="6246720" y="5750280"/>
                <a:ext cx="99720" cy="121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AutoShape 99"/>
              <p:cNvSpPr/>
              <p:nvPr/>
            </p:nvSpPr>
            <p:spPr>
              <a:xfrm>
                <a:off x="6219000" y="5649840"/>
                <a:ext cx="16920" cy="8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AutoShape 100"/>
              <p:cNvSpPr/>
              <p:nvPr/>
            </p:nvSpPr>
            <p:spPr>
              <a:xfrm>
                <a:off x="6272280" y="5649840"/>
                <a:ext cx="15840" cy="8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AutoShape 101"/>
              <p:cNvSpPr/>
              <p:nvPr/>
            </p:nvSpPr>
            <p:spPr>
              <a:xfrm>
                <a:off x="6285240" y="5877000"/>
                <a:ext cx="12960" cy="49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AutoShape 102"/>
              <p:cNvSpPr/>
              <p:nvPr/>
            </p:nvSpPr>
            <p:spPr>
              <a:xfrm>
                <a:off x="6246720" y="5645520"/>
                <a:ext cx="16920" cy="8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utoShape 103"/>
              <p:cNvSpPr/>
              <p:nvPr/>
            </p:nvSpPr>
            <p:spPr>
              <a:xfrm flipH="1" rot="5451600">
                <a:off x="6111360" y="5977440"/>
                <a:ext cx="86400" cy="150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AutoShape 104"/>
              <p:cNvSpPr/>
              <p:nvPr/>
            </p:nvSpPr>
            <p:spPr>
              <a:xfrm>
                <a:off x="6246000" y="5888880"/>
                <a:ext cx="12960" cy="37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AutoShape 105"/>
              <p:cNvSpPr/>
              <p:nvPr/>
            </p:nvSpPr>
            <p:spPr>
              <a:xfrm>
                <a:off x="6298560" y="5649840"/>
                <a:ext cx="12960" cy="9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utoShape 106"/>
              <p:cNvSpPr/>
              <p:nvPr/>
            </p:nvSpPr>
            <p:spPr>
              <a:xfrm>
                <a:off x="6311520" y="5851800"/>
                <a:ext cx="12960" cy="63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Text Box 107"/>
            <p:cNvSpPr/>
            <p:nvPr/>
          </p:nvSpPr>
          <p:spPr>
            <a:xfrm>
              <a:off x="7580520" y="5300640"/>
              <a:ext cx="983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cc"/>
                  </a:solidFill>
                  <a:latin typeface="Arial"/>
                </a:rPr>
                <a:t>ье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08"/>
            <p:cNvSpPr/>
            <p:nvPr/>
          </p:nvSpPr>
          <p:spPr>
            <a:xfrm>
              <a:off x="4718160" y="5300640"/>
              <a:ext cx="1326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cc"/>
                  </a:solidFill>
                  <a:latin typeface="Arial"/>
                </a:rPr>
                <a:t>без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6T19:59:44Z</dcterms:created>
  <dc:creator>Ильдар</dc:creator>
  <dc:description/>
  <dc:language>en-US</dc:language>
  <cp:lastModifiedBy>Ильдар</cp:lastModifiedBy>
  <dcterms:modified xsi:type="dcterms:W3CDTF">2018-06-20T11:33:31Z</dcterms:modified>
  <cp:revision>505</cp:revision>
  <dc:subject/>
  <dc:title>Путешествие в сказочную школу</dc:title>
</cp:coreProperties>
</file>