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5.gif" ContentType="image/gif"/>
  <Override PartName="/ppt/media/image18.png" ContentType="image/png"/>
  <Override PartName="/ppt/media/image28.jpeg" ContentType="image/jpeg"/>
  <Override PartName="/ppt/media/image8.png" ContentType="image/png"/>
  <Override PartName="/ppt/media/chimes.wav" ContentType="audio/x-wav"/>
  <Override PartName="/ppt/media/image16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7.wmf" ContentType="image/x-wmf"/>
  <Override PartName="/ppt/media/image9.png" ContentType="image/pn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1.wmf" ContentType="image/x-wmf"/>
  <Override PartName="/ppt/media/image13.jpeg" ContentType="image/jpeg"/>
  <Override PartName="/ppt/media/image23.png" ContentType="image/png"/>
  <Override PartName="/ppt/media/image14.png" ContentType="image/png"/>
  <Override PartName="/ppt/media/image20.png" ContentType="image/png"/>
  <Override PartName="/ppt/media/image2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A8C-3207-4400-B5DC-3E9DF550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437-AAED-442A-821E-A4B8BB82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2612-2A9C-4C5A-8FA3-1721B9B3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021-3D98-4048-B929-A8E5B677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193-85C8-4969-A4C1-9E45F70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6EC-2FEE-4B10-8F4E-75A6BC7C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16C-FE26-467B-A57F-92F3D4AE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963-5164-4D9B-AD45-E11EC590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FD6-7BBB-4B8D-802B-A172790F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71B-DA58-4B5B-AAFE-F700443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12A-D021-4C80-B491-61A035B6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732-4AD3-44FA-8E13-36D2B19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50000">
              <a:srgbClr val="ffdff7"/>
            </a:gs>
            <a:gs pos="100000">
              <a:srgbClr val="cbe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315-EC3E-40A1-99A6-767A90539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WordArt 14"/>
          <p:cNvSpPr txBox="1"/>
          <p:nvPr/>
        </p:nvSpPr>
        <p:spPr>
          <a:xfrm>
            <a:off x="1692360" y="2060640"/>
            <a:ext cx="5981760" cy="20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священие в 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РВОКЛАССНИКИ.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15" descr="6"/>
          <p:cNvPicPr/>
          <p:nvPr/>
        </p:nvPicPr>
        <p:blipFill>
          <a:blip r:embed="rId2"/>
          <a:stretch/>
        </p:blipFill>
        <p:spPr>
          <a:xfrm>
            <a:off x="755640" y="47628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12 (2)"/>
          <p:cNvPicPr/>
          <p:nvPr/>
        </p:nvPicPr>
        <p:blipFill>
          <a:blip r:embed="rId3"/>
          <a:stretch/>
        </p:blipFill>
        <p:spPr>
          <a:xfrm>
            <a:off x="3348000" y="4653000"/>
            <a:ext cx="253692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1763640" y="189000"/>
            <a:ext cx="6912000" cy="2950920"/>
          </a:xfrm>
          <a:prstGeom prst="wedgeRoundRectCallout">
            <a:avLst>
              <a:gd name="adj1" fmla="val -44439"/>
              <a:gd name="adj2" fmla="val 7920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050920" y="404640"/>
            <a:ext cx="66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Хоть дерись ты, хоть ты плач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 могу решать зада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могите, объясн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ою сказку посетите.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932360" y="3933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Untitled-2"/>
          <p:cNvPicPr/>
          <p:nvPr/>
        </p:nvPicPr>
        <p:blipFill>
          <a:blip r:embed="rId2"/>
          <a:stretch/>
        </p:blipFill>
        <p:spPr>
          <a:xfrm>
            <a:off x="611280" y="549360"/>
            <a:ext cx="4824360" cy="4268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395280" y="4365720"/>
            <a:ext cx="460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_  _  _  _  _  _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979640" y="4581360"/>
            <a:ext cx="6711840" cy="18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. Нос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"Приключения Незнай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 его друзей"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1243080" y="400536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вопрос 4"/>
          <p:cNvPicPr/>
          <p:nvPr/>
        </p:nvPicPr>
        <p:blipFill>
          <a:blip r:embed="rId2"/>
          <a:stretch/>
        </p:blipFill>
        <p:spPr>
          <a:xfrm>
            <a:off x="324000" y="404640"/>
            <a:ext cx="936360" cy="943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71640" y="33336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рышки стола 4 угла. Сколько останется углов, если 1 угол отпил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87280" y="3500280"/>
            <a:ext cx="5329440" cy="302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 flipV="1" rot="5512800">
            <a:off x="5253480" y="3179160"/>
            <a:ext cx="1228680" cy="158292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104292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14836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372360" y="4437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104292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637236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1979640" y="620640"/>
            <a:ext cx="504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48" name="Picture 12" descr="W12"/>
          <p:cNvPicPr/>
          <p:nvPr/>
        </p:nvPicPr>
        <p:blipFill>
          <a:blip r:embed="rId5"/>
          <a:stretch/>
        </p:blipFill>
        <p:spPr>
          <a:xfrm flipH="1" rot="1402200">
            <a:off x="4095360" y="3652920"/>
            <a:ext cx="4159440" cy="2004840"/>
          </a:xfrm>
          <a:prstGeom prst="rect">
            <a:avLst/>
          </a:prstGeom>
          <a:ln w="0">
            <a:noFill/>
          </a:ln>
        </p:spPr>
      </p:pic>
      <p:pic>
        <p:nvPicPr>
          <p:cNvPr id="249" name="ПИЛА3205.WAV" descr=""/>
          <p:cNvPicPr/>
          <p:nvPr/>
        </p:nvPicPr>
        <p:blipFill>
          <a:blip r:embed="rId6"/>
          <a:stretch/>
        </p:blipFill>
        <p:spPr>
          <a:xfrm>
            <a:off x="9144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15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864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Untitled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877080" y="3429000"/>
            <a:ext cx="2266920" cy="3429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484360" y="5084640"/>
            <a:ext cx="2735280" cy="1773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484360" y="1773360"/>
            <a:ext cx="2735280" cy="335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3716280"/>
            <a:ext cx="248292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0"/>
            <a:ext cx="2484360" cy="371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усская народная сказк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рочка Ряб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2484360" y="0"/>
            <a:ext cx="2735280" cy="17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6877080" y="0"/>
            <a:ext cx="226692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219640" y="0"/>
            <a:ext cx="165744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e5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79280" y="3716280"/>
            <a:ext cx="8748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Жили - были  дед и  баба,  и  была     у  них  курочка  Ряба. Вот только кроме Рябы во дворе гуляли  цыплята и  поросята. У них всех 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5 голов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14 ног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. Как это может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Untitled-8"/>
          <p:cNvPicPr/>
          <p:nvPr/>
        </p:nvPicPr>
        <p:blipFill>
          <a:blip r:embed="rId1"/>
          <a:stretch/>
        </p:blipFill>
        <p:spPr>
          <a:xfrm>
            <a:off x="4067280" y="333360"/>
            <a:ext cx="4825800" cy="32608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79280" y="0"/>
            <a:ext cx="6193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сская народная сказ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Курочка Ряба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468360" y="3716280"/>
            <a:ext cx="828036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урочка Ряба 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2 цыплёнка + 2 поросён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24000" y="692280"/>
            <a:ext cx="8497800" cy="2853720"/>
            <a:chOff x="324000" y="692280"/>
            <a:chExt cx="8497800" cy="2853720"/>
          </a:xfrm>
        </p:grpSpPr>
        <p:pic>
          <p:nvPicPr>
            <p:cNvPr id="265" name="Picture 7" descr="КУРИЦА"/>
            <p:cNvPicPr/>
            <p:nvPr/>
          </p:nvPicPr>
          <p:blipFill>
            <a:blip r:embed="rId2"/>
            <a:srcRect l="0" t="0" r="17" b="0"/>
            <a:stretch/>
          </p:blipFill>
          <p:spPr>
            <a:xfrm>
              <a:off x="324000" y="692280"/>
              <a:ext cx="216828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ЦЫПЛЯТА"/>
            <p:cNvPicPr/>
            <p:nvPr/>
          </p:nvPicPr>
          <p:blipFill>
            <a:blip r:embed="rId3"/>
            <a:srcRect l="0" t="0" r="22" b="0"/>
            <a:stretch/>
          </p:blipFill>
          <p:spPr>
            <a:xfrm>
              <a:off x="2700360" y="1197000"/>
              <a:ext cx="16416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ПОРОСЯТА"/>
            <p:cNvPicPr/>
            <p:nvPr/>
          </p:nvPicPr>
          <p:blipFill>
            <a:blip r:embed="rId4"/>
            <a:srcRect l="0" t="0" r="24" b="20"/>
            <a:stretch/>
          </p:blipFill>
          <p:spPr>
            <a:xfrm flipH="1">
              <a:off x="4787640" y="1052280"/>
              <a:ext cx="1733400" cy="22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" descr="ПОРОСЯТА"/>
            <p:cNvPicPr/>
            <p:nvPr/>
          </p:nvPicPr>
          <p:blipFill>
            <a:blip r:embed="rId5"/>
            <a:srcRect l="0" t="0" r="24" b="20"/>
            <a:stretch/>
          </p:blipFill>
          <p:spPr>
            <a:xfrm>
              <a:off x="6877080" y="1052280"/>
              <a:ext cx="1944720" cy="227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5.wma" descr=""/>
          <p:cNvPicPr/>
          <p:nvPr/>
        </p:nvPicPr>
        <p:blipFill>
          <a:blip r:embed="rId6"/>
          <a:stretch/>
        </p:blipFill>
        <p:spPr>
          <a:xfrm>
            <a:off x="9325080" y="731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1116000" y="189000"/>
            <a:ext cx="6912000" cy="2592360"/>
          </a:xfrm>
          <a:prstGeom prst="wedgeRoundRectCallout">
            <a:avLst>
              <a:gd name="adj1" fmla="val 1675"/>
              <a:gd name="adj2" fmla="val 729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Буратино 02"/>
          <p:cNvPicPr/>
          <p:nvPr/>
        </p:nvPicPr>
        <p:blipFill>
          <a:blip r:embed="rId1"/>
          <a:stretch/>
        </p:blipFill>
        <p:spPr>
          <a:xfrm>
            <a:off x="5724360" y="1052640"/>
            <a:ext cx="2883240" cy="4176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332000" y="475200"/>
            <a:ext cx="627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Это что за очень странный 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Человечек деревянный? 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а земле и под водой 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Ищет ключик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468360" y="3500280"/>
            <a:ext cx="4176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Б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 _  _ _  _  _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50920" y="4941720"/>
            <a:ext cx="619272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.Н. Толс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Сказка о золотом ключике, или приключения Буратино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475440" y="335772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Бу-ра-ти-но!, фрагмент.mp3" descr=""/>
          <p:cNvPicPr/>
          <p:nvPr/>
        </p:nvPicPr>
        <p:blipFill>
          <a:blip r:embed="rId2"/>
          <a:stretch/>
        </p:blipFill>
        <p:spPr>
          <a:xfrm>
            <a:off x="982836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338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4"/>
            <p:cNvGrpSpPr/>
            <p:nvPr/>
          </p:nvGrpSpPr>
          <p:grpSpPr>
            <a:xfrm>
              <a:off x="1704240" y="352440"/>
              <a:ext cx="5359680" cy="5964120"/>
              <a:chOff x="1704240" y="352440"/>
              <a:chExt cx="5359680" cy="5964120"/>
            </a:xfrm>
          </p:grpSpPr>
          <p:sp>
            <p:nvSpPr>
              <p:cNvPr id="280" name="AutoShape 5"/>
              <p:cNvSpPr/>
              <p:nvPr/>
            </p:nvSpPr>
            <p:spPr>
              <a:xfrm rot="3102600">
                <a:off x="2610720" y="637920"/>
                <a:ext cx="1943640" cy="250884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2508840"/>
                  <a:gd name="textAreaBottom" fmla="*/ 896400 h 250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6"/>
              <p:cNvSpPr/>
              <p:nvPr/>
            </p:nvSpPr>
            <p:spPr>
              <a:xfrm rot="13902600">
                <a:off x="2318760" y="867600"/>
                <a:ext cx="1943640" cy="250884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2508840"/>
                  <a:gd name="textAreaBottom" fmla="*/ 896400 h 250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7"/>
              <p:cNvSpPr/>
              <p:nvPr/>
            </p:nvSpPr>
            <p:spPr>
              <a:xfrm rot="3102600">
                <a:off x="1406160" y="3216600"/>
                <a:ext cx="6335640" cy="464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8"/>
              <p:cNvSpPr/>
              <p:nvPr/>
            </p:nvSpPr>
            <p:spPr>
              <a:xfrm rot="19302600">
                <a:off x="4544280" y="4311720"/>
                <a:ext cx="2323080" cy="143964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4" name="Picture 9" descr="QG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сканирование0002"/>
          <p:cNvPicPr/>
          <p:nvPr/>
        </p:nvPicPr>
        <p:blipFill>
          <a:blip r:embed="rId1"/>
          <a:stretch/>
        </p:blipFill>
        <p:spPr>
          <a:xfrm>
            <a:off x="2057400" y="762120"/>
            <a:ext cx="5238720" cy="5427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QG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332000" y="711000"/>
            <a:ext cx="6408720" cy="4732560"/>
            <a:chOff x="1332000" y="711000"/>
            <a:chExt cx="6408720" cy="4732560"/>
          </a:xfrm>
        </p:grpSpPr>
        <p:sp>
          <p:nvSpPr>
            <p:cNvPr id="288" name="Oval 3"/>
            <p:cNvSpPr/>
            <p:nvPr/>
          </p:nvSpPr>
          <p:spPr>
            <a:xfrm>
              <a:off x="1332000" y="3355920"/>
              <a:ext cx="6408720" cy="2087640"/>
            </a:xfrm>
            <a:prstGeom prst="ellipse">
              <a:avLst/>
            </a:prstGeom>
            <a:solidFill>
              <a:srgbClr val="33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4"/>
            <p:cNvSpPr/>
            <p:nvPr/>
          </p:nvSpPr>
          <p:spPr>
            <a:xfrm>
              <a:off x="3421080" y="1555920"/>
              <a:ext cx="2305080" cy="2808000"/>
            </a:xfrm>
            <a:prstGeom prst="triangle">
              <a:avLst>
                <a:gd name="adj" fmla="val 50000"/>
              </a:avLst>
            </a:prstGeom>
            <a:solidFill>
              <a:srgbClr val="33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4069440" y="711000"/>
              <a:ext cx="1163880" cy="1144800"/>
              <a:chOff x="4069440" y="711000"/>
              <a:chExt cx="1163880" cy="1144800"/>
            </a:xfrm>
          </p:grpSpPr>
          <p:sp>
            <p:nvSpPr>
              <p:cNvPr id="291" name="AutoShape 6"/>
              <p:cNvSpPr/>
              <p:nvPr/>
            </p:nvSpPr>
            <p:spPr>
              <a:xfrm rot="20398800">
                <a:off x="4198320" y="1023120"/>
                <a:ext cx="294120" cy="80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7"/>
              <p:cNvSpPr/>
              <p:nvPr/>
            </p:nvSpPr>
            <p:spPr>
              <a:xfrm rot="2425800">
                <a:off x="4560840" y="783720"/>
                <a:ext cx="402120" cy="98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rot="3118800">
                <a:off x="4553280" y="1033920"/>
                <a:ext cx="453600" cy="73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AutoShape 9"/>
              <p:cNvSpPr/>
              <p:nvPr/>
            </p:nvSpPr>
            <p:spPr>
              <a:xfrm rot="835200">
                <a:off x="4345200" y="743040"/>
                <a:ext cx="390960" cy="1006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Oval 10"/>
            <p:cNvSpPr/>
            <p:nvPr/>
          </p:nvSpPr>
          <p:spPr>
            <a:xfrm>
              <a:off x="3348000" y="4075200"/>
              <a:ext cx="2376360" cy="72072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492360" y="4363920"/>
              <a:ext cx="2303640" cy="216000"/>
            </a:xfrm>
            <a:custGeom>
              <a:avLst/>
              <a:gdLst/>
              <a:ahLst/>
              <a:rect l="l" t="t" r="r" b="b"/>
              <a:pathLst>
                <a:path w="1587" h="197">
                  <a:moveTo>
                    <a:pt x="0" y="0"/>
                  </a:moveTo>
                  <a:cubicBezTo>
                    <a:pt x="174" y="83"/>
                    <a:pt x="348" y="167"/>
                    <a:pt x="590" y="182"/>
                  </a:cubicBezTo>
                  <a:cubicBezTo>
                    <a:pt x="832" y="197"/>
                    <a:pt x="1315" y="106"/>
                    <a:pt x="1451" y="91"/>
                  </a:cubicBezTo>
                  <a:cubicBezTo>
                    <a:pt x="1587" y="76"/>
                    <a:pt x="1496" y="83"/>
                    <a:pt x="1406" y="91"/>
                  </a:cubicBezTo>
                </a:path>
              </a:pathLst>
            </a:custGeom>
            <a:solidFill>
              <a:srgbClr val="33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Picture 1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82"/>
          <p:cNvPicPr/>
          <p:nvPr/>
        </p:nvPicPr>
        <p:blipFill>
          <a:blip r:embed="rId2"/>
          <a:stretch/>
        </p:blipFill>
        <p:spPr>
          <a:xfrm>
            <a:off x="2195640" y="765000"/>
            <a:ext cx="44402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pechkinnpach-crazynet"/>
          <p:cNvPicPr/>
          <p:nvPr/>
        </p:nvPicPr>
        <p:blipFill>
          <a:blip r:embed="rId2"/>
          <a:srcRect l="0" t="0" r="-113" b="106"/>
          <a:stretch/>
        </p:blipFill>
        <p:spPr>
          <a:xfrm>
            <a:off x="2411280" y="1628640"/>
            <a:ext cx="6524640" cy="50580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"/>
          <p:cNvSpPr/>
          <p:nvPr/>
        </p:nvSpPr>
        <p:spPr>
          <a:xfrm>
            <a:off x="395280" y="333360"/>
            <a:ext cx="6842160" cy="2952720"/>
          </a:xfrm>
          <a:prstGeom prst="wedgeRoundRectCallout">
            <a:avLst>
              <a:gd name="adj1" fmla="val 50277"/>
              <a:gd name="adj2" fmla="val 6440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1045800" y="692280"/>
            <a:ext cx="553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Я весёлый почтальо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Детям я давно зна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Много писем и газ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Возит мой велосипе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284720" y="4149720"/>
            <a:ext cx="4176720" cy="153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 _  _  _  _  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_  _  _  _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24000" y="260280"/>
            <a:ext cx="61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250920" y="189000"/>
            <a:ext cx="5761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.Успе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Трое из Простоквашино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7652160" y="34290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WordArt 4"/>
          <p:cNvSpPr txBox="1"/>
          <p:nvPr/>
        </p:nvSpPr>
        <p:spPr>
          <a:xfrm>
            <a:off x="1619280" y="1341360"/>
            <a:ext cx="583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бери портфель.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5" descr="47"/>
          <p:cNvPicPr/>
          <p:nvPr/>
        </p:nvPicPr>
        <p:blipFill>
          <a:blip r:embed="rId2"/>
          <a:stretch/>
        </p:blipFill>
        <p:spPr>
          <a:xfrm>
            <a:off x="3059280" y="3645000"/>
            <a:ext cx="35272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2"/>
          <p:cNvSpPr/>
          <p:nvPr/>
        </p:nvSpPr>
        <p:spPr>
          <a:xfrm>
            <a:off x="250920" y="189000"/>
            <a:ext cx="8642160" cy="3960720"/>
          </a:xfrm>
          <a:prstGeom prst="wedgeRoundRectCallout">
            <a:avLst>
              <a:gd name="adj1" fmla="val 40870"/>
              <a:gd name="adj2" fmla="val 6414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не приятно быть у неё на го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на за мной ухаживает. Всегда я чиста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лаженая. Мне нравится вместе с девоч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улять по лесу, ходить в гости. Но в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беда: моя хозяйка очень доверч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 из-за этого с ней происходят вся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приятности.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203640" y="4941720"/>
            <a:ext cx="568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_  _  _  _  _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_  _  _  _  _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24000" y="5229360"/>
            <a:ext cx="43192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Ш.Перр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Красная Шапочка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Красная шапочка 04"/>
          <p:cNvPicPr/>
          <p:nvPr/>
        </p:nvPicPr>
        <p:blipFill>
          <a:blip r:embed="rId1"/>
          <a:stretch/>
        </p:blipFill>
        <p:spPr>
          <a:xfrm>
            <a:off x="5219640" y="1197000"/>
            <a:ext cx="3181320" cy="46101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7940880" y="479736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WordArt 4"/>
          <p:cNvSpPr txBox="1"/>
          <p:nvPr/>
        </p:nvSpPr>
        <p:spPr>
          <a:xfrm>
            <a:off x="1476360" y="1628640"/>
            <a:ext cx="6335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ят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ОКЛАССНИКА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3"/>
          <p:cNvSpPr txBox="1"/>
          <p:nvPr/>
        </p:nvSpPr>
        <p:spPr>
          <a:xfrm>
            <a:off x="1042920" y="549360"/>
            <a:ext cx="7128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Comic Sans MS"/>
              </a:rPr>
              <a:t>МОЛОДЦЫ!</a:t>
            </a:r>
            <a:endParaRPr b="1" lang="en-US" sz="72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759400" y="4338000"/>
            <a:ext cx="3467880" cy="2184840"/>
            <a:chOff x="2759400" y="4338000"/>
            <a:chExt cx="3467880" cy="2184840"/>
          </a:xfrm>
        </p:grpSpPr>
        <p:pic>
          <p:nvPicPr>
            <p:cNvPr id="318" name="Picture 5" descr="медалька"/>
            <p:cNvPicPr/>
            <p:nvPr/>
          </p:nvPicPr>
          <p:blipFill>
            <a:blip r:embed="rId2"/>
            <a:stretch/>
          </p:blipFill>
          <p:spPr>
            <a:xfrm>
              <a:off x="4004640" y="4437000"/>
              <a:ext cx="113220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" descr="медалька"/>
            <p:cNvPicPr/>
            <p:nvPr/>
          </p:nvPicPr>
          <p:blipFill>
            <a:blip r:embed="rId3"/>
            <a:stretch/>
          </p:blipFill>
          <p:spPr>
            <a:xfrm rot="20743200">
              <a:off x="4634280" y="5376240"/>
              <a:ext cx="101988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7" descr="медалька"/>
            <p:cNvPicPr/>
            <p:nvPr/>
          </p:nvPicPr>
          <p:blipFill>
            <a:blip r:embed="rId4"/>
            <a:stretch/>
          </p:blipFill>
          <p:spPr>
            <a:xfrm>
              <a:off x="3489480" y="5376240"/>
              <a:ext cx="1032840" cy="104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8" descr="медалька"/>
            <p:cNvPicPr/>
            <p:nvPr/>
          </p:nvPicPr>
          <p:blipFill>
            <a:blip r:embed="rId5"/>
            <a:stretch/>
          </p:blipFill>
          <p:spPr>
            <a:xfrm>
              <a:off x="5149440" y="4491360"/>
              <a:ext cx="1077840" cy="10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9" descr="медалька"/>
            <p:cNvPicPr/>
            <p:nvPr/>
          </p:nvPicPr>
          <p:blipFill>
            <a:blip r:embed="rId6"/>
            <a:stretch/>
          </p:blipFill>
          <p:spPr>
            <a:xfrm rot="20361000">
              <a:off x="2916360" y="4491000"/>
              <a:ext cx="1065240" cy="108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10" descr="сканирование0005"/>
          <p:cNvPicPr/>
          <p:nvPr/>
        </p:nvPicPr>
        <p:blipFill>
          <a:blip r:embed="rId7"/>
          <a:stretch/>
        </p:blipFill>
        <p:spPr>
          <a:xfrm rot="19810800">
            <a:off x="826920" y="3141360"/>
            <a:ext cx="1598760" cy="2193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сканирование0002"/>
          <p:cNvPicPr/>
          <p:nvPr/>
        </p:nvPicPr>
        <p:blipFill>
          <a:blip r:embed="rId8"/>
          <a:stretch/>
        </p:blipFill>
        <p:spPr>
          <a:xfrm rot="20935200">
            <a:off x="2266560" y="2204640"/>
            <a:ext cx="1575000" cy="2160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сканирование0003"/>
          <p:cNvPicPr/>
          <p:nvPr/>
        </p:nvPicPr>
        <p:blipFill>
          <a:blip r:embed="rId9"/>
          <a:stretch/>
        </p:blipFill>
        <p:spPr>
          <a:xfrm rot="689400">
            <a:off x="5435280" y="2276640"/>
            <a:ext cx="1558800" cy="21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сканирование0004"/>
          <p:cNvPicPr/>
          <p:nvPr/>
        </p:nvPicPr>
        <p:blipFill>
          <a:blip r:embed="rId10"/>
          <a:stretch/>
        </p:blipFill>
        <p:spPr>
          <a:xfrm rot="1396200">
            <a:off x="6803640" y="3068640"/>
            <a:ext cx="16318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WordArt 4"/>
          <p:cNvSpPr txBox="1"/>
          <p:nvPr/>
        </p:nvSpPr>
        <p:spPr>
          <a:xfrm>
            <a:off x="1763640" y="620640"/>
            <a:ext cx="6120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я, это я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все мои друзья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5" descr="142 (2)"/>
          <p:cNvPicPr/>
          <p:nvPr/>
        </p:nvPicPr>
        <p:blipFill>
          <a:blip r:embed="rId2"/>
          <a:stretch/>
        </p:blipFill>
        <p:spPr>
          <a:xfrm>
            <a:off x="2195640" y="3573360"/>
            <a:ext cx="5456160" cy="28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Picture 6" descr="140"/>
          <p:cNvPicPr/>
          <p:nvPr/>
        </p:nvPicPr>
        <p:blipFill>
          <a:blip r:embed="rId2"/>
          <a:stretch/>
        </p:blipFill>
        <p:spPr>
          <a:xfrm>
            <a:off x="2124000" y="1773360"/>
            <a:ext cx="451476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3348000" y="765000"/>
            <a:ext cx="273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АСТУШКИ.</a:t>
            </a:r>
            <a:endParaRPr b="0" lang="en-US" sz="18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4" name="chastushki.mp3" descr=""/>
          <p:cNvPicPr/>
          <p:nvPr/>
        </p:nvPicPr>
        <p:blipFill>
          <a:blip r:embed="rId3"/>
          <a:stretch/>
        </p:blipFill>
        <p:spPr>
          <a:xfrm>
            <a:off x="971640" y="530064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70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50000">
              <a:srgbClr val="ffdff7"/>
            </a:gs>
            <a:gs pos="100000">
              <a:srgbClr val="cbe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QG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63416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Давайте поигр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И вместе угада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то пришёл сегодня к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этот день и в этот час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Да задание прип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324000" y="189000"/>
            <a:ext cx="8569080" cy="2808360"/>
          </a:xfrm>
          <a:prstGeom prst="wedgeRoundRectCallout">
            <a:avLst>
              <a:gd name="adj1" fmla="val -629"/>
              <a:gd name="adj2" fmla="val 7040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6"/>
          <p:cNvPicPr/>
          <p:nvPr/>
        </p:nvPicPr>
        <p:blipFill>
          <a:blip r:embed="rId1"/>
          <a:srcRect l="0" t="0" r="-135" b="-95"/>
          <a:stretch/>
        </p:blipFill>
        <p:spPr>
          <a:xfrm>
            <a:off x="3203640" y="1628640"/>
            <a:ext cx="2502000" cy="3575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95280" y="333360"/>
            <a:ext cx="83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Я знал, что всё так кончится. Уж больно ветхий я и старый, столько лет в поле стою. Мечтал, конечно, чтобы кто-нибудь во мне поселился, но их было так много, что я просто не выдержал и рух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859280" y="3284640"/>
            <a:ext cx="3529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Т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_  _  _  _  _ 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5589720"/>
            <a:ext cx="867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усская народная сказка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емок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915080" y="32130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0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95280" y="333360"/>
            <a:ext cx="6192720" cy="6192720"/>
            <a:chOff x="395280" y="333360"/>
            <a:chExt cx="6192720" cy="6192720"/>
          </a:xfrm>
        </p:grpSpPr>
        <p:grpSp>
          <p:nvGrpSpPr>
            <p:cNvPr id="64" name="Group 3"/>
            <p:cNvGrpSpPr/>
            <p:nvPr/>
          </p:nvGrpSpPr>
          <p:grpSpPr>
            <a:xfrm>
              <a:off x="395280" y="333360"/>
              <a:ext cx="6192720" cy="6192720"/>
              <a:chOff x="395280" y="333360"/>
              <a:chExt cx="6192720" cy="6192720"/>
            </a:xfrm>
          </p:grpSpPr>
          <p:sp>
            <p:nvSpPr>
              <p:cNvPr id="65" name="Rectangle 4"/>
              <p:cNvSpPr/>
              <p:nvPr/>
            </p:nvSpPr>
            <p:spPr>
              <a:xfrm>
                <a:off x="4523760" y="44625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5"/>
              <p:cNvSpPr/>
              <p:nvPr/>
            </p:nvSpPr>
            <p:spPr>
              <a:xfrm>
                <a:off x="2459520" y="44625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6"/>
              <p:cNvSpPr/>
              <p:nvPr/>
            </p:nvSpPr>
            <p:spPr>
              <a:xfrm>
                <a:off x="395280" y="44625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"/>
              <p:cNvSpPr/>
              <p:nvPr/>
            </p:nvSpPr>
            <p:spPr>
              <a:xfrm>
                <a:off x="4523760" y="2396520"/>
                <a:ext cx="2064240" cy="20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2459520" y="2396520"/>
                <a:ext cx="2064240" cy="20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"/>
              <p:cNvSpPr/>
              <p:nvPr/>
            </p:nvSpPr>
            <p:spPr>
              <a:xfrm>
                <a:off x="395280" y="2396520"/>
                <a:ext cx="2064240" cy="20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4523760" y="3333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1"/>
              <p:cNvSpPr/>
              <p:nvPr/>
            </p:nvSpPr>
            <p:spPr>
              <a:xfrm>
                <a:off x="2459520" y="3333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2"/>
              <p:cNvSpPr/>
              <p:nvPr/>
            </p:nvSpPr>
            <p:spPr>
              <a:xfrm>
                <a:off x="395280" y="333360"/>
                <a:ext cx="2064240" cy="206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3"/>
              <p:cNvSpPr/>
              <p:nvPr/>
            </p:nvSpPr>
            <p:spPr>
              <a:xfrm>
                <a:off x="395280" y="333360"/>
                <a:ext cx="6192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4"/>
              <p:cNvSpPr/>
              <p:nvPr/>
            </p:nvSpPr>
            <p:spPr>
              <a:xfrm>
                <a:off x="395280" y="2396520"/>
                <a:ext cx="619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5"/>
              <p:cNvSpPr/>
              <p:nvPr/>
            </p:nvSpPr>
            <p:spPr>
              <a:xfrm>
                <a:off x="395280" y="4462560"/>
                <a:ext cx="619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6"/>
              <p:cNvSpPr/>
              <p:nvPr/>
            </p:nvSpPr>
            <p:spPr>
              <a:xfrm>
                <a:off x="395280" y="6526080"/>
                <a:ext cx="61927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7"/>
              <p:cNvSpPr/>
              <p:nvPr/>
            </p:nvSpPr>
            <p:spPr>
              <a:xfrm>
                <a:off x="395280" y="333360"/>
                <a:ext cx="0" cy="6192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8"/>
              <p:cNvSpPr/>
              <p:nvPr/>
            </p:nvSpPr>
            <p:spPr>
              <a:xfrm>
                <a:off x="2459520" y="333360"/>
                <a:ext cx="0" cy="619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9"/>
              <p:cNvSpPr/>
              <p:nvPr/>
            </p:nvSpPr>
            <p:spPr>
              <a:xfrm>
                <a:off x="4523760" y="333360"/>
                <a:ext cx="0" cy="619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0"/>
              <p:cNvSpPr/>
              <p:nvPr/>
            </p:nvSpPr>
            <p:spPr>
              <a:xfrm>
                <a:off x="6588000" y="333360"/>
                <a:ext cx="0" cy="6192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21"/>
            <p:cNvSpPr/>
            <p:nvPr/>
          </p:nvSpPr>
          <p:spPr>
            <a:xfrm>
              <a:off x="662040" y="1158480"/>
              <a:ext cx="1465200" cy="10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2"/>
            <p:cNvSpPr/>
            <p:nvPr/>
          </p:nvSpPr>
          <p:spPr>
            <a:xfrm>
              <a:off x="662040" y="5356080"/>
              <a:ext cx="1465200" cy="96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3"/>
            <p:cNvSpPr/>
            <p:nvPr/>
          </p:nvSpPr>
          <p:spPr>
            <a:xfrm>
              <a:off x="2726280" y="3291480"/>
              <a:ext cx="1465200" cy="103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4"/>
            <p:cNvSpPr/>
            <p:nvPr/>
          </p:nvSpPr>
          <p:spPr>
            <a:xfrm>
              <a:off x="2726280" y="1158480"/>
              <a:ext cx="1465200" cy="103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5"/>
            <p:cNvSpPr/>
            <p:nvPr/>
          </p:nvSpPr>
          <p:spPr>
            <a:xfrm>
              <a:off x="4790520" y="3223080"/>
              <a:ext cx="1465200" cy="10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6"/>
            <p:cNvSpPr/>
            <p:nvPr/>
          </p:nvSpPr>
          <p:spPr>
            <a:xfrm>
              <a:off x="2726280" y="5288040"/>
              <a:ext cx="1465200" cy="103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7"/>
            <p:cNvSpPr/>
            <p:nvPr/>
          </p:nvSpPr>
          <p:spPr>
            <a:xfrm>
              <a:off x="4790520" y="1158480"/>
              <a:ext cx="1465200" cy="103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8"/>
            <p:cNvSpPr/>
            <p:nvPr/>
          </p:nvSpPr>
          <p:spPr>
            <a:xfrm>
              <a:off x="728280" y="3223080"/>
              <a:ext cx="1465200" cy="1031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9"/>
            <p:cNvSpPr/>
            <p:nvPr/>
          </p:nvSpPr>
          <p:spPr>
            <a:xfrm flipV="1">
              <a:off x="462600" y="745200"/>
              <a:ext cx="1864440" cy="412560"/>
            </a:xfrm>
            <a:custGeom>
              <a:avLst/>
              <a:gdLst>
                <a:gd name="textAreaLeft" fmla="*/ 388800 w 1864440"/>
                <a:gd name="textAreaRight" fmla="*/ 1475640 w 1864440"/>
                <a:gd name="textAreaTop" fmla="*/ 86400 h 412560"/>
                <a:gd name="textAreaBottom" fmla="*/ 326160 h 41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0"/>
            <p:cNvSpPr/>
            <p:nvPr/>
          </p:nvSpPr>
          <p:spPr>
            <a:xfrm flipV="1">
              <a:off x="4591080" y="2809800"/>
              <a:ext cx="1864440" cy="412200"/>
            </a:xfrm>
            <a:custGeom>
              <a:avLst/>
              <a:gdLst>
                <a:gd name="textAreaLeft" fmla="*/ 388800 w 1864440"/>
                <a:gd name="textAreaRight" fmla="*/ 1475640 w 1864440"/>
                <a:gd name="textAreaTop" fmla="*/ 86400 h 412200"/>
                <a:gd name="textAreaBottom" fmla="*/ 325800 h 4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1"/>
            <p:cNvSpPr/>
            <p:nvPr/>
          </p:nvSpPr>
          <p:spPr>
            <a:xfrm flipV="1">
              <a:off x="462600" y="4942800"/>
              <a:ext cx="1864440" cy="412200"/>
            </a:xfrm>
            <a:custGeom>
              <a:avLst/>
              <a:gdLst>
                <a:gd name="textAreaLeft" fmla="*/ 388800 w 1864440"/>
                <a:gd name="textAreaRight" fmla="*/ 1475640 w 1864440"/>
                <a:gd name="textAreaTop" fmla="*/ 86400 h 412200"/>
                <a:gd name="textAreaBottom" fmla="*/ 325800 h 4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2"/>
            <p:cNvSpPr/>
            <p:nvPr/>
          </p:nvSpPr>
          <p:spPr>
            <a:xfrm>
              <a:off x="2526840" y="471240"/>
              <a:ext cx="1798560" cy="6872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3"/>
            <p:cNvSpPr/>
            <p:nvPr/>
          </p:nvSpPr>
          <p:spPr>
            <a:xfrm>
              <a:off x="2526840" y="4599360"/>
              <a:ext cx="1798560" cy="6872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4"/>
            <p:cNvSpPr/>
            <p:nvPr/>
          </p:nvSpPr>
          <p:spPr>
            <a:xfrm>
              <a:off x="528480" y="2534400"/>
              <a:ext cx="1798560" cy="6872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5"/>
            <p:cNvSpPr/>
            <p:nvPr/>
          </p:nvSpPr>
          <p:spPr>
            <a:xfrm rot="16200000">
              <a:off x="5282640" y="51840"/>
              <a:ext cx="480960" cy="1732320"/>
            </a:xfrm>
            <a:prstGeom prst="flowChartDelay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6"/>
            <p:cNvSpPr/>
            <p:nvPr/>
          </p:nvSpPr>
          <p:spPr>
            <a:xfrm rot="16200000">
              <a:off x="3218400" y="2184840"/>
              <a:ext cx="480960" cy="173232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7"/>
            <p:cNvSpPr/>
            <p:nvPr/>
          </p:nvSpPr>
          <p:spPr>
            <a:xfrm>
              <a:off x="5123880" y="1296360"/>
              <a:ext cx="798480" cy="75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8"/>
            <p:cNvSpPr/>
            <p:nvPr/>
          </p:nvSpPr>
          <p:spPr>
            <a:xfrm>
              <a:off x="3059640" y="1296360"/>
              <a:ext cx="798480" cy="75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9"/>
            <p:cNvSpPr/>
            <p:nvPr/>
          </p:nvSpPr>
          <p:spPr>
            <a:xfrm>
              <a:off x="995400" y="1296360"/>
              <a:ext cx="798480" cy="75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0"/>
            <p:cNvSpPr/>
            <p:nvPr/>
          </p:nvSpPr>
          <p:spPr>
            <a:xfrm>
              <a:off x="5123880" y="3361320"/>
              <a:ext cx="798480" cy="7567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1"/>
            <p:cNvSpPr/>
            <p:nvPr/>
          </p:nvSpPr>
          <p:spPr>
            <a:xfrm>
              <a:off x="3059640" y="3429720"/>
              <a:ext cx="798480" cy="7567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2"/>
            <p:cNvSpPr/>
            <p:nvPr/>
          </p:nvSpPr>
          <p:spPr>
            <a:xfrm>
              <a:off x="995400" y="3361320"/>
              <a:ext cx="798480" cy="7567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43"/>
            <p:cNvSpPr/>
            <p:nvPr/>
          </p:nvSpPr>
          <p:spPr>
            <a:xfrm>
              <a:off x="995400" y="5424480"/>
              <a:ext cx="798480" cy="75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44"/>
            <p:cNvSpPr/>
            <p:nvPr/>
          </p:nvSpPr>
          <p:spPr>
            <a:xfrm>
              <a:off x="3059640" y="5494320"/>
              <a:ext cx="798480" cy="756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45"/>
          <p:cNvGrpSpPr/>
          <p:nvPr/>
        </p:nvGrpSpPr>
        <p:grpSpPr>
          <a:xfrm>
            <a:off x="7164360" y="907560"/>
            <a:ext cx="1582920" cy="1366920"/>
            <a:chOff x="7164360" y="907560"/>
            <a:chExt cx="1582920" cy="1366920"/>
          </a:xfrm>
        </p:grpSpPr>
        <p:sp>
          <p:nvSpPr>
            <p:cNvPr id="107" name="Rectangle 46"/>
            <p:cNvSpPr/>
            <p:nvPr/>
          </p:nvSpPr>
          <p:spPr>
            <a:xfrm>
              <a:off x="7284960" y="1342440"/>
              <a:ext cx="1338480" cy="932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7"/>
            <p:cNvSpPr/>
            <p:nvPr/>
          </p:nvSpPr>
          <p:spPr>
            <a:xfrm rot="16200000">
              <a:off x="7738560" y="333360"/>
              <a:ext cx="434520" cy="1582920"/>
            </a:xfrm>
            <a:prstGeom prst="flowChartDelay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48"/>
            <p:cNvSpPr/>
            <p:nvPr/>
          </p:nvSpPr>
          <p:spPr>
            <a:xfrm>
              <a:off x="7589520" y="1467360"/>
              <a:ext cx="729360" cy="68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9"/>
          <p:cNvGrpSpPr/>
          <p:nvPr/>
        </p:nvGrpSpPr>
        <p:grpSpPr>
          <a:xfrm>
            <a:off x="7093080" y="2708280"/>
            <a:ext cx="1799640" cy="3096720"/>
            <a:chOff x="7093080" y="2708280"/>
            <a:chExt cx="1799640" cy="3096720"/>
          </a:xfrm>
        </p:grpSpPr>
        <p:sp>
          <p:nvSpPr>
            <p:cNvPr id="111" name="Rectangle 50"/>
            <p:cNvSpPr/>
            <p:nvPr/>
          </p:nvSpPr>
          <p:spPr>
            <a:xfrm>
              <a:off x="7275960" y="4857840"/>
              <a:ext cx="1342080" cy="947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1"/>
            <p:cNvSpPr/>
            <p:nvPr/>
          </p:nvSpPr>
          <p:spPr>
            <a:xfrm>
              <a:off x="7337520" y="3088440"/>
              <a:ext cx="1342440" cy="947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2"/>
            <p:cNvSpPr/>
            <p:nvPr/>
          </p:nvSpPr>
          <p:spPr>
            <a:xfrm>
              <a:off x="7093080" y="4225320"/>
              <a:ext cx="1648080" cy="631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3"/>
            <p:cNvSpPr/>
            <p:nvPr/>
          </p:nvSpPr>
          <p:spPr>
            <a:xfrm flipV="1">
              <a:off x="7184520" y="2708280"/>
              <a:ext cx="1708200" cy="378720"/>
            </a:xfrm>
            <a:custGeom>
              <a:avLst/>
              <a:gdLst>
                <a:gd name="textAreaLeft" fmla="*/ 356400 w 1708200"/>
                <a:gd name="textAreaRight" fmla="*/ 1351800 w 1708200"/>
                <a:gd name="textAreaTop" fmla="*/ 79200 h 378720"/>
                <a:gd name="textAreaBottom" fmla="*/ 299520 h 37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54"/>
            <p:cNvSpPr/>
            <p:nvPr/>
          </p:nvSpPr>
          <p:spPr>
            <a:xfrm>
              <a:off x="7641720" y="3213720"/>
              <a:ext cx="731880" cy="6951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55"/>
            <p:cNvSpPr/>
            <p:nvPr/>
          </p:nvSpPr>
          <p:spPr>
            <a:xfrm>
              <a:off x="7581240" y="4983120"/>
              <a:ext cx="731520" cy="694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56"/>
          <p:cNvSpPr/>
          <p:nvPr/>
        </p:nvSpPr>
        <p:spPr>
          <a:xfrm>
            <a:off x="5292720" y="4726080"/>
            <a:ext cx="1065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4.72222E-006 -4.44444E-006 L -0.25973 0.59352 E">
                                      <p:cBhvr>
                                        <p:cTn id="3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Золотая рыбка 01"/>
          <p:cNvPicPr/>
          <p:nvPr/>
        </p:nvPicPr>
        <p:blipFill>
          <a:blip r:embed="rId2"/>
          <a:srcRect l="0" t="0" r="0" b="133"/>
          <a:stretch/>
        </p:blipFill>
        <p:spPr>
          <a:xfrm>
            <a:off x="4716360" y="1052640"/>
            <a:ext cx="3546720" cy="45352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3"/>
          <p:cNvSpPr/>
          <p:nvPr/>
        </p:nvSpPr>
        <p:spPr>
          <a:xfrm>
            <a:off x="179280" y="115920"/>
            <a:ext cx="8713800" cy="2952720"/>
          </a:xfrm>
          <a:prstGeom prst="wedgeRoundRectCallout">
            <a:avLst>
              <a:gd name="adj1" fmla="val -1611"/>
              <a:gd name="adj2" fmla="val 6182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95280" y="189000"/>
            <a:ext cx="8137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Я, конечно, готова была выполнить все её желания, ведь её муж спас мне жизнь. Но, в конце концов, я поняла: чем больше человеку даёшь, тем больше ему хочется. Вот и приходится таким людям оставаться у разбитого кор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43280" y="3357720"/>
            <a:ext cx="6119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_  _  _  _  _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_  _  _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5445000"/>
            <a:ext cx="66247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.С. Пушк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Сказка о золотой рыбке»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915080" y="321300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189000"/>
            <a:ext cx="8713800" cy="115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Какие слова задумала рыбка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250920" y="2135160"/>
            <a:ext cx="3398760" cy="1218600"/>
            <a:chOff x="250920" y="2135160"/>
            <a:chExt cx="3398760" cy="1218600"/>
          </a:xfrm>
        </p:grpSpPr>
        <p:grpSp>
          <p:nvGrpSpPr>
            <p:cNvPr id="126" name="Group 4"/>
            <p:cNvGrpSpPr/>
            <p:nvPr/>
          </p:nvGrpSpPr>
          <p:grpSpPr>
            <a:xfrm>
              <a:off x="250920" y="2262240"/>
              <a:ext cx="1616400" cy="1091520"/>
              <a:chOff x="250920" y="2262240"/>
              <a:chExt cx="1616400" cy="1091520"/>
            </a:xfrm>
          </p:grpSpPr>
          <p:sp>
            <p:nvSpPr>
              <p:cNvPr id="127" name="AutoShape 5"/>
              <p:cNvSpPr/>
              <p:nvPr/>
            </p:nvSpPr>
            <p:spPr>
              <a:xfrm flipV="1" rot="1122000">
                <a:off x="1040400" y="2777400"/>
                <a:ext cx="772920" cy="46440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6"/>
              <p:cNvSpPr/>
              <p:nvPr/>
            </p:nvSpPr>
            <p:spPr>
              <a:xfrm flipV="1" rot="364200">
                <a:off x="1006560" y="2677680"/>
                <a:ext cx="773280" cy="46512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7"/>
              <p:cNvSpPr/>
              <p:nvPr/>
            </p:nvSpPr>
            <p:spPr>
              <a:xfrm rot="20771400">
                <a:off x="1074240" y="2479320"/>
                <a:ext cx="705600" cy="39096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8"/>
              <p:cNvSpPr/>
              <p:nvPr/>
            </p:nvSpPr>
            <p:spPr>
              <a:xfrm flipV="1" rot="20482200">
                <a:off x="906480" y="3075480"/>
                <a:ext cx="150840" cy="1591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9"/>
              <p:cNvSpPr/>
              <p:nvPr/>
            </p:nvSpPr>
            <p:spPr>
              <a:xfrm>
                <a:off x="586800" y="2400120"/>
                <a:ext cx="302040" cy="1587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0"/>
              <p:cNvSpPr/>
              <p:nvPr/>
            </p:nvSpPr>
            <p:spPr>
              <a:xfrm flipV="1">
                <a:off x="485640" y="3075480"/>
                <a:ext cx="335880" cy="1983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1"/>
              <p:cNvSpPr/>
              <p:nvPr/>
            </p:nvSpPr>
            <p:spPr>
              <a:xfrm rot="19844400">
                <a:off x="996840" y="2409480"/>
                <a:ext cx="705960" cy="39024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2"/>
              <p:cNvSpPr/>
              <p:nvPr/>
            </p:nvSpPr>
            <p:spPr>
              <a:xfrm>
                <a:off x="250920" y="2495880"/>
                <a:ext cx="957240" cy="654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3"/>
              <p:cNvSpPr/>
              <p:nvPr/>
            </p:nvSpPr>
            <p:spPr>
              <a:xfrm>
                <a:off x="385560" y="2618640"/>
                <a:ext cx="167400" cy="179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452160" y="2639160"/>
                <a:ext cx="100800" cy="13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5"/>
              <p:cNvSpPr/>
              <p:nvPr/>
            </p:nvSpPr>
            <p:spPr>
              <a:xfrm>
                <a:off x="424080" y="2523960"/>
                <a:ext cx="1692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16"/>
              <p:cNvSpPr/>
              <p:nvPr/>
            </p:nvSpPr>
            <p:spPr>
              <a:xfrm>
                <a:off x="478080" y="2523960"/>
                <a:ext cx="1620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17"/>
              <p:cNvSpPr/>
              <p:nvPr/>
            </p:nvSpPr>
            <p:spPr>
              <a:xfrm>
                <a:off x="491400" y="2784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18"/>
              <p:cNvSpPr/>
              <p:nvPr/>
            </p:nvSpPr>
            <p:spPr>
              <a:xfrm>
                <a:off x="452160" y="2519640"/>
                <a:ext cx="1692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9"/>
              <p:cNvSpPr/>
              <p:nvPr/>
            </p:nvSpPr>
            <p:spPr>
              <a:xfrm flipH="1" rot="5451600">
                <a:off x="309960" y="2909160"/>
                <a:ext cx="99000" cy="151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20"/>
              <p:cNvSpPr/>
              <p:nvPr/>
            </p:nvSpPr>
            <p:spPr>
              <a:xfrm>
                <a:off x="451440" y="2798280"/>
                <a:ext cx="13320" cy="4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21"/>
              <p:cNvSpPr/>
              <p:nvPr/>
            </p:nvSpPr>
            <p:spPr>
              <a:xfrm>
                <a:off x="504720" y="2523960"/>
                <a:ext cx="13320" cy="113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22"/>
              <p:cNvSpPr/>
              <p:nvPr/>
            </p:nvSpPr>
            <p:spPr>
              <a:xfrm>
                <a:off x="518040" y="275544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23"/>
            <p:cNvSpPr/>
            <p:nvPr/>
          </p:nvSpPr>
          <p:spPr>
            <a:xfrm>
              <a:off x="1792440" y="2135160"/>
              <a:ext cx="185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ёш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4"/>
          <p:cNvGrpSpPr/>
          <p:nvPr/>
        </p:nvGrpSpPr>
        <p:grpSpPr>
          <a:xfrm>
            <a:off x="900000" y="4726080"/>
            <a:ext cx="3435120" cy="1158480"/>
            <a:chOff x="900000" y="4726080"/>
            <a:chExt cx="3435120" cy="1158480"/>
          </a:xfrm>
        </p:grpSpPr>
        <p:grpSp>
          <p:nvGrpSpPr>
            <p:cNvPr id="147" name="Group 25"/>
            <p:cNvGrpSpPr/>
            <p:nvPr/>
          </p:nvGrpSpPr>
          <p:grpSpPr>
            <a:xfrm>
              <a:off x="900000" y="4830840"/>
              <a:ext cx="1679040" cy="1053720"/>
              <a:chOff x="900000" y="4830840"/>
              <a:chExt cx="1679040" cy="1053720"/>
            </a:xfrm>
          </p:grpSpPr>
          <p:sp>
            <p:nvSpPr>
              <p:cNvPr id="148" name="AutoShape 26"/>
              <p:cNvSpPr/>
              <p:nvPr/>
            </p:nvSpPr>
            <p:spPr>
              <a:xfrm flipV="1" rot="1122000">
                <a:off x="1723680" y="5331960"/>
                <a:ext cx="806760" cy="43488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27"/>
              <p:cNvSpPr/>
              <p:nvPr/>
            </p:nvSpPr>
            <p:spPr>
              <a:xfrm flipV="1" rot="364200">
                <a:off x="1688400" y="5237640"/>
                <a:ext cx="806760" cy="43524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28"/>
              <p:cNvSpPr/>
              <p:nvPr/>
            </p:nvSpPr>
            <p:spPr>
              <a:xfrm rot="20771400">
                <a:off x="1758960" y="5052600"/>
                <a:ext cx="736560" cy="36576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29"/>
              <p:cNvSpPr/>
              <p:nvPr/>
            </p:nvSpPr>
            <p:spPr>
              <a:xfrm flipV="1" rot="20482200">
                <a:off x="1583640" y="5610600"/>
                <a:ext cx="157680" cy="14868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30"/>
              <p:cNvSpPr/>
              <p:nvPr/>
            </p:nvSpPr>
            <p:spPr>
              <a:xfrm>
                <a:off x="1250640" y="4978440"/>
                <a:ext cx="315360" cy="14868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31"/>
              <p:cNvSpPr/>
              <p:nvPr/>
            </p:nvSpPr>
            <p:spPr>
              <a:xfrm flipV="1">
                <a:off x="1145160" y="5611320"/>
                <a:ext cx="350640" cy="1857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32"/>
              <p:cNvSpPr/>
              <p:nvPr/>
            </p:nvSpPr>
            <p:spPr>
              <a:xfrm rot="19844400">
                <a:off x="1679040" y="4987440"/>
                <a:ext cx="736560" cy="3654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3"/>
              <p:cNvSpPr/>
              <p:nvPr/>
            </p:nvSpPr>
            <p:spPr>
              <a:xfrm>
                <a:off x="900000" y="5068080"/>
                <a:ext cx="999000" cy="613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34"/>
              <p:cNvSpPr/>
              <p:nvPr/>
            </p:nvSpPr>
            <p:spPr>
              <a:xfrm>
                <a:off x="1040400" y="5182920"/>
                <a:ext cx="174960" cy="16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35"/>
              <p:cNvSpPr/>
              <p:nvPr/>
            </p:nvSpPr>
            <p:spPr>
              <a:xfrm>
                <a:off x="1109880" y="5202360"/>
                <a:ext cx="105480" cy="130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36"/>
              <p:cNvSpPr/>
              <p:nvPr/>
            </p:nvSpPr>
            <p:spPr>
              <a:xfrm>
                <a:off x="1080720" y="509436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37"/>
              <p:cNvSpPr/>
              <p:nvPr/>
            </p:nvSpPr>
            <p:spPr>
              <a:xfrm>
                <a:off x="1136880" y="5094360"/>
                <a:ext cx="1692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38"/>
              <p:cNvSpPr/>
              <p:nvPr/>
            </p:nvSpPr>
            <p:spPr>
              <a:xfrm>
                <a:off x="1150920" y="5338080"/>
                <a:ext cx="13680" cy="5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39"/>
              <p:cNvSpPr/>
              <p:nvPr/>
            </p:nvSpPr>
            <p:spPr>
              <a:xfrm>
                <a:off x="1109880" y="509004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40"/>
              <p:cNvSpPr/>
              <p:nvPr/>
            </p:nvSpPr>
            <p:spPr>
              <a:xfrm flipH="1" rot="5451600">
                <a:off x="966600" y="5447160"/>
                <a:ext cx="92880" cy="15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41"/>
              <p:cNvSpPr/>
              <p:nvPr/>
            </p:nvSpPr>
            <p:spPr>
              <a:xfrm>
                <a:off x="1109160" y="5351040"/>
                <a:ext cx="13680" cy="4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42"/>
              <p:cNvSpPr/>
              <p:nvPr/>
            </p:nvSpPr>
            <p:spPr>
              <a:xfrm>
                <a:off x="1164600" y="5094360"/>
                <a:ext cx="13680" cy="10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43"/>
              <p:cNvSpPr/>
              <p:nvPr/>
            </p:nvSpPr>
            <p:spPr>
              <a:xfrm>
                <a:off x="1178640" y="5311080"/>
                <a:ext cx="13680" cy="6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4"/>
            <p:cNvSpPr/>
            <p:nvPr/>
          </p:nvSpPr>
          <p:spPr>
            <a:xfrm>
              <a:off x="2458080" y="4726080"/>
              <a:ext cx="1877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оло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5"/>
          <p:cNvGrpSpPr/>
          <p:nvPr/>
        </p:nvGrpSpPr>
        <p:grpSpPr>
          <a:xfrm>
            <a:off x="3635280" y="3502080"/>
            <a:ext cx="3083760" cy="1066320"/>
            <a:chOff x="3635280" y="3502080"/>
            <a:chExt cx="3083760" cy="1066320"/>
          </a:xfrm>
        </p:grpSpPr>
        <p:grpSp>
          <p:nvGrpSpPr>
            <p:cNvPr id="168" name="Group 46"/>
            <p:cNvGrpSpPr/>
            <p:nvPr/>
          </p:nvGrpSpPr>
          <p:grpSpPr>
            <a:xfrm>
              <a:off x="3635280" y="3517920"/>
              <a:ext cx="1662480" cy="1050480"/>
              <a:chOff x="3635280" y="3517920"/>
              <a:chExt cx="1662480" cy="1050480"/>
            </a:xfrm>
          </p:grpSpPr>
          <p:sp>
            <p:nvSpPr>
              <p:cNvPr id="169" name="AutoShape 47"/>
              <p:cNvSpPr/>
              <p:nvPr/>
            </p:nvSpPr>
            <p:spPr>
              <a:xfrm flipV="1" rot="1122000">
                <a:off x="4450680" y="4016520"/>
                <a:ext cx="798480" cy="43488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48"/>
              <p:cNvSpPr/>
              <p:nvPr/>
            </p:nvSpPr>
            <p:spPr>
              <a:xfrm flipV="1" rot="364200">
                <a:off x="4415760" y="3923280"/>
                <a:ext cx="798840" cy="4356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49"/>
              <p:cNvSpPr/>
              <p:nvPr/>
            </p:nvSpPr>
            <p:spPr>
              <a:xfrm rot="20771400">
                <a:off x="4485240" y="3737880"/>
                <a:ext cx="729000" cy="36576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50"/>
              <p:cNvSpPr/>
              <p:nvPr/>
            </p:nvSpPr>
            <p:spPr>
              <a:xfrm flipV="1" rot="20482200">
                <a:off x="4312080" y="4296960"/>
                <a:ext cx="155880" cy="14904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51"/>
              <p:cNvSpPr/>
              <p:nvPr/>
            </p:nvSpPr>
            <p:spPr>
              <a:xfrm>
                <a:off x="3982320" y="3664080"/>
                <a:ext cx="312120" cy="14868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52"/>
              <p:cNvSpPr/>
              <p:nvPr/>
            </p:nvSpPr>
            <p:spPr>
              <a:xfrm flipV="1">
                <a:off x="3877920" y="4296960"/>
                <a:ext cx="347040" cy="1857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53"/>
              <p:cNvSpPr/>
              <p:nvPr/>
            </p:nvSpPr>
            <p:spPr>
              <a:xfrm rot="19844400">
                <a:off x="4406040" y="3672720"/>
                <a:ext cx="729000" cy="3654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54"/>
              <p:cNvSpPr/>
              <p:nvPr/>
            </p:nvSpPr>
            <p:spPr>
              <a:xfrm>
                <a:off x="3635280" y="3753720"/>
                <a:ext cx="988920" cy="613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55"/>
              <p:cNvSpPr/>
              <p:nvPr/>
            </p:nvSpPr>
            <p:spPr>
              <a:xfrm>
                <a:off x="3774240" y="3868560"/>
                <a:ext cx="173160" cy="16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56"/>
              <p:cNvSpPr/>
              <p:nvPr/>
            </p:nvSpPr>
            <p:spPr>
              <a:xfrm>
                <a:off x="3843000" y="3888000"/>
                <a:ext cx="104400" cy="130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57"/>
              <p:cNvSpPr/>
              <p:nvPr/>
            </p:nvSpPr>
            <p:spPr>
              <a:xfrm>
                <a:off x="3814200" y="378000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58"/>
              <p:cNvSpPr/>
              <p:nvPr/>
            </p:nvSpPr>
            <p:spPr>
              <a:xfrm>
                <a:off x="3870000" y="3780000"/>
                <a:ext cx="1656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59"/>
              <p:cNvSpPr/>
              <p:nvPr/>
            </p:nvSpPr>
            <p:spPr>
              <a:xfrm>
                <a:off x="3883680" y="4023720"/>
                <a:ext cx="13680" cy="5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0"/>
              <p:cNvSpPr/>
              <p:nvPr/>
            </p:nvSpPr>
            <p:spPr>
              <a:xfrm>
                <a:off x="3843000" y="3775680"/>
                <a:ext cx="17640" cy="9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61"/>
              <p:cNvSpPr/>
              <p:nvPr/>
            </p:nvSpPr>
            <p:spPr>
              <a:xfrm flipH="1" rot="5451600">
                <a:off x="3700800" y="4133520"/>
                <a:ext cx="92880" cy="15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62"/>
              <p:cNvSpPr/>
              <p:nvPr/>
            </p:nvSpPr>
            <p:spPr>
              <a:xfrm>
                <a:off x="3842280" y="4036680"/>
                <a:ext cx="13680" cy="4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3"/>
              <p:cNvSpPr/>
              <p:nvPr/>
            </p:nvSpPr>
            <p:spPr>
              <a:xfrm>
                <a:off x="3897360" y="3780000"/>
                <a:ext cx="13680" cy="10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64"/>
              <p:cNvSpPr/>
              <p:nvPr/>
            </p:nvSpPr>
            <p:spPr>
              <a:xfrm>
                <a:off x="3911040" y="3996720"/>
                <a:ext cx="13680" cy="6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65"/>
            <p:cNvSpPr/>
            <p:nvPr/>
          </p:nvSpPr>
          <p:spPr>
            <a:xfrm>
              <a:off x="5342040" y="3502080"/>
              <a:ext cx="137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на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6"/>
          <p:cNvGrpSpPr/>
          <p:nvPr/>
        </p:nvGrpSpPr>
        <p:grpSpPr>
          <a:xfrm>
            <a:off x="5580000" y="1844640"/>
            <a:ext cx="3227760" cy="1121400"/>
            <a:chOff x="5580000" y="1844640"/>
            <a:chExt cx="3227760" cy="1121400"/>
          </a:xfrm>
        </p:grpSpPr>
        <p:grpSp>
          <p:nvGrpSpPr>
            <p:cNvPr id="189" name="Group 67"/>
            <p:cNvGrpSpPr/>
            <p:nvPr/>
          </p:nvGrpSpPr>
          <p:grpSpPr>
            <a:xfrm>
              <a:off x="5580000" y="1875960"/>
              <a:ext cx="1599480" cy="1090080"/>
              <a:chOff x="5580000" y="1875960"/>
              <a:chExt cx="1599480" cy="1090080"/>
            </a:xfrm>
          </p:grpSpPr>
          <p:sp>
            <p:nvSpPr>
              <p:cNvPr id="190" name="AutoShape 68"/>
              <p:cNvSpPr/>
              <p:nvPr/>
            </p:nvSpPr>
            <p:spPr>
              <a:xfrm flipV="1" rot="1122000">
                <a:off x="6360480" y="2389320"/>
                <a:ext cx="764280" cy="46584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69"/>
              <p:cNvSpPr/>
              <p:nvPr/>
            </p:nvSpPr>
            <p:spPr>
              <a:xfrm flipV="1" rot="364200">
                <a:off x="6326640" y="2290320"/>
                <a:ext cx="764280" cy="46620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0"/>
              <p:cNvSpPr/>
              <p:nvPr/>
            </p:nvSpPr>
            <p:spPr>
              <a:xfrm rot="20771400">
                <a:off x="6393600" y="2090880"/>
                <a:ext cx="697680" cy="39204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71"/>
              <p:cNvSpPr/>
              <p:nvPr/>
            </p:nvSpPr>
            <p:spPr>
              <a:xfrm flipV="1" rot="20482200">
                <a:off x="6227640" y="2689200"/>
                <a:ext cx="149400" cy="1591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72"/>
              <p:cNvSpPr/>
              <p:nvPr/>
            </p:nvSpPr>
            <p:spPr>
              <a:xfrm>
                <a:off x="5911920" y="2011680"/>
                <a:ext cx="298800" cy="1591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73"/>
              <p:cNvSpPr/>
              <p:nvPr/>
            </p:nvSpPr>
            <p:spPr>
              <a:xfrm flipV="1">
                <a:off x="5812200" y="2689560"/>
                <a:ext cx="331920" cy="19872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74"/>
              <p:cNvSpPr/>
              <p:nvPr/>
            </p:nvSpPr>
            <p:spPr>
              <a:xfrm rot="19844400">
                <a:off x="6317640" y="2021400"/>
                <a:ext cx="697680" cy="39132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75"/>
              <p:cNvSpPr/>
              <p:nvPr/>
            </p:nvSpPr>
            <p:spPr>
              <a:xfrm>
                <a:off x="5580000" y="2107800"/>
                <a:ext cx="946080" cy="657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76"/>
              <p:cNvSpPr/>
              <p:nvPr/>
            </p:nvSpPr>
            <p:spPr>
              <a:xfrm>
                <a:off x="5712840" y="2230920"/>
                <a:ext cx="165600" cy="17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77"/>
              <p:cNvSpPr/>
              <p:nvPr/>
            </p:nvSpPr>
            <p:spPr>
              <a:xfrm>
                <a:off x="5778720" y="2251440"/>
                <a:ext cx="9972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78"/>
              <p:cNvSpPr/>
              <p:nvPr/>
            </p:nvSpPr>
            <p:spPr>
              <a:xfrm>
                <a:off x="5751000" y="2135880"/>
                <a:ext cx="16920" cy="9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79"/>
              <p:cNvSpPr/>
              <p:nvPr/>
            </p:nvSpPr>
            <p:spPr>
              <a:xfrm>
                <a:off x="5804280" y="21358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80"/>
              <p:cNvSpPr/>
              <p:nvPr/>
            </p:nvSpPr>
            <p:spPr>
              <a:xfrm>
                <a:off x="5817600" y="2396880"/>
                <a:ext cx="12960" cy="57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81"/>
              <p:cNvSpPr/>
              <p:nvPr/>
            </p:nvSpPr>
            <p:spPr>
              <a:xfrm>
                <a:off x="5778720" y="2131200"/>
                <a:ext cx="16920" cy="99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82"/>
              <p:cNvSpPr/>
              <p:nvPr/>
            </p:nvSpPr>
            <p:spPr>
              <a:xfrm flipH="1" rot="5451600">
                <a:off x="5636880" y="2523600"/>
                <a:ext cx="99360" cy="15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83"/>
              <p:cNvSpPr/>
              <p:nvPr/>
            </p:nvSpPr>
            <p:spPr>
              <a:xfrm>
                <a:off x="5778000" y="2410920"/>
                <a:ext cx="12960" cy="43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84"/>
              <p:cNvSpPr/>
              <p:nvPr/>
            </p:nvSpPr>
            <p:spPr>
              <a:xfrm>
                <a:off x="5830920" y="2135880"/>
                <a:ext cx="12960" cy="113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85"/>
              <p:cNvSpPr/>
              <p:nvPr/>
            </p:nvSpPr>
            <p:spPr>
              <a:xfrm>
                <a:off x="5843880" y="2368080"/>
                <a:ext cx="12960" cy="72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Text Box 86"/>
            <p:cNvSpPr/>
            <p:nvPr/>
          </p:nvSpPr>
          <p:spPr>
            <a:xfrm>
              <a:off x="7086240" y="1844640"/>
              <a:ext cx="1721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ал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87"/>
          <p:cNvGrpSpPr/>
          <p:nvPr/>
        </p:nvGrpSpPr>
        <p:grpSpPr>
          <a:xfrm>
            <a:off x="4718160" y="5300640"/>
            <a:ext cx="3846240" cy="1088280"/>
            <a:chOff x="4718160" y="5300640"/>
            <a:chExt cx="3846240" cy="1088280"/>
          </a:xfrm>
        </p:grpSpPr>
        <p:grpSp>
          <p:nvGrpSpPr>
            <p:cNvPr id="210" name="Group 88"/>
            <p:cNvGrpSpPr/>
            <p:nvPr/>
          </p:nvGrpSpPr>
          <p:grpSpPr>
            <a:xfrm>
              <a:off x="6048000" y="5401080"/>
              <a:ext cx="1587600" cy="987840"/>
              <a:chOff x="6048000" y="5401080"/>
              <a:chExt cx="1587600" cy="987840"/>
            </a:xfrm>
          </p:grpSpPr>
          <p:sp>
            <p:nvSpPr>
              <p:cNvPr id="211" name="AutoShape 89"/>
              <p:cNvSpPr/>
              <p:nvPr/>
            </p:nvSpPr>
            <p:spPr>
              <a:xfrm flipV="1" rot="1122000">
                <a:off x="6827040" y="5871240"/>
                <a:ext cx="763200" cy="40572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90"/>
              <p:cNvSpPr/>
              <p:nvPr/>
            </p:nvSpPr>
            <p:spPr>
              <a:xfrm flipV="1" rot="364200">
                <a:off x="6793920" y="5783760"/>
                <a:ext cx="763560" cy="40572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91"/>
              <p:cNvSpPr/>
              <p:nvPr/>
            </p:nvSpPr>
            <p:spPr>
              <a:xfrm rot="20771400">
                <a:off x="6860880" y="5610600"/>
                <a:ext cx="696600" cy="341280"/>
              </a:xfrm>
              <a:prstGeom prst="flowChartPunchedTap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92"/>
              <p:cNvSpPr/>
              <p:nvPr/>
            </p:nvSpPr>
            <p:spPr>
              <a:xfrm flipV="1" rot="20482200">
                <a:off x="6695280" y="6131520"/>
                <a:ext cx="149040" cy="1389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93"/>
              <p:cNvSpPr/>
              <p:nvPr/>
            </p:nvSpPr>
            <p:spPr>
              <a:xfrm>
                <a:off x="6379560" y="5541480"/>
                <a:ext cx="298440" cy="13860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94"/>
              <p:cNvSpPr/>
              <p:nvPr/>
            </p:nvSpPr>
            <p:spPr>
              <a:xfrm flipV="1">
                <a:off x="6279840" y="6131160"/>
                <a:ext cx="331560" cy="173160"/>
              </a:xfrm>
              <a:prstGeom prst="flowChartManualInpu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95"/>
              <p:cNvSpPr/>
              <p:nvPr/>
            </p:nvSpPr>
            <p:spPr>
              <a:xfrm rot="19844400">
                <a:off x="6784560" y="5549400"/>
                <a:ext cx="696960" cy="340560"/>
              </a:xfrm>
              <a:prstGeom prst="flowChartPunchedTap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6"/>
              <p:cNvSpPr/>
              <p:nvPr/>
            </p:nvSpPr>
            <p:spPr>
              <a:xfrm>
                <a:off x="6048000" y="5625000"/>
                <a:ext cx="945000" cy="572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97"/>
              <p:cNvSpPr/>
              <p:nvPr/>
            </p:nvSpPr>
            <p:spPr>
              <a:xfrm>
                <a:off x="6180840" y="5732280"/>
                <a:ext cx="165240" cy="156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98"/>
              <p:cNvSpPr/>
              <p:nvPr/>
            </p:nvSpPr>
            <p:spPr>
              <a:xfrm>
                <a:off x="6246720" y="5750280"/>
                <a:ext cx="99720" cy="121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99"/>
              <p:cNvSpPr/>
              <p:nvPr/>
            </p:nvSpPr>
            <p:spPr>
              <a:xfrm>
                <a:off x="6219000" y="5649840"/>
                <a:ext cx="1692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100"/>
              <p:cNvSpPr/>
              <p:nvPr/>
            </p:nvSpPr>
            <p:spPr>
              <a:xfrm>
                <a:off x="6272280" y="5649840"/>
                <a:ext cx="1584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101"/>
              <p:cNvSpPr/>
              <p:nvPr/>
            </p:nvSpPr>
            <p:spPr>
              <a:xfrm>
                <a:off x="6285240" y="5877000"/>
                <a:ext cx="12960" cy="4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02"/>
              <p:cNvSpPr/>
              <p:nvPr/>
            </p:nvSpPr>
            <p:spPr>
              <a:xfrm>
                <a:off x="6246720" y="5645520"/>
                <a:ext cx="16920" cy="8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103"/>
              <p:cNvSpPr/>
              <p:nvPr/>
            </p:nvSpPr>
            <p:spPr>
              <a:xfrm flipH="1" rot="5451600">
                <a:off x="6111360" y="5977440"/>
                <a:ext cx="86400" cy="15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04"/>
              <p:cNvSpPr/>
              <p:nvPr/>
            </p:nvSpPr>
            <p:spPr>
              <a:xfrm>
                <a:off x="6246000" y="588888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105"/>
              <p:cNvSpPr/>
              <p:nvPr/>
            </p:nvSpPr>
            <p:spPr>
              <a:xfrm>
                <a:off x="6298560" y="5649840"/>
                <a:ext cx="12960" cy="9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utoShape 106"/>
              <p:cNvSpPr/>
              <p:nvPr/>
            </p:nvSpPr>
            <p:spPr>
              <a:xfrm>
                <a:off x="6311520" y="5851800"/>
                <a:ext cx="12960" cy="63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107"/>
            <p:cNvSpPr/>
            <p:nvPr/>
          </p:nvSpPr>
          <p:spPr>
            <a:xfrm>
              <a:off x="7580520" y="5300640"/>
              <a:ext cx="98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ье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08"/>
            <p:cNvSpPr/>
            <p:nvPr/>
          </p:nvSpPr>
          <p:spPr>
            <a:xfrm>
              <a:off x="4718160" y="5300640"/>
              <a:ext cx="132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cc"/>
                  </a:solidFill>
                  <a:latin typeface="Arial"/>
                </a:rPr>
                <a:t>без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59:44Z</dcterms:created>
  <dc:creator>Ильдар</dc:creator>
  <dc:description/>
  <dc:language>en-US</dc:language>
  <cp:lastModifiedBy>Ильдар</cp:lastModifiedBy>
  <dcterms:modified xsi:type="dcterms:W3CDTF">2018-06-20T11:33:31Z</dcterms:modified>
  <cp:revision>505</cp:revision>
  <dc:subject/>
  <dc:title>Путешествие в сказочную школу</dc:title>
</cp:coreProperties>
</file>