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8.gif" ContentType="image/gif"/>
  <Override PartName="/ppt/media/image5.jpeg" ContentType="image/jpeg"/>
  <Override PartName="/ppt/media/image6.jpeg" ContentType="image/jpe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192F3-58C5-402E-A17F-CB15BB6A3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4E888-9AE8-47EA-A16A-5F7D5B4F5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6073A-3124-49AB-9DB4-8112884AC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B6C64-78CF-432E-BF37-D9C60879F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00515-1BB2-4E01-8AF2-3CA1233AA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65C3C-FFFE-44B6-AA5B-06BFD88A7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EED6B-F80E-4F0B-B4E6-70C95B8CB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71D08-1B14-4106-9054-A861AA73F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96CC6-8961-44AB-9707-68587F09C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9B20E-3569-485B-960C-E178DFAAC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8CB24-93E7-4F7D-8FE7-9030C6C70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C7530-5AF3-4CFD-9805-7E40F7048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7E13B-A569-4456-910E-74DBCE21C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748AB-F627-48BB-8BC7-83427B37A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F966A-1207-4810-824C-1BC3414CA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1215D-7A8A-43CA-BB86-62FD247F6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D41EC-FAA1-4541-9587-D80C3AE69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A4520-77F0-4ED7-964E-5481D3910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FC0C5-35C9-4C45-A7DF-27B46AF1A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5A770-7B9A-4C48-B448-973F72935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9AA7A-E4FA-465F-BC04-01F5BF94D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EDD9D-AADD-4A6E-9BBE-809E681F4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CEB4F-CC33-41B6-AE41-D7E03AE79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692DB-D3A8-4B80-BD41-668959D92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prstGeom prst="pie">
              <a:avLst/>
            </a:pr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prstGeom prst="pie">
              <a:avLst/>
            </a:pr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3400" y="6173640"/>
                <a:ext cx="196560" cy="2523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61400" y="6514560"/>
                <a:ext cx="336600" cy="2098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280" y="6411600"/>
                <a:ext cx="352080" cy="1065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prstGeom prst="pie">
              <a:avLst/>
            </a:pr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3289E-1946-4CED-B0F4-80866FBCC89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51120" cy="6858000"/>
            <a:chOff x="-20160" y="0"/>
            <a:chExt cx="905112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407560" y="63360"/>
              <a:ext cx="3623400" cy="6129000"/>
              <a:chOff x="5407560" y="63360"/>
              <a:chExt cx="3623400" cy="612900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2600" y="348840"/>
                <a:ext cx="2115360" cy="23572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21760" y="1961280"/>
                <a:ext cx="906120" cy="8431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7040" y="2593440"/>
                <a:ext cx="439200" cy="3952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52200" y="675360"/>
                <a:ext cx="388800" cy="5511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55720" y="2644560"/>
                <a:ext cx="163440" cy="3319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41320" y="1241640"/>
                <a:ext cx="190080" cy="1429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38200" y="2930400"/>
                <a:ext cx="523440" cy="326844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3480" y="3106800"/>
              <a:ext cx="512280" cy="10303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400" y="2000160"/>
              <a:ext cx="1998360" cy="24321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1160" cy="7286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4520" y="4532400"/>
              <a:ext cx="561600" cy="7365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7560" y="4728960"/>
              <a:ext cx="137880" cy="43488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88920" y="5195880"/>
              <a:ext cx="1758600" cy="16621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49720" y="1033560"/>
              <a:ext cx="1015200" cy="1262160"/>
              <a:chOff x="4149720" y="1033560"/>
              <a:chExt cx="1015200" cy="126216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63720" y="1071360"/>
                <a:ext cx="285840" cy="378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48680" y="1604520"/>
                <a:ext cx="488880" cy="3142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09760" y="1962000"/>
                <a:ext cx="511200" cy="1602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54160" y="293040"/>
              <a:ext cx="889200" cy="834120"/>
              <a:chOff x="5654160" y="293040"/>
              <a:chExt cx="889200" cy="83412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65760" y="796680"/>
                <a:ext cx="178560" cy="3618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14280" y="476280"/>
                <a:ext cx="306000" cy="300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53560" y="393480"/>
                <a:ext cx="320040" cy="153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60840" y="5253480"/>
              <a:ext cx="1062720" cy="834840"/>
              <a:chOff x="960840" y="5253480"/>
              <a:chExt cx="1062720" cy="83484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706760" y="5522040"/>
                <a:ext cx="250920" cy="3002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89800" y="5733360"/>
                <a:ext cx="429480" cy="2491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52200" y="5378040"/>
                <a:ext cx="448920" cy="126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75840" y="451080"/>
              <a:ext cx="1690200" cy="1146600"/>
              <a:chOff x="375840" y="451080"/>
              <a:chExt cx="1690200" cy="114660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76080" y="1069560"/>
                <a:ext cx="355320" cy="53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22760" y="594720"/>
                <a:ext cx="608400" cy="44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78640" y="1108440"/>
                <a:ext cx="636120" cy="2239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377480" y="3712320"/>
              <a:ext cx="1156320" cy="1607760"/>
              <a:chOff x="7377480" y="3712320"/>
              <a:chExt cx="1156320" cy="160776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32200" y="4755960"/>
                <a:ext cx="355320" cy="53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882920" y="4455360"/>
                <a:ext cx="608400" cy="44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575840" y="3781440"/>
                <a:ext cx="636120" cy="2239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1760" y="3240"/>
              <a:ext cx="1368000" cy="140652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25040" y="161280"/>
              <a:ext cx="1080720" cy="9414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69080" y="1361160"/>
              <a:ext cx="523440" cy="4410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29440" y="1282320"/>
              <a:ext cx="195120" cy="37044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4120" y="0"/>
              <a:ext cx="196560" cy="19224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48800" y="1963800"/>
              <a:ext cx="623520" cy="365148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6880" cy="2095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5BF1C-22DB-49E9-AE99-3EECA6C179FB}" type="slidenum">
              <a:rPr b="0" lang="ru-RU" sz="1400" spc="-1" strike="noStrike">
                <a:solidFill>
                  <a:srgbClr val="00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gif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2488680" y="4279680"/>
            <a:ext cx="6147000" cy="148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Типы речи: повествование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2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Установить соответствие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704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25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6699"/>
                </a:solidFill>
                <a:latin typeface="Verdana"/>
              </a:rPr>
              <a:t>Повествование</a:t>
            </a:r>
            <a:endParaRPr b="0" lang="en-US" sz="33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825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6699"/>
                </a:solidFill>
                <a:latin typeface="Verdana"/>
              </a:rPr>
              <a:t>Описание</a:t>
            </a:r>
            <a:endParaRPr b="0" lang="en-US" sz="33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825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6699"/>
                </a:solidFill>
                <a:latin typeface="Verdana"/>
              </a:rPr>
              <a:t>Рассуждение</a:t>
            </a:r>
            <a:endParaRPr b="0" lang="en-US" sz="33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49760" y="1600200"/>
            <a:ext cx="403704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25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6699"/>
                </a:solidFill>
                <a:latin typeface="Verdana"/>
              </a:rPr>
              <a:t>Какой?</a:t>
            </a:r>
            <a:endParaRPr b="0" lang="en-US" sz="33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825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6699"/>
                </a:solidFill>
                <a:latin typeface="Verdana"/>
              </a:rPr>
              <a:t>Почему?</a:t>
            </a:r>
            <a:endParaRPr b="0" lang="en-US" sz="33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825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6699"/>
                </a:solidFill>
                <a:latin typeface="Verdana"/>
              </a:rPr>
              <a:t>Что произошло?</a:t>
            </a:r>
            <a:endParaRPr b="0" lang="en-US" sz="33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304920" y="304560"/>
            <a:ext cx="853416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Одному мужику как-то днем захотелось есть. Он купил на базаре калач и съел; ему всё ещё хотелось есть. Он купил другой калач и съел; ему всё ещё хотелось есть. Затем он купил третий калач и съел, и ему всё ещё хотелось есть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     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Потом он купил баранок и, когда съел одну, стал сыт. Тогда мужик ударил себя по голове и сказал: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- Экой я дурак! Что ж я напрасно съел столько калачей? Мне надо было съесть сначала одну баранку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Verdana"/>
              </a:rPr>
              <a:t>Части текста – повествования:</a:t>
            </a: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Вступление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Основная часть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Заключение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Опорные слова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Сначала, затем, потом, после этого, в этот момент, …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7" descr="ANd9GcREUYELyqQYxzzq8GgelnhQG0i1ZXz1gtQNtgRT1uzCQt5ZnJcc"/>
          <p:cNvPicPr/>
          <p:nvPr/>
        </p:nvPicPr>
        <p:blipFill>
          <a:blip r:embed="rId1"/>
          <a:stretch/>
        </p:blipFill>
        <p:spPr>
          <a:xfrm>
            <a:off x="4495680" y="304920"/>
            <a:ext cx="3962520" cy="238572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9" descr="ANd9GcTEcuPuZxaX5RN0wUU5q0XeZQ-ZJipofxz_-il-Dpsrf7tXB2Dd"/>
          <p:cNvPicPr/>
          <p:nvPr/>
        </p:nvPicPr>
        <p:blipFill>
          <a:blip r:embed="rId2"/>
          <a:stretch/>
        </p:blipFill>
        <p:spPr>
          <a:xfrm>
            <a:off x="304920" y="3505320"/>
            <a:ext cx="3657600" cy="22302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1" descr="245-i_001"/>
          <p:cNvPicPr/>
          <p:nvPr/>
        </p:nvPicPr>
        <p:blipFill>
          <a:blip r:embed="rId3"/>
          <a:stretch/>
        </p:blipFill>
        <p:spPr>
          <a:xfrm>
            <a:off x="4343400" y="3657600"/>
            <a:ext cx="4038480" cy="249876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3" descr="repka"/>
          <p:cNvPicPr/>
          <p:nvPr/>
        </p:nvPicPr>
        <p:blipFill>
          <a:blip r:embed="rId4"/>
          <a:stretch/>
        </p:blipFill>
        <p:spPr>
          <a:xfrm>
            <a:off x="380880" y="685800"/>
            <a:ext cx="4343400" cy="23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5" descr="ryaba"/>
          <p:cNvPicPr/>
          <p:nvPr/>
        </p:nvPicPr>
        <p:blipFill>
          <a:blip r:embed="rId1"/>
          <a:stretch/>
        </p:blipFill>
        <p:spPr>
          <a:xfrm>
            <a:off x="4419720" y="228600"/>
            <a:ext cx="3319200" cy="223344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7" descr="ryaba2"/>
          <p:cNvPicPr/>
          <p:nvPr/>
        </p:nvPicPr>
        <p:blipFill>
          <a:blip r:embed="rId2"/>
          <a:stretch/>
        </p:blipFill>
        <p:spPr>
          <a:xfrm>
            <a:off x="76320" y="3124080"/>
            <a:ext cx="3504960" cy="233064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9" descr="%D0%9A%D1%83%D1%80%D0%BE%D1%87%D0%BA%D0%B0-%D0%A0%D1%8F%D0%B1%D0%B0-3"/>
          <p:cNvPicPr/>
          <p:nvPr/>
        </p:nvPicPr>
        <p:blipFill>
          <a:blip r:embed="rId3"/>
          <a:stretch/>
        </p:blipFill>
        <p:spPr>
          <a:xfrm>
            <a:off x="5500800" y="2438280"/>
            <a:ext cx="3643200" cy="248472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http://s019.radikal.ru/i629/1207/5d/4ea494a9b13e.gif"/>
          <p:cNvPicPr/>
          <p:nvPr/>
        </p:nvPicPr>
        <p:blipFill>
          <a:blip r:embed="rId4"/>
          <a:stretch/>
        </p:blipFill>
        <p:spPr>
          <a:xfrm>
            <a:off x="152280" y="228600"/>
            <a:ext cx="3581640" cy="253368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3"/>
          <p:cNvPicPr/>
          <p:nvPr/>
        </p:nvPicPr>
        <p:blipFill>
          <a:blip r:embed="rId5"/>
          <a:stretch/>
        </p:blipFill>
        <p:spPr>
          <a:xfrm>
            <a:off x="3124080" y="4648320"/>
            <a:ext cx="2895840" cy="19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Составьте текст-повествование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«Пчёлы»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«Спасли ежа»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«Щенок нашёл друзей»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«Помогли птицам»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«День рождения цыплёнка»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8" name="AutoShape 7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9" name="AutoShape 9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0" name="AutoShape 11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5T11:43:27Z</dcterms:created>
  <dc:creator>Алесса</dc:creator>
  <dc:description/>
  <dc:language>en-US</dc:language>
  <cp:lastModifiedBy>Кабинет №2</cp:lastModifiedBy>
  <dcterms:modified xsi:type="dcterms:W3CDTF">2018-06-20T05:21:15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