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BDE-755D-40EC-825B-FD2D6D83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42A-2344-4266-9381-5A14789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7D2-A29D-41DE-B4E3-C93949F1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8CE-917C-46A3-9177-9F210D2A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6BCC-EF7B-4E3A-8817-B7305748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5430-C64A-4D0C-B961-382949D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72BD-BAC9-4807-B25F-698F09A5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2F1-AB54-42AE-8C3B-D91101C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3864-CD8D-4770-9398-688FE445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771-013E-4C68-AB08-06D7775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1BEB-A932-4AED-9F8C-2A3A73F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856-B1B1-4097-A88D-74AC5A0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292-819F-4276-BB90-5F1E3F7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BD64-48CA-4379-8240-EE8D28E4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E35-0136-4316-8F54-E102BB1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180-09BE-450D-ACF2-A1518AFF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9F85-B803-43DD-8D6B-9BD2FFB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374-6FEF-408D-8A0B-7636AC4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932-F76D-4A23-BBC1-4316917A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B4E-C35F-4DD1-ABDE-9FE324B0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6F5-0A25-4AB7-8A99-7B0FE03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8E5-5284-41E3-B466-23C4178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F05-9516-4728-84AD-01728EDA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107-B5A4-45C5-9C38-D738B1B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FCD-3D41-4F96-B9F9-295D7FFBA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3570-5B2B-465E-A4B3-0EC9173DAC0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ипы речи: повеств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становить соответств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Повествова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Описа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Рассужде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Какой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Почему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Что произошло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дному мужику как-то днем захотелось есть. Он купил на базаре калач и съел; ему всё ещё хотелось есть. Он купил другой калач и съел; ему всё ещё хотелось есть. Затем он купил третий калач и съел, и ему всё ещё хотелось е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том он купил баранок и, когда съел одну, стал сыт. Тогда мужик ударил себя по голове и сказал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Экой я дурак! Что ж я напрасно съел столько калачей? Мне надо было съесть сначала одну баран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Части текста – повествования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тупле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сновная ча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порные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начала, затем, потом, после этого, в этот момент,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ANd9GcREUYELyqQYxzzq8GgelnhQG0i1ZXz1gtQNtgRT1uzCQt5ZnJcc"/>
          <p:cNvPicPr/>
          <p:nvPr/>
        </p:nvPicPr>
        <p:blipFill>
          <a:blip r:embed="rId1"/>
          <a:stretch/>
        </p:blipFill>
        <p:spPr>
          <a:xfrm>
            <a:off x="4495680" y="304920"/>
            <a:ext cx="3962520" cy="238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ANd9GcTEcuPuZxaX5RN0wUU5q0XeZQ-ZJipofxz_-il-Dpsrf7tXB2Dd"/>
          <p:cNvPicPr/>
          <p:nvPr/>
        </p:nvPicPr>
        <p:blipFill>
          <a:blip r:embed="rId2"/>
          <a:stretch/>
        </p:blipFill>
        <p:spPr>
          <a:xfrm>
            <a:off x="304920" y="3505320"/>
            <a:ext cx="3657600" cy="223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245-i_001"/>
          <p:cNvPicPr/>
          <p:nvPr/>
        </p:nvPicPr>
        <p:blipFill>
          <a:blip r:embed="rId3"/>
          <a:stretch/>
        </p:blipFill>
        <p:spPr>
          <a:xfrm>
            <a:off x="4343400" y="3657600"/>
            <a:ext cx="4038480" cy="249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repka"/>
          <p:cNvPicPr/>
          <p:nvPr/>
        </p:nvPicPr>
        <p:blipFill>
          <a:blip r:embed="rId4"/>
          <a:stretch/>
        </p:blipFill>
        <p:spPr>
          <a:xfrm>
            <a:off x="380880" y="685800"/>
            <a:ext cx="4343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ryaba"/>
          <p:cNvPicPr/>
          <p:nvPr/>
        </p:nvPicPr>
        <p:blipFill>
          <a:blip r:embed="rId1"/>
          <a:stretch/>
        </p:blipFill>
        <p:spPr>
          <a:xfrm>
            <a:off x="4419720" y="228600"/>
            <a:ext cx="3319200" cy="2233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ryaba2"/>
          <p:cNvPicPr/>
          <p:nvPr/>
        </p:nvPicPr>
        <p:blipFill>
          <a:blip r:embed="rId2"/>
          <a:stretch/>
        </p:blipFill>
        <p:spPr>
          <a:xfrm>
            <a:off x="76320" y="3124080"/>
            <a:ext cx="3504960" cy="2330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%D0%9A%D1%83%D1%80%D0%BE%D1%87%D0%BA%D0%B0-%D0%A0%D1%8F%D0%B1%D0%B0-3"/>
          <p:cNvPicPr/>
          <p:nvPr/>
        </p:nvPicPr>
        <p:blipFill>
          <a:blip r:embed="rId3"/>
          <a:stretch/>
        </p:blipFill>
        <p:spPr>
          <a:xfrm>
            <a:off x="5500800" y="2438280"/>
            <a:ext cx="3643200" cy="248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http://s019.radikal.ru/i629/1207/5d/4ea494a9b13e.gif"/>
          <p:cNvPicPr/>
          <p:nvPr/>
        </p:nvPicPr>
        <p:blipFill>
          <a:blip r:embed="rId4"/>
          <a:stretch/>
        </p:blipFill>
        <p:spPr>
          <a:xfrm>
            <a:off x="152280" y="228600"/>
            <a:ext cx="3581640" cy="2533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3"/>
          <p:cNvPicPr/>
          <p:nvPr/>
        </p:nvPicPr>
        <p:blipFill>
          <a:blip r:embed="rId5"/>
          <a:stretch/>
        </p:blipFill>
        <p:spPr>
          <a:xfrm>
            <a:off x="3124080" y="4648320"/>
            <a:ext cx="2895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ставьте текст-повествов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Пчёлы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Спасли еж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Щенок нашёл друзей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Помогли птицам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ень рождения цыплёнк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1:43:27Z</dcterms:created>
  <dc:creator>Алесса</dc:creator>
  <dc:description/>
  <dc:language>en-US</dc:language>
  <cp:lastModifiedBy>Кабинет №2</cp:lastModifiedBy>
  <dcterms:modified xsi:type="dcterms:W3CDTF">2018-06-20T05:21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