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26C4-6FAD-460F-BEF9-FA3D928D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8F67-89D7-43EE-B021-F0F2125E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76F9-09B2-4675-B161-00E61E65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C9A-2550-4944-BA1A-90EA313F0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2E1-3F63-4A17-A795-42974517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A043-EE4A-426F-AA40-63821DE5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6049-63BA-4832-A5F1-693988EE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88DF-8D6C-4B0E-8BE6-3A399B8B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1586-06B0-4CE8-9FB1-714DFFE2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7028-A478-43BA-A10E-710FC068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3C56-F54E-4C29-A24D-D110A508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B9D0-83A0-413B-B5AC-90A6B36C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07E4-BE92-4E82-BA79-AFB5212E3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47640" y="587700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БЛОКАДА ЛЕНИНГ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043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295200"/>
            <a:ext cx="822960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6756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633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839080" y="6308640"/>
            <a:ext cx="30492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592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22653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ОКАДНАЯ ЛАСТ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55640" y="1600200"/>
            <a:ext cx="1640160" cy="2185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7040" y="3938760"/>
            <a:ext cx="1558800" cy="2187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648320" y="2114640"/>
            <a:ext cx="403848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47172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6229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28920" y="1176480"/>
            <a:ext cx="428616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748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13080" y="274680"/>
            <a:ext cx="43164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6T18:12:18Z</dcterms:created>
  <dc:creator>Packard Bell</dc:creator>
  <dc:description/>
  <dc:language>en-US</dc:language>
  <cp:lastModifiedBy>Packard Bell</cp:lastModifiedBy>
  <dcterms:modified xsi:type="dcterms:W3CDTF">2018-06-20T16:44:55Z</dcterms:modified>
  <cp:revision>5</cp:revision>
  <dc:subject/>
  <dc:title>Слайд 1</dc:title>
</cp:coreProperties>
</file>