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9FB-58B2-48BC-BD4D-1197EF5F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578-4164-4E31-893C-A2B328B3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4F76-A615-4981-B625-AD2F5D36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9637-F798-4894-AA67-B08CD181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F2D-17EE-43AA-AFC5-D2997254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679-46BB-4309-A07D-975F2D3B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B4C-9B32-40B1-A718-3DA74710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FE4-3581-4905-97D7-EBB7F50E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FEEA-C92B-4C02-942D-79FFBFE6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B6E-8EE9-411E-BF41-38ECAA92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F9D-A878-4585-8739-1CA20AB4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D66-C5E1-4CA0-8020-244D26C9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E116-F3C0-4A48-B172-6E5381629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47640" y="587700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БЛОКАДА ЛЕНИНГ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043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295200"/>
            <a:ext cx="82296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633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839080" y="6308640"/>
            <a:ext cx="30492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92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22653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ОКАДНАЯ ЛАСТ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55640" y="1600200"/>
            <a:ext cx="1640160" cy="218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7040" y="3938760"/>
            <a:ext cx="155880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2114640"/>
            <a:ext cx="403848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47172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229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28920" y="1176480"/>
            <a:ext cx="428616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748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13080" y="274680"/>
            <a:ext cx="43164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6T18:12:18Z</dcterms:created>
  <dc:creator>Packard Bell</dc:creator>
  <dc:description/>
  <dc:language>en-US</dc:language>
  <cp:lastModifiedBy>Packard Bell</cp:lastModifiedBy>
  <dcterms:modified xsi:type="dcterms:W3CDTF">2018-06-20T16:44:55Z</dcterms:modified>
  <cp:revision>5</cp:revision>
  <dc:subject/>
  <dc:title>Слайд 1</dc:title>
</cp:coreProperties>
</file>