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A4BC-04CC-4D20-A4F0-DCE8DA12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9FD5-F364-49CB-BC99-C10C705AF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57F0-ECBB-4980-8FA9-284BEDDB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0E19-F473-447B-B1C1-AD41CEE49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86C6-B0EB-44C3-949B-5EFD3339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D03E-E49F-4BC2-BDAA-B222F065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4F96-98FF-436C-80C2-05AB167C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C151-C654-403C-8AA9-E15FCE98A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5B8A-FC8B-44BD-97E5-D46AEDFF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0F09-A0A1-47CA-9DC7-1AEC2CAFA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89BED-81BC-44C9-B315-6C7A005E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0BC6-17CD-4E62-881E-06885362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65C7E-62CA-4D7A-A649-B17361EA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916D-9F7E-4F88-AB26-FEEC7AAA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99DA-CF9C-4440-B471-8B9A5AC2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F14B-105B-49AF-AC98-2177DE497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D532-59DE-4ECD-ACB9-3A7938C52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388-5FD1-48FC-B615-76A39C5F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ADE3-D145-434B-926B-567489597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BD1-0E1F-4009-9759-E31E8CA5B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7F10-AEED-4B33-A344-3D3AD8666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CDAD-0706-40CA-BC87-CC6C41D7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2F91-EC92-4E05-AC15-C7845144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91E-1FE2-4A7E-9AC5-238B30D31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CB42-4321-4A36-A2BF-AB50386D7BB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AAC8-D5C4-43EF-92FE-0CBBB0C9DF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50;&#1086;&#1084;&#1087;&#1086;&#1079;&#1080;&#1090;&#1086;&#1088;" TargetMode="External"/><Relationship Id="rId3" Type="http://schemas.openxmlformats.org/officeDocument/2006/relationships/hyperlink" Target="http://ru.wikipedia.org/wiki/&#1055;&#1077;&#1076;&#1072;&#1075;&#1086;&#1075;" TargetMode="External"/><Relationship Id="rId4" Type="http://schemas.openxmlformats.org/officeDocument/2006/relationships/hyperlink" Target="http://ru.wikipedia.org/wiki/&#1044;&#1080;&#1088;&#1080;&#1078;&#1105;&#1088;" TargetMode="External"/><Relationship Id="rId5" Type="http://schemas.openxmlformats.org/officeDocument/2006/relationships/hyperlink" Target="http://ru.wikipedia.org/wiki/&#1052;&#1091;&#1079;&#1099;&#1082;&#1072;&#1083;&#1100;&#1085;&#1072;&#1103;_&#1082;&#1088;&#1080;&#1090;&#1080;&#1082;&#1072;" TargetMode="External"/><Relationship Id="rId6" Type="http://schemas.openxmlformats.org/officeDocument/2006/relationships/hyperlink" Target="http://ru.wikipedia.org/wiki/&#1054;&#1087;&#1077;&#1088;&#1072;" TargetMode="External"/><Relationship Id="rId7" Type="http://schemas.openxmlformats.org/officeDocument/2006/relationships/hyperlink" Target="http://ru.wikipedia.org/wiki/&#1057;&#1080;&#1084;&#1092;&#1086;&#1085;&#1080;&#1103;" TargetMode="External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«</a:t>
            </a: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Сказка о Золотом петушке» </a:t>
            </a:r>
            <a:br>
              <a:rPr sz="3600"/>
            </a:br>
            <a:r>
              <a:rPr b="0" lang="en-US" sz="3600" spc="-1" strike="noStrike">
                <a:solidFill>
                  <a:srgbClr val="e5ffff"/>
                </a:solidFill>
                <a:latin typeface="Tahoma"/>
              </a:rPr>
              <a:t>А.С. Пушкина в музыке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Picture 2" descr="D:\Documents and Settings\Admin\Мои документы\Мои результаты сканирования\сканирование00021.jpg"/>
          <p:cNvPicPr/>
          <p:nvPr/>
        </p:nvPicPr>
        <p:blipFill>
          <a:blip r:embed="rId2"/>
          <a:stretch/>
        </p:blipFill>
        <p:spPr>
          <a:xfrm>
            <a:off x="819000" y="2057400"/>
            <a:ext cx="2054520" cy="2525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:\Documents and Settings\Admin\Мои документы\Мои результаты сканирования\сканирование00020.jpg"/>
          <p:cNvPicPr/>
          <p:nvPr/>
        </p:nvPicPr>
        <p:blipFill>
          <a:blip r:embed="rId3"/>
          <a:stretch/>
        </p:blipFill>
        <p:spPr>
          <a:xfrm>
            <a:off x="3657600" y="2057400"/>
            <a:ext cx="2071800" cy="2514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172200" y="32004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«Сказка ложь, да в ней намек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Добрым молодцам урок.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4724280"/>
            <a:ext cx="2209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.А.Римский-Корсаков Оп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Золотой Петушок»         1907 г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86200" y="48006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.С.Пушкин  «Сказка о золотом петушке» 1834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5ffff"/>
                </a:solidFill>
                <a:latin typeface="Tahoma"/>
              </a:rPr>
              <a:t>Н.А. Римский-Корсаков русский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композитор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,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3"/>
              </a:rPr>
              <a:t>педагог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,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дирижёр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, общественный деятель, </a:t>
            </a:r>
            <a:r>
              <a:rPr b="0" lang="en-US" sz="2800" spc="-1" strike="noStrike" u="sng">
                <a:solidFill>
                  <a:srgbClr val="00ccff"/>
                </a:solidFill>
                <a:uFillTx/>
                <a:latin typeface="Tahoma"/>
                <a:hlinkClick r:id="rId5"/>
              </a:rPr>
              <a:t>музыкальный критик</a:t>
            </a:r>
            <a:r>
              <a:rPr b="0" lang="en-US" sz="2800" spc="-1" strike="noStrike" u="sng">
                <a:solidFill>
                  <a:srgbClr val="e5ffff"/>
                </a:solidFill>
                <a:uFillTx/>
                <a:latin typeface="Tahoma"/>
              </a:rPr>
              <a:t>.</a:t>
            </a:r>
            <a:r>
              <a:rPr b="0" lang="en-US" sz="2400" spc="-1" strike="noStrike" u="sng">
                <a:solidFill>
                  <a:srgbClr val="e5ffff"/>
                </a:solidFill>
                <a:uFillTx/>
                <a:latin typeface="Tahoma"/>
              </a:rPr>
              <a:t> 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реди его сочинений — 15 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6"/>
              </a:rPr>
              <a:t>опер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 3 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7"/>
              </a:rPr>
              <a:t>симфонии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, симфонические произведения, инструментальные концерты, кантаты, камерно-инструментальная, вокальная и духовная музыка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8"/>
          <a:stretch/>
        </p:blipFill>
        <p:spPr>
          <a:xfrm>
            <a:off x="1752480" y="325764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457200" y="356760"/>
            <a:ext cx="8229600" cy="573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пера-это вид музыкально-театрального искусства, который основан на слиянии слова, музыки и сценического действия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Либретто-краткое содержание оперы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42640" indent="-24264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Речитатив-полупение-полуречь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바탕"/>
              </a:rPr>
              <a:t>«Золотой петушок» являет собой редкий в мировой классике пример сатирической оперы. Музыкальный язык оперы глубоко национален: в нем отражены самобытные особенности русской песенности и бытовых жанров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1219320" y="2286000"/>
            <a:ext cx="6476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Краткое оркестровое вступление открывается задорным кличем Петушка. Призывная музыка сменяется восточной мелодией, прихотливо изысканной, исполненной любовного томления. А прозрачный звон колокольчиков уведомляет о выходе Звездочет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Picture 2" descr="D:\Documents and Settings\Admin\Мои документы\Мои результаты сканирования\сканирование00014.jpg"/>
          <p:cNvPicPr/>
          <p:nvPr/>
        </p:nvPicPr>
        <p:blipFill>
          <a:blip r:embed="rId2"/>
          <a:stretch/>
        </p:blipFill>
        <p:spPr>
          <a:xfrm>
            <a:off x="1219320" y="3505320"/>
            <a:ext cx="2955960" cy="26938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0" y="411480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«Кирики, кири-ку-ку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Царствуй, лежа на боку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Picture 1" descr="D:\Documents and Settings\Admin\Мои документы\Мои результаты сканирования\сканирование0011111.jpg"/>
          <p:cNvPicPr/>
          <p:nvPr/>
        </p:nvPicPr>
        <p:blipFill>
          <a:blip r:embed="rId3"/>
          <a:stretch/>
        </p:blipFill>
        <p:spPr>
          <a:xfrm>
            <a:off x="324000" y="404640"/>
            <a:ext cx="836280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I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акт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       </a:t>
            </a:r>
            <a:r>
              <a:rPr b="0" lang="ru-RU" sz="1600" spc="-1" strike="noStrike">
                <a:solidFill>
                  <a:srgbClr val="ffffff"/>
                </a:solidFill>
                <a:latin typeface="바탕"/>
              </a:rPr>
              <a:t>В первом акте обрисовано Додоново царство: торжественный глуповато-примитивный марш становится его характеристикой. Переломный момент ознаменован появлением Звездочета. 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тушок наделен двумя кличами — спокойным, возвещающим о благополучии в стране Додона, и тревожным, предупреждающим о грозящей опасности. На развитии «тревожного» клича Петушка строится сцена смятения и страха. После ухода царевичей на войну вновь возвращается мирный напев Петушка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2" descr="D:\Documents and Settings\Admin\Мои документы\Мои результаты сканирования\сканирование00013.jpg"/>
          <p:cNvPicPr/>
          <p:nvPr/>
        </p:nvPicPr>
        <p:blipFill>
          <a:blip r:embed="rId2"/>
          <a:stretch/>
        </p:blipFill>
        <p:spPr>
          <a:xfrm>
            <a:off x="1066680" y="3429000"/>
            <a:ext cx="1171800" cy="21574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D:\Documents and Settings\Admin\Мои документы\Мои результаты сканирования\сканирование00012.jpg"/>
          <p:cNvPicPr/>
          <p:nvPr/>
        </p:nvPicPr>
        <p:blipFill>
          <a:blip r:embed="rId3"/>
          <a:stretch/>
        </p:blipFill>
        <p:spPr>
          <a:xfrm>
            <a:off x="2971800" y="3505320"/>
            <a:ext cx="1071720" cy="2054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4800600" y="3201840"/>
            <a:ext cx="350532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узыка второго акта рисует зловещую картину ущелья, где лежат убитые сыновья Додона. Изменился и облик марша — ранее ухарский, победный, он звучит теперь неуверенно, робко. Напевы Шемаханской царицы предвосхищают ее появлени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2" descr="D:\Documents and Settings\Admin\Мои документы\Мои результаты сканирования\сканирование00015.jpg"/>
          <p:cNvPicPr/>
          <p:nvPr/>
        </p:nvPicPr>
        <p:blipFill>
          <a:blip r:embed="rId2"/>
          <a:stretch/>
        </p:blipFill>
        <p:spPr>
          <a:xfrm>
            <a:off x="838080" y="2819520"/>
            <a:ext cx="4138560" cy="3058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486400" y="2514600"/>
            <a:ext cx="2786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II 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акт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аинственно-настороженная музыка оркестрового вступления к третьему акту прерывается грозным кличем Петушка. И как в первом акте, — переломный момент наступает с появлением Звездочета. В его арии «Подари ты мне девицу, Шемаханскую царицу» снова возникает фантастический колорит. Предрекая кровавую развязку, злобно кричит Петушок: «Ки-ри-ку-ку! В темя клюну старику». 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1295280" y="2819520"/>
            <a:ext cx="2562480" cy="3429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4343400" y="2903400"/>
            <a:ext cx="342900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0T18:46:18Z</dcterms:created>
  <dc:creator>Администратор</dc:creator>
  <dc:description/>
  <dc:language>en-US</dc:language>
  <cp:lastModifiedBy>DNA7 X86</cp:lastModifiedBy>
  <dcterms:modified xsi:type="dcterms:W3CDTF">2012-11-20T20:50:48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