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EBE9-7F3E-4A53-824B-A9089D9EC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4CB4-1C14-4E13-BEAA-B52CB227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D7D9-DBFA-4DBF-BB1B-4680FB8A5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6578-D3B9-4550-9CF3-EBCFCB7FC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6DB1-9C94-468B-9014-1EE3212F6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F89E0-B638-40F1-9BD8-7C78554F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261B9-5033-49FA-89E4-33F139D9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C7A4-E77B-422F-B311-859325B7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D27B-5C00-4338-8122-28469040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F155-F743-4092-B9B9-DA5AB4B2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1A537-17A2-4302-9D6E-D96F414B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CDC5-3A71-499B-A763-A6D02470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0D939-9D94-4CA0-8F89-2B9AD6C2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9B9A-DCA2-440F-978C-6C25A237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8C5D-3EBC-434C-BB6F-FF8AC435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7FEF1-5AB5-4A34-B3BA-56A719A0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FD47E-81AC-4BDC-8350-D1FA3951E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C2A2-BC3C-4535-AB4F-87C5CE27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AEC6-8C96-4EFC-87B6-B8D03B1E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B126-ACD0-43F4-8011-B2BEBDF3C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46E1-8514-456F-8E12-347B7795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52A6-402D-4BA5-9CB1-A493FFF2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8E36-E0A8-4DCA-92CC-FFE7D386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48AF-96F1-49DA-B453-E059D1E0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318E-7C6F-4CD9-B821-A6BB835555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F333-731A-436F-9AF7-709185DCFF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0;&#1086;&#1084;&#1087;&#1086;&#1079;&#1080;&#1090;&#1086;&#1088;" TargetMode="External"/><Relationship Id="rId3" Type="http://schemas.openxmlformats.org/officeDocument/2006/relationships/hyperlink" Target="http://ru.wikipedia.org/wiki/&#1055;&#1077;&#1076;&#1072;&#1075;&#1086;&#1075;" TargetMode="External"/><Relationship Id="rId4" Type="http://schemas.openxmlformats.org/officeDocument/2006/relationships/hyperlink" Target="http://ru.wikipedia.org/wiki/&#1044;&#1080;&#1088;&#1080;&#1078;&#1105;&#1088;" TargetMode="External"/><Relationship Id="rId5" Type="http://schemas.openxmlformats.org/officeDocument/2006/relationships/hyperlink" Target="http://ru.wikipedia.org/wiki/&#1052;&#1091;&#1079;&#1099;&#1082;&#1072;&#1083;&#1100;&#1085;&#1072;&#1103;_&#1082;&#1088;&#1080;&#1090;&#1080;&#1082;&#1072;" TargetMode="External"/><Relationship Id="rId6" Type="http://schemas.openxmlformats.org/officeDocument/2006/relationships/hyperlink" Target="http://ru.wikipedia.org/wiki/&#1054;&#1087;&#1077;&#1088;&#1072;" TargetMode="External"/><Relationship Id="rId7" Type="http://schemas.openxmlformats.org/officeDocument/2006/relationships/hyperlink" Target="http://ru.wikipedia.org/wiki/&#1057;&#1080;&#1084;&#1092;&#1086;&#1085;&#1080;&#1103;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«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Сказка о Золотом петушке» </a:t>
            </a: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А.С. Пушкина в музыке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Picture 2" descr="D:\Documents and Settings\Admin\Мои документы\Мои результаты сканирования\сканирование00021.jpg"/>
          <p:cNvPicPr/>
          <p:nvPr/>
        </p:nvPicPr>
        <p:blipFill>
          <a:blip r:embed="rId2"/>
          <a:stretch/>
        </p:blipFill>
        <p:spPr>
          <a:xfrm>
            <a:off x="819000" y="2057400"/>
            <a:ext cx="2054520" cy="2525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D:\Documents and Settings\Admin\Мои документы\Мои результаты сканирования\сканирование00020.jpg"/>
          <p:cNvPicPr/>
          <p:nvPr/>
        </p:nvPicPr>
        <p:blipFill>
          <a:blip r:embed="rId3"/>
          <a:stretch/>
        </p:blipFill>
        <p:spPr>
          <a:xfrm>
            <a:off x="3657600" y="2057400"/>
            <a:ext cx="2071800" cy="2514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172200" y="32004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«Сказка ложь, да в ней намек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Добрым молодцам урок.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4724280"/>
            <a:ext cx="220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.А.Римский-Корсаков Оп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Золотой Петушок»         1907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48006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.С.Пушкин  «Сказка о золотом петушке» 1834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Н.А. Римский-Корсаков русский </a:t>
            </a: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композитор</a:t>
            </a:r>
            <a:r>
              <a:rPr b="0" lang="en-US" sz="2800" spc="-1" strike="noStrike" u="sng">
                <a:solidFill>
                  <a:srgbClr val="e5ffff"/>
                </a:solidFill>
                <a:uFillTx/>
                <a:latin typeface="Tahoma"/>
              </a:rPr>
              <a:t>, </a:t>
            </a: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педагог</a:t>
            </a:r>
            <a:r>
              <a:rPr b="0" lang="en-US" sz="2800" spc="-1" strike="noStrike" u="sng">
                <a:solidFill>
                  <a:srgbClr val="e5ffff"/>
                </a:solidFill>
                <a:uFillTx/>
                <a:latin typeface="Tahoma"/>
              </a:rPr>
              <a:t>, </a:t>
            </a: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дирижёр</a:t>
            </a:r>
            <a:r>
              <a:rPr b="0" lang="en-US" sz="2800" spc="-1" strike="noStrike" u="sng">
                <a:solidFill>
                  <a:srgbClr val="e5ffff"/>
                </a:solidFill>
                <a:uFillTx/>
                <a:latin typeface="Tahoma"/>
              </a:rPr>
              <a:t>, общественный деятель, </a:t>
            </a: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музыкальный критик</a:t>
            </a:r>
            <a:r>
              <a:rPr b="0" lang="en-US" sz="2800" spc="-1" strike="noStrike" u="sng">
                <a:solidFill>
                  <a:srgbClr val="e5ffff"/>
                </a:solidFill>
                <a:uFillTx/>
                <a:latin typeface="Tahoma"/>
              </a:rPr>
              <a:t>.</a:t>
            </a:r>
            <a:r>
              <a:rPr b="0" lang="en-US" sz="2400" spc="-1" strike="noStrike" u="sng">
                <a:solidFill>
                  <a:srgbClr val="e5ffff"/>
                </a:solidFill>
                <a:uFillTx/>
                <a:latin typeface="Tahoma"/>
              </a:rPr>
              <a:t> 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реди его сочинений — 15 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опер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, 3 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симфонии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, симфонические произведения, инструментальные концерты, кантаты, камерно-инструментальная, вокальная и духовная музыка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8"/>
          <a:stretch/>
        </p:blipFill>
        <p:spPr>
          <a:xfrm>
            <a:off x="1752480" y="325764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356760"/>
            <a:ext cx="822960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пера-это вид музыкально-театрального искусства, который основан на слиянии слова, музыки и сценического действи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42640" indent="-24264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ибретто-краткое содержание оперы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42640" indent="-24264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ечитатив-полупение-полуреч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바탕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바탕"/>
              </a:rPr>
              <a:t>«Золотой петушок» являет собой редкий в мировой классике пример сатирической оперы. Музыкальный язык оперы глубоко национален: в нем отражены самобытные особенности русской песенности и бытовых жанров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219320" y="2286000"/>
            <a:ext cx="6476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Краткое оркестровое вступление открывается задорным кличем Петушка. Призывная музыка сменяется восточной мелодией, прихотливо изысканной, исполненной любовного томления. А прозрачный звон колокольчиков уведомляет о выходе Звездочет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2" descr="D:\Documents and Settings\Admin\Мои документы\Мои результаты сканирования\сканирование00014.jpg"/>
          <p:cNvPicPr/>
          <p:nvPr/>
        </p:nvPicPr>
        <p:blipFill>
          <a:blip r:embed="rId2"/>
          <a:stretch/>
        </p:blipFill>
        <p:spPr>
          <a:xfrm>
            <a:off x="1219320" y="3505320"/>
            <a:ext cx="2955960" cy="2693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0" y="41148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Кирики, кири-ку-ку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арствуй, лежа на боку!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1" descr="D:\Documents and Settings\Admin\Мои документы\Мои результаты сканирования\сканирование0011111.jpg"/>
          <p:cNvPicPr/>
          <p:nvPr/>
        </p:nvPicPr>
        <p:blipFill>
          <a:blip r:embed="rId3"/>
          <a:stretch/>
        </p:blipFill>
        <p:spPr>
          <a:xfrm>
            <a:off x="324000" y="404640"/>
            <a:ext cx="836280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акт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바탕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바탕"/>
              </a:rPr>
              <a:t>В первом акте обрисовано Додоново царство: торжественный глуповато-примитивный марш становится его характеристикой. Переломный момент ознаменован появлением Звездочета. 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Петушок наделен двумя кличами — спокойным, возвещающим о благополучии в стране Додона, и тревожным, предупреждающим о грозящей опасности. На развитии «тревожного» клича Петушка строится сцена смятения и страха. После ухода царевичей на войну вновь возвращается мирный напев Петушк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2" descr="D:\Documents and Settings\Admin\Мои документы\Мои результаты сканирования\сканирование00013.jpg"/>
          <p:cNvPicPr/>
          <p:nvPr/>
        </p:nvPicPr>
        <p:blipFill>
          <a:blip r:embed="rId2"/>
          <a:stretch/>
        </p:blipFill>
        <p:spPr>
          <a:xfrm>
            <a:off x="1066680" y="3429000"/>
            <a:ext cx="1171800" cy="2157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D:\Documents and Settings\Admin\Мои документы\Мои результаты сканирования\сканирование00012.jpg"/>
          <p:cNvPicPr/>
          <p:nvPr/>
        </p:nvPicPr>
        <p:blipFill>
          <a:blip r:embed="rId3"/>
          <a:stretch/>
        </p:blipFill>
        <p:spPr>
          <a:xfrm>
            <a:off x="2971800" y="3505320"/>
            <a:ext cx="1071720" cy="2054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800600" y="3201840"/>
            <a:ext cx="350532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I 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ак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узыка второго акта рисует зловещую картину ущелья, где лежат убитые сыновья Додона. Изменился и облик марша — ранее ухарский, победный, он звучит теперь неуверенно, робко. Напевы Шемаханской царицы предвосхищают ее появлени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2" descr="D:\Documents and Settings\Admin\Мои документы\Мои результаты сканирования\сканирование00015.jpg"/>
          <p:cNvPicPr/>
          <p:nvPr/>
        </p:nvPicPr>
        <p:blipFill>
          <a:blip r:embed="rId2"/>
          <a:stretch/>
        </p:blipFill>
        <p:spPr>
          <a:xfrm>
            <a:off x="838080" y="2819520"/>
            <a:ext cx="4138560" cy="3058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486400" y="2514600"/>
            <a:ext cx="2786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II 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ак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аинственно-настороженная музыка оркестрового вступления к третьему акту прерывается грозным кличем Петушка. И как в первом акте, — переломный момент наступает с появлением Звездочета. В его арии «Подари ты мне девицу, Шемаханскую царицу» снова возникает фантастический колорит. Предрекая кровавую развязку, злобно кричит Петушок: «Ки-ри-ку-ку! В темя клюну старику». 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295280" y="2819520"/>
            <a:ext cx="2562480" cy="3429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343400" y="2903400"/>
            <a:ext cx="342900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8:46:18Z</dcterms:created>
  <dc:creator>Администратор</dc:creator>
  <dc:description/>
  <dc:language>en-US</dc:language>
  <cp:lastModifiedBy>DNA7 X86</cp:lastModifiedBy>
  <dcterms:modified xsi:type="dcterms:W3CDTF">2012-11-20T20:50:4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