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05E-FBC8-4807-B9F7-0FAC760B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B62-83A7-4397-BD9A-F804DB1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6F5-D01A-4DF3-AC33-BCF98358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B25-9E0E-448C-899E-BD6E9F83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374-3AD9-4ABF-9521-C5ABBA44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5504-B1B5-41DA-8912-4629354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B626-5AF4-4A93-A2E2-5F58A96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44F-5A10-4D0E-BD52-29737CE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37D-62D5-42FC-A766-5C216FBF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3EC8-9B52-48A2-88A6-4C36180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CA1E-6C77-4527-940C-11CB5A5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3CB-FE24-4F1C-B707-E639885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7E6F-848B-4B23-BB7C-25058F5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29A2-3FA3-48EB-9DB3-71CA288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B10-DB31-4789-92EE-EB7CDCF8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AB1-0106-4E09-BAAD-A5DF2C19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4F17-AF20-4D10-8582-D539826C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52DD-8372-49C0-B62B-7DC5A378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0EE2-0798-42EB-9FEB-4AF51404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BBA5-4199-40C6-99D5-03166F8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99B1-64BF-43AE-A369-5561DE53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37EB-F3BF-4C75-AF35-1F134B20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6D7-3026-435C-80B8-AFD5FF90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7669-018D-4835-AAF3-9BA6A272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1DC7-4D84-4F42-958F-73C9C2E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1140-9310-4E24-8512-9F166DFB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E576-13BD-46A0-8A5E-4205338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BE9D-175A-46FE-8D70-BFFEEDF5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8E51-6B51-4525-887F-F51204D8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1C49-AAE1-4A42-9058-F02A5993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8FE-E66B-48CD-81ED-C7F37E1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CE9-B03E-4415-B3F7-4FA226F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90D-52D5-40A6-B43C-05A2A8E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673-52AB-4E70-9CA3-691CEB9B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5F4-04B6-49F8-8555-8FEF0EDD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E32-5BE7-4F81-A421-57783FC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91C194-956A-4123-94E2-9BF5FF5D3C9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BB8AFE-08AF-40D4-ADC4-39A2B69E60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0D8CBA-9A3E-43E3-95AD-67082D2AA6A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"/>
          <p:cNvPicPr/>
          <p:nvPr/>
        </p:nvPicPr>
        <p:blipFill>
          <a:blip r:embed="rId1"/>
          <a:stretch/>
        </p:blipFill>
        <p:spPr>
          <a:xfrm>
            <a:off x="-2160" y="0"/>
            <a:ext cx="914580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" y="332640"/>
            <a:ext cx="902916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Проект «Эх, да Масленица!»</a:t>
            </a:r>
            <a:br>
              <a:rPr sz="7200"/>
            </a:b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7640" y="2781000"/>
            <a:ext cx="8064360" cy="38880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Наша Масленица, ты широкая, в детский сад к нам пришла и весну принесла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</a:t>
            </a:r>
            <a:r>
              <a:rPr b="1" lang="ru-RU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этап: основной</a:t>
            </a: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ирование знаний дошкольников о русской национальной традиции встречи вес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4068000" y="2798640"/>
            <a:ext cx="4420800" cy="3870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p:transition spd="slow"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держание: </a:t>
            </a: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). Познание, коммуникац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блюдения за изменениями в природ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седа: «Как на Руси весну встречали!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сматривание и обсуждение картин Б. И.Кустодиева «Масленица», А. А. Соловьёва «Тройка», В. И. Сурикова «Взятие снежного городк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учивание закличек, стихов, частуш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зучивание хороводных игр, русских народных песен: «А мы масленицу дожидали», «Блины», «Как на тоненький ледо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тение стихотворения Д. Кузнецова «Блины»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ставление творческих рассказов о днях масленичной недели с опорой на соответствующие иллюстр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накомство детей с пословицами о маслениц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). Социализация, физкультура, безопаснос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бучение русским народным играм «Салки», «Горелки», «Блинок», «Поймай валенок», «Карусели», «блинчик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ведение соревнований и игр эстафет: «Валенок», «Попади в цель», «Перетягивание каната», «Перенеси блин», «Катание на лошадях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4572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). Продуктивная деятельнос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. Рисование: «Масленица пришла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. Театральная мастерская: постановка сказки «Масленичные приключения Колобка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. Коллективный труд: создание чучела Маслениц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48640"/>
            <a:ext cx="77720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этап: заключительный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2"/>
          <a:stretch/>
        </p:blipFill>
        <p:spPr>
          <a:xfrm>
            <a:off x="3780000" y="3285000"/>
            <a:ext cx="5012640" cy="3249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27640" y="1556640"/>
            <a:ext cx="741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общение знаний детей о Масленице, закрепление умения различать и называть традиционные обряды народного гуляния, формирование устойчивого интереса к национальной куль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0" y="-7920"/>
            <a:ext cx="9143640" cy="6865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держание: </a:t>
            </a: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). Музыкально спортивный праздник на улиц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) Показ сказки «Масленичные приключения Колобка» для детей младших групп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). Создание альбома «Лучший рецепт блинов» от родител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). Статья в газету «Грязинские известия» о проведении праздник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5). Консультация для родителей «Выходные на Масленицу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гнозируемый результат: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Приобщение детей к традициям проведения народного праздни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Повышение познавательного интереса к родной истор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оздание в детском коллективе атмосферы радости совместного творч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Развитие двигательных и музыкальных способност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Усвоение традиционных культурных эталонов детьми и их родител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3862080" y="3933000"/>
            <a:ext cx="5089320" cy="2820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дукты деятельности: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ьбом рецептов приготовления блин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«Семейные рецепты блинов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ценарий – конспект праздника «Масленичные забавы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Игротека народных подвижных иг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ценарий сказки «Масленичные приключения Колобк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татья  «Пели песни, водили хороводы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укла-Чучело «Масленица»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8" descr=""/>
          <p:cNvPicPr/>
          <p:nvPr/>
        </p:nvPicPr>
        <p:blipFill>
          <a:blip r:embed="rId1"/>
          <a:stretch/>
        </p:blipFill>
        <p:spPr>
          <a:xfrm>
            <a:off x="0" y="-1692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Изготовление чучела Масленицы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старшая групп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Объект 6" descr=""/>
          <p:cNvPicPr/>
          <p:nvPr/>
        </p:nvPicPr>
        <p:blipFill>
          <a:blip r:embed="rId2"/>
          <a:stretch/>
        </p:blipFill>
        <p:spPr>
          <a:xfrm>
            <a:off x="79200" y="2061000"/>
            <a:ext cx="4800240" cy="360000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10" descr=""/>
          <p:cNvPicPr/>
          <p:nvPr/>
        </p:nvPicPr>
        <p:blipFill>
          <a:blip r:embed="rId3"/>
          <a:stretch/>
        </p:blipFill>
        <p:spPr>
          <a:xfrm>
            <a:off x="5050800" y="1369440"/>
            <a:ext cx="392184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Объект 4" descr=""/>
          <p:cNvPicPr/>
          <p:nvPr/>
        </p:nvPicPr>
        <p:blipFill>
          <a:blip r:embed="rId1"/>
          <a:stretch/>
        </p:blipFill>
        <p:spPr>
          <a:xfrm>
            <a:off x="0" y="684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Лучшие рецепты блинов от родителей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2"/>
          <a:stretch/>
        </p:blipFill>
        <p:spPr>
          <a:xfrm rot="20935800">
            <a:off x="231480" y="1734120"/>
            <a:ext cx="3995640" cy="2996640"/>
          </a:xfrm>
          <a:prstGeom prst="rect">
            <a:avLst/>
          </a:prstGeom>
          <a:ln w="0">
            <a:noFill/>
          </a:ln>
        </p:spPr>
      </p:pic>
      <p:pic>
        <p:nvPicPr>
          <p:cNvPr id="182" name="Объект 8" descr=""/>
          <p:cNvPicPr/>
          <p:nvPr/>
        </p:nvPicPr>
        <p:blipFill>
          <a:blip r:embed="rId3"/>
          <a:stretch/>
        </p:blipFill>
        <p:spPr>
          <a:xfrm>
            <a:off x="4727520" y="1417680"/>
            <a:ext cx="4349880" cy="32623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"/>
          <p:cNvPicPr/>
          <p:nvPr/>
        </p:nvPicPr>
        <p:blipFill>
          <a:blip r:embed="rId4"/>
          <a:stretch/>
        </p:blipFill>
        <p:spPr>
          <a:xfrm rot="5400000">
            <a:off x="2521080" y="3777120"/>
            <a:ext cx="3491640" cy="261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казка «Масленичные приключения Колобка» средняя групп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Объект 5" descr="D:\фото дс Радуга\масленица\сказка средняя группа\IMG_9127.JPG"/>
          <p:cNvPicPr/>
          <p:nvPr/>
        </p:nvPicPr>
        <p:blipFill>
          <a:blip r:embed="rId1"/>
          <a:stretch/>
        </p:blipFill>
        <p:spPr>
          <a:xfrm>
            <a:off x="107640" y="1340640"/>
            <a:ext cx="4536000" cy="3603240"/>
          </a:xfrm>
          <a:prstGeom prst="rect">
            <a:avLst/>
          </a:prstGeom>
          <a:ln w="9525">
            <a:noFill/>
          </a:ln>
        </p:spPr>
      </p:pic>
      <p:pic>
        <p:nvPicPr>
          <p:cNvPr id="186" name="Объект 6" descr="D:\фото дс Радуга\масленица\сказка средняя группа\IMG_9130.JPG"/>
          <p:cNvPicPr/>
          <p:nvPr/>
        </p:nvPicPr>
        <p:blipFill>
          <a:blip r:embed="rId2"/>
          <a:stretch/>
        </p:blipFill>
        <p:spPr>
          <a:xfrm>
            <a:off x="4572000" y="2997000"/>
            <a:ext cx="4433760" cy="3528000"/>
          </a:xfrm>
          <a:prstGeom prst="rect">
            <a:avLst/>
          </a:prstGeom>
          <a:ln w="9525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втор проекта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колов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рина Анатольевна музыкальный руководитель МБДОУ детский сад №3 «Радуга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Объект 5" descr=""/>
          <p:cNvPicPr/>
          <p:nvPr/>
        </p:nvPicPr>
        <p:blipFill>
          <a:blip r:embed="rId1"/>
          <a:stretch/>
        </p:blipFill>
        <p:spPr>
          <a:xfrm>
            <a:off x="10440" y="0"/>
            <a:ext cx="9133200" cy="6874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БЛАГОДАРИМ ЗА ВНИМАНИЕ!!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2"/>
          <a:stretch/>
        </p:blipFill>
        <p:spPr>
          <a:xfrm>
            <a:off x="5148000" y="1989000"/>
            <a:ext cx="3756600" cy="452556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90" name="Рисунок 6" descr=""/>
          <p:cNvPicPr/>
          <p:nvPr/>
        </p:nvPicPr>
        <p:blipFill>
          <a:blip r:embed="rId3"/>
          <a:stretch/>
        </p:blipFill>
        <p:spPr>
          <a:xfrm>
            <a:off x="251640" y="1989000"/>
            <a:ext cx="4613040" cy="33948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191" name="Прямоугольник 7"/>
          <p:cNvSpPr/>
          <p:nvPr/>
        </p:nvSpPr>
        <p:spPr>
          <a:xfrm>
            <a:off x="539640" y="5384160"/>
            <a:ext cx="417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Г. Гр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0" y="3600"/>
            <a:ext cx="9143640" cy="6854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порт проекта: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Тип проекта: познавательный, творчески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 числу детей – 2 группы старшая, средняя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 продолжительности – краткосрочный (2 недел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частники проекта – воспитатели, дети старшей, средней группы и их родители, музыкальный руководитель ДО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8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 проект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ирование у детей дошкольного возраста устойчивого интереса к русским народным традициям на примере ознакомления с праздником Масленица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6" descr=""/>
          <p:cNvPicPr/>
          <p:nvPr/>
        </p:nvPicPr>
        <p:blipFill>
          <a:blip r:embed="rId2"/>
          <a:stretch/>
        </p:blipFill>
        <p:spPr>
          <a:xfrm>
            <a:off x="2129760" y="2925000"/>
            <a:ext cx="4884120" cy="37594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0" y="13680"/>
            <a:ext cx="9143640" cy="68439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5157360"/>
            <a:ext cx="8362800" cy="13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бразовательная область: познание, музыка, коммуникация, физическая культура, художественное твор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23640" y="332640"/>
            <a:ext cx="84247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вызвать желание глубже ознакомиться с народным праздником Масл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обобщить и закрепить знания детей о Маслен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обогатить духовный мир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развивать выносливость, смека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воспитывать чувство патриотизма, основанное на традициях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3640" cy="6865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240" cy="52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ктуальность: </a:t>
            </a:r>
            <a:endParaRPr b="0" lang="ru-RU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оссия богата своими традициями, передающимися из поколения в поколение, и Масленица – один из самых любимых всеми, народный праздник, происходящий в конце зимы, всегда отмечался ярко, шумно и весело, с блинами, ярмарками и скоморох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н навсегда оставляет самые светлые впечатления, прививая интерес к историческому прошлому стра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-2160" y="0"/>
            <a:ext cx="9145800" cy="685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6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Этапы реализации проекта: </a:t>
            </a:r>
            <a:br>
              <a:rPr sz="6000"/>
            </a:b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240" cy="30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1080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</a:t>
            </a:r>
            <a:r>
              <a:rPr b="0" lang="ru-RU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подготовительный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1080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</a:t>
            </a:r>
            <a:r>
              <a:rPr b="0" lang="ru-RU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основной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1080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I</a:t>
            </a:r>
            <a:r>
              <a:rPr b="0" lang="ru-RU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заключительный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9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ап: подготовительный.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32640"/>
            <a:ext cx="8229240" cy="33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этап: подготовительны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: Постановка мотивации цели и задач по ознакомлению с традициями празднования Маслениц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3276000" y="2317320"/>
            <a:ext cx="5330160" cy="41918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p:transition spd="slow">
    <p:wipe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26280" y="0"/>
            <a:ext cx="9117360" cy="6862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держание: 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здать условия для формирования интереса к праздник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мочь детям выбрать активную и посильную задачу на определённый отрезок време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ставить план совместных действий с детьми, поиск и сбор информации о праздни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добрать материал, пособия и литературу по теме (стихи, частушки, загадки, заклички, репродукции, музыкальный репертуар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ивлечь родителей к участию в конкурсе на лучший рецепт бли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ивлечь родителей  для подготовки декораций и костюмов для показа сказки «Масленичные приключения Колобка».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239</TotalTime>
  <Application>LibreOffice/7.4.7.2$Linux_X86_64 LibreOffice_project/40$Build-2</Application>
  <AppVersion>15.0000</AppVersion>
  <Words>752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4:38:26Z</dcterms:created>
  <dc:creator>allusers</dc:creator>
  <dc:description/>
  <dc:language>en-US</dc:language>
  <cp:lastModifiedBy>User</cp:lastModifiedBy>
  <dcterms:modified xsi:type="dcterms:W3CDTF">2018-06-20T06:28:49Z</dcterms:modified>
  <cp:revision>26</cp:revision>
  <dc:subject/>
  <dc:title>Проект «Эх, да Масленица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