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7A5-2B12-455D-914A-7A92CEEE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E0D-ADF8-4C20-A6B6-0F83671D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E14-3518-401A-AA55-98BB0D88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B8B-ADED-41F8-A447-6A79D7A6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963D-4F38-4CD9-8175-5C96B7D0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ACA0-45FA-4926-A6AE-DCFA9160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673E-4FD4-437F-A0F5-1F1A2F62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B7D5-E817-4E97-BD7B-5948DA2C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8FDA-F582-46FA-A2F0-2E2BCC0E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FFC9-576A-4567-B856-B6A90D29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A941-7592-47FC-9AFF-16E506F1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382-F342-49F1-9AF2-CFD7437E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97B0-55BB-4885-A308-83E019B2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6470-219C-4972-B335-7B2D7679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BE4C-C3AA-4E2E-8FF0-8738ED23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4598-4F00-41F6-AD66-CE87AC01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C704-519A-422B-9E57-F71F8D2B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5BC81-1101-4A6B-9FEB-19E873FC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C1E64-C703-414C-ACCC-EDA62B41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8CB71-83EE-46AB-9C66-6085E0E6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02025-4DB0-49C2-85F4-D9D77C3E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30C2F-C6F4-4612-AD03-B906BD22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8F1-0509-4161-BC84-684AF34C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AA3F7-83C0-4DEB-8F19-22B98E3D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574F-5F63-4F2A-906E-71F0C4D1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EE9F-838A-4F92-B55A-485052B9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50B37-24D0-4F76-A973-E628317F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17AA-B2AA-4201-A664-E002C235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8E9D9-7DDC-4569-9D3C-F3F57E35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3985F-0987-4FE6-9ADD-870EC71B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E19B-B119-4A57-BD17-137E29C4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E24-3C4E-467B-A0B8-AD717274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0D3-2F4C-4B60-A3EF-1637CC31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614-94C0-4DDA-BB3B-D0D368A4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CC8-3298-4631-8871-B8F968AD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C57-11A7-4DCE-8A20-83E98310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2BAAE0-1340-4E60-8F9D-51AD1AFBD13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51AE04-F034-4307-AEDC-2E4CF353E9E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72BACC-9D09-4D18-A7AB-18813C7252B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4" descr=""/>
          <p:cNvPicPr/>
          <p:nvPr/>
        </p:nvPicPr>
        <p:blipFill>
          <a:blip r:embed="rId1"/>
          <a:stretch/>
        </p:blipFill>
        <p:spPr>
          <a:xfrm>
            <a:off x="-2160" y="0"/>
            <a:ext cx="9145800" cy="6857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" y="332640"/>
            <a:ext cx="9029160" cy="33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72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Проект «Эх, да Масленица!»</a:t>
            </a:r>
            <a:br>
              <a:rPr sz="7200"/>
            </a:b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67640" y="2781000"/>
            <a:ext cx="8064360" cy="38880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«Наша Масленица, ты широкая, в детский сад к нам пришла и весну принесла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4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9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I</a:t>
            </a:r>
            <a:r>
              <a:rPr b="1" lang="ru-RU" sz="49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– этап: основной</a:t>
            </a:r>
            <a:br>
              <a:rPr sz="4000"/>
            </a:b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24640"/>
            <a:ext cx="82292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Цель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Формирование знаний дошкольников о русской национальной традиции встречи весн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4" descr=""/>
          <p:cNvPicPr/>
          <p:nvPr/>
        </p:nvPicPr>
        <p:blipFill>
          <a:blip r:embed="rId2"/>
          <a:stretch/>
        </p:blipFill>
        <p:spPr>
          <a:xfrm>
            <a:off x="4068000" y="2798640"/>
            <a:ext cx="4420800" cy="38700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p:transition spd="slow">
    <p:wipe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9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одержание: </a:t>
            </a:r>
            <a:br>
              <a:rPr sz="4000"/>
            </a:b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). Познание, коммуникац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блюдения за изменениями в природ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еседа: «Как на Руси весну встречали!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ассматривание и обсуждение картин Б. И.Кустодиева «Масленица», А. А. Соловьёва «Тройка», В. И. Сурикова «Взятие снежного городка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учивание закличек, стихов, частуше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азучивание хороводных игр, русских народных песен: «А мы масленицу дожидали», «Блины», «Как на тоненький ледок»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Чтение стихотворения Д. Кузнецова «Блины»,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оставление творческих рассказов о днях масленичной недели с опорой на соответствующие иллюстрац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накомство детей с пословицами о маслениц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240" cy="590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Б). Социализация, физкультура, безопасность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Обучение русским народным играм «Салки», «Горелки», «Блинок», «Поймай валенок», «Карусели», «блинчик»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оведение соревнований и игр эстафет: «Валенок», «Попади в цель», «Перетягивание каната», «Перенеси блин», «Катание на лошадях»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4572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В). Продуктивная деятельность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. Рисование: «Масленица пришла»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2. Театральная мастерская: постановка сказки «Масленичные приключения Колобка»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. Коллективный труд: создание чучела Масленицы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3" descr=""/>
          <p:cNvPicPr/>
          <p:nvPr/>
        </p:nvPicPr>
        <p:blipFill>
          <a:blip r:embed="rId1"/>
          <a:stretch/>
        </p:blipFill>
        <p:spPr>
          <a:xfrm>
            <a:off x="0" y="-4680"/>
            <a:ext cx="9143640" cy="6825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48640"/>
            <a:ext cx="77720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II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– этап: заключительный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4" descr=""/>
          <p:cNvPicPr/>
          <p:nvPr/>
        </p:nvPicPr>
        <p:blipFill>
          <a:blip r:embed="rId2"/>
          <a:stretch/>
        </p:blipFill>
        <p:spPr>
          <a:xfrm>
            <a:off x="3780000" y="3285000"/>
            <a:ext cx="5012640" cy="324900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27640" y="1556640"/>
            <a:ext cx="7416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Це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бобщение знаний детей о Масленице, закрепление умения различать и называть традиционные обряды народного гуляния, формирование устойчивого интереса к национальной куль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3" descr=""/>
          <p:cNvPicPr/>
          <p:nvPr/>
        </p:nvPicPr>
        <p:blipFill>
          <a:blip r:embed="rId1"/>
          <a:stretch/>
        </p:blipFill>
        <p:spPr>
          <a:xfrm>
            <a:off x="0" y="-7920"/>
            <a:ext cx="9143640" cy="68655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9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одержание: </a:t>
            </a:r>
            <a:br>
              <a:rPr sz="4000"/>
            </a:b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1). Музыкально спортивный праздник на улиц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2) Показ сказки «Масленичные приключения Колобка» для детей младших групп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3). Создание альбома «Лучший рецепт блинов» от родителе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4). Статья в газету «Грязинские известия» о проведении праздника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5). Консультация для родителей «Выходные на Масленицу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огнозируемый результат: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Приобщение детей к традициям проведения народного праздни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Повышение познавательного интереса к родной истор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Создание в детском коллективе атмосферы радости совместного творче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Развитие двигательных и музыкальных способност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Усвоение традиционных культурных эталонов детьми и их родителя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"/>
          <p:cNvPicPr/>
          <p:nvPr/>
        </p:nvPicPr>
        <p:blipFill>
          <a:blip r:embed="rId2"/>
          <a:stretch/>
        </p:blipFill>
        <p:spPr>
          <a:xfrm>
            <a:off x="3862080" y="3933000"/>
            <a:ext cx="5089320" cy="28206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одукты деятельности: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240" cy="35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льбом рецептов приготовления блин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«Семейные рецепты блинов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Сценарий – конспект праздника «Масленичные забавы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Игротека народных подвижных иг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Сценарий сказки «Масленичные приключения Колобка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Статья  «Пели песни, водили хороводы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-3096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укла-Чучело «Масленица» 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8" descr=""/>
          <p:cNvPicPr/>
          <p:nvPr/>
        </p:nvPicPr>
        <p:blipFill>
          <a:blip r:embed="rId1"/>
          <a:stretch/>
        </p:blipFill>
        <p:spPr>
          <a:xfrm>
            <a:off x="0" y="-16920"/>
            <a:ext cx="9143640" cy="6825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Изготовление чучела Масленицы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старшая группа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Объект 6" descr=""/>
          <p:cNvPicPr/>
          <p:nvPr/>
        </p:nvPicPr>
        <p:blipFill>
          <a:blip r:embed="rId2"/>
          <a:stretch/>
        </p:blipFill>
        <p:spPr>
          <a:xfrm>
            <a:off x="79200" y="2061000"/>
            <a:ext cx="4800240" cy="3600000"/>
          </a:xfrm>
          <a:prstGeom prst="rect">
            <a:avLst/>
          </a:prstGeom>
          <a:ln w="0">
            <a:noFill/>
          </a:ln>
        </p:spPr>
      </p:pic>
      <p:pic>
        <p:nvPicPr>
          <p:cNvPr id="178" name="Объект 10" descr=""/>
          <p:cNvPicPr/>
          <p:nvPr/>
        </p:nvPicPr>
        <p:blipFill>
          <a:blip r:embed="rId3"/>
          <a:stretch/>
        </p:blipFill>
        <p:spPr>
          <a:xfrm>
            <a:off x="5050800" y="1369440"/>
            <a:ext cx="392184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Объект 4" descr=""/>
          <p:cNvPicPr/>
          <p:nvPr/>
        </p:nvPicPr>
        <p:blipFill>
          <a:blip r:embed="rId1"/>
          <a:stretch/>
        </p:blipFill>
        <p:spPr>
          <a:xfrm>
            <a:off x="0" y="6840"/>
            <a:ext cx="9143640" cy="6825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Лучшие рецепты блинов от родителей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Рисунок 2" descr=""/>
          <p:cNvPicPr/>
          <p:nvPr/>
        </p:nvPicPr>
        <p:blipFill>
          <a:blip r:embed="rId2"/>
          <a:stretch/>
        </p:blipFill>
        <p:spPr>
          <a:xfrm rot="20935800">
            <a:off x="231480" y="1734120"/>
            <a:ext cx="3995640" cy="2996640"/>
          </a:xfrm>
          <a:prstGeom prst="rect">
            <a:avLst/>
          </a:prstGeom>
          <a:ln w="0">
            <a:noFill/>
          </a:ln>
        </p:spPr>
      </p:pic>
      <p:pic>
        <p:nvPicPr>
          <p:cNvPr id="182" name="Объект 8" descr=""/>
          <p:cNvPicPr/>
          <p:nvPr/>
        </p:nvPicPr>
        <p:blipFill>
          <a:blip r:embed="rId3"/>
          <a:stretch/>
        </p:blipFill>
        <p:spPr>
          <a:xfrm>
            <a:off x="4727520" y="1417680"/>
            <a:ext cx="4349880" cy="32623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9" descr=""/>
          <p:cNvPicPr/>
          <p:nvPr/>
        </p:nvPicPr>
        <p:blipFill>
          <a:blip r:embed="rId4"/>
          <a:stretch/>
        </p:blipFill>
        <p:spPr>
          <a:xfrm rot="5400000">
            <a:off x="2521080" y="3777120"/>
            <a:ext cx="3491640" cy="261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6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Сказка «Масленичные приключения Колобка» средняя групп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Объект 5" descr="D:\фото дс Радуга\масленица\сказка средняя группа\IMG_9127.JPG"/>
          <p:cNvPicPr/>
          <p:nvPr/>
        </p:nvPicPr>
        <p:blipFill>
          <a:blip r:embed="rId1"/>
          <a:stretch/>
        </p:blipFill>
        <p:spPr>
          <a:xfrm>
            <a:off x="107640" y="1340640"/>
            <a:ext cx="4536000" cy="3603240"/>
          </a:xfrm>
          <a:prstGeom prst="rect">
            <a:avLst/>
          </a:prstGeom>
          <a:ln w="9525">
            <a:noFill/>
          </a:ln>
        </p:spPr>
      </p:pic>
      <p:pic>
        <p:nvPicPr>
          <p:cNvPr id="186" name="Объект 6" descr="D:\фото дс Радуга\масленица\сказка средняя группа\IMG_9130.JPG"/>
          <p:cNvPicPr/>
          <p:nvPr/>
        </p:nvPicPr>
        <p:blipFill>
          <a:blip r:embed="rId2"/>
          <a:stretch/>
        </p:blipFill>
        <p:spPr>
          <a:xfrm>
            <a:off x="4572000" y="2997000"/>
            <a:ext cx="4433760" cy="3528000"/>
          </a:xfrm>
          <a:prstGeom prst="rect">
            <a:avLst/>
          </a:prstGeom>
          <a:ln w="9525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втор проекта: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околова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рина Анатольевна музыкальный руководитель МБДОУ детский сад №3 «Радуга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Объект 5" descr=""/>
          <p:cNvPicPr/>
          <p:nvPr/>
        </p:nvPicPr>
        <p:blipFill>
          <a:blip r:embed="rId1"/>
          <a:stretch/>
        </p:blipFill>
        <p:spPr>
          <a:xfrm>
            <a:off x="10440" y="0"/>
            <a:ext cx="9133200" cy="6874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6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БЛАГОДАРИМ ЗА ВНИМАНИЕ!!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Объект 4" descr=""/>
          <p:cNvPicPr/>
          <p:nvPr/>
        </p:nvPicPr>
        <p:blipFill>
          <a:blip r:embed="rId2"/>
          <a:stretch/>
        </p:blipFill>
        <p:spPr>
          <a:xfrm>
            <a:off x="5148000" y="1989000"/>
            <a:ext cx="3756600" cy="452556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pic>
        <p:nvPicPr>
          <p:cNvPr id="190" name="Рисунок 6" descr=""/>
          <p:cNvPicPr/>
          <p:nvPr/>
        </p:nvPicPr>
        <p:blipFill>
          <a:blip r:embed="rId3"/>
          <a:stretch/>
        </p:blipFill>
        <p:spPr>
          <a:xfrm>
            <a:off x="251640" y="1989000"/>
            <a:ext cx="4613040" cy="33948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sp>
        <p:nvSpPr>
          <p:cNvPr id="191" name="Прямоугольник 7"/>
          <p:cNvSpPr/>
          <p:nvPr/>
        </p:nvSpPr>
        <p:spPr>
          <a:xfrm>
            <a:off x="539640" y="5384160"/>
            <a:ext cx="4176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Г. Гр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0" y="3600"/>
            <a:ext cx="9143640" cy="6854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аспорт проекта: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Тип проекта: познавательный, творчески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 числу детей – 2 группы старшая, средняя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 продолжительности – краткосрочный (2 недели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Участники проекта – воспитатели, дети старшей, средней группы и их родители, музыкальный руководитель ДОУ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Объект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28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Цель проекта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формирование у детей дошкольного возраста устойчивого интереса к русским народным традициям на примере ознакомления с праздником Масленица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6" descr=""/>
          <p:cNvPicPr/>
          <p:nvPr/>
        </p:nvPicPr>
        <p:blipFill>
          <a:blip r:embed="rId2"/>
          <a:stretch/>
        </p:blipFill>
        <p:spPr>
          <a:xfrm>
            <a:off x="2129760" y="2925000"/>
            <a:ext cx="4884120" cy="375948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</p:spTree>
  </p:cSld>
  <p:transition spd="slow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0" y="13680"/>
            <a:ext cx="9143640" cy="68439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41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5157360"/>
            <a:ext cx="8362800" cy="13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Образовательная область: познание, музыка, коммуникация, физическая культура, художественное творчеств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323640" y="332640"/>
            <a:ext cx="842472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дач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вызвать желание глубже ознакомиться с народным праздником Масле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обобщить и закрепить знания детей о Маслен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обогатить духовный мир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развивать выносливость, смекал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- воспитывать чувство патриотизма, основанное на традициях на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3640" cy="68655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240" cy="52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780"/>
              </a:spcBef>
              <a:buNone/>
              <a:tabLst>
                <a:tab algn="l" pos="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ктуальность: </a:t>
            </a:r>
            <a:endParaRPr b="0" lang="ru-RU" sz="3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оссия богата своими традициями, передающимися из поколения в поколение, и Масленица – один из самых любимых всеми, народный праздник, происходящий в конце зимы, всегда отмечался ярко, шумно и весело, с блинами, ярмарками и скоморохам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Он навсегда оставляет самые светлые впечатления, прививая интерес к историческому прошлому стран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3" descr=""/>
          <p:cNvPicPr/>
          <p:nvPr/>
        </p:nvPicPr>
        <p:blipFill>
          <a:blip r:embed="rId1"/>
          <a:stretch/>
        </p:blipFill>
        <p:spPr>
          <a:xfrm>
            <a:off x="-2160" y="0"/>
            <a:ext cx="9145800" cy="6857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ru-RU" sz="6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Этапы реализации проекта: </a:t>
            </a:r>
            <a:br>
              <a:rPr sz="6000"/>
            </a:b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240" cy="30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marL="300240" indent="-300240">
              <a:lnSpc>
                <a:spcPct val="100000"/>
              </a:lnSpc>
              <a:spcBef>
                <a:spcPts val="1080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</a:t>
            </a:r>
            <a:r>
              <a:rPr b="0" lang="ru-RU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– подготовительный 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marL="300240" indent="-300240">
              <a:lnSpc>
                <a:spcPct val="100000"/>
              </a:lnSpc>
              <a:spcBef>
                <a:spcPts val="1080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I</a:t>
            </a:r>
            <a:r>
              <a:rPr b="0" lang="ru-RU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– основной 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marL="300240" indent="-300240">
              <a:lnSpc>
                <a:spcPct val="100000"/>
              </a:lnSpc>
              <a:spcBef>
                <a:spcPts val="1080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II</a:t>
            </a:r>
            <a:r>
              <a:rPr b="0" lang="ru-RU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– заключительный 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49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ап: подготовительный.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256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32640"/>
            <a:ext cx="8229240" cy="33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– этап: подготовительны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Цель: Постановка мотивации цели и задач по ознакомлению с традициями празднования Маслениц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4" descr=""/>
          <p:cNvPicPr/>
          <p:nvPr/>
        </p:nvPicPr>
        <p:blipFill>
          <a:blip r:embed="rId2"/>
          <a:stretch/>
        </p:blipFill>
        <p:spPr>
          <a:xfrm>
            <a:off x="3276000" y="2317320"/>
            <a:ext cx="5330160" cy="419184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</p:spTree>
  </p:cSld>
  <p:transition spd="slow">
    <p:wipe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3" descr=""/>
          <p:cNvPicPr/>
          <p:nvPr/>
        </p:nvPicPr>
        <p:blipFill>
          <a:blip r:embed="rId1"/>
          <a:stretch/>
        </p:blipFill>
        <p:spPr>
          <a:xfrm>
            <a:off x="26280" y="0"/>
            <a:ext cx="9117360" cy="68623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одержание: 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8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87280" indent="-2872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оздать условия для формирования интереса к празднику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мочь детям выбрать активную и посильную задачу на определённый отрезок времен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оставить план совместных действий с детьми, поиск и сбор информации о праздник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добрать материал, пособия и литературу по теме (стихи, частушки, загадки, заклички, репродукции, музыкальный репертуар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ивлечь родителей к участию в конкурсе на лучший рецепт блин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ивлечь родителей  для подготовки декораций и костюмов для показа сказки «Масленичные приключения Колобка».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oundry</Template>
  <TotalTime>239</TotalTime>
  <Application>LibreOffice/7.4.7.2$Linux_X86_64 LibreOffice_project/40$Build-2</Application>
  <AppVersion>15.0000</AppVersion>
  <Words>752</Words>
  <Paragraphs>9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04:38:26Z</dcterms:created>
  <dc:creator>allusers</dc:creator>
  <dc:description/>
  <dc:language>en-US</dc:language>
  <cp:lastModifiedBy>User</cp:lastModifiedBy>
  <dcterms:modified xsi:type="dcterms:W3CDTF">2018-06-20T06:28:49Z</dcterms:modified>
  <cp:revision>26</cp:revision>
  <dc:subject/>
  <dc:title>Проект «Эх, да Масленица!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