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EE6-3BE1-410D-A566-3E7CB3B4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508-E584-4CAA-BDB5-07203695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7DD-A787-4499-B22E-DC85C5D2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9A3-5434-470A-AEF7-E206BE6E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D0A5-3761-4E0B-8EB4-454C8451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DA7F-0CFC-4349-A843-9B4C0550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D549-1481-4B8D-8A7E-513CC6B9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3F5A-4A77-4FB5-8B26-3AB41038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3B92-FFAD-4F43-8AAB-15C5F58A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6DA6-0E5C-4830-AC48-831CA9E5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D074-C3C9-4915-9C76-AB323478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133-55D7-4923-8144-A7856801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9008-C033-4410-857F-29DE91E1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4FA9-D45F-4681-8944-52BC376D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7335-B350-4E07-B7EA-D2990960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60A6-B4C1-43C0-A192-52AC99B7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10B4-2641-48A2-B768-AB8C8E10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83F-380A-4C31-8952-D0C980DC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011-EE89-4C54-A38A-0D4124FE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9CF-31DF-4E12-8776-9857046F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FDA-78B7-4AC4-BCC0-94C15CA7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D6C-F19B-45AA-B777-AE857BDC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B79-52B7-4051-BE57-EE0C87DC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36F-4D4F-40C6-BA23-278CF056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FFE2-F664-4937-9DDA-D3D9124D05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76B9-52E6-4EFC-911D-00488F0758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ы речи: рас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то рассуждени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Иногда я думаю, что такое дружба… Однажды я заболел и долго не мог ходить в школу. Мой друг Петя каждый день приходил ко мне, объяснял уроки, чтобы я не отстал, смешил меня и читал вслух книги, чтобы мне не было грустно. Он меня здорово поддержал в трудную минуту. Вот это дружб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 эт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зличить ворону и галку совсем просто. Галка вдвое меньше вороны и вся черная, только вокруг шеи серые перышки, будто она серым платочком повязана. А у вороны наоборот: все туловище серое, черные только голова, шея, крылья да хв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ставьте текст-рассужд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с моей подругой Машей очень любим 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зья всегда помогают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ите тип ре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Белая береза под моим окн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акрылась снегом, точно серебр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ушистых ветках снежною кайм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устились кисти белой бахром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тоит береза в сонной тишин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горят снежинки в золотом огн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заря, лениво обходя круг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ыпает ветки новым сереб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ите тип ре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от обворовывал нас каждую ночь. Он воровал все: мясо, сметану, молоко и хлеб. Наконец кот попался. Он залез в лаз под домом. Мы заложили лаз старой рыбацкой сетью и начали ждать. Когда Ленька схватил кота и поднял над землей, мы рассмотрели негодника. Он оказался тощим беспризорником с белыми подпалинами на жив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ите тип ре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Из Москвы мне привезли небольшой перочинный ножик с костяной ручкой и двумя зеркальными лезвиями. Одно лезвие побольше, другое – поменьше. На каждом – ямочка, чтобы зацеплять ногтем, когда нужно открыть. Пружины новые, крепкие: попыхтишь, прежде чем откроешь лезвие. Зато обратно – только немного наклонишь, так и летит лезвие само, да еще и щелкает на зависть всем мальчиш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 заданной структуре определите тип текста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бщее впечатление от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етали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азвити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ульмин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ите тип ре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силису назвали Премудрой, потому что она все умела делать: испекла пышный каравай, соткала за ночь чудесный ковер, превратила комнату в озеро с белыми лебедями. Словом, была мастерица на все руки, поэтому и получила такое прозвищ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 текста-рассужд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езис (мысль, которую нужно доказа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оказательства (доводы, примеры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_________________________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_________________________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вод (доказанная мысл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пределите часть текста по вводным словам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считаю, по-моему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е кажется, на мой взгляд, он утверждае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им образом, вот почему, итак, я пришел к выводу, мы убедились в том, следователь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-первых, одна из причин, во-вторых, другая причина, другим доказательством является, в-третьих, кроме того, наконец, самое главное, к примеру, чтобы убедить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то рассуждени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ого можно назвать воспитанным человеком? Однажды я и мой друг Коля ехали в трамвае. На одной из остановок вошла старушка. Коля быстро встал и сказал: “Садитесь, бабушка, пожалуйста!” А когда мы вышли, помог старушке донести до дому тяжелую сумку. Вот что значит вежливый, воспитанный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14:40:52Z</dcterms:created>
  <dc:creator>Алесса</dc:creator>
  <dc:description/>
  <dc:language>en-US</dc:language>
  <cp:lastModifiedBy>Кабинет №2</cp:lastModifiedBy>
  <dcterms:modified xsi:type="dcterms:W3CDTF">2018-06-20T05:21:3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