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59F3-DF56-4986-87BD-81EAE5D1F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5238-F36A-4F87-8F96-954B08B3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B205-EFCA-4EC7-AB29-D7C07F699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18A6-F22D-42C7-AB4D-DFA635657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8D8BC-7B48-45C0-A2AD-6128B5DAA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D0D4-D06C-433A-8129-36E9CDE9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72E7-9F2A-461D-BE27-2BF650C2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A4227-147B-4CB1-9174-0C0538E4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FCEC5-619B-4AF8-86B7-0D754881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2E85-BDDF-4D64-86EB-6CF27A7E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AE2A-F25C-48A7-A9BF-AF7BFBF7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2481-B8D4-4730-80AB-A416BEA6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A0A8-A3FC-44F3-8D44-4B5483F6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822F-3D00-431D-9FD1-F035CBDC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6AA7-8BF1-4CDC-97BC-4BA505CE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8D3C5-4C7A-408C-8669-5C76D9917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64C7-2A62-4D19-90A9-7011576CF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00C1-5C3C-4026-AEC8-C7BA62DD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F09E-D57D-41C1-9668-6C53C034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80B1-5740-4119-AEA1-8FDAC64E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7DF5-CE39-4DC3-B46A-0BFAE227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85A5-0026-4808-B631-431AE5A2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284B-1C4F-4506-880B-51D075B1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52B8-7EF8-43CE-AB22-90A0DD3A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F0AD-8FA5-46D3-8697-45C2644E1D3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756A-5D52-4D98-AFA8-82B7EABAEC6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пы речи: рассу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Это рассуждение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Иногда я думаю, что такое дружба… Однажды я заболел и долго не мог ходить в школу. Мой друг Петя каждый день приходил ко мне, объяснял уроки, чтобы я не отстал, смешил меня и читал вслух книги, чтобы мне не было грустно. Он меня здорово поддержал в трудную минуту. Вот это дружб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А это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Различить ворону и галку совсем просто. Галка вдвое меньше вороны и вся черная, только вокруг шеи серые перышки, будто она серым платочком повязана. А у вороны наоборот: все туловище серое, черные только голова, шея, крылья да хво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оставьте текст-рассужде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 с моей подругой Машей очень любим чит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узья всегда помогают друг дру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ака – друг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пределите тип реч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Белая береза под моим окном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накрылась снегом, точно серебром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ушистых ветках снежною каймо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пустились кисти белой бахромо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стоит береза в сонной тишине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горят снежинки в золотом огн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заря, лениво обходя кругом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сыпает ветки новым серебр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пределите тип реч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Кот обворовывал нас каждую ночь. Он воровал все: мясо, сметану, молоко и хлеб. Наконец кот попался. Он залез в лаз под домом. Мы заложили лаз старой рыбацкой сетью и начали ждать. Когда Ленька схватил кота и поднял над землей, мы рассмотрели негодника. Он оказался тощим беспризорником с белыми подпалинами на живо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пределите тип реч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Из Москвы мне привезли небольшой перочинный ножик с костяной ручкой и двумя зеркальными лезвиями. Одно лезвие побольше, другое – поменьше. На каждом – ямочка, чтобы зацеплять ногтем, когда нужно открыть. Пружины новые, крепкие: попыхтишь, прежде чем откроешь лезвие. Зато обратно – только немного наклонишь, так и летит лезвие само, да еще и щелкает на зависть всем мальчишк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По заданной структуре определите тип текста.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Общее впечатление от предм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Детали предм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Вступ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Развитие дей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Кульмина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Заклю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пределите тип реч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силису назвали Премудрой, потому что она все умела делать: испекла пышный каравай, соткала за ночь чудесный ковер, превратила комнату в озеро с белыми лебедями. Словом, была мастерица на все руки, поэтому и получила такое прозвищ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лан текста-рассужд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Тезис (мысль, которую нужно доказать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Доказательства (доводы, примеры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_________________________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_________________________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____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Вывод (доказанная мысль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Определите часть текста по вводным словам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 считаю, по-моему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не кажется, на мой взгляд, он утверждает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им образом, вот почему, итак, я пришел к выводу, мы убедились в том, следовательн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-первых, одна из причин, во-вторых, другая причина, другим доказательством является, в-третьих, кроме того, наконец, самое главное, к примеру, чтобы убедитьс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Это рассуждение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Кого можно назвать воспитанным человеком? Однажды я и мой друг Коля ехали в трамвае. На одной из остановок вошла старушка. Коля быстро встал и сказал: “Садитесь, бабушка, пожалуйста!” А когда мы вышли, помог старушке донести до дому тяжелую сумку. Вот что значит вежливый, воспитанный челов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5T14:40:52Z</dcterms:created>
  <dc:creator>Алесса</dc:creator>
  <dc:description/>
  <dc:language>en-US</dc:language>
  <cp:lastModifiedBy>Кабинет №2</cp:lastModifiedBy>
  <dcterms:modified xsi:type="dcterms:W3CDTF">2018-06-20T05:21:36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