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62EF-04B7-41F2-BCD1-025AB871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FED8-6352-4594-93D1-23774EF5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5624-EB27-484D-9CFA-9FC739431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730F-8F1A-4747-9B05-B579458D6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340C3-528F-4D90-B977-4FDFA2FF2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A7FB-16E2-4B0E-B06D-8B487873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11C0-F9D4-47F0-8379-FCE501A0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EED7-3B05-494D-9B67-3749F6C9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9696-2755-44D1-93C2-01859248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521A-1023-441D-9FF3-A321B949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E8C0-374F-4F5D-9660-4F4EC9C1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03E4-F4FA-4F49-87C3-4ADC9FC3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FE225-E33C-465C-88D0-50F1FBDC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878BA-6D84-4154-87EB-7E1663D9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BB044-5C17-48AE-824F-41CBF8FC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6435-9BBF-4C9C-8318-2FF943D81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469D-8315-4324-B7A9-6461AE918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E0D0-0EA6-47CD-B07E-35D00DE17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454C-1661-430A-BC80-2ACF594F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019C-D8FE-4760-B94C-086CD290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E0F8-0ABB-4F46-B993-63F20591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B981-C041-49AC-B1DE-C3C7FF3C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D201-CDE0-4E03-A480-8F9DD0AF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192D-7BE9-4222-83DA-067BCB21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FF58-18A8-44DF-8DA2-93E365D38CE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5A77-DD36-44B7-BFCD-7CAA44CC3BE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6633"/>
                </a:solidFill>
                <a:latin typeface="Georgia"/>
              </a:rPr>
              <a:t>Связь предложений </a:t>
            </a:r>
            <a:br>
              <a:rPr sz="5000"/>
            </a:br>
            <a:r>
              <a:rPr b="1" i="1" lang="ru-RU" sz="5000" spc="-1" strike="noStrike">
                <a:solidFill>
                  <a:srgbClr val="006633"/>
                </a:solidFill>
                <a:latin typeface="Georgia"/>
              </a:rPr>
              <a:t>в тексте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тредактируйте текс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ередо мной иллюстрация художника Л. Владимирского к повести-сказке А. Н. Толстого “Золотой ключик”. На иллюстрации изображен Буратино. На иллюстрации Буратино получает в подарок от Черепахи Тортилы золотой ключик. Буратино очень рад подарку. Подарок поможет ему открыть тайну заветной дверцы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одведем итог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ую связь предложений в тексте        отражают схем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116000" y="2997360"/>
            <a:ext cx="1584360" cy="504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3203640" y="2997360"/>
            <a:ext cx="1873080" cy="504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5508720" y="2997360"/>
            <a:ext cx="1871640" cy="504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2413080" y="3141720"/>
            <a:ext cx="1150920" cy="216000"/>
          </a:xfrm>
          <a:prstGeom prst="rightArrow">
            <a:avLst>
              <a:gd name="adj1" fmla="val 50000"/>
              <a:gd name="adj2" fmla="val 13320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4861080" y="3141720"/>
            <a:ext cx="1079280" cy="216000"/>
          </a:xfrm>
          <a:prstGeom prst="rightArrow">
            <a:avLst>
              <a:gd name="adj1" fmla="val 50000"/>
              <a:gd name="adj2" fmla="val 12491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2771640" y="3429000"/>
            <a:ext cx="73080" cy="73080"/>
          </a:xfrm>
          <a:prstGeom prst="flowChartConnec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5221440" y="3429000"/>
            <a:ext cx="71280" cy="73080"/>
          </a:xfrm>
          <a:prstGeom prst="flowChartConnec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7453440" y="3429000"/>
            <a:ext cx="71280" cy="73080"/>
          </a:xfrm>
          <a:prstGeom prst="flowChartConnec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2916360" y="4724280"/>
            <a:ext cx="1944720" cy="432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1403280" y="5589720"/>
            <a:ext cx="1584360" cy="431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3490920" y="5589720"/>
            <a:ext cx="1657440" cy="431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5580000" y="5589720"/>
            <a:ext cx="1440000" cy="431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6"/>
          <p:cNvSpPr/>
          <p:nvPr/>
        </p:nvSpPr>
        <p:spPr>
          <a:xfrm rot="18675000">
            <a:off x="2518200" y="5120280"/>
            <a:ext cx="792360" cy="431640"/>
          </a:xfrm>
          <a:prstGeom prst="rightArrow">
            <a:avLst>
              <a:gd name="adj1" fmla="val 43380"/>
              <a:gd name="adj2" fmla="val 3862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7"/>
          <p:cNvSpPr/>
          <p:nvPr/>
        </p:nvSpPr>
        <p:spPr>
          <a:xfrm>
            <a:off x="5075280" y="5084640"/>
            <a:ext cx="73080" cy="71640"/>
          </a:xfrm>
          <a:prstGeom prst="flowChartConnec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8"/>
          <p:cNvSpPr/>
          <p:nvPr/>
        </p:nvSpPr>
        <p:spPr>
          <a:xfrm>
            <a:off x="3059280" y="5948280"/>
            <a:ext cx="72720" cy="73080"/>
          </a:xfrm>
          <a:prstGeom prst="flowChartConnec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9"/>
          <p:cNvSpPr/>
          <p:nvPr/>
        </p:nvSpPr>
        <p:spPr>
          <a:xfrm>
            <a:off x="5219640" y="5948280"/>
            <a:ext cx="71640" cy="73080"/>
          </a:xfrm>
          <a:prstGeom prst="flowChartConnec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0"/>
          <p:cNvSpPr/>
          <p:nvPr/>
        </p:nvSpPr>
        <p:spPr>
          <a:xfrm>
            <a:off x="7091280" y="5948280"/>
            <a:ext cx="108000" cy="73080"/>
          </a:xfrm>
          <a:prstGeom prst="flowChartConnec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1"/>
          <p:cNvSpPr/>
          <p:nvPr/>
        </p:nvSpPr>
        <p:spPr>
          <a:xfrm>
            <a:off x="3851280" y="508464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2"/>
          <p:cNvSpPr/>
          <p:nvPr/>
        </p:nvSpPr>
        <p:spPr>
          <a:xfrm rot="2204400">
            <a:off x="4643280" y="5229360"/>
            <a:ext cx="1175040" cy="412560"/>
          </a:xfrm>
          <a:prstGeom prst="leftArrow">
            <a:avLst>
              <a:gd name="adj1" fmla="val 42954"/>
              <a:gd name="adj2" fmla="val 7460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пределите способ связ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) Вот и наступил Новый год. Мы всегда с нетерпением ждём этого праздника. Праздничное настроение дарит нам всё вокруг: нарядные ёлки и фигуры Деда Мороза и Снегурочки на улицах и площадях, яркие гирлянды фонариков вдоль дорог, украшенные витрины магазин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) Вот и наступил Новый год. Загорелись праздничными фонариками площади городов. По улицам там и тут спешат оживлённые прохожие с ёлками под мышкой. Ребятню ждут праздничные представления и новогодние подар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амостоятельная работ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. Определите текст, в котором предложения соединены цепной связью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1). Проснувшись поутру довольно поздно, я увидел, что буря утихла. Солнце сияло. Снег лежал ослепительной пеленою на обозримой степи. Лошади были запряжен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2). Я соскочил с телеги, нагнулся и увидел дощечку, заросшую вьюнком. На ней была надпись черной краской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2. Определите текст, в котором предложения соединены параллельной связью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1)Вечером резко похолодало. Солнце скрылось в облаках и перестало согревать землю. Дождь постепенно превращался в мокрый снег. Усиливающийся северный ветер навевал тоск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2)Музей, к сожалению, был закрыт. Около его дверей с корзиной рыбы сидела худая женщина. Она спозаранку шла на базар, присела на стёртые  ступен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3. Определите способ связ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реди первых минералов, открытых человеком, было золото. Оно очень быстро стало символом могущества: чем больше этого металла было в сокровищнице вождя или владыки, тем выше был их авторитет. Золото не только окружало монархов в этом мире, но и сопровождало в мир иной. Достаточно вспомнить гробницу Тутанхамона, в которой было найдено множество прекрасных золотых изделий. Но больше всего поражал сам саркофаг, изготовленный из единого блока золота весом 110 к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4. Определите способ связи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ачу мы снимали у города, много лет подряд. Простой серый дощатый дом под ржавой железной крышей. Лесенка с нижнего балкона сходит прямо в сирень. Столбы качелей; старая скамья под огромной ивой еле видна — так густо кругом. В высоком плетне — калитка на дорогу. Если встать лицом к Оке, влево — грядки, за ними — малина, смородина и крыжовник, за домом — крокетная площадка. (А. И. Цветаева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Garamond"/>
              </a:rPr>
              <a:t>5. Расставьте предложения в правильном порядке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. Слов нет, красива летняя берёза, но почти вся её привлекательная белизна скрыта листья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Б. Осенняя тоже отвлекает нас листьями – оранжевыми, жёлтыми, малиновы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В. Зимняя берёза смотрится холодно: ведь мы поднимаем на неё глаза от снег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Г. Белый цвет сливается с белы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Д. Самая притягательная берёза – весення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Е. Судите са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Ж. Зато весенняя берёза вся доступна взгляду и раскрывается передо мною: белый ствол, белые ветви, обласканные солнцем, и веснушки – на стволе, на ветках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З. Весёлая берёз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Домашнее зада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03280" y="1413000"/>
            <a:ext cx="3379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ловесная зарисовка на тему «Осень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 группа – цепная связь предложен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2 группа – параллельная связь предложен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Осень"/>
          <p:cNvPicPr/>
          <p:nvPr/>
        </p:nvPicPr>
        <p:blipFill>
          <a:blip r:embed="rId1"/>
          <a:stretch/>
        </p:blipFill>
        <p:spPr>
          <a:xfrm>
            <a:off x="4859280" y="1844640"/>
            <a:ext cx="4038480" cy="3605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азмин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332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КЯЫЗ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ЩИОБЕН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ЧЬЕ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КТЕС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НЛВАИКГИСИ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10552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ЯЗЫК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ОБЩЕНИ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РЕЧ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ЛИНГВИСТИК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спомним определение текст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36360" y="1655640"/>
            <a:ext cx="4103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екст – от лат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xtum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что значи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екст - это группа предложений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ложения связаны между соб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екст создается дл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003280" y="155736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кань, связь, соедин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ъединенных в целое одной темо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 смыслу и грамматичес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ражения мысл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j0299125"/>
          <p:cNvPicPr/>
          <p:nvPr/>
        </p:nvPicPr>
        <p:blipFill>
          <a:blip r:embed="rId1"/>
          <a:stretch/>
        </p:blipFill>
        <p:spPr>
          <a:xfrm>
            <a:off x="8062920" y="5084640"/>
            <a:ext cx="1081080" cy="1773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очитайте текс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1) Вокруг города по низким холмам раскинулись </a:t>
            </a:r>
            <a:r>
              <a:rPr b="0" lang="ru-RU" sz="3400" spc="-1" strike="noStrike">
                <a:solidFill>
                  <a:srgbClr val="00cc00"/>
                </a:solidFill>
                <a:latin typeface="Arial"/>
              </a:rPr>
              <a:t>лес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могучие, нетронутые.  (2) В </a:t>
            </a:r>
            <a:r>
              <a:rPr b="0" lang="ru-RU" sz="3000" spc="-1" strike="noStrike">
                <a:solidFill>
                  <a:srgbClr val="00cc00"/>
                </a:solidFill>
                <a:latin typeface="Arial"/>
              </a:rPr>
              <a:t>лесах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опадались большие луговины и глухие озера с огромными старыми </a:t>
            </a:r>
            <a:r>
              <a:rPr b="0" lang="ru-RU" sz="3000" spc="-1" strike="noStrike">
                <a:solidFill>
                  <a:srgbClr val="00cc00"/>
                </a:solidFill>
                <a:latin typeface="Arial"/>
              </a:rPr>
              <a:t>соснам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о берегам. (3) </a:t>
            </a:r>
            <a:r>
              <a:rPr b="0" lang="ru-RU" sz="3000" spc="-1" strike="noStrike">
                <a:solidFill>
                  <a:srgbClr val="00cc00"/>
                </a:solidFill>
                <a:latin typeface="Arial"/>
              </a:rPr>
              <a:t>Сосн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сё время тихонько шумели.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Ю. Казако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979640" y="5445000"/>
            <a:ext cx="5616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ИЕ СЛОВА ПОМОГАЮТ СВЯЗЫВАТЬ ПРЕДЛОЖ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Цепная связ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00000" y="4653000"/>
            <a:ext cx="7855200" cy="13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Цепная связь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547280" y="1773000"/>
            <a:ext cx="69836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конец мы увидели море. Оно было огромным и очень спокойным. Но это спокойствие было обманчив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979640" y="5661000"/>
            <a:ext cx="1584360" cy="504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4067280" y="5661000"/>
            <a:ext cx="1873080" cy="504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6372360" y="5661000"/>
            <a:ext cx="1871640" cy="504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3276720" y="5805360"/>
            <a:ext cx="1150920" cy="216000"/>
          </a:xfrm>
          <a:prstGeom prst="rightArrow">
            <a:avLst>
              <a:gd name="adj1" fmla="val 50000"/>
              <a:gd name="adj2" fmla="val 13320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/>
          <p:cNvSpPr/>
          <p:nvPr/>
        </p:nvSpPr>
        <p:spPr>
          <a:xfrm>
            <a:off x="5724360" y="5805360"/>
            <a:ext cx="1079640" cy="216000"/>
          </a:xfrm>
          <a:prstGeom prst="rightArrow">
            <a:avLst>
              <a:gd name="adj1" fmla="val 50000"/>
              <a:gd name="adj2" fmla="val 12495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1"/>
          <p:cNvSpPr/>
          <p:nvPr/>
        </p:nvSpPr>
        <p:spPr>
          <a:xfrm>
            <a:off x="3635280" y="6093000"/>
            <a:ext cx="73080" cy="72720"/>
          </a:xfrm>
          <a:prstGeom prst="flowChartConnec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2"/>
          <p:cNvSpPr/>
          <p:nvPr/>
        </p:nvSpPr>
        <p:spPr>
          <a:xfrm>
            <a:off x="6084720" y="6093000"/>
            <a:ext cx="71640" cy="72720"/>
          </a:xfrm>
          <a:prstGeom prst="flowChartConnec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3"/>
          <p:cNvSpPr/>
          <p:nvPr/>
        </p:nvSpPr>
        <p:spPr>
          <a:xfrm>
            <a:off x="8317080" y="6093000"/>
            <a:ext cx="71280" cy="72720"/>
          </a:xfrm>
          <a:prstGeom prst="flowChartConnec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Расставьте предложения в таком порядке, чтобы получился текст.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76000" y="2349000"/>
            <a:ext cx="76676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. Да это белка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. Вдруг на одном бревне появился рыжий зверек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. Как она очутилась в городе?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. В городе Орле рабочие пилили толстые бревна на доск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MMj03652510000[1]"/>
          <p:cNvPicPr/>
          <p:nvPr/>
        </p:nvPicPr>
        <p:blipFill>
          <a:blip r:embed="rId1"/>
          <a:stretch/>
        </p:blipFill>
        <p:spPr>
          <a:xfrm>
            <a:off x="7596360" y="3646440"/>
            <a:ext cx="1028520" cy="601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72 E">
                                      <p:cBhvr>
                                        <p:cTn id="197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2085 E">
                                      <p:cBhvr>
                                        <p:cTn id="199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25608E-006 L 4.16667E-006 0.13674 E">
                                      <p:cBhvr>
                                        <p:cTn id="201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есна в лесу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(1) Радостна, шумна и пахуча </a:t>
            </a:r>
            <a:r>
              <a:rPr b="0" lang="ru-RU" sz="3400" spc="-1" strike="noStrike">
                <a:solidFill>
                  <a:srgbClr val="00cc00"/>
                </a:solidFill>
                <a:latin typeface="Arial"/>
              </a:rPr>
              <a:t>весна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в лесу. (2) Звонко поют </a:t>
            </a:r>
            <a:r>
              <a:rPr b="0" lang="ru-RU" sz="3400" spc="-1" strike="noStrike">
                <a:solidFill>
                  <a:srgbClr val="00cc00"/>
                </a:solidFill>
                <a:latin typeface="Arial"/>
              </a:rPr>
              <a:t>птицы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.            (3) Звенят под деревьями весенние </a:t>
            </a:r>
            <a:r>
              <a:rPr b="0" lang="ru-RU" sz="3400" spc="-1" strike="noStrike">
                <a:solidFill>
                  <a:srgbClr val="00cc00"/>
                </a:solidFill>
                <a:latin typeface="Arial"/>
              </a:rPr>
              <a:t>ручейки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. (4) Смолой пахнут набухшие </a:t>
            </a:r>
            <a:r>
              <a:rPr b="0" lang="ru-RU" sz="3400" spc="-1" strike="noStrike">
                <a:solidFill>
                  <a:srgbClr val="00cc00"/>
                </a:solidFill>
                <a:latin typeface="Arial"/>
              </a:rPr>
              <a:t>почки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араллельная связ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476000" y="1599840"/>
            <a:ext cx="727236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са оздоровляют землю. Они не только исполинские лаборатории, дающие кислород. Они поглощают пыль и ядовитые газы. Их справедливо называют «легкими земли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24000" y="4653000"/>
            <a:ext cx="8362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араллельная связь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4932360" y="4869000"/>
            <a:ext cx="1944720" cy="431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348000" y="5734080"/>
            <a:ext cx="1584360" cy="431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5435640" y="5734080"/>
            <a:ext cx="1657440" cy="431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7524720" y="5734080"/>
            <a:ext cx="1440000" cy="431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0"/>
          <p:cNvSpPr/>
          <p:nvPr/>
        </p:nvSpPr>
        <p:spPr>
          <a:xfrm rot="18675000">
            <a:off x="4463280" y="5264280"/>
            <a:ext cx="792360" cy="432000"/>
          </a:xfrm>
          <a:prstGeom prst="rightArrow">
            <a:avLst>
              <a:gd name="adj1" fmla="val 43380"/>
              <a:gd name="adj2" fmla="val 38594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7020000" y="5229360"/>
            <a:ext cx="73080" cy="71280"/>
          </a:xfrm>
          <a:prstGeom prst="flowChartConnec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5003640" y="6093000"/>
            <a:ext cx="73080" cy="72720"/>
          </a:xfrm>
          <a:prstGeom prst="flowChartConnec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3"/>
          <p:cNvSpPr/>
          <p:nvPr/>
        </p:nvSpPr>
        <p:spPr>
          <a:xfrm>
            <a:off x="7164360" y="6093000"/>
            <a:ext cx="71640" cy="72720"/>
          </a:xfrm>
          <a:prstGeom prst="flowChartConnec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4"/>
          <p:cNvSpPr/>
          <p:nvPr/>
        </p:nvSpPr>
        <p:spPr>
          <a:xfrm>
            <a:off x="9036000" y="6093000"/>
            <a:ext cx="108000" cy="72720"/>
          </a:xfrm>
          <a:prstGeom prst="flowChartConnec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5"/>
          <p:cNvSpPr/>
          <p:nvPr/>
        </p:nvSpPr>
        <p:spPr>
          <a:xfrm>
            <a:off x="5796000" y="5229360"/>
            <a:ext cx="360360" cy="576000"/>
          </a:xfrm>
          <a:prstGeom prst="upArrow">
            <a:avLst>
              <a:gd name="adj1" fmla="val 50000"/>
              <a:gd name="adj2" fmla="val 399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 rot="2204400">
            <a:off x="6588000" y="5373720"/>
            <a:ext cx="1175040" cy="412560"/>
          </a:xfrm>
          <a:prstGeom prst="leftArrow">
            <a:avLst>
              <a:gd name="adj1" fmla="val 42954"/>
              <a:gd name="adj2" fmla="val 7460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68360" y="126792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ё…кий в…терок шев…лил ярко-зелёные лист…я дерев…е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елые обл…чка бр…дили в голубом неб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тро было свежее, чисто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 ласковое со…нце д…рило т…пло и наполняло сердце радость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бинет №2</cp:lastModifiedBy>
  <dcterms:modified xsi:type="dcterms:W3CDTF">2018-06-20T05:34:39Z</dcterms:modified>
  <cp:revision>16</cp:revision>
  <dc:subject/>
  <dc:title>PowerPoint Presentation</dc:title>
</cp:coreProperties>
</file>