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gif" ContentType="image/gif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22419-7579-4EC3-8074-01D1D177A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AD8DB-F969-41C5-AF1D-CF72D195F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50D5E-CA3B-49E5-8C49-1D4B4B6C8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BD9BB-C922-40F0-9160-F4490CF82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F48FE-66F2-43A3-87E8-049C2D127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F9FEF-D6C9-4112-9BBF-91BBE17ED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CDE7D-81D4-4F6A-B7C0-2E71A9F59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6031B-2FF6-4FA9-AFC8-08B74F4C1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81D7B-C98D-40A3-B13F-172C1ECB9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3B9CC-ED2E-41DB-80DE-29C78F491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C21DB-93C8-465A-9085-39171760F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F0D8D-D7EF-47DD-8D10-E3E4C2ED6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D0C24-BBF8-4684-9A5E-810FCE9D9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FACDA-D469-4D93-A3C6-B26F0E25E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460CF-C144-4720-9F6D-F37380FC5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57150-7440-40A2-9514-60A35FF84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8FDB5-BD3C-48EF-94D5-2E5749CB6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A8F38-42C3-48FB-B800-DBCB350D1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1DBC4-E112-478C-9DE9-EAFC0CF8F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AF4E8-1A38-422B-A41F-159ABA247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B5760-6E36-4C47-A6C3-2AE6685F3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96E75-2832-40B3-900F-A47521B3C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7F8B5-1FAB-4CDB-A5A5-0D42740C2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CA11B-C9F7-4614-998E-F458F938B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0FB01-99F3-4A0A-8B17-860749842C2F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prstGeom prst="pie">
            <a:avLst/>
          </a:pr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prstGeom prst="pie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FF312-FFB6-437D-BF72-3F6F0CD53519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000" spc="-1" strike="noStrike">
                <a:solidFill>
                  <a:srgbClr val="006633"/>
                </a:solidFill>
                <a:latin typeface="Georgia"/>
              </a:rPr>
              <a:t>Связь предложений </a:t>
            </a:r>
            <a:br>
              <a:rPr sz="5000"/>
            </a:br>
            <a:r>
              <a:rPr b="1" i="1" lang="ru-RU" sz="5000" spc="-1" strike="noStrike">
                <a:solidFill>
                  <a:srgbClr val="006633"/>
                </a:solidFill>
                <a:latin typeface="Georgia"/>
              </a:rPr>
              <a:t>в тексте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p:transition>
    <p:zoom dir="in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Отредактируйте текст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Передо мной иллюстрация художника Л. Владимирского к повести-сказке А. Н. Толстого “Золотой ключик”. На иллюстрации изображен Буратино. На иллюстрации Буратино получает в подарок от Черепахи Тортилы золотой ключик. Буратино очень рад подарку. Подарок поможет ему открыть тайну заветной дверцы.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Подведем итоги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Какую связь предложений в тексте        отражают схемы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116000" y="2997360"/>
            <a:ext cx="1584360" cy="504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5"/>
          <p:cNvSpPr/>
          <p:nvPr/>
        </p:nvSpPr>
        <p:spPr>
          <a:xfrm>
            <a:off x="3203640" y="2997360"/>
            <a:ext cx="1873080" cy="504720"/>
          </a:xfrm>
          <a:prstGeom prst="flowChartProcess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6"/>
          <p:cNvSpPr/>
          <p:nvPr/>
        </p:nvSpPr>
        <p:spPr>
          <a:xfrm>
            <a:off x="5508720" y="2997360"/>
            <a:ext cx="1871640" cy="504720"/>
          </a:xfrm>
          <a:prstGeom prst="flowChartProcess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7"/>
          <p:cNvSpPr/>
          <p:nvPr/>
        </p:nvSpPr>
        <p:spPr>
          <a:xfrm>
            <a:off x="2413080" y="3141720"/>
            <a:ext cx="1150920" cy="216000"/>
          </a:xfrm>
          <a:prstGeom prst="rightArrow">
            <a:avLst>
              <a:gd name="adj1" fmla="val 50000"/>
              <a:gd name="adj2" fmla="val 133208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8"/>
          <p:cNvSpPr/>
          <p:nvPr/>
        </p:nvSpPr>
        <p:spPr>
          <a:xfrm>
            <a:off x="4861080" y="3141720"/>
            <a:ext cx="1079280" cy="216000"/>
          </a:xfrm>
          <a:prstGeom prst="rightArrow">
            <a:avLst>
              <a:gd name="adj1" fmla="val 50000"/>
              <a:gd name="adj2" fmla="val 124917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9"/>
          <p:cNvSpPr/>
          <p:nvPr/>
        </p:nvSpPr>
        <p:spPr>
          <a:xfrm>
            <a:off x="2771640" y="3429000"/>
            <a:ext cx="73080" cy="73080"/>
          </a:xfrm>
          <a:prstGeom prst="flowChartConnector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" bIns="46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10"/>
          <p:cNvSpPr/>
          <p:nvPr/>
        </p:nvSpPr>
        <p:spPr>
          <a:xfrm>
            <a:off x="5221440" y="3429000"/>
            <a:ext cx="71280" cy="73080"/>
          </a:xfrm>
          <a:prstGeom prst="flowChartConnector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" bIns="46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11"/>
          <p:cNvSpPr/>
          <p:nvPr/>
        </p:nvSpPr>
        <p:spPr>
          <a:xfrm>
            <a:off x="7453440" y="3429000"/>
            <a:ext cx="71280" cy="73080"/>
          </a:xfrm>
          <a:prstGeom prst="flowChartConnector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" bIns="46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12"/>
          <p:cNvSpPr/>
          <p:nvPr/>
        </p:nvSpPr>
        <p:spPr>
          <a:xfrm>
            <a:off x="2916360" y="4724280"/>
            <a:ext cx="1944720" cy="4320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13"/>
          <p:cNvSpPr/>
          <p:nvPr/>
        </p:nvSpPr>
        <p:spPr>
          <a:xfrm>
            <a:off x="1403280" y="5589720"/>
            <a:ext cx="1584360" cy="4316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14"/>
          <p:cNvSpPr/>
          <p:nvPr/>
        </p:nvSpPr>
        <p:spPr>
          <a:xfrm>
            <a:off x="3490920" y="5589720"/>
            <a:ext cx="1657440" cy="4316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15"/>
          <p:cNvSpPr/>
          <p:nvPr/>
        </p:nvSpPr>
        <p:spPr>
          <a:xfrm>
            <a:off x="5580000" y="5589720"/>
            <a:ext cx="1440000" cy="4316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16"/>
          <p:cNvSpPr/>
          <p:nvPr/>
        </p:nvSpPr>
        <p:spPr>
          <a:xfrm rot="18675000">
            <a:off x="2518200" y="5120280"/>
            <a:ext cx="792360" cy="431640"/>
          </a:xfrm>
          <a:prstGeom prst="rightArrow">
            <a:avLst>
              <a:gd name="adj1" fmla="val 43380"/>
              <a:gd name="adj2" fmla="val 38626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17"/>
          <p:cNvSpPr/>
          <p:nvPr/>
        </p:nvSpPr>
        <p:spPr>
          <a:xfrm>
            <a:off x="5075280" y="5084640"/>
            <a:ext cx="73080" cy="71640"/>
          </a:xfrm>
          <a:prstGeom prst="flowChartConnector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18"/>
          <p:cNvSpPr/>
          <p:nvPr/>
        </p:nvSpPr>
        <p:spPr>
          <a:xfrm>
            <a:off x="3059280" y="5948280"/>
            <a:ext cx="72720" cy="73080"/>
          </a:xfrm>
          <a:prstGeom prst="flowChartConnector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" bIns="46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19"/>
          <p:cNvSpPr/>
          <p:nvPr/>
        </p:nvSpPr>
        <p:spPr>
          <a:xfrm>
            <a:off x="5219640" y="5948280"/>
            <a:ext cx="71640" cy="73080"/>
          </a:xfrm>
          <a:prstGeom prst="flowChartConnector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" bIns="46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20"/>
          <p:cNvSpPr/>
          <p:nvPr/>
        </p:nvSpPr>
        <p:spPr>
          <a:xfrm>
            <a:off x="7091280" y="5948280"/>
            <a:ext cx="108000" cy="73080"/>
          </a:xfrm>
          <a:prstGeom prst="flowChartConnector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" bIns="46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21"/>
          <p:cNvSpPr/>
          <p:nvPr/>
        </p:nvSpPr>
        <p:spPr>
          <a:xfrm>
            <a:off x="3851280" y="508464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22"/>
          <p:cNvSpPr/>
          <p:nvPr/>
        </p:nvSpPr>
        <p:spPr>
          <a:xfrm rot="2204400">
            <a:off x="4643280" y="5229360"/>
            <a:ext cx="1175040" cy="412560"/>
          </a:xfrm>
          <a:prstGeom prst="leftArrow">
            <a:avLst>
              <a:gd name="adj1" fmla="val 42954"/>
              <a:gd name="adj2" fmla="val 74606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Определите способ связи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1) Вот и наступил Новый год. Мы всегда с нетерпением ждём этого праздника. Праздничное настроение дарит нам всё вокруг: нарядные ёлки и фигуры Деда Мороза и Снегурочки на улицах и площадях, яркие гирлянды фонариков вдоль дорог, украшенные витрины магазинов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2) Вот и наступил Новый год. Загорелись праздничными фонариками площади городов. По улицам там и тут спешат оживлённые прохожие с ёлками под мышкой. Ребятню ждут праздничные представления и новогодние подарк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Самостоятельная работа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1. Определите текст, в котором предложения соединены цепной связью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1). Проснувшись поутру довольно поздно, я увидел, что буря утихла. Солнце сияло. Снег лежал ослепительной пеленою на обозримой степи. Лошади были запряжены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2). Я соскочил с телеги, нагнулся и увидел дощечку, заросшую вьюнком. На ней была надпись черной краской.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2. Определите текст, в котором предложения соединены параллельной связью.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1)Вечером резко похолодало. Солнце скрылось в облаках и перестало согревать землю. Дождь постепенно превращался в мокрый снег. Усиливающийся северный ветер навевал тоску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2)Музей, к сожалению, был закрыт. Около его дверей с корзиной рыбы сидела худая женщина. Она спозаранку шла на базар, присела на стёртые  ступен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3. Определите способ связ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реди первых минералов, открытых человеком, было золото. Оно очень быстро стало символом могущества: чем больше этого металла было в сокровищнице вождя или владыки, тем выше был их авторитет. Золото не только окружало монархов в этом мире, но и сопровождало в мир иной. Достаточно вспомнить гробницу Тутанхамона, в которой было найдено множество прекрасных золотых изделий. Но больше всего поражал сам саркофаг, изготовленный из единого блока золота весом 110 кг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33"/>
                </a:solidFill>
                <a:latin typeface="Garamond"/>
              </a:rPr>
              <a:t>4. Определите способ связи</a:t>
            </a:r>
            <a:br>
              <a:rPr sz="38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Дачу мы снимали у города, много лет подряд. Простой серый дощатый дом под ржавой железной крышей. Лесенка с нижнего балкона сходит прямо в сирень. Столбы качелей; старая скамья под огромной ивой еле видна — так густо кругом. В высоком плетне — калитка на дорогу. Если встать лицом к Оке, влево — грядки, за ними — малина, смородина и крыжовник, за домом — крокетная площадка. (А. И. Цветаева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33"/>
                </a:solidFill>
                <a:latin typeface="Garamond"/>
              </a:rPr>
              <a:t>5. Расставьте предложения в правильном порядке</a:t>
            </a: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7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i="1" lang="ru-RU" sz="2100" spc="-1" strike="noStrike">
                <a:solidFill>
                  <a:srgbClr val="000000"/>
                </a:solidFill>
                <a:latin typeface="Arial"/>
              </a:rPr>
              <a:t>. Слов нет, красива летняя берёза, но почти вся её привлекательная белизна скрыта листьями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100" spc="-1" strike="noStrike">
                <a:solidFill>
                  <a:srgbClr val="000000"/>
                </a:solidFill>
                <a:latin typeface="Arial"/>
              </a:rPr>
              <a:t>Б. Осенняя тоже отвлекает нас листьями – оранжевыми, жёлтыми, малиновыми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100" spc="-1" strike="noStrike">
                <a:solidFill>
                  <a:srgbClr val="000000"/>
                </a:solidFill>
                <a:latin typeface="Arial"/>
              </a:rPr>
              <a:t>В. Зимняя берёза смотрится холодно: ведь мы поднимаем на неё глаза от снега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100" spc="-1" strike="noStrike">
                <a:solidFill>
                  <a:srgbClr val="000000"/>
                </a:solidFill>
                <a:latin typeface="Arial"/>
              </a:rPr>
              <a:t>Г. Белый цвет сливается с белым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100" spc="-1" strike="noStrike">
                <a:solidFill>
                  <a:srgbClr val="000000"/>
                </a:solidFill>
                <a:latin typeface="Arial"/>
              </a:rPr>
              <a:t>Д. Самая притягательная берёза – весенняя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100" spc="-1" strike="noStrike">
                <a:solidFill>
                  <a:srgbClr val="000000"/>
                </a:solidFill>
                <a:latin typeface="Arial"/>
              </a:rPr>
              <a:t>Е. Судите сами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100" spc="-1" strike="noStrike">
                <a:solidFill>
                  <a:srgbClr val="000000"/>
                </a:solidFill>
                <a:latin typeface="Arial"/>
              </a:rPr>
              <a:t>Ж. Зато весенняя берёза вся доступна взгляду и раскрывается передо мною: белый ствол, белые ветви, обласканные солнцем, и веснушки – на стволе, на ветках…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100" spc="-1" strike="noStrike">
                <a:solidFill>
                  <a:srgbClr val="000000"/>
                </a:solidFill>
                <a:latin typeface="Arial"/>
              </a:rPr>
              <a:t>З. Весёлая берёза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Домашнее задание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403280" y="1413000"/>
            <a:ext cx="33796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Словесная зарисовка на тему «Осень»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1 группа – цепная связь предложений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2 группа – параллельная связь предложений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4" descr="Осень"/>
          <p:cNvPicPr/>
          <p:nvPr/>
        </p:nvPicPr>
        <p:blipFill>
          <a:blip r:embed="rId1"/>
          <a:stretch/>
        </p:blipFill>
        <p:spPr>
          <a:xfrm>
            <a:off x="4859280" y="1844640"/>
            <a:ext cx="4038480" cy="360540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Разминка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1332000" y="15573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Arial"/>
              </a:rPr>
              <a:t>КЯЫЗ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Arial"/>
              </a:rPr>
              <a:t>ЩИОБЕНЕ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Arial"/>
              </a:rPr>
              <a:t>ЧЬЕР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Arial"/>
              </a:rPr>
              <a:t>КТЕСТ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Arial"/>
              </a:rPr>
              <a:t>НЛВАИКГИСИТ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5105520" y="15573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Arial"/>
              </a:rPr>
              <a:t>ЯЗЫК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Arial"/>
              </a:rPr>
              <a:t>ОБЩЕНИЕ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Arial"/>
              </a:rPr>
              <a:t>РЕЧЬ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Arial"/>
              </a:rPr>
              <a:t>ТЕКСТ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Arial"/>
              </a:rPr>
              <a:t>ЛИНГВИСТИКА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Вспомним определение текста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936360" y="1655640"/>
            <a:ext cx="4103640" cy="447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Текст – от лат.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extum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, что значи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Текст - это группа предложений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редложения связаны между собой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Текст создается дл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5003280" y="1557360"/>
            <a:ext cx="40388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ткань, связь, соединение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объединенных в целое одной темой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о смыслу и грамматическ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ыражения мысл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5" descr="j0299125"/>
          <p:cNvPicPr/>
          <p:nvPr/>
        </p:nvPicPr>
        <p:blipFill>
          <a:blip r:embed="rId1"/>
          <a:stretch/>
        </p:blipFill>
        <p:spPr>
          <a:xfrm>
            <a:off x="8062920" y="5084640"/>
            <a:ext cx="1081080" cy="177336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Прочитайте текст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(1) Вокруг города по низким холмам раскинулись </a:t>
            </a:r>
            <a:r>
              <a:rPr b="0" lang="ru-RU" sz="3400" spc="-1" strike="noStrike">
                <a:solidFill>
                  <a:srgbClr val="00cc00"/>
                </a:solidFill>
                <a:latin typeface="Arial"/>
              </a:rPr>
              <a:t>леса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, могучие, нетронутые.  (2) В </a:t>
            </a:r>
            <a:r>
              <a:rPr b="0" lang="ru-RU" sz="3000" spc="-1" strike="noStrike">
                <a:solidFill>
                  <a:srgbClr val="00cc00"/>
                </a:solidFill>
                <a:latin typeface="Arial"/>
              </a:rPr>
              <a:t>лесах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попадались большие луговины и глухие озера с огромными старыми </a:t>
            </a:r>
            <a:r>
              <a:rPr b="0" lang="ru-RU" sz="3000" spc="-1" strike="noStrike">
                <a:solidFill>
                  <a:srgbClr val="00cc00"/>
                </a:solidFill>
                <a:latin typeface="Arial"/>
              </a:rPr>
              <a:t>соснами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по берегам. (3) </a:t>
            </a:r>
            <a:r>
              <a:rPr b="0" lang="ru-RU" sz="3000" spc="-1" strike="noStrike">
                <a:solidFill>
                  <a:srgbClr val="00cc00"/>
                </a:solidFill>
                <a:latin typeface="Arial"/>
              </a:rPr>
              <a:t>Сосны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всё время тихонько шумели.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(Ю. Казаков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1979640" y="5445000"/>
            <a:ext cx="5616720" cy="947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КАКИЕ СЛОВА ПОМОГАЮТ СВЯЗЫВАТЬ ПРЕДЛОЖЕНИ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Цепная связь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900000" y="4653000"/>
            <a:ext cx="7855200" cy="13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Цепная связь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547280" y="1773000"/>
            <a:ext cx="6983640" cy="28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конец мы увидели море. Оно было огромным и очень спокойным. Но это спокойствие было обманчивы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6"/>
          <p:cNvSpPr/>
          <p:nvPr/>
        </p:nvSpPr>
        <p:spPr>
          <a:xfrm>
            <a:off x="1979640" y="5661000"/>
            <a:ext cx="1584360" cy="504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7"/>
          <p:cNvSpPr/>
          <p:nvPr/>
        </p:nvSpPr>
        <p:spPr>
          <a:xfrm>
            <a:off x="4067280" y="5661000"/>
            <a:ext cx="1873080" cy="504720"/>
          </a:xfrm>
          <a:prstGeom prst="flowChartProcess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8"/>
          <p:cNvSpPr/>
          <p:nvPr/>
        </p:nvSpPr>
        <p:spPr>
          <a:xfrm>
            <a:off x="6372360" y="5661000"/>
            <a:ext cx="1871640" cy="504720"/>
          </a:xfrm>
          <a:prstGeom prst="flowChartProcess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9"/>
          <p:cNvSpPr/>
          <p:nvPr/>
        </p:nvSpPr>
        <p:spPr>
          <a:xfrm>
            <a:off x="3276720" y="5805360"/>
            <a:ext cx="1150920" cy="216000"/>
          </a:xfrm>
          <a:prstGeom prst="rightArrow">
            <a:avLst>
              <a:gd name="adj1" fmla="val 50000"/>
              <a:gd name="adj2" fmla="val 133208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10"/>
          <p:cNvSpPr/>
          <p:nvPr/>
        </p:nvSpPr>
        <p:spPr>
          <a:xfrm>
            <a:off x="5724360" y="5805360"/>
            <a:ext cx="1079640" cy="216000"/>
          </a:xfrm>
          <a:prstGeom prst="rightArrow">
            <a:avLst>
              <a:gd name="adj1" fmla="val 50000"/>
              <a:gd name="adj2" fmla="val 124958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11"/>
          <p:cNvSpPr/>
          <p:nvPr/>
        </p:nvSpPr>
        <p:spPr>
          <a:xfrm>
            <a:off x="3635280" y="6093000"/>
            <a:ext cx="73080" cy="72720"/>
          </a:xfrm>
          <a:prstGeom prst="flowChartConnector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12"/>
          <p:cNvSpPr/>
          <p:nvPr/>
        </p:nvSpPr>
        <p:spPr>
          <a:xfrm>
            <a:off x="6084720" y="6093000"/>
            <a:ext cx="71640" cy="72720"/>
          </a:xfrm>
          <a:prstGeom prst="flowChartConnector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13"/>
          <p:cNvSpPr/>
          <p:nvPr/>
        </p:nvSpPr>
        <p:spPr>
          <a:xfrm>
            <a:off x="8317080" y="6093000"/>
            <a:ext cx="71280" cy="72720"/>
          </a:xfrm>
          <a:prstGeom prst="flowChartConnector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95280" y="274680"/>
            <a:ext cx="8291520" cy="18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6633"/>
                </a:solidFill>
                <a:latin typeface="Garamond"/>
              </a:rPr>
              <a:t>Расставьте предложения в таком порядке, чтобы получился текст.</a:t>
            </a:r>
            <a:br>
              <a:rPr sz="3400"/>
            </a:b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476000" y="2349000"/>
            <a:ext cx="766764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А. Да это белка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Б. Вдруг на одном бревне появился рыжий зверек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. Как она очутилась в городе?</a:t>
            </a: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Г. В городе Орле рабочие пилили толстые бревна на доски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4" descr="MMj03652510000[1]"/>
          <p:cNvPicPr/>
          <p:nvPr/>
        </p:nvPicPr>
        <p:blipFill>
          <a:blip r:embed="rId1"/>
          <a:stretch/>
        </p:blipFill>
        <p:spPr>
          <a:xfrm>
            <a:off x="7596360" y="3646440"/>
            <a:ext cx="1028520" cy="60156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372 E">
                                      <p:cBhvr>
                                        <p:cTn id="197" dur="2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22085 E">
                                      <p:cBhvr>
                                        <p:cTn id="199" dur="2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0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-3.25608E-006 L 4.16667E-006 0.13674 E">
                                      <p:cBhvr>
                                        <p:cTn id="201" dur="2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Весна в лесу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(1) Радостна, шумна и пахуча </a:t>
            </a:r>
            <a:r>
              <a:rPr b="0" lang="ru-RU" sz="3400" spc="-1" strike="noStrike">
                <a:solidFill>
                  <a:srgbClr val="00cc00"/>
                </a:solidFill>
                <a:latin typeface="Arial"/>
              </a:rPr>
              <a:t>весна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 в лесу. (2) Звонко поют </a:t>
            </a:r>
            <a:r>
              <a:rPr b="0" lang="ru-RU" sz="3400" spc="-1" strike="noStrike">
                <a:solidFill>
                  <a:srgbClr val="00cc00"/>
                </a:solidFill>
                <a:latin typeface="Arial"/>
              </a:rPr>
              <a:t>птицы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.            (3) Звенят под деревьями весенние </a:t>
            </a:r>
            <a:r>
              <a:rPr b="0" lang="ru-RU" sz="3400" spc="-1" strike="noStrike">
                <a:solidFill>
                  <a:srgbClr val="00cc00"/>
                </a:solidFill>
                <a:latin typeface="Arial"/>
              </a:rPr>
              <a:t>ручейки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. (4) Смолой пахнут набухшие </a:t>
            </a:r>
            <a:r>
              <a:rPr b="0" lang="ru-RU" sz="3400" spc="-1" strike="noStrike">
                <a:solidFill>
                  <a:srgbClr val="00cc00"/>
                </a:solidFill>
                <a:latin typeface="Arial"/>
              </a:rPr>
              <a:t>почки</a:t>
            </a: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Параллельная связь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1476000" y="1599840"/>
            <a:ext cx="7272360" cy="341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Леса оздоровляют землю. Они не только исполинские лаборатории, дающие кислород. Они поглощают пыль и ядовитые газы. Их справедливо называют «легкими земли»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24000" y="4653000"/>
            <a:ext cx="8362800" cy="15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араллельная связь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5"/>
          <p:cNvSpPr/>
          <p:nvPr/>
        </p:nvSpPr>
        <p:spPr>
          <a:xfrm>
            <a:off x="4932360" y="4869000"/>
            <a:ext cx="1944720" cy="4316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6"/>
          <p:cNvSpPr/>
          <p:nvPr/>
        </p:nvSpPr>
        <p:spPr>
          <a:xfrm>
            <a:off x="3348000" y="5734080"/>
            <a:ext cx="1584360" cy="4316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7"/>
          <p:cNvSpPr/>
          <p:nvPr/>
        </p:nvSpPr>
        <p:spPr>
          <a:xfrm>
            <a:off x="5435640" y="5734080"/>
            <a:ext cx="1657440" cy="4316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7524720" y="5734080"/>
            <a:ext cx="1440000" cy="4316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10"/>
          <p:cNvSpPr/>
          <p:nvPr/>
        </p:nvSpPr>
        <p:spPr>
          <a:xfrm rot="18675000">
            <a:off x="4463280" y="5264280"/>
            <a:ext cx="792360" cy="432000"/>
          </a:xfrm>
          <a:prstGeom prst="rightArrow">
            <a:avLst>
              <a:gd name="adj1" fmla="val 43380"/>
              <a:gd name="adj2" fmla="val 38594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11"/>
          <p:cNvSpPr/>
          <p:nvPr/>
        </p:nvSpPr>
        <p:spPr>
          <a:xfrm>
            <a:off x="7020000" y="5229360"/>
            <a:ext cx="73080" cy="71280"/>
          </a:xfrm>
          <a:prstGeom prst="flowChartConnector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12"/>
          <p:cNvSpPr/>
          <p:nvPr/>
        </p:nvSpPr>
        <p:spPr>
          <a:xfrm>
            <a:off x="5003640" y="6093000"/>
            <a:ext cx="73080" cy="72720"/>
          </a:xfrm>
          <a:prstGeom prst="flowChartConnector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13"/>
          <p:cNvSpPr/>
          <p:nvPr/>
        </p:nvSpPr>
        <p:spPr>
          <a:xfrm>
            <a:off x="7164360" y="6093000"/>
            <a:ext cx="71640" cy="72720"/>
          </a:xfrm>
          <a:prstGeom prst="flowChartConnector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14"/>
          <p:cNvSpPr/>
          <p:nvPr/>
        </p:nvSpPr>
        <p:spPr>
          <a:xfrm>
            <a:off x="9036000" y="6093000"/>
            <a:ext cx="108000" cy="72720"/>
          </a:xfrm>
          <a:prstGeom prst="flowChartConnector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15"/>
          <p:cNvSpPr/>
          <p:nvPr/>
        </p:nvSpPr>
        <p:spPr>
          <a:xfrm>
            <a:off x="5796000" y="5229360"/>
            <a:ext cx="360360" cy="576000"/>
          </a:xfrm>
          <a:prstGeom prst="upArrow">
            <a:avLst>
              <a:gd name="adj1" fmla="val 50000"/>
              <a:gd name="adj2" fmla="val 39960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16"/>
          <p:cNvSpPr/>
          <p:nvPr/>
        </p:nvSpPr>
        <p:spPr>
          <a:xfrm rot="2204400">
            <a:off x="6588000" y="5373720"/>
            <a:ext cx="1175040" cy="412560"/>
          </a:xfrm>
          <a:prstGeom prst="leftArrow">
            <a:avLst>
              <a:gd name="adj1" fmla="val 42954"/>
              <a:gd name="adj2" fmla="val 74606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468360" y="1267920"/>
            <a:ext cx="842472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Лё…кий в…терок шев…лил ярко-зелёные лист…я дерев…ев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Белые обл…чка бр…дили в голубом небе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Утро было свежее, чистое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А ласковое со…нце д…рило т…пло и наполняло сердце радостью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Кабинет №2</cp:lastModifiedBy>
  <dcterms:modified xsi:type="dcterms:W3CDTF">2018-06-20T05:34:39Z</dcterms:modified>
  <cp:revision>16</cp:revision>
  <dc:subject/>
  <dc:title>PowerPoint Presentation</dc:title>
</cp:coreProperties>
</file>