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5.jpeg" ContentType="image/jpeg"/>
  <Override PartName="/ppt/media/image20.jpeg" ContentType="image/jpeg"/>
  <Override PartName="/ppt/media/image1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5.jpeg" ContentType="image/jpeg"/>
  <Override PartName="/ppt/media/image32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D33D-074F-4FDB-92C3-F4F8E5350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AA15-6F27-425F-BD90-07812954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938D-72DB-40C5-9A9E-2B0BCF5B9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65D2-E00D-4462-80B0-2970A36E5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D45A-A788-4E21-95FC-399AE820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A40F-CDFC-454A-9132-178A453C6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D085-4315-4338-B414-3E9EF584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13C5-DE4D-472D-92B4-0D5D5E5A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DD98-DDC1-4658-B9C8-9A03B69C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23E1-4978-47A2-9EF5-6EFDF3C3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FCD3-514E-49FA-BA49-726D292F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3B95-45F6-4351-B412-99D83D8B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E15B-B071-499A-9EBB-D27BE9F973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jpe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МЫ РАЗНЫЕ – В ЭТОМ НАШЕ БОГАТСТВО, </a:t>
            </a:r>
            <a:br>
              <a:rPr sz="4400"/>
            </a:b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МЫ ВМЕСТЕ – В ЭТОМ НАША СИ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УРОК – ПРАКТИКУ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ПО РАЗВИТ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ТОЛЕРАН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0920" y="5084640"/>
            <a:ext cx="856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00280" indent="-17002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1700"/>
                </a:solidFill>
                <a:latin typeface="Arial"/>
              </a:rPr>
              <a:t>Ксенофо́бия (от греч. </a:t>
            </a:r>
            <a:r>
              <a:rPr b="1" lang="el-GR" sz="2000" spc="-1" strike="noStrike">
                <a:solidFill>
                  <a:srgbClr val="2e1700"/>
                </a:solidFill>
                <a:latin typeface="Arial"/>
              </a:rPr>
              <a:t>ξένος</a:t>
            </a:r>
            <a:r>
              <a:rPr b="1" lang="ru-RU" sz="2000" spc="-1" strike="noStrike">
                <a:solidFill>
                  <a:srgbClr val="2e1700"/>
                </a:solidFill>
                <a:latin typeface="Arial"/>
              </a:rPr>
              <a:t>, «чужой» и </a:t>
            </a:r>
            <a:r>
              <a:rPr b="1" lang="el-GR" sz="2000" spc="-1" strike="noStrike">
                <a:solidFill>
                  <a:srgbClr val="2e1700"/>
                </a:solidFill>
                <a:latin typeface="Arial"/>
              </a:rPr>
              <a:t>φόβος</a:t>
            </a:r>
            <a:r>
              <a:rPr b="1" lang="ru-RU" sz="2000" spc="-1" strike="noStrike">
                <a:solidFill>
                  <a:srgbClr val="2e1700"/>
                </a:solidFill>
                <a:latin typeface="Arial"/>
              </a:rPr>
              <a:t>, «страх») — нетерпимость к кому-либо или чему-либо чужому, незнакомому, непривычному. Это восприятие чужого как непонятного, непостижимого, а поэтому опасного и враждебного.</a:t>
            </a:r>
            <a:r>
              <a:rPr b="0" lang="ru-RU" sz="2000" spc="-1" strike="noStrike">
                <a:solidFill>
                  <a:srgbClr val="2e17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115920"/>
            <a:ext cx="67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00280" indent="-170028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Противоположность толерантности – ксенофоб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403280" y="765000"/>
            <a:ext cx="633744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95280" y="18900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Умению уважения других не только можно, но и нужно уч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233360"/>
            <a:ext cx="8280360" cy="4208760"/>
          </a:xfrm>
          <a:prstGeom prst="rect">
            <a:avLst/>
          </a:prstGeom>
          <a:solidFill>
            <a:srgbClr val="e2d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1700"/>
                </a:solidFill>
                <a:latin typeface="Arial"/>
              </a:rPr>
              <a:t>«Воин по имени Нобусигэ пришел к Хакуину и спросил его, есть ли на самом деле рай и 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17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e1700"/>
                </a:solidFill>
                <a:latin typeface="Arial"/>
              </a:rPr>
              <a:t>Кто ты? — спросил Хаку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e1700"/>
                </a:solidFill>
                <a:latin typeface="Arial"/>
              </a:rPr>
              <a:t>Самурай,— ответил во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17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e1700"/>
                </a:solidFill>
                <a:latin typeface="Arial"/>
              </a:rPr>
              <a:t>Это ты — самурай? — воскликнул Хакуин.— Какой же правитель мог взять тебя в охрану? У тебя же лицо нищег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1700"/>
                </a:solidFill>
                <a:latin typeface="Arial"/>
              </a:rPr>
              <a:t>Нобусигэ так рассердился, что стал вынимать из ножен ме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1700"/>
                </a:solidFill>
                <a:latin typeface="Arial"/>
              </a:rPr>
              <a:t>Хакуин продолжа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1700"/>
                </a:solidFill>
                <a:latin typeface="Arial"/>
              </a:rPr>
              <a:t>— </a:t>
            </a:r>
            <a:r>
              <a:rPr b="1" lang="ru-RU" sz="1800" spc="-1" strike="noStrike">
                <a:solidFill>
                  <a:srgbClr val="2e1700"/>
                </a:solidFill>
                <a:latin typeface="Arial"/>
              </a:rPr>
              <a:t>А у тебя и меч есть? Небось такой тупой, что им ты мне и голову не срубиш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1700"/>
                </a:solidFill>
                <a:latin typeface="Arial"/>
              </a:rPr>
              <a:t>Когда же Нобусигэ обнажил меч, Хакуин замети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1700"/>
                </a:solidFill>
                <a:latin typeface="Arial"/>
              </a:rPr>
              <a:t>— </a:t>
            </a:r>
            <a:r>
              <a:rPr b="1" lang="ru-RU" sz="1800" spc="-1" strike="noStrike">
                <a:solidFill>
                  <a:srgbClr val="2e1700"/>
                </a:solidFill>
                <a:latin typeface="Arial"/>
              </a:rPr>
              <a:t>Вот так открываются двери а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1700"/>
                </a:solidFill>
                <a:latin typeface="Arial"/>
              </a:rPr>
              <a:t>Эти слова открыли самураю учение мастера. Спрятав меч, он поклони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1700"/>
                </a:solidFill>
                <a:latin typeface="Arial"/>
              </a:rPr>
              <a:t>— </a:t>
            </a:r>
            <a:r>
              <a:rPr b="1" lang="ru-RU" sz="1800" spc="-1" strike="noStrike">
                <a:solidFill>
                  <a:srgbClr val="2e1700"/>
                </a:solidFill>
                <a:latin typeface="Arial"/>
              </a:rPr>
              <a:t>А так открываются двери рая,— сказал Хакуин».</a:t>
            </a:r>
            <a:r>
              <a:rPr b="0" lang="ru-RU" sz="1800" spc="-1" strike="noStrike">
                <a:solidFill>
                  <a:srgbClr val="2e17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76500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Вот японская притч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73408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e1700"/>
                </a:solidFill>
                <a:latin typeface="Arial"/>
              </a:rPr>
              <a:t>Подумайте, легко ли перейти от гнева к уважению.</a:t>
            </a:r>
            <a:br>
              <a:rPr sz="2000"/>
            </a:br>
            <a:r>
              <a:rPr b="1" i="1" lang="en-US" sz="2000" spc="-1" strike="noStrike">
                <a:solidFill>
                  <a:srgbClr val="2e1700"/>
                </a:solidFill>
                <a:latin typeface="Arial"/>
              </a:rPr>
              <a:t>А вы, легко ли усмиряете свой гнев?</a:t>
            </a: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(дискусс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50840" y="87480"/>
            <a:ext cx="885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1700"/>
                </a:solidFill>
                <a:latin typeface="Arial"/>
              </a:rPr>
              <a:t>Считается, что толерантность как нравственный принцип возникает в эпоху Просвещения. Самым ярким представителем толерантности в </a:t>
            </a: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XVIII</a:t>
            </a:r>
            <a:r>
              <a:rPr b="1" lang="ru-RU" sz="2000" spc="-1" strike="noStrike">
                <a:solidFill>
                  <a:srgbClr val="2e1700"/>
                </a:solidFill>
                <a:latin typeface="Arial"/>
              </a:rPr>
              <a:t> веке был Вольтер.</a:t>
            </a:r>
            <a:r>
              <a:rPr b="0" lang="ru-RU" sz="2000" spc="-1" strike="noStrike">
                <a:solidFill>
                  <a:srgbClr val="2e17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92720" y="1341360"/>
            <a:ext cx="3600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Именно ему приписывают классическое выражение толерантности: </a:t>
            </a:r>
            <a:r>
              <a:rPr b="1" lang="en-US" sz="2000" spc="-1" strike="noStrike" u="sng">
                <a:solidFill>
                  <a:srgbClr val="2e1700"/>
                </a:solidFill>
                <a:uFillTx/>
                <a:latin typeface="Arial"/>
              </a:rPr>
              <a:t>«Я не согласен с тем, что вы говорите, но пожертвую своей жизнью, защищая ваше право высказывать собственное мнение»</a:t>
            </a: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27080" y="1197000"/>
            <a:ext cx="4908600" cy="5545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294160" y="4854600"/>
            <a:ext cx="36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Многие ли из нас сегодня могут похвастаться подобным отношением к людя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4470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Если человек шагает не в ногу с остальными – это, возможно, потому, что он слышит другого барабанщика. Пусть себе шагает под ту музыку, которая звучит для него, какой бы они ни была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Г.Д.Торо (писател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Каждый волен верить, во что он хочет. Я только против того, чтобы заставлять всех верить во что-то одно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А.Азимов (писател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Живи с людьми так, чтобы твои друзья не стали недругами, а недруги стали друзьями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ифаг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50840" y="87480"/>
            <a:ext cx="885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В условиях современного глобального общества, когда информационные барьеры о «других», «иных», «не таких, как мы» исчезают, понятие и принятие толерантности обретает особую остроту. Не случайно в ноябре 1995 года генеральная конференция ЮНЕСКО приняла </a:t>
            </a:r>
            <a:r>
              <a:rPr b="1" lang="en-US" sz="2000" spc="-1" strike="noStrike" u="sng">
                <a:solidFill>
                  <a:srgbClr val="2e1700"/>
                </a:solidFill>
                <a:uFillTx/>
                <a:latin typeface="Arial"/>
              </a:rPr>
              <a:t>Декларацию принципов толерантности</a:t>
            </a: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, которую подписали государства — члены ОО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6160" y="3092400"/>
            <a:ext cx="8856720" cy="1923480"/>
          </a:xfrm>
          <a:prstGeom prst="rect">
            <a:avLst/>
          </a:prstGeom>
          <a:solidFill>
            <a:srgbClr val="e2d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e1700"/>
                </a:solidFill>
                <a:latin typeface="Arial"/>
              </a:rPr>
              <a:t>«Толерантность означает уважение, принятие и правильное понимание богатого многообразия культур нашего мира, наших форм самовыражения и способов проявлений человеческой индивидуальности. Ей способствуют знания, открытость, общение и свобода мысли, совести и убеждений. Толерантность — это гармония в многообразии».</a:t>
            </a:r>
            <a:r>
              <a:rPr b="0" i="1" lang="en-US" sz="2000" spc="-1" strike="noStrike">
                <a:solidFill>
                  <a:srgbClr val="2e17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200" y="5373720"/>
            <a:ext cx="8856720" cy="1008720"/>
          </a:xfrm>
          <a:prstGeom prst="rect">
            <a:avLst/>
          </a:prstGeom>
          <a:solidFill>
            <a:srgbClr val="e2d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e1700"/>
                </a:solidFill>
                <a:latin typeface="Arial"/>
              </a:rPr>
              <a:t>«Толерантность — это добродетель, которая делает возможным достижение мира и способствует замене культуры войны культурой мира</a:t>
            </a: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43200" y="2311560"/>
            <a:ext cx="54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В ней, в частности, записано следующ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32000" y="189000"/>
            <a:ext cx="694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Эта Декларация определила 16 ноября ежегодным международным Днем толерант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851120" y="1413000"/>
            <a:ext cx="59036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1598760"/>
            <a:ext cx="7093080" cy="5259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635280" y="2637000"/>
            <a:ext cx="5365800" cy="4024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95280" y="18900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Особенно актуальна проблема толерантности в современной Москве, которая по праву считается многонациональ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82560" y="1101600"/>
            <a:ext cx="6266160" cy="4269960"/>
          </a:xfrm>
          <a:prstGeom prst="rect">
            <a:avLst/>
          </a:prstGeom>
          <a:solidFill>
            <a:srgbClr val="e2d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Национальный состав населения Мос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Русские —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3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Азербайджанцы —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1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Татары, башкиры, чуваши —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Украинцы —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  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Армяне —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 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Евреи —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 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Таджики, узбеки, казахи, киргизы —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 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Корейцы, китайцы, вьетнамцы —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 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Чеченцы, дагестанцы, ингуши —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  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Грузины —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  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Молдаване —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  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Цыгане —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  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Другие народы —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  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8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1700"/>
                </a:solidFill>
                <a:latin typeface="Arial"/>
              </a:rPr>
              <a:t>Толерантность – это умение общаться, уважая друг др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Дере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03640" y="1817640"/>
            <a:ext cx="56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Терпимость к чужому мнению, повед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03640" y="39006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Прощ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112392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Сотрудни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03640" y="2511360"/>
            <a:ext cx="50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Уважение человеческого достои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3640" y="4595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Состра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03640" y="320688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Уважение прав друг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3640" y="528948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Милосерд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3640" y="5985000"/>
            <a:ext cx="49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Принятие другого таким, как он 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1341360"/>
            <a:ext cx="358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1700"/>
                </a:solidFill>
                <a:latin typeface="Arial"/>
              </a:rPr>
              <a:t>толера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258920" y="1341360"/>
            <a:ext cx="1872720" cy="4824360"/>
            <a:chOff x="1258920" y="1341360"/>
            <a:chExt cx="1872720" cy="4824360"/>
          </a:xfrm>
        </p:grpSpPr>
        <p:sp>
          <p:nvSpPr>
            <p:cNvPr id="97" name=""/>
            <p:cNvSpPr/>
            <p:nvPr/>
          </p:nvSpPr>
          <p:spPr>
            <a:xfrm flipV="1">
              <a:off x="1258920" y="1341360"/>
              <a:ext cx="1872720" cy="2448000"/>
            </a:xfrm>
            <a:prstGeom prst="line">
              <a:avLst/>
            </a:prstGeom>
            <a:ln w="19080">
              <a:solidFill>
                <a:srgbClr val="2e1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1258920" y="1988640"/>
              <a:ext cx="1872720" cy="1800360"/>
            </a:xfrm>
            <a:prstGeom prst="line">
              <a:avLst/>
            </a:prstGeom>
            <a:ln w="19080">
              <a:solidFill>
                <a:srgbClr val="2e1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1258920" y="2707920"/>
              <a:ext cx="1761480" cy="1081080"/>
            </a:xfrm>
            <a:prstGeom prst="line">
              <a:avLst/>
            </a:prstGeom>
            <a:ln w="19080">
              <a:solidFill>
                <a:srgbClr val="2e1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1258920" y="3428640"/>
              <a:ext cx="1761480" cy="360360"/>
            </a:xfrm>
            <a:prstGeom prst="line">
              <a:avLst/>
            </a:prstGeom>
            <a:ln w="19080">
              <a:solidFill>
                <a:srgbClr val="2e1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58920" y="3789360"/>
              <a:ext cx="1761480" cy="287280"/>
            </a:xfrm>
            <a:prstGeom prst="line">
              <a:avLst/>
            </a:prstGeom>
            <a:ln w="19080">
              <a:solidFill>
                <a:srgbClr val="2e1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58920" y="3789360"/>
              <a:ext cx="1872720" cy="1008000"/>
            </a:xfrm>
            <a:prstGeom prst="line">
              <a:avLst/>
            </a:prstGeom>
            <a:ln w="19080">
              <a:solidFill>
                <a:srgbClr val="2e1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58920" y="3789360"/>
              <a:ext cx="1872720" cy="1655640"/>
            </a:xfrm>
            <a:prstGeom prst="line">
              <a:avLst/>
            </a:prstGeom>
            <a:ln w="19080">
              <a:solidFill>
                <a:srgbClr val="2e1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58920" y="3789360"/>
              <a:ext cx="1872720" cy="2376360"/>
            </a:xfrm>
            <a:prstGeom prst="line">
              <a:avLst/>
            </a:prstGeom>
            <a:ln w="19080">
              <a:solidFill>
                <a:srgbClr val="2e1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16000" y="189000"/>
            <a:ext cx="70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1700"/>
                </a:solidFill>
                <a:latin typeface="Arial"/>
              </a:rPr>
              <a:t>В основе уважения весгда лежит понимание другого, искреннний интерес к его жизни, к его культу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211640" y="1965240"/>
            <a:ext cx="4932360" cy="489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4000" y="1125360"/>
            <a:ext cx="374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Мир настолько многообразен и интересен, что глупо тратить время</a:t>
            </a:r>
            <a:br>
              <a:rPr sz="2000"/>
            </a:b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на взаимные распри.</a:t>
            </a:r>
            <a:br>
              <a:rPr sz="2000"/>
            </a:b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Не лучше ли постараться понять его?</a:t>
            </a:r>
            <a:br>
              <a:rPr sz="2000"/>
            </a:b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Ведь именно понимание сделало нас челове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82760" y="3886200"/>
            <a:ext cx="3429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24000" y="765000"/>
            <a:ext cx="8496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Добро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это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 то, что человеку дороже всего на свете: Мама, Папа, близкие люди, мороженое, солнышко, радуга, но не стоит забывать о детях, которые остались без родителей! Без этого мир не обходится и те, у кого всё есть, не думают, о том, как страдают их сверстники в детских домах. Они думают, что их скоро заберут отсюда, но этого не происходит.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77080" y="616572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Бочаров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18080" y="476280"/>
            <a:ext cx="713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1700"/>
                </a:solidFill>
                <a:latin typeface="Arial"/>
              </a:rPr>
              <a:t>Толерантность </a:t>
            </a:r>
            <a:r>
              <a:rPr b="1" lang="en-US" sz="2400" spc="-1" strike="noStrike">
                <a:solidFill>
                  <a:srgbClr val="2e1700"/>
                </a:solidFill>
                <a:latin typeface="Arial"/>
              </a:rPr>
              <a:t>(tolerantia) </a:t>
            </a:r>
            <a:r>
              <a:rPr b="1" lang="ru-RU" sz="2400" spc="-1" strike="noStrike">
                <a:solidFill>
                  <a:srgbClr val="2e1700"/>
                </a:solidFill>
                <a:latin typeface="Arial"/>
              </a:rPr>
              <a:t>– слово латинск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1700"/>
                </a:solidFill>
                <a:latin typeface="Arial"/>
              </a:rPr>
              <a:t>И означает оно «терпени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5486400"/>
            <a:ext cx="795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1700"/>
                </a:solidFill>
                <a:latin typeface="Arial"/>
              </a:rPr>
              <a:t>Народы мира переняли это слово у римлян,</a:t>
            </a:r>
            <a:br>
              <a:rPr sz="2400"/>
            </a:br>
            <a:r>
              <a:rPr b="1" lang="en-US" sz="2400" spc="-1" strike="noStrike">
                <a:solidFill>
                  <a:srgbClr val="2e1700"/>
                </a:solidFill>
                <a:latin typeface="Arial"/>
              </a:rPr>
              <a:t>немного расширив его з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919240" y="2098800"/>
            <a:ext cx="333396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50920" y="393840"/>
            <a:ext cx="864216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264200" y="0"/>
            <a:ext cx="48798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0920" y="189000"/>
            <a:ext cx="3889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я любимая м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какой бы я ни был печал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 знаю, где помощь иск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ие б проблемы ни встали, Всегда поможет мне м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а для нас с братом родная, Родней человека уж н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юбая обида растае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гда она скажет - «Приве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рослав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156200" y="0"/>
            <a:ext cx="49878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50920" y="0"/>
            <a:ext cx="3816360" cy="62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Кто открыл мне этот ми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е жалея своих сил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И всегда оберегал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Лучшая на свете МА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Кто на свете всех мил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И теплом своим согре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Любит больше, чем себ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Это МАМОЧКА мо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Книжки вечером чит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И всегда всё понима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Даже если я упрям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Знаю, любит меня МА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икогда не уныва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Что мне надо, точно зна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Если, вдруг, случится драм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Кто поддержит? Моя МА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Я шагаю по дорожк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о устали мои ножки. Перепрыгнуть через я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Кто поможет? Знаю - М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40000" y="6381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узьмич 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241880" y="189000"/>
            <a:ext cx="4902120" cy="666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3961080" cy="2800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476360" y="2924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я м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141720"/>
            <a:ext cx="42847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ма - это такое простое и нежное, но важное слово. Это первое слово, которое произносит ребёнок. Это главное слово в жизни любого человека. Для каждого человека нет лучшего совета, чем материнск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ою маму зовут Анна, но для меня она просто мама. Если бы у меня не было такой мамы, вряд ли я стал именно таким любознательным, упорным к себ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меня моя мама самая чудесная, добрая, красивая и ласковая мама в мире. Я не нахожу более красивых слов, чтобы описать то, что я чувствую к ма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4812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788000" y="0"/>
            <a:ext cx="4356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Моя ма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Есть русская пословица « Без матери, что стол без скатерт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Я счастливая, у меня есть мама. С тех пор, как я себя помню она всегда со мной рядом: добрая, ласковая, красивая. Как приятно ощущать её тёплые заботливые руки. Она никогда не отдыхает, очень много работает, в свободное время она занимается со мной и братом. Мы вместе ходим на каток, в театр, катаемся на велосипедах, роликах, готовимся к праздникам. Я рассказываю ей о школе, о товарищах, она всегда меня внимательно слушает. В её глазах я могу прочитать огорчение или радость. У моей мамы даже запах особый, сладкий и волшебный. Когда я её обнимаю мне становится очень хорошо и легк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шковская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24000" y="171360"/>
            <a:ext cx="87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00280" indent="-170028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Художники сегодня находят интересные символы толеран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820960" y="836640"/>
            <a:ext cx="2521080" cy="2406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995640" y="3500280"/>
            <a:ext cx="1914480" cy="2708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484960" y="836640"/>
            <a:ext cx="3408120" cy="3392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08000" y="4653000"/>
            <a:ext cx="4041720" cy="2098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6227640" y="4508640"/>
            <a:ext cx="2544840" cy="1969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228600" y="836640"/>
            <a:ext cx="24541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08000" y="260280"/>
            <a:ext cx="8856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00280" indent="-170028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Может быть и вы придумаете свой символ для толерантности?</a:t>
            </a:r>
            <a:r>
              <a:rPr b="1" lang="en-US" sz="2800" spc="-1" strike="noStrike">
                <a:solidFill>
                  <a:srgbClr val="2e17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00280" indent="-170028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Рису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267360" cy="4680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716360" y="1628640"/>
            <a:ext cx="3527640" cy="460872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18280" y="2830680"/>
            <a:ext cx="95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2e17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41120" y="131760"/>
            <a:ext cx="88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Как вы думаете, правильно ли подписали фотографы свои снимки</a:t>
            </a:r>
            <a:br>
              <a:rPr sz="2000"/>
            </a:b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словом «толерантнос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74840" y="1125360"/>
            <a:ext cx="3809880" cy="2543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932360" y="981000"/>
            <a:ext cx="3754440" cy="2830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5079960" y="3860640"/>
            <a:ext cx="3456000" cy="2803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023840" y="3789360"/>
            <a:ext cx="271152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380880"/>
            <a:ext cx="813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Англичане понимают толерантность как готовность и способность без протеста воспринимать личность или вещ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08000" y="1965240"/>
            <a:ext cx="651672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40464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00280" indent="-17002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Французы —</a:t>
            </a: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как уважение свободы другого, его образа мыслей,</a:t>
            </a:r>
            <a:br>
              <a:rPr sz="2000"/>
            </a:b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поведения, политических и религиозных взгля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82680" y="1773360"/>
            <a:ext cx="63500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71640" y="333360"/>
            <a:ext cx="6800760" cy="5100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9640" y="58770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00280" indent="-17002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Китайцы — как проявление великодушия в отношении друг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5280" y="4428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От китайцев великодушие как величайшая ценность перешла к японц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89440" y="90792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Такую притчу рассказывают в Япо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95640" y="1413000"/>
            <a:ext cx="4824360" cy="4757400"/>
          </a:xfrm>
          <a:prstGeom prst="rect">
            <a:avLst/>
          </a:prstGeom>
          <a:solidFill>
            <a:srgbClr val="e2d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1700"/>
                </a:solidFill>
                <a:latin typeface="Arial"/>
              </a:rPr>
              <a:t>«Рёкан, мастер дзэн, скромно жил в малень­кой хижине у подножья горы. Как-то вечером туда забрался вор, но лишь чтобы найти, что красть там совершенно неч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1700"/>
                </a:solidFill>
                <a:latin typeface="Arial"/>
              </a:rPr>
              <a:t>Возвратившись, Рёкан застал в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1700"/>
                </a:solidFill>
                <a:latin typeface="Arial"/>
              </a:rPr>
              <a:t>— </a:t>
            </a:r>
            <a:r>
              <a:rPr b="1" lang="ru-RU" sz="1800" spc="-1" strike="noStrike">
                <a:solidFill>
                  <a:srgbClr val="2e1700"/>
                </a:solidFill>
                <a:latin typeface="Arial"/>
              </a:rPr>
              <a:t>Ты, верно, прошел долгий путь, чтобы меня навестить,— сказа он вору,— и ты не должен уходить с пустыми руками. Пожалуйста, возьми в подарок мою одежд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1700"/>
                </a:solidFill>
                <a:latin typeface="Arial"/>
              </a:rPr>
              <a:t>Ошеломленный вор взял одежду и выскользнул про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1700"/>
                </a:solidFill>
                <a:latin typeface="Arial"/>
              </a:rPr>
              <a:t>Рёкан сидел голый и глядел на лу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1700"/>
                </a:solidFill>
                <a:latin typeface="Arial"/>
              </a:rPr>
              <a:t>— </a:t>
            </a:r>
            <a:r>
              <a:rPr b="1" lang="ru-RU" sz="1800" spc="-1" strike="noStrike">
                <a:solidFill>
                  <a:srgbClr val="2e1700"/>
                </a:solidFill>
                <a:latin typeface="Arial"/>
              </a:rPr>
              <a:t>Бедняга,— отрешенно размышлял он, — как бы я хотел подарить ему эту прекрасную луну».</a:t>
            </a:r>
            <a:r>
              <a:rPr b="0" lang="ru-RU" sz="1800" spc="-1" strike="noStrike">
                <a:solidFill>
                  <a:srgbClr val="2e17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63086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e1700"/>
                </a:solidFill>
                <a:latin typeface="Arial"/>
              </a:rPr>
              <a:t>Подумайте, почему мастер назвал вора несчаст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1280" y="501480"/>
            <a:ext cx="376560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19000" y="5591160"/>
            <a:ext cx="748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Арабы считают, что толерантность – это прощение, снисхождение, мягкость, сострадание,</a:t>
            </a:r>
            <a:br>
              <a:rPr sz="2000"/>
            </a:b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благосклонность, терпение, расположенность к друг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62120" y="111240"/>
            <a:ext cx="76197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8200" y="787320"/>
            <a:ext cx="3025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Персы,</a:t>
            </a:r>
            <a:br>
              <a:rPr sz="2000"/>
            </a:b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что это терпение, терпимость, выносливость,</a:t>
            </a:r>
            <a:br>
              <a:rPr sz="2000"/>
            </a:b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готовность к примир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140360" y="160200"/>
            <a:ext cx="4857480" cy="3648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79280" y="3490920"/>
            <a:ext cx="42865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89080" y="122400"/>
            <a:ext cx="856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Русские терпение издавна почитают как великое достоинство.</a:t>
            </a:r>
            <a:br>
              <a:rPr sz="2000"/>
            </a:b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В традиционных русских семьях с детства учатся быть выдержанным, выносливым, стойким, уметь мириться</a:t>
            </a:r>
            <a:br>
              <a:rPr sz="2000"/>
            </a:b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с кем-то или чем-то, даже если это тебе не нравится, не показывая ничем свое недовольст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693800" y="1844640"/>
            <a:ext cx="575964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15:12:40Z</dcterms:created>
  <dc:creator>Celionatti</dc:creator>
  <dc:description/>
  <dc:language>en-US</dc:language>
  <cp:lastModifiedBy>Светлана Ивановна</cp:lastModifiedBy>
  <dcterms:modified xsi:type="dcterms:W3CDTF">2018-06-20T06:24:20Z</dcterms:modified>
  <cp:revision>101</cp:revision>
  <dc:subject/>
  <dc:title>Slide 1</dc:title>
</cp:coreProperties>
</file>