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00A1-A9ED-4045-8B27-5F6DFC046B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слайд  и скажите, чем отличаются околоцветники изображенных цветков? Причитав текст «Околоцветник двойной и простой» дайте понятие простого и двойного околоцветника. Запишите определения в своих тетрад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т с книгой, записывают 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B252-D1E5-4B4E-AC3A-B91662FCF9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 следующий слайд . (Дается понятие правильного и неправильного цветка с оформлением схемы в тетрад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F2EC-2209-4800-94F6-67701CEAD0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строение имеют пестик и тычинка?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чинка состоит из тычиночной нити и пыльника с пыльцой. Пестик состоит из рыльца, столбика и завязи. В завязи находятся семязач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главными частями цветка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чинка и пестик участвуют в размн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акая часть будет являться мужской, а какая – женской? С помощью каких символов их обозначают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 Вспоминаем, что женские органы обозначают знаком Венеры, а мужские – знаком Марс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чинки –это мужские  органы. Пестик – это женский орг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A6A6-6BDE-4AC3-8727-8EC7B2872B7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те загадку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ют , почему цветок не образовал пл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466-1955-4342-9ED8-10BCB5F4C3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схемы на слайде, дети формулируют определения обоеполых и однополых цветков, находят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27B3-E32D-4A8F-A531-8D3B74D8861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 схемы на следующем слайде. С помощью текста учебника учащиеся дают определения однодомным и двудомным растениям, зарисовывают схемы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где могут нам пригодиться знания об однодомных и двудомных растениях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зеленении улиц тополями, выращивании в саду актинидии, облепихи, выращивании тыквенны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DF7D-A9A0-434F-9B81-9F117C99D78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ознакомимся с тем, как правильно составлять формулу цветка.        Зная, условные обозначения, давайте попробуем составить формулы цветков вишни: цветок обоеполый, правильный, лепестков – 5, чашелистиков – 5 сросшихся, тычинок много, пестик – 1; василька: цветок обоеполый, правильный, чашелистиков – 5, лепестков – 5 сросшихся, тычинок – 5, пестик –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символы и прочитав материал учебника дети самостоятельно составляют формулу цветка виш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E9F8-498D-40FC-8241-25BE74DBF5D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ем информацию о строении цветка в форме схемы « Рыб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составляют схему в тетради, затем проверяют правильность составления используя материал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1B48-96F1-4590-9145-A3CE9DE5D2D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стовыми зад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F4FC-4420-4601-954E-0AC4326C6CD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по очереди части цветка и называют их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B58F-9ADB-4B85-83CA-0EEB8FA179D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формируют выводы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7D68-1F6E-43F6-8EF7-1B295361A2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сывают задания в днев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256B-B9D1-476F-9FF1-91BF48F8C5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ют на поставл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Подводит итоги урока и выставляет текущие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837F-0E1F-4A1D-9DA1-203DB8267B4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 звонком учащиеся входят в класс и садятся на свои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Актуализац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ет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ют на зада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F896-6269-48DB-8C79-D18E1483AD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изац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на лис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роверка, выставляют баллы оценивания работы и передают информацию результатов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96FF-AABE-4172-B699-9B2EBB8A238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попробуем сформулировать задачи наше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таются сформулировать задачи урок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6E19-679E-4ADF-93BC-D322DEDBB70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, чем перейдем к нашей новой теме давайте еще раз вспомним: 1.Что такое орган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ие органы цветкового растения вам извест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Назовите вегетатив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Что называется побег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Назовите генератив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Часть тела, выполняющая определенную фун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Вегетативные, гене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Корень, побе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(Стебель с расположенными на нем листьями и поч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(Цветок, плод, с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E683-B06A-4F05-BA7A-DB3DE7753DA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та, сегодня на уроке я предлагаю вам провести исследование. Предмет нашего исследования мы сможем узнать, когда отгадаем эту загад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веток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уже догадались, сегодня речь пойдет о цве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384A-27FF-4E6D-A4C6-374ADDA00D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на фотографии цветки , гербарии на столах, цветущие растения и скажите, что у них общего и в чем 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раясь на предыдущие знания, дети отвечают, что у всех цветков есть венчик и чашечка, тычинки и пестик. Цветки различаются формой, окраской, раз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более подробно изучим строение цветка. Для этого зарисуйте схему цветка  и, используя рисунки, текст учебника, подпишите части цв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выполняют работу в рабочих тетрад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ле того, как дети выполнили работу, проверяем правильность выполнения задания. Обращаем внимание на то, что цветок – это укороченный видоизмененный поб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126E-07DD-4C62-9476-2CD360F80E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те загадку. Подумайте, какую роль выполняет околоцветник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внутренних частей и привлечение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чего он состо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пестков и чашелист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F7DE-FDB4-4934-87F1-0DA5630BC83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4EB-0AF7-4F94-9748-91254F20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25B-3612-4474-A9A0-28B22905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EE9-65D2-4647-881C-048D8D64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966-7295-4946-A756-C341B240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0BA-B1FE-4897-AA6D-27492BF9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6C5-DADA-4464-BE46-94B05E4C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9C6-3013-440E-BC57-4A029E4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182-21FC-4019-AC41-89505FAC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2C2-95F3-4901-83A3-4BF8CE85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BF9-3A04-474B-83C0-9C3AB25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AC5-BE37-4B2D-BC04-D40050CC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76B-FBC3-4790-806D-CFDB55D0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E18C-5041-41AC-8264-E40D87144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7.png"/><Relationship Id="rId7" Type="http://schemas.openxmlformats.org/officeDocument/2006/relationships/image" Target="../media/image18.gif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19.gi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06320"/>
            <a:ext cx="7991280" cy="616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ма урока: 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Цветок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изучение строения и функций цветк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 уро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разовательна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у учащихся знания о цветке, как органе семенного размножения покрытосеменных растени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ить особенность строения и многообразие цветк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формировать понятия “обое – и однополые цветки”, “одно- и двудомные растения”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вивающа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ь практические навыки по распознаванию цветков различных растени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ботать с учебнико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бщать полученные знания, делать самостоятельные вывод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оспитательна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ывать любовь и бережное отношение к природе, цветущим растения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ь любознательность, стремление к знаниям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ируемые УУ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 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знаватель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установление причинно-следственных связей, обобщение,  выдвижение гипотез, работа с текстом;  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егулятив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целеполагание, адекватная самооценка выполняемых ,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 коммуникативные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формулирование собственного мнения, способность слушать мнение других, организация групповой деятельности в сотрудничестве, взаимный контроль и взаимопомощь.</a:t>
            </a:r>
            <a:br>
              <a:rPr sz="1600"/>
            </a:br>
            <a:br>
              <a:rPr sz="1600"/>
            </a:b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80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околоцвет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4040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й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341360"/>
            <a:ext cx="40417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9" descr="1124_aec13656"/>
          <p:cNvPicPr/>
          <p:nvPr/>
        </p:nvPicPr>
        <p:blipFill>
          <a:blip r:embed="rId1"/>
          <a:stretch/>
        </p:blipFill>
        <p:spPr>
          <a:xfrm>
            <a:off x="539640" y="1844640"/>
            <a:ext cx="3638520" cy="36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onvallaria"/>
          <p:cNvPicPr/>
          <p:nvPr/>
        </p:nvPicPr>
        <p:blipFill>
          <a:blip r:embed="rId2"/>
          <a:stretch/>
        </p:blipFill>
        <p:spPr>
          <a:xfrm>
            <a:off x="4716360" y="1989000"/>
            <a:ext cx="3857760" cy="3457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84360" y="573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нчик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2627280" y="587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аш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4932360" y="5732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листочки 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3"/>
          <p:cNvCxnSpPr>
            <a:stCxn id="98" idx="1"/>
          </p:cNvCxnSpPr>
          <p:nvPr/>
        </p:nvCxnSpPr>
        <p:spPr>
          <a:xfrm>
            <a:off x="457200" y="1628280"/>
            <a:ext cx="1451520" cy="7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6" name="Прямая со стрелкой 15"/>
          <p:cNvCxnSpPr>
            <a:stCxn id="99" idx="1"/>
          </p:cNvCxnSpPr>
          <p:nvPr/>
        </p:nvCxnSpPr>
        <p:spPr>
          <a:xfrm>
            <a:off x="4644720" y="1557360"/>
            <a:ext cx="144036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7" name="Прямая со стрелкой 17"/>
          <p:cNvCxnSpPr>
            <a:stCxn id="102" idx="0"/>
          </p:cNvCxnSpPr>
          <p:nvPr/>
        </p:nvCxnSpPr>
        <p:spPr>
          <a:xfrm flipV="1">
            <a:off x="1223640" y="2707560"/>
            <a:ext cx="1477080" cy="302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>
            <a:stCxn id="102" idx="0"/>
          </p:cNvCxnSpPr>
          <p:nvPr/>
        </p:nvCxnSpPr>
        <p:spPr>
          <a:xfrm flipV="1">
            <a:off x="1223640" y="3068280"/>
            <a:ext cx="253080" cy="266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9" name="Прямая со стрелкой 21"/>
          <p:cNvCxnSpPr>
            <a:stCxn id="103" idx="0"/>
          </p:cNvCxnSpPr>
          <p:nvPr/>
        </p:nvCxnSpPr>
        <p:spPr>
          <a:xfrm flipH="1" flipV="1">
            <a:off x="2770920" y="3788640"/>
            <a:ext cx="57708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0" name="Прямая со стрелкой 26"/>
          <p:cNvCxnSpPr>
            <a:stCxn id="104" idx="0"/>
          </p:cNvCxnSpPr>
          <p:nvPr/>
        </p:nvCxnSpPr>
        <p:spPr>
          <a:xfrm flipV="1">
            <a:off x="6659280" y="3860280"/>
            <a:ext cx="73800" cy="187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ды цвет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и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4982"/>
          <p:cNvPicPr/>
          <p:nvPr/>
        </p:nvPicPr>
        <p:blipFill>
          <a:blip r:embed="rId1"/>
          <a:stretch/>
        </p:blipFill>
        <p:spPr>
          <a:xfrm>
            <a:off x="566640" y="2560680"/>
            <a:ext cx="3819600" cy="318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0_82f0_33ce45d9_XL"/>
          <p:cNvPicPr/>
          <p:nvPr/>
        </p:nvPicPr>
        <p:blipFill>
          <a:blip r:embed="rId2"/>
          <a:stretch/>
        </p:blipFill>
        <p:spPr>
          <a:xfrm>
            <a:off x="4917960" y="2455920"/>
            <a:ext cx="3495960" cy="33908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9"/>
          <p:cNvSpPr/>
          <p:nvPr/>
        </p:nvSpPr>
        <p:spPr>
          <a:xfrm flipH="1">
            <a:off x="2626920" y="2565360"/>
            <a:ext cx="144360" cy="367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1"/>
          <p:cNvSpPr/>
          <p:nvPr/>
        </p:nvSpPr>
        <p:spPr>
          <a:xfrm flipH="1">
            <a:off x="5651280" y="2276640"/>
            <a:ext cx="1873080" cy="396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3"/>
          <p:cNvSpPr/>
          <p:nvPr/>
        </p:nvSpPr>
        <p:spPr>
          <a:xfrm>
            <a:off x="5076720" y="2349360"/>
            <a:ext cx="3311640" cy="3959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5"/>
          <p:cNvSpPr/>
          <p:nvPr/>
        </p:nvSpPr>
        <p:spPr>
          <a:xfrm flipV="1">
            <a:off x="4716360" y="3789000"/>
            <a:ext cx="4103640" cy="93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3"/>
          <p:cNvPicPr/>
          <p:nvPr/>
        </p:nvPicPr>
        <p:blipFill>
          <a:blip r:embed="rId1"/>
          <a:stretch/>
        </p:blipFill>
        <p:spPr>
          <a:xfrm>
            <a:off x="5003640" y="404640"/>
            <a:ext cx="3529080" cy="576108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3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3600720" cy="5616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22" name="Picture 3" descr="C:\Users\User\Desktop\Безымянный.png"/>
          <p:cNvPicPr/>
          <p:nvPr/>
        </p:nvPicPr>
        <p:blipFill>
          <a:blip r:embed="rId3"/>
          <a:stretch/>
        </p:blipFill>
        <p:spPr>
          <a:xfrm>
            <a:off x="2627280" y="2205000"/>
            <a:ext cx="3960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042920" y="40320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042920" y="170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оть цвел цветок и в нужный с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187280" y="2637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 вся беда, не дал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627280" y="4365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мужской цве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2"/>
          <p:cNvGrpSpPr/>
          <p:nvPr/>
        </p:nvGrpSpPr>
        <p:grpSpPr>
          <a:xfrm>
            <a:off x="431640" y="1568520"/>
            <a:ext cx="8208360" cy="2939400"/>
            <a:chOff x="431640" y="1568520"/>
            <a:chExt cx="8208360" cy="293940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4366800" y="2718000"/>
              <a:ext cx="337320" cy="1741320"/>
            </a:xfrm>
            <a:prstGeom prst="bentConnector3">
              <a:avLst>
                <a:gd name="adj1" fmla="val 3376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flipH="1" flipV="1" rot="5400000">
              <a:off x="2625840" y="2717640"/>
              <a:ext cx="337320" cy="1742040"/>
            </a:xfrm>
            <a:prstGeom prst="bentConnector3">
              <a:avLst>
                <a:gd name="adj1" fmla="val 3376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6106320" y="1616760"/>
              <a:ext cx="340200" cy="1742040"/>
            </a:xfrm>
            <a:prstGeom prst="bentConnector3">
              <a:avLst>
                <a:gd name="adj1" fmla="val 335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6" name="_s1031"/>
            <p:cNvCxnSpPr>
              <a:stCxn id="130" idx="0"/>
              <a:endCxn id="135" idx="2"/>
            </p:cNvCxnSpPr>
            <p:nvPr/>
          </p:nvCxnSpPr>
          <p:spPr>
            <a:xfrm flipH="1" flipV="1" rot="5400000">
              <a:off x="4365720" y="1617120"/>
              <a:ext cx="340200" cy="1741320"/>
            </a:xfrm>
            <a:prstGeom prst="bentConnector3">
              <a:avLst>
                <a:gd name="adj1" fmla="val 335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3913920" y="156852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вет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2172960" y="267084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днопол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>
              <a:off x="5655240" y="267084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оепол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5"/>
            <p:cNvSpPr/>
            <p:nvPr/>
          </p:nvSpPr>
          <p:spPr>
            <a:xfrm>
              <a:off x="431640" y="377316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стичные</a:t>
              </a:r>
              <a:br>
                <a:rPr sz="2100"/>
              </a:b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енские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6"/>
            <p:cNvSpPr/>
            <p:nvPr/>
          </p:nvSpPr>
          <p:spPr>
            <a:xfrm>
              <a:off x="3913920" y="377316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чиночные</a:t>
              </a:r>
              <a:br>
                <a:rPr sz="2100"/>
              </a:b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ужские 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4" descr="Пестичные цветок"/>
          <p:cNvPicPr/>
          <p:nvPr/>
        </p:nvPicPr>
        <p:blipFill>
          <a:blip r:embed="rId1"/>
          <a:stretch/>
        </p:blipFill>
        <p:spPr>
          <a:xfrm>
            <a:off x="971640" y="465300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Тычиночный цветок"/>
          <p:cNvPicPr/>
          <p:nvPr/>
        </p:nvPicPr>
        <p:blipFill>
          <a:blip r:embed="rId2"/>
          <a:stretch/>
        </p:blipFill>
        <p:spPr>
          <a:xfrm>
            <a:off x="4427640" y="465300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1547640" y="620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днополые и обоепо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Строение цветка"/>
          <p:cNvPicPr/>
          <p:nvPr/>
        </p:nvPicPr>
        <p:blipFill>
          <a:blip r:embed="rId3"/>
          <a:srcRect l="0" t="0" r="0" b="18241"/>
          <a:stretch/>
        </p:blipFill>
        <p:spPr>
          <a:xfrm>
            <a:off x="7093080" y="4076640"/>
            <a:ext cx="187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332000" y="692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днодомные и двудо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Organization Chart 2"/>
          <p:cNvGrpSpPr/>
          <p:nvPr/>
        </p:nvGrpSpPr>
        <p:grpSpPr>
          <a:xfrm>
            <a:off x="250920" y="1571760"/>
            <a:ext cx="8641080" cy="2142360"/>
            <a:chOff x="250920" y="1571760"/>
            <a:chExt cx="8641080" cy="2142360"/>
          </a:xfrm>
        </p:grpSpPr>
        <p:cxnSp>
          <p:nvCxnSpPr>
            <p:cNvPr id="143" name="_s2052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528160" y="1482840"/>
              <a:ext cx="401760" cy="2319840"/>
            </a:xfrm>
            <a:prstGeom prst="bentConnector3">
              <a:avLst>
                <a:gd name="adj1" fmla="val 2834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6" name="_s2053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3210840" y="1485360"/>
              <a:ext cx="401760" cy="2315520"/>
            </a:xfrm>
            <a:prstGeom prst="bentConnector3">
              <a:avLst>
                <a:gd name="adj1" fmla="val 2834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45" name="_s2054"/>
            <p:cNvSpPr/>
            <p:nvPr/>
          </p:nvSpPr>
          <p:spPr>
            <a:xfrm>
              <a:off x="2565720" y="1571760"/>
              <a:ext cx="4007160" cy="855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ветки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55"/>
            <p:cNvSpPr/>
            <p:nvPr/>
          </p:nvSpPr>
          <p:spPr>
            <a:xfrm>
              <a:off x="250920" y="2858400"/>
              <a:ext cx="4007160" cy="855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днодомны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56"/>
            <p:cNvSpPr/>
            <p:nvPr/>
          </p:nvSpPr>
          <p:spPr>
            <a:xfrm>
              <a:off x="4884840" y="2858400"/>
              <a:ext cx="4007160" cy="855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вудомны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0"/>
          <p:cNvGrpSpPr/>
          <p:nvPr/>
        </p:nvGrpSpPr>
        <p:grpSpPr>
          <a:xfrm>
            <a:off x="1187280" y="3933720"/>
            <a:ext cx="2664000" cy="2446560"/>
            <a:chOff x="1187280" y="3933720"/>
            <a:chExt cx="2664000" cy="2446560"/>
          </a:xfrm>
        </p:grpSpPr>
        <p:pic>
          <p:nvPicPr>
            <p:cNvPr id="149" name="Picture 11" descr="Огурец муж"/>
            <p:cNvPicPr/>
            <p:nvPr/>
          </p:nvPicPr>
          <p:blipFill>
            <a:blip r:embed="rId1"/>
            <a:stretch/>
          </p:blipFill>
          <p:spPr>
            <a:xfrm>
              <a:off x="1187280" y="3933720"/>
              <a:ext cx="107964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2" descr="Огурец жен"/>
            <p:cNvPicPr/>
            <p:nvPr/>
          </p:nvPicPr>
          <p:blipFill>
            <a:blip r:embed="rId2"/>
            <a:stretch/>
          </p:blipFill>
          <p:spPr>
            <a:xfrm>
              <a:off x="2771640" y="3933720"/>
              <a:ext cx="107964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3" descr="дом"/>
            <p:cNvPicPr/>
            <p:nvPr/>
          </p:nvPicPr>
          <p:blipFill>
            <a:blip r:embed="rId3"/>
            <a:stretch/>
          </p:blipFill>
          <p:spPr>
            <a:xfrm>
              <a:off x="1332000" y="4653000"/>
              <a:ext cx="2425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4" descr="j0309719"/>
            <p:cNvPicPr/>
            <p:nvPr/>
          </p:nvPicPr>
          <p:blipFill>
            <a:blip r:embed="rId4"/>
            <a:stretch/>
          </p:blipFill>
          <p:spPr>
            <a:xfrm>
              <a:off x="2089080" y="5589720"/>
              <a:ext cx="466920" cy="54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5" descr="j0309720"/>
            <p:cNvPicPr/>
            <p:nvPr/>
          </p:nvPicPr>
          <p:blipFill>
            <a:blip r:embed="rId5"/>
            <a:stretch/>
          </p:blipFill>
          <p:spPr>
            <a:xfrm>
              <a:off x="2700360" y="5589720"/>
              <a:ext cx="40176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24"/>
          <p:cNvGrpSpPr/>
          <p:nvPr/>
        </p:nvGrpSpPr>
        <p:grpSpPr>
          <a:xfrm>
            <a:off x="5003640" y="3592440"/>
            <a:ext cx="3780000" cy="2789280"/>
            <a:chOff x="5003640" y="3592440"/>
            <a:chExt cx="3780000" cy="2789280"/>
          </a:xfrm>
        </p:grpSpPr>
        <p:grpSp>
          <p:nvGrpSpPr>
            <p:cNvPr id="155" name="Group 16"/>
            <p:cNvGrpSpPr/>
            <p:nvPr/>
          </p:nvGrpSpPr>
          <p:grpSpPr>
            <a:xfrm>
              <a:off x="5003640" y="3819960"/>
              <a:ext cx="1704960" cy="2561760"/>
              <a:chOff x="5003640" y="3819960"/>
              <a:chExt cx="1704960" cy="2561760"/>
            </a:xfrm>
          </p:grpSpPr>
          <p:pic>
            <p:nvPicPr>
              <p:cNvPr id="156" name="Picture 17" descr="дом"/>
              <p:cNvPicPr/>
              <p:nvPr/>
            </p:nvPicPr>
            <p:blipFill>
              <a:blip r:embed="rId6"/>
              <a:stretch/>
            </p:blipFill>
            <p:spPr>
              <a:xfrm>
                <a:off x="5003640" y="4654440"/>
                <a:ext cx="170496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18" descr="j0309719"/>
              <p:cNvPicPr/>
              <p:nvPr/>
            </p:nvPicPr>
            <p:blipFill>
              <a:blip r:embed="rId7"/>
              <a:stretch/>
            </p:blipFill>
            <p:spPr>
              <a:xfrm>
                <a:off x="5689440" y="5551560"/>
                <a:ext cx="466920" cy="54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9" descr="Тополь муж"/>
              <p:cNvPicPr/>
              <p:nvPr/>
            </p:nvPicPr>
            <p:blipFill>
              <a:blip r:embed="rId8"/>
              <a:stretch/>
            </p:blipFill>
            <p:spPr>
              <a:xfrm rot="20764800">
                <a:off x="5292360" y="3933720"/>
                <a:ext cx="1079640" cy="1079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" name="Group 20"/>
            <p:cNvGrpSpPr/>
            <p:nvPr/>
          </p:nvGrpSpPr>
          <p:grpSpPr>
            <a:xfrm>
              <a:off x="7078680" y="3592440"/>
              <a:ext cx="1704960" cy="2789280"/>
              <a:chOff x="7078680" y="3592440"/>
              <a:chExt cx="1704960" cy="2789280"/>
            </a:xfrm>
          </p:grpSpPr>
          <p:pic>
            <p:nvPicPr>
              <p:cNvPr id="160" name="Picture 21" descr="дом"/>
              <p:cNvPicPr/>
              <p:nvPr/>
            </p:nvPicPr>
            <p:blipFill>
              <a:blip r:embed="rId9"/>
              <a:stretch/>
            </p:blipFill>
            <p:spPr>
              <a:xfrm>
                <a:off x="7078680" y="4654440"/>
                <a:ext cx="170496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22" descr="j0309720"/>
              <p:cNvPicPr/>
              <p:nvPr/>
            </p:nvPicPr>
            <p:blipFill>
              <a:blip r:embed="rId10"/>
              <a:stretch/>
            </p:blipFill>
            <p:spPr>
              <a:xfrm>
                <a:off x="7699320" y="5589720"/>
                <a:ext cx="4017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23" descr="Тополь жен"/>
              <p:cNvPicPr/>
              <p:nvPr/>
            </p:nvPicPr>
            <p:blipFill>
              <a:blip r:embed="rId11"/>
              <a:stretch/>
            </p:blipFill>
            <p:spPr>
              <a:xfrm rot="966600">
                <a:off x="7524720" y="3716280"/>
                <a:ext cx="1079640" cy="1312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"/>
          <p:cNvSpPr/>
          <p:nvPr/>
        </p:nvSpPr>
        <p:spPr>
          <a:xfrm>
            <a:off x="285840" y="214200"/>
            <a:ext cx="5072040" cy="664380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6643800"/>
              <a:gd name="textAreaBottom" fmla="*/ 6396480 h 6643800"/>
            </a:gdLst>
            <a:ahLst/>
            <a:rect l="textAreaLeft" t="textAreaTop" r="textAreaRight" b="textAreaBottom"/>
            <a:pathLst>
              <a:path w="21600" h="28293">
                <a:moveTo>
                  <a:pt x="3600" y="0"/>
                </a:moveTo>
                <a:arcTo wR="3600" hR="3600" stAng="16200000" swAng="-5400000"/>
                <a:lnTo>
                  <a:pt x="0" y="24693"/>
                </a:lnTo>
                <a:arcTo wR="3600" hR="3600" stAng="10800000" swAng="-5400000"/>
                <a:lnTo>
                  <a:pt x="18000" y="282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e6c7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 – чаше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 – лепес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 – тыч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 – пест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– простой околоцв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авильный цв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 - правильный цв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естичные (женские) цв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тычиночные (мужские)    цв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оеполые цв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) – сросшиеся части цве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фры – количество частей  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2"/>
          <p:cNvSpPr/>
          <p:nvPr/>
        </p:nvSpPr>
        <p:spPr>
          <a:xfrm>
            <a:off x="5643720" y="357120"/>
            <a:ext cx="3143160" cy="1428840"/>
          </a:xfrm>
          <a:prstGeom prst="roundRect">
            <a:avLst>
              <a:gd name="adj" fmla="val 16667"/>
            </a:avLst>
          </a:prstGeom>
          <a:solidFill>
            <a:srgbClr val="e6d9a8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Форм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цвет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Группа 115"/>
          <p:cNvGrpSpPr/>
          <p:nvPr/>
        </p:nvGrpSpPr>
        <p:grpSpPr>
          <a:xfrm>
            <a:off x="5715000" y="1857240"/>
            <a:ext cx="3071880" cy="4214880"/>
            <a:chOff x="5715000" y="1857240"/>
            <a:chExt cx="3071880" cy="4214880"/>
          </a:xfrm>
        </p:grpSpPr>
        <p:grpSp>
          <p:nvGrpSpPr>
            <p:cNvPr id="166" name="Группа 113"/>
            <p:cNvGrpSpPr/>
            <p:nvPr/>
          </p:nvGrpSpPr>
          <p:grpSpPr>
            <a:xfrm>
              <a:off x="5715000" y="4572000"/>
              <a:ext cx="3071880" cy="1500120"/>
              <a:chOff x="5715000" y="4572000"/>
              <a:chExt cx="3071880" cy="1500120"/>
            </a:xfrm>
          </p:grpSpPr>
          <p:sp>
            <p:nvSpPr>
              <p:cNvPr id="167" name="Скругленный прямоугольник 6"/>
              <p:cNvSpPr/>
              <p:nvPr/>
            </p:nvSpPr>
            <p:spPr>
              <a:xfrm>
                <a:off x="5715000" y="4572000"/>
                <a:ext cx="307188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efe6c7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Цветок вишн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*       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Ч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 Л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 Т   П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99"/>
              <p:cNvGrpSpPr/>
              <p:nvPr/>
            </p:nvGrpSpPr>
            <p:grpSpPr>
              <a:xfrm>
                <a:off x="6215040" y="5357520"/>
                <a:ext cx="500400" cy="571320"/>
                <a:chOff x="6215040" y="5357520"/>
                <a:chExt cx="500400" cy="571320"/>
              </a:xfrm>
            </p:grpSpPr>
            <p:grpSp>
              <p:nvGrpSpPr>
                <p:cNvPr id="169" name="Group 100"/>
                <p:cNvGrpSpPr/>
                <p:nvPr/>
              </p:nvGrpSpPr>
              <p:grpSpPr>
                <a:xfrm>
                  <a:off x="6215040" y="5520240"/>
                  <a:ext cx="432360" cy="408600"/>
                  <a:chOff x="6215040" y="5520240"/>
                  <a:chExt cx="432360" cy="408600"/>
                </a:xfrm>
              </p:grpSpPr>
              <p:cxnSp>
                <p:nvCxnSpPr>
                  <p:cNvPr id="170" name="AutoShape 101"/>
                  <p:cNvCxnSpPr/>
                  <p:nvPr/>
                </p:nvCxnSpPr>
                <p:spPr>
                  <a:xfrm>
                    <a:off x="6430680" y="5668560"/>
                    <a:ext cx="1800" cy="260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71" name="Oval 102"/>
                  <p:cNvSpPr/>
                  <p:nvPr/>
                </p:nvSpPr>
                <p:spPr>
                  <a:xfrm>
                    <a:off x="6215040" y="5520240"/>
                    <a:ext cx="432000" cy="20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72" name="AutoShape 103"/>
                  <p:cNvCxnSpPr/>
                  <p:nvPr/>
                </p:nvCxnSpPr>
                <p:spPr>
                  <a:xfrm>
                    <a:off x="6215040" y="5857200"/>
                    <a:ext cx="43272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cxnSp>
              <p:nvCxnSpPr>
                <p:cNvPr id="173" name="AutoShape 104"/>
                <p:cNvCxnSpPr/>
                <p:nvPr/>
              </p:nvCxnSpPr>
              <p:spPr>
                <a:xfrm flipV="1">
                  <a:off x="6465240" y="5357520"/>
                  <a:ext cx="250560" cy="162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74" name="Прямоугольник 8"/>
              <p:cNvSpPr/>
              <p:nvPr/>
            </p:nvSpPr>
            <p:spPr>
              <a:xfrm rot="5400000">
                <a:off x="7751160" y="5465160"/>
                <a:ext cx="35712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5" name="Picture 105" descr=""/>
            <p:cNvPicPr/>
            <p:nvPr/>
          </p:nvPicPr>
          <p:blipFill>
            <a:blip r:embed="rId1"/>
            <a:stretch/>
          </p:blipFill>
          <p:spPr>
            <a:xfrm>
              <a:off x="6000480" y="1857240"/>
              <a:ext cx="2428920" cy="248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Oval 96"/>
          <p:cNvSpPr/>
          <p:nvPr/>
        </p:nvSpPr>
        <p:spPr>
          <a:xfrm>
            <a:off x="857160" y="4314960"/>
            <a:ext cx="308160" cy="209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6"/>
          <p:cNvSpPr/>
          <p:nvPr/>
        </p:nvSpPr>
        <p:spPr>
          <a:xfrm>
            <a:off x="1011240" y="4524480"/>
            <a:ext cx="31680" cy="344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1"/>
          <p:cNvSpPr/>
          <p:nvPr/>
        </p:nvSpPr>
        <p:spPr>
          <a:xfrm>
            <a:off x="900000" y="472428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Прямая со стрелкой 23"/>
          <p:cNvCxnSpPr/>
          <p:nvPr/>
        </p:nvCxnSpPr>
        <p:spPr>
          <a:xfrm flipV="1">
            <a:off x="1116000" y="4220280"/>
            <a:ext cx="2167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2" descr="C:\Users\User\Desktop\Безымянный.png"/>
          <p:cNvPicPr/>
          <p:nvPr/>
        </p:nvPicPr>
        <p:blipFill>
          <a:blip r:embed="rId2"/>
          <a:stretch/>
        </p:blipFill>
        <p:spPr>
          <a:xfrm>
            <a:off x="395280" y="3284640"/>
            <a:ext cx="720720" cy="504720"/>
          </a:xfrm>
          <a:prstGeom prst="rect">
            <a:avLst/>
          </a:prstGeom>
          <a:ln w="0">
            <a:noFill/>
          </a:ln>
        </p:spPr>
      </p:pic>
      <p:cxnSp>
        <p:nvCxnSpPr>
          <p:cNvPr id="181" name="Прямая со стрелкой 26"/>
          <p:cNvCxnSpPr/>
          <p:nvPr/>
        </p:nvCxnSpPr>
        <p:spPr>
          <a:xfrm flipV="1">
            <a:off x="539280" y="2349000"/>
            <a:ext cx="36108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Равнобедренный треугольник 2"/>
          <p:cNvSpPr/>
          <p:nvPr/>
        </p:nvSpPr>
        <p:spPr>
          <a:xfrm rot="16200000">
            <a:off x="6286320" y="2143080"/>
            <a:ext cx="2857680" cy="2857320"/>
          </a:xfrm>
          <a:prstGeom prst="triangle">
            <a:avLst>
              <a:gd name="adj" fmla="val 50750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с двумя вырезанными соседними углами 3"/>
          <p:cNvSpPr/>
          <p:nvPr/>
        </p:nvSpPr>
        <p:spPr>
          <a:xfrm flipV="1" rot="5400000">
            <a:off x="642960" y="2424600"/>
            <a:ext cx="1143000" cy="2428920"/>
          </a:xfrm>
          <a:prstGeom prst="pie">
            <a:avLst/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в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4"/>
          <p:cNvSpPr/>
          <p:nvPr/>
        </p:nvSpPr>
        <p:spPr>
          <a:xfrm>
            <a:off x="2428920" y="3571920"/>
            <a:ext cx="52862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араллелограмм 7"/>
          <p:cNvSpPr/>
          <p:nvPr/>
        </p:nvSpPr>
        <p:spPr>
          <a:xfrm rot="612600">
            <a:off x="2932200" y="1236240"/>
            <a:ext cx="1011240" cy="206208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колоцве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Блок-схема: данные 8"/>
          <p:cNvSpPr/>
          <p:nvPr/>
        </p:nvSpPr>
        <p:spPr>
          <a:xfrm rot="724200">
            <a:off x="4269960" y="1344600"/>
            <a:ext cx="938160" cy="203040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лок-схема: данные 9"/>
          <p:cNvSpPr/>
          <p:nvPr/>
        </p:nvSpPr>
        <p:spPr>
          <a:xfrm rot="702000">
            <a:off x="5773320" y="1487160"/>
            <a:ext cx="946080" cy="200664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ы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1"/>
          <p:cNvSpPr/>
          <p:nvPr/>
        </p:nvSpPr>
        <p:spPr>
          <a:xfrm flipV="1">
            <a:off x="2428920" y="836280"/>
            <a:ext cx="774720" cy="2803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3"/>
          <p:cNvSpPr/>
          <p:nvPr/>
        </p:nvSpPr>
        <p:spPr>
          <a:xfrm flipV="1">
            <a:off x="3708360" y="907560"/>
            <a:ext cx="647640" cy="2592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15"/>
          <p:cNvSpPr/>
          <p:nvPr/>
        </p:nvSpPr>
        <p:spPr>
          <a:xfrm flipV="1">
            <a:off x="5148360" y="1052640"/>
            <a:ext cx="647640" cy="25207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Блок-схема: данные 17"/>
          <p:cNvSpPr/>
          <p:nvPr/>
        </p:nvSpPr>
        <p:spPr>
          <a:xfrm rot="20412000">
            <a:off x="2978280" y="3754080"/>
            <a:ext cx="1118880" cy="268920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щита, Привлечение 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араллелограмм 19"/>
          <p:cNvSpPr/>
          <p:nvPr/>
        </p:nvSpPr>
        <p:spPr>
          <a:xfrm rot="20207400">
            <a:off x="4436640" y="3683160"/>
            <a:ext cx="1136880" cy="28350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ование плодов и се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араллелограмм 20"/>
          <p:cNvSpPr/>
          <p:nvPr/>
        </p:nvSpPr>
        <p:spPr>
          <a:xfrm rot="20306400">
            <a:off x="5681520" y="3695760"/>
            <a:ext cx="1192320" cy="27414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ование пыльцы со сперм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22"/>
          <p:cNvSpPr/>
          <p:nvPr/>
        </p:nvSpPr>
        <p:spPr>
          <a:xfrm>
            <a:off x="2428920" y="3639960"/>
            <a:ext cx="774720" cy="2884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24"/>
          <p:cNvSpPr/>
          <p:nvPr/>
        </p:nvSpPr>
        <p:spPr>
          <a:xfrm>
            <a:off x="3708360" y="3573360"/>
            <a:ext cx="934920" cy="2880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26"/>
          <p:cNvSpPr/>
          <p:nvPr/>
        </p:nvSpPr>
        <p:spPr>
          <a:xfrm>
            <a:off x="5148360" y="3573360"/>
            <a:ext cx="863640" cy="273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826920" y="404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8"/>
          <p:cNvSpPr/>
          <p:nvPr/>
        </p:nvSpPr>
        <p:spPr>
          <a:xfrm>
            <a:off x="716436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313200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Схема «Ры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1403280" y="1268280"/>
            <a:ext cx="64087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Цветок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яркий венчик  в)пестик и тыч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околоцветник  г)столбик и ры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Главные части цвет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лепестки и чашелис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пестик и ты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Часто яркоокраш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чашелистики   в)лепестки вен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тычинки          г)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Раздельнополые цветки, у котор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есть тычинки и 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есть лепестки и чашел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) есть только ты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) есть только пести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2124000" y="549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1692360" y="5732640"/>
            <a:ext cx="5183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тве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-В; 2-Б; 3-В; 4-В,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2050920" y="69228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5.Что такое цветок? Назовите основные его части и их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71680" y="1052640"/>
            <a:ext cx="79135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684360" y="509760"/>
            <a:ext cx="792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руд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.к., проектор, презентации, учебники, модели цветков: вишни, картофеля, гороха, цветущие комнатные растения, таблица “Строение цветка”, термины по теме, гербарный материал, нарисованные части цветка, тестовые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уро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обуч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еседа, проблемно-поисковый, объяснительно-иллюстративный, исследователь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урока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рок усвоения новых знаний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о-методическая литератур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МК  линии В.В.Пасе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214200" y="857160"/>
            <a:ext cx="8643960" cy="571500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Цветок – орган семенного размн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Цветок состоит их цветоложа, околоцветника, пестика и тычинок. Околоцветник бывает простым и двой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Лепестки цветка образуют венчик, а чашелистики – чашеч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Цветки бывают однополые (содержат и пестики и тычинки) и раздельнополые (содержат только тычинки или только пести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астения на которых развиваются и тычиночные и пестичные цветки, называется однодом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астения на которых цветут только пестичные или только тычиночные цветы, называется двудом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" descr="_Fragaria_vesca_L_.jpg"/>
          <p:cNvPicPr/>
          <p:nvPr/>
        </p:nvPicPr>
        <p:blipFill>
          <a:blip r:embed="rId1"/>
          <a:srcRect l="51573" t="3326" r="-1225" b="49056"/>
          <a:stretch/>
        </p:blipFill>
        <p:spPr>
          <a:xfrm>
            <a:off x="285840" y="928800"/>
            <a:ext cx="64296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Овал 3"/>
          <p:cNvSpPr/>
          <p:nvPr/>
        </p:nvSpPr>
        <p:spPr>
          <a:xfrm>
            <a:off x="357120" y="1643040"/>
            <a:ext cx="357120" cy="428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3" descr="_Fragaria_vesca_L_.jpg"/>
          <p:cNvPicPr/>
          <p:nvPr/>
        </p:nvPicPr>
        <p:blipFill>
          <a:blip r:embed="rId2"/>
          <a:srcRect l="51573" t="3326" r="-1225" b="49056"/>
          <a:stretch/>
        </p:blipFill>
        <p:spPr>
          <a:xfrm>
            <a:off x="250920" y="162864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3" descr="_Fragaria_vesca_L_.jpg"/>
          <p:cNvPicPr/>
          <p:nvPr/>
        </p:nvPicPr>
        <p:blipFill>
          <a:blip r:embed="rId3"/>
          <a:srcRect l="51573" t="3326" r="-1225" b="49056"/>
          <a:stretch/>
        </p:blipFill>
        <p:spPr>
          <a:xfrm>
            <a:off x="324000" y="234936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_Fragaria_vesca_L_.jpg"/>
          <p:cNvPicPr/>
          <p:nvPr/>
        </p:nvPicPr>
        <p:blipFill>
          <a:blip r:embed="rId4"/>
          <a:srcRect l="51573" t="3326" r="-1225" b="49056"/>
          <a:stretch/>
        </p:blipFill>
        <p:spPr>
          <a:xfrm>
            <a:off x="324000" y="321300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_Fragaria_vesca_L_.jpg"/>
          <p:cNvPicPr/>
          <p:nvPr/>
        </p:nvPicPr>
        <p:blipFill>
          <a:blip r:embed="rId5"/>
          <a:srcRect l="51573" t="3326" r="-1225" b="49056"/>
          <a:stretch/>
        </p:blipFill>
        <p:spPr>
          <a:xfrm>
            <a:off x="395280" y="4365720"/>
            <a:ext cx="642960" cy="5713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3" descr="_Fragaria_vesca_L_.jpg"/>
          <p:cNvPicPr/>
          <p:nvPr/>
        </p:nvPicPr>
        <p:blipFill>
          <a:blip r:embed="rId6"/>
          <a:srcRect l="51573" t="3326" r="-1225" b="49056"/>
          <a:stretch/>
        </p:blipFill>
        <p:spPr>
          <a:xfrm>
            <a:off x="468360" y="5229360"/>
            <a:ext cx="642960" cy="5713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1403280" y="189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1619280" y="1384560"/>
            <a:ext cx="60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53735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953735"/>
                </a:solidFill>
                <a:uFillTx/>
                <a:latin typeface="Arial"/>
                <a:ea typeface="Times New Roman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ите параграф 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учите терм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готовьте модель цветка (обоеполого или однополог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1835280" y="321840"/>
            <a:ext cx="6049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Arial"/>
                <a:ea typeface="Times New Roman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гли ли вы поставленной цели урока? В какой степ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узнали нового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вас удиви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900000" y="260280"/>
            <a:ext cx="748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ие черты сходства просматриваются между типичным побегом и видоизмененными побег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ое строение имеет клубень картоф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то доказывает, что луковица-побе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ие растения имеют видоизмененные побеги-корневищ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 человек использует видоизмененные побег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8"/>
          <p:cNvPicPr/>
          <p:nvPr/>
        </p:nvPicPr>
        <p:blipFill>
          <a:blip r:embed="rId1"/>
          <a:stretch/>
        </p:blipFill>
        <p:spPr>
          <a:xfrm>
            <a:off x="395280" y="3357720"/>
            <a:ext cx="280836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луковица3"/>
          <p:cNvPicPr/>
          <p:nvPr/>
        </p:nvPicPr>
        <p:blipFill>
          <a:blip r:embed="rId2"/>
          <a:stretch/>
        </p:blipFill>
        <p:spPr>
          <a:xfrm>
            <a:off x="6084720" y="3284640"/>
            <a:ext cx="2590920" cy="30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2" descr="C:\Users\User\Desktop\p73.jpg"/>
          <p:cNvPicPr/>
          <p:nvPr/>
        </p:nvPicPr>
        <p:blipFill>
          <a:blip r:embed="rId3"/>
          <a:stretch/>
        </p:blipFill>
        <p:spPr>
          <a:xfrm>
            <a:off x="3276720" y="3284640"/>
            <a:ext cx="275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68360" y="333360"/>
            <a:ext cx="7848720" cy="80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3. Те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лубень картофеля представляет соб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видоизмененны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видоизмененный подземный побе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лючка барбариса -приспособление раст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к уменьшению испарения вла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к сохранению от поедания живо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к тому и друг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3.Донце луковицы –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укороченный сте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видоизмененный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видоизмененны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4.Колючки у кактусов –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видоизмененные побе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видоизмененные лист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особые вырост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клеток кожицы стеб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5.Луковица лука представляет соб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сте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видоизмененный подземный поб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видоизмененный кор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6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рневище – это видоизмененны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боков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поб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292720" y="2349360"/>
            <a:ext cx="122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тве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 –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 –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–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 –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5 –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 -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516720" y="2060640"/>
            <a:ext cx="21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Критерии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 все ответы вер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4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5 - 4 правильных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 3 правильных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 2 правильных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Овал 1"/>
          <p:cNvSpPr/>
          <p:nvPr/>
        </p:nvSpPr>
        <p:spPr>
          <a:xfrm>
            <a:off x="3174840" y="3284640"/>
            <a:ext cx="2428920" cy="20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дач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"/>
          <p:cNvSpPr/>
          <p:nvPr/>
        </p:nvSpPr>
        <p:spPr>
          <a:xfrm rot="3374400">
            <a:off x="4587480" y="5314680"/>
            <a:ext cx="2146320" cy="1358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Виды цве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"/>
          <p:cNvSpPr/>
          <p:nvPr/>
        </p:nvSpPr>
        <p:spPr>
          <a:xfrm rot="21303600">
            <a:off x="5552640" y="3509640"/>
            <a:ext cx="2478240" cy="1157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ц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4"/>
          <p:cNvSpPr/>
          <p:nvPr/>
        </p:nvSpPr>
        <p:spPr>
          <a:xfrm flipH="1" rot="2160000">
            <a:off x="2552040" y="4974840"/>
            <a:ext cx="1328760" cy="206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цв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5"/>
          <p:cNvSpPr/>
          <p:nvPr/>
        </p:nvSpPr>
        <p:spPr>
          <a:xfrm flipH="1" rot="743400">
            <a:off x="809280" y="3174840"/>
            <a:ext cx="2500200" cy="1227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цве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6"/>
          <p:cNvSpPr/>
          <p:nvPr/>
        </p:nvSpPr>
        <p:spPr>
          <a:xfrm rot="5400000">
            <a:off x="3453120" y="1734480"/>
            <a:ext cx="1871640" cy="1228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ц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2286000" y="33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Цветок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олните сх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2786040" y="1071720"/>
            <a:ext cx="3500640" cy="928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76640"/>
            <a:ext cx="361008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гетатив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932360" y="2349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5508720" y="2286000"/>
            <a:ext cx="2950920" cy="714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571680" y="3643200"/>
            <a:ext cx="1285560" cy="5716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14760" y="3643200"/>
            <a:ext cx="1357200" cy="5716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143680" y="3714840"/>
            <a:ext cx="1000080" cy="42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6572160" y="3714840"/>
            <a:ext cx="1000080" cy="42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8001000" y="3714840"/>
            <a:ext cx="928800" cy="42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1071720" y="5143680"/>
            <a:ext cx="1357200" cy="57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4"/>
          <p:cNvSpPr/>
          <p:nvPr/>
        </p:nvSpPr>
        <p:spPr>
          <a:xfrm>
            <a:off x="2714760" y="5143680"/>
            <a:ext cx="1214280" cy="57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5"/>
          <p:cNvSpPr/>
          <p:nvPr/>
        </p:nvSpPr>
        <p:spPr>
          <a:xfrm>
            <a:off x="4286160" y="5143680"/>
            <a:ext cx="1214640" cy="57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7"/>
          <p:cNvCxnSpPr>
            <a:stCxn id="66" idx="3"/>
            <a:endCxn id="69" idx="0"/>
          </p:cNvCxnSpPr>
          <p:nvPr/>
        </p:nvCxnSpPr>
        <p:spPr>
          <a:xfrm>
            <a:off x="6286680" y="1536480"/>
            <a:ext cx="699120" cy="74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9"/>
          <p:cNvCxnSpPr>
            <a:stCxn id="66" idx="1"/>
          </p:cNvCxnSpPr>
          <p:nvPr/>
        </p:nvCxnSpPr>
        <p:spPr>
          <a:xfrm flipH="1">
            <a:off x="2123280" y="1536480"/>
            <a:ext cx="662760" cy="74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21"/>
          <p:cNvCxnSpPr>
            <a:stCxn id="67" idx="2"/>
            <a:endCxn id="70" idx="0"/>
          </p:cNvCxnSpPr>
          <p:nvPr/>
        </p:nvCxnSpPr>
        <p:spPr>
          <a:xfrm flipH="1">
            <a:off x="1213920" y="3068640"/>
            <a:ext cx="1048320" cy="57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23"/>
          <p:cNvCxnSpPr>
            <a:stCxn id="67" idx="2"/>
            <a:endCxn id="71" idx="0"/>
          </p:cNvCxnSpPr>
          <p:nvPr/>
        </p:nvCxnSpPr>
        <p:spPr>
          <a:xfrm>
            <a:off x="2262240" y="3068640"/>
            <a:ext cx="1132560" cy="57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25"/>
          <p:cNvCxnSpPr>
            <a:stCxn id="69" idx="2"/>
            <a:endCxn id="72" idx="0"/>
          </p:cNvCxnSpPr>
          <p:nvPr/>
        </p:nvCxnSpPr>
        <p:spPr>
          <a:xfrm flipH="1">
            <a:off x="5643360" y="2999880"/>
            <a:ext cx="134208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27"/>
          <p:cNvCxnSpPr>
            <a:stCxn id="69" idx="2"/>
            <a:endCxn id="73" idx="0"/>
          </p:cNvCxnSpPr>
          <p:nvPr/>
        </p:nvCxnSpPr>
        <p:spPr>
          <a:xfrm>
            <a:off x="6985080" y="2999880"/>
            <a:ext cx="8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29"/>
          <p:cNvCxnSpPr>
            <a:stCxn id="69" idx="2"/>
            <a:endCxn id="74" idx="0"/>
          </p:cNvCxnSpPr>
          <p:nvPr/>
        </p:nvCxnSpPr>
        <p:spPr>
          <a:xfrm>
            <a:off x="6985080" y="2999880"/>
            <a:ext cx="148176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>
            <a:stCxn id="71" idx="2"/>
            <a:endCxn id="75" idx="0"/>
          </p:cNvCxnSpPr>
          <p:nvPr/>
        </p:nvCxnSpPr>
        <p:spPr>
          <a:xfrm flipH="1">
            <a:off x="1750680" y="4214880"/>
            <a:ext cx="164376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5"/>
          <p:cNvCxnSpPr>
            <a:stCxn id="71" idx="2"/>
            <a:endCxn id="76" idx="0"/>
          </p:cNvCxnSpPr>
          <p:nvPr/>
        </p:nvCxnSpPr>
        <p:spPr>
          <a:xfrm flipH="1">
            <a:off x="3322440" y="4214880"/>
            <a:ext cx="7200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7"/>
          <p:cNvCxnSpPr>
            <a:stCxn id="71" idx="2"/>
            <a:endCxn id="77" idx="0"/>
          </p:cNvCxnSpPr>
          <p:nvPr/>
        </p:nvCxnSpPr>
        <p:spPr>
          <a:xfrm>
            <a:off x="3393720" y="4214880"/>
            <a:ext cx="15008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гадка.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а высоком холме стоит вишневый замок. Крепостная стена замка двухрядная. В первом ряду вокруг замка расположены пять зеленых зубцов, а во втором – пять больших белых стен. В центре замка стоит столб, а вокруг качаются на тонких ножках пушистые подушечки.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это за замок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971720" y="2357280"/>
            <a:ext cx="52005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"/>
          <p:cNvPicPr/>
          <p:nvPr/>
        </p:nvPicPr>
        <p:blipFill>
          <a:blip r:embed="rId1"/>
          <a:stretch/>
        </p:blipFill>
        <p:spPr>
          <a:xfrm>
            <a:off x="3714840" y="272880"/>
            <a:ext cx="4832280" cy="5853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17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исуйте строение цветка и подпишите его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684360" y="6714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гад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900000" y="19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ашечка есть - не для вод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03280" y="3068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енок – не для де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195640" y="4365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Околоцвет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05:47:41Z</dcterms:created>
  <dc:creator>User</dc:creator>
  <dc:description/>
  <dc:language>en-US</dc:language>
  <cp:lastModifiedBy>Пользователь Windows</cp:lastModifiedBy>
  <dcterms:modified xsi:type="dcterms:W3CDTF">2018-06-19T19:54:12Z</dcterms:modified>
  <cp:revision>61</cp:revision>
  <dc:subject/>
  <dc:title>Урок по теме: «Строение цветка. Соцветия».</dc:title>
</cp:coreProperties>
</file>