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8B81-62A7-4A76-A4C2-358225D8F8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слайд  и скажите, чем отличаются околоцветники изображенных цветков? Причитав текст «Околоцветник двойной и простой» дайте понятие простого и двойного околоцветника. Запишите определения в своих тетрад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ют с книгой, записывают опред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6641-6122-452F-B5DB-980DBBA48BE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м следующий слайд . (Дается понятие правильного и неправильного цветка с оформлением схемы в тетрад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94CC-983E-4E65-8BF3-8527F1F9297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строение имеют пестик и тычинка?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ычинка состоит из тычиночной нити и пыльника с пыльцой. Пестик состоит из рыльца, столбика и завязи. В завязи находятся семязача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главными частями цветка?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ычинка и пестик участвуют в размн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акая часть будет являться мужской, а какая – женской? С помощью каких символов их обозначают?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 Вспоминаем, что женские органы обозначают знаком Венеры, а мужские – знаком Марса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чинки –это мужские  органы. Пестик – это женский орг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0DE5-3A60-4AC1-91BE-4112E7A6FD3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те загадку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ают , почему цветок не образовал пл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B6DD-7F0B-440B-B29A-5ED7AC96F40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я схемы на слайде, дети формулируют определения обоеполых и однополых цветков, находят отлич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FE93-FE30-4E1E-991E-69FA3963F73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ем схемы на следующем слайде. С помощью текста учебника учащиеся дают определения однодомным и двудомным растениям, зарисовывают схемы в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, где могут нам пригодиться знания об однодомных и двудомных растениях?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зеленении улиц тополями, выращивании в саду актинидии, облепихи, выращивании тыквенных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7C08-F2CC-423A-8A1E-F76D725431D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познакомимся с тем, как правильно составлять формулу цветка.        Зная, условные обозначения, давайте попробуем составить формулы цветков вишни: цветок обоеполый, правильный, лепестков – 5, чашелистиков – 5 сросшихся, тычинок много, пестик – 1; василька: цветок обоеполый, правильный, чашелистиков – 5, лепестков – 5 сросшихся, тычинок – 5, пестик –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символы и прочитав материал учебника дети самостоятельно составляют формулу цветка виш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DC52-DD4B-45C3-AC1C-6DA26DFE1D6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ем информацию о строении цветка в форме схемы « Рыб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составляют схему в тетради, затем проверяют правильность составления используя материал слай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1358-E054-4123-9DCD-F33085CF35C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еп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 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стовыми зад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4FF1-0DF4-429A-B5E1-143F3F6EE63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ют по очереди части цветка и называют их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3FC2-5C5E-4EAC-A030-7ADF5EAE8DA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формируют выводы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B0EF-521D-4E19-9FFB-344FDF2B14D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писывают задания в днев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0BAE-DDEE-4D97-B932-5E5DA778051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ют на поставленные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Подводит итоги урока и выставляет текущие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B3EB-CB9C-47C2-BDD6-136C661C6C0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о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 звонком учащиеся входят в класс и садятся на свои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Актуализация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онтальный опр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ет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ют на заданные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DC53-EDA9-448B-BE58-F9CD59025D1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изация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работают на лис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проверка, выставляют баллы оценивания работы и передают информацию результатов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AFD3-89CB-4EB6-B6BB-BCD67F48AF2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попробуем сформулировать задачи наше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ытаются сформулировать задачи урок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0F48-C5DA-4DBF-A468-334E90ABE2C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, чем перейдем к нашей новой теме давайте еще раз вспомним: 1.Что такое орган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акие органы цветкового растения вам извест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Назовите вегетативные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Что называется побег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Назовите генератив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Часть тела, выполняющая определенную функ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(Вегетативные, генер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(Корень, побе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(Стебель с расположенными на нем листьями и почк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(Цветок, плод, с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1279-139F-4D05-8E7B-464EE0884B0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I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та, сегодня на уроке я предлагаю вам провести исследование. Предмет нашего исследования мы сможем узнать, когда отгадаем эту загад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цветок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уже догадались, сегодня речь пойдет о цвет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EE44-B8D1-40AE-B2C9-241FE0626C6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те на фотографии цветки , гербарии на столах, цветущие растения и скажите, что у них общего и в чем 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раясь на предыдущие знания, дети отвечают, что у всех цветков есть венчик и чашечка, тычинки и пестик. Цветки различаются формой, окраской, раз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более подробно изучим строение цветка. Для этого зарисуйте схему цветка  и, используя рисунки, текст учебника, подпишите части цве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выполняют работу в рабочих тетрад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ле того, как дети выполнили работу, проверяем правильность выполнения задания. Обращаем внимание на то, что цветок – это укороченный видоизмененный поб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E381-0F47-479A-A115-2AA4C4EDABA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те загадку. Подумайте, какую роль выполняет околоцветник?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внутренних частей и привлечение 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чего он состо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щиес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лепестков и чашелист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8F14-8BC7-411C-8424-B3B0CD4E3FB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B96-0A5B-473D-AB00-420F7051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24B-CFDC-4257-A639-E226B519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87D-8E23-442C-954A-31BEACEE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8AB-D498-452A-A99B-29088DF8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EAD-598E-473D-9584-67C6598B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9B0-1C85-4E3D-ABDB-D0E5A206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FD7-0AB4-4B35-9D7B-CADED752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94F-2B56-4B7B-8405-61EE5E19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D64-E915-4538-BDAE-D882D93C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647-0CBA-4F62-9CAD-F8C57451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5EE-9C09-4904-B7BB-05B7A9FD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73C9-DD87-403B-8A59-BFD58671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05D1-4570-4955-874D-AF53EDB14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7.png"/><Relationship Id="rId7" Type="http://schemas.openxmlformats.org/officeDocument/2006/relationships/image" Target="../media/image18.gif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image" Target="../media/image19.gi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06320"/>
            <a:ext cx="7991280" cy="616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ема урока: 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«Цветок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 изучение строения и функций цветка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и уро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разовательная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ировать у учащихся знания о цветке, как органе семенного размножения покрытосеменных растени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учить особенность строения и многообразие цветков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формировать понятия “обое – и однополые цветки”, “одно- и двудомные растения”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азвивающая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ть практические навыки по распознаванию цветков различных растени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ботать с учебником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общать полученные знания, делать самостоятельные выводы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оспитательная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ывать любовь и бережное отношение к природе, цветущим растениям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ть любознательность, стремление к знаниям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рмируемые УУ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 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знавательны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 установление причинно-следственных связей, обобщение,  выдвижение гипотез, работа с текстом;  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егулятивны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— целеполагание, адекватная самооценка выполняемых ,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 коммуникативные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— формулирование собственного мнения, способность слушать мнение других, организация групповой деятельности в сотрудничестве, взаимный контроль и взаимопомощь.</a:t>
            </a:r>
            <a:br>
              <a:rPr sz="1600"/>
            </a:br>
            <a:br>
              <a:rPr sz="1600"/>
            </a:br>
            <a:br>
              <a:rPr sz="2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580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околоцвет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404028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й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341360"/>
            <a:ext cx="40417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9" descr="1124_aec13656"/>
          <p:cNvPicPr/>
          <p:nvPr/>
        </p:nvPicPr>
        <p:blipFill>
          <a:blip r:embed="rId1"/>
          <a:stretch/>
        </p:blipFill>
        <p:spPr>
          <a:xfrm>
            <a:off x="539640" y="1844640"/>
            <a:ext cx="3638520" cy="3638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convallaria"/>
          <p:cNvPicPr/>
          <p:nvPr/>
        </p:nvPicPr>
        <p:blipFill>
          <a:blip r:embed="rId2"/>
          <a:stretch/>
        </p:blipFill>
        <p:spPr>
          <a:xfrm>
            <a:off x="4716360" y="1989000"/>
            <a:ext cx="3857760" cy="3457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684360" y="573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нчик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2627280" y="5877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аше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4932360" y="5732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е листочки одина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3"/>
          <p:cNvCxnSpPr>
            <a:stCxn id="98" idx="1"/>
          </p:cNvCxnSpPr>
          <p:nvPr/>
        </p:nvCxnSpPr>
        <p:spPr>
          <a:xfrm>
            <a:off x="457200" y="1628280"/>
            <a:ext cx="1451520" cy="7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6" name="Прямая со стрелкой 15"/>
          <p:cNvCxnSpPr>
            <a:stCxn id="99" idx="1"/>
          </p:cNvCxnSpPr>
          <p:nvPr/>
        </p:nvCxnSpPr>
        <p:spPr>
          <a:xfrm>
            <a:off x="4644720" y="1557360"/>
            <a:ext cx="144036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7" name="Прямая со стрелкой 17"/>
          <p:cNvCxnSpPr>
            <a:stCxn id="102" idx="0"/>
          </p:cNvCxnSpPr>
          <p:nvPr/>
        </p:nvCxnSpPr>
        <p:spPr>
          <a:xfrm flipV="1">
            <a:off x="1223640" y="2707560"/>
            <a:ext cx="1477080" cy="3025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>
            <a:stCxn id="102" idx="0"/>
          </p:cNvCxnSpPr>
          <p:nvPr/>
        </p:nvCxnSpPr>
        <p:spPr>
          <a:xfrm flipV="1">
            <a:off x="1223640" y="3068280"/>
            <a:ext cx="253080" cy="2664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9" name="Прямая со стрелкой 21"/>
          <p:cNvCxnSpPr>
            <a:stCxn id="103" idx="0"/>
          </p:cNvCxnSpPr>
          <p:nvPr/>
        </p:nvCxnSpPr>
        <p:spPr>
          <a:xfrm flipH="1" flipV="1">
            <a:off x="2770920" y="3788640"/>
            <a:ext cx="57708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0" name="Прямая со стрелкой 26"/>
          <p:cNvCxnSpPr>
            <a:stCxn id="104" idx="0"/>
          </p:cNvCxnSpPr>
          <p:nvPr/>
        </p:nvCxnSpPr>
        <p:spPr>
          <a:xfrm flipV="1">
            <a:off x="6659280" y="3860280"/>
            <a:ext cx="73800" cy="187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иды цвет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прави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4982"/>
          <p:cNvPicPr/>
          <p:nvPr/>
        </p:nvPicPr>
        <p:blipFill>
          <a:blip r:embed="rId1"/>
          <a:stretch/>
        </p:blipFill>
        <p:spPr>
          <a:xfrm>
            <a:off x="566640" y="2560680"/>
            <a:ext cx="3819600" cy="318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0_82f0_33ce45d9_XL"/>
          <p:cNvPicPr/>
          <p:nvPr/>
        </p:nvPicPr>
        <p:blipFill>
          <a:blip r:embed="rId2"/>
          <a:stretch/>
        </p:blipFill>
        <p:spPr>
          <a:xfrm>
            <a:off x="4917960" y="2455920"/>
            <a:ext cx="3495960" cy="33908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9"/>
          <p:cNvSpPr/>
          <p:nvPr/>
        </p:nvSpPr>
        <p:spPr>
          <a:xfrm flipH="1">
            <a:off x="2626920" y="2565360"/>
            <a:ext cx="144360" cy="367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1"/>
          <p:cNvSpPr/>
          <p:nvPr/>
        </p:nvSpPr>
        <p:spPr>
          <a:xfrm flipH="1">
            <a:off x="5651280" y="2276640"/>
            <a:ext cx="1873080" cy="396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3"/>
          <p:cNvSpPr/>
          <p:nvPr/>
        </p:nvSpPr>
        <p:spPr>
          <a:xfrm>
            <a:off x="5076720" y="2349360"/>
            <a:ext cx="3311640" cy="3959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15"/>
          <p:cNvSpPr/>
          <p:nvPr/>
        </p:nvSpPr>
        <p:spPr>
          <a:xfrm flipV="1">
            <a:off x="4716360" y="3789000"/>
            <a:ext cx="4103640" cy="9349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3"/>
          <p:cNvPicPr/>
          <p:nvPr/>
        </p:nvPicPr>
        <p:blipFill>
          <a:blip r:embed="rId1"/>
          <a:stretch/>
        </p:blipFill>
        <p:spPr>
          <a:xfrm>
            <a:off x="5003640" y="404640"/>
            <a:ext cx="3529080" cy="576108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3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3600720" cy="5616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22" name="Picture 3" descr="C:\Users\User\Desktop\Безымянный.png"/>
          <p:cNvPicPr/>
          <p:nvPr/>
        </p:nvPicPr>
        <p:blipFill>
          <a:blip r:embed="rId3"/>
          <a:stretch/>
        </p:blipFill>
        <p:spPr>
          <a:xfrm>
            <a:off x="2627280" y="2205000"/>
            <a:ext cx="39607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042920" y="40320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га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042920" y="1700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оть цвел цветок и в нужный с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187280" y="26370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о вся беда, не дал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627280" y="43657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мужской цве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2"/>
          <p:cNvGrpSpPr/>
          <p:nvPr/>
        </p:nvGrpSpPr>
        <p:grpSpPr>
          <a:xfrm>
            <a:off x="431640" y="1568520"/>
            <a:ext cx="8208360" cy="2939400"/>
            <a:chOff x="431640" y="1568520"/>
            <a:chExt cx="8208360" cy="2939400"/>
          </a:xfrm>
        </p:grpSpPr>
        <p:cxnSp>
          <p:nvCxnSpPr>
            <p:cNvPr id="128" name="_s1028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4366800" y="2718000"/>
              <a:ext cx="337320" cy="1741320"/>
            </a:xfrm>
            <a:prstGeom prst="bentConnector3">
              <a:avLst>
                <a:gd name="adj1" fmla="val 3376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1" name="_s1029"/>
            <p:cNvCxnSpPr>
              <a:stCxn id="132" idx="0"/>
              <a:endCxn id="130" idx="2"/>
            </p:cNvCxnSpPr>
            <p:nvPr/>
          </p:nvCxnSpPr>
          <p:spPr>
            <a:xfrm flipH="1" flipV="1" rot="5400000">
              <a:off x="2625840" y="2717640"/>
              <a:ext cx="337320" cy="1742040"/>
            </a:xfrm>
            <a:prstGeom prst="bentConnector3">
              <a:avLst>
                <a:gd name="adj1" fmla="val 3376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3" name="_s1030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6106320" y="1616760"/>
              <a:ext cx="340200" cy="1742040"/>
            </a:xfrm>
            <a:prstGeom prst="bentConnector3">
              <a:avLst>
                <a:gd name="adj1" fmla="val 3358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36" name="_s1031"/>
            <p:cNvCxnSpPr>
              <a:stCxn id="130" idx="0"/>
              <a:endCxn id="135" idx="2"/>
            </p:cNvCxnSpPr>
            <p:nvPr/>
          </p:nvCxnSpPr>
          <p:spPr>
            <a:xfrm flipH="1" flipV="1" rot="5400000">
              <a:off x="4365720" y="1617120"/>
              <a:ext cx="340200" cy="1741320"/>
            </a:xfrm>
            <a:prstGeom prst="bentConnector3">
              <a:avLst>
                <a:gd name="adj1" fmla="val 3358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3913920" y="1568520"/>
              <a:ext cx="2984760" cy="73476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Цвет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3"/>
            <p:cNvSpPr/>
            <p:nvPr/>
          </p:nvSpPr>
          <p:spPr>
            <a:xfrm>
              <a:off x="2172960" y="2670840"/>
              <a:ext cx="2984760" cy="7347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днопол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34"/>
            <p:cNvSpPr/>
            <p:nvPr/>
          </p:nvSpPr>
          <p:spPr>
            <a:xfrm>
              <a:off x="5655240" y="2670840"/>
              <a:ext cx="2984760" cy="7347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оепол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35"/>
            <p:cNvSpPr/>
            <p:nvPr/>
          </p:nvSpPr>
          <p:spPr>
            <a:xfrm>
              <a:off x="431640" y="3773160"/>
              <a:ext cx="2984760" cy="7347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естичные</a:t>
              </a:r>
              <a:br>
                <a:rPr sz="2100"/>
              </a:b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женские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♀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6"/>
            <p:cNvSpPr/>
            <p:nvPr/>
          </p:nvSpPr>
          <p:spPr>
            <a:xfrm>
              <a:off x="3913920" y="3773160"/>
              <a:ext cx="2984760" cy="7347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ычиночные</a:t>
              </a:r>
              <a:br>
                <a:rPr sz="2100"/>
              </a:b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ужские 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14" descr="Пестичные цветок"/>
          <p:cNvPicPr/>
          <p:nvPr/>
        </p:nvPicPr>
        <p:blipFill>
          <a:blip r:embed="rId1"/>
          <a:stretch/>
        </p:blipFill>
        <p:spPr>
          <a:xfrm>
            <a:off x="971640" y="465300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Тычиночный цветок"/>
          <p:cNvPicPr/>
          <p:nvPr/>
        </p:nvPicPr>
        <p:blipFill>
          <a:blip r:embed="rId2"/>
          <a:stretch/>
        </p:blipFill>
        <p:spPr>
          <a:xfrm>
            <a:off x="4427640" y="465300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4"/>
          <p:cNvSpPr/>
          <p:nvPr/>
        </p:nvSpPr>
        <p:spPr>
          <a:xfrm>
            <a:off x="1547640" y="6206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днополые и обоепо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Строение цветка"/>
          <p:cNvPicPr/>
          <p:nvPr/>
        </p:nvPicPr>
        <p:blipFill>
          <a:blip r:embed="rId3"/>
          <a:srcRect l="0" t="0" r="0" b="18241"/>
          <a:stretch/>
        </p:blipFill>
        <p:spPr>
          <a:xfrm>
            <a:off x="7093080" y="4076640"/>
            <a:ext cx="1871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1332000" y="692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днодомные и двудо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Organization Chart 2"/>
          <p:cNvGrpSpPr/>
          <p:nvPr/>
        </p:nvGrpSpPr>
        <p:grpSpPr>
          <a:xfrm>
            <a:off x="250920" y="1571760"/>
            <a:ext cx="8641080" cy="2142360"/>
            <a:chOff x="250920" y="1571760"/>
            <a:chExt cx="8641080" cy="2142360"/>
          </a:xfrm>
        </p:grpSpPr>
        <p:cxnSp>
          <p:nvCxnSpPr>
            <p:cNvPr id="143" name="_s2052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5528160" y="1482840"/>
              <a:ext cx="401760" cy="2319840"/>
            </a:xfrm>
            <a:prstGeom prst="bentConnector3">
              <a:avLst>
                <a:gd name="adj1" fmla="val 2834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6" name="_s2053"/>
            <p:cNvCxnSpPr>
              <a:stCxn id="147" idx="0"/>
              <a:endCxn id="145" idx="2"/>
            </p:cNvCxnSpPr>
            <p:nvPr/>
          </p:nvCxnSpPr>
          <p:spPr>
            <a:xfrm flipH="1" flipV="1" rot="5400000">
              <a:off x="3210840" y="1485360"/>
              <a:ext cx="401760" cy="2315520"/>
            </a:xfrm>
            <a:prstGeom prst="bentConnector3">
              <a:avLst>
                <a:gd name="adj1" fmla="val 2834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45" name="_s2054"/>
            <p:cNvSpPr/>
            <p:nvPr/>
          </p:nvSpPr>
          <p:spPr>
            <a:xfrm>
              <a:off x="2565720" y="1571760"/>
              <a:ext cx="4007160" cy="85572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Цветки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055"/>
            <p:cNvSpPr/>
            <p:nvPr/>
          </p:nvSpPr>
          <p:spPr>
            <a:xfrm>
              <a:off x="250920" y="2858400"/>
              <a:ext cx="4007160" cy="8557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днодомные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2056"/>
            <p:cNvSpPr/>
            <p:nvPr/>
          </p:nvSpPr>
          <p:spPr>
            <a:xfrm>
              <a:off x="4884840" y="2858400"/>
              <a:ext cx="4007160" cy="8557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вудомные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0"/>
          <p:cNvGrpSpPr/>
          <p:nvPr/>
        </p:nvGrpSpPr>
        <p:grpSpPr>
          <a:xfrm>
            <a:off x="1187280" y="3933720"/>
            <a:ext cx="2664000" cy="2446560"/>
            <a:chOff x="1187280" y="3933720"/>
            <a:chExt cx="2664000" cy="2446560"/>
          </a:xfrm>
        </p:grpSpPr>
        <p:pic>
          <p:nvPicPr>
            <p:cNvPr id="149" name="Picture 11" descr="Огурец муж"/>
            <p:cNvPicPr/>
            <p:nvPr/>
          </p:nvPicPr>
          <p:blipFill>
            <a:blip r:embed="rId1"/>
            <a:stretch/>
          </p:blipFill>
          <p:spPr>
            <a:xfrm>
              <a:off x="1187280" y="3933720"/>
              <a:ext cx="107964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2" descr="Огурец жен"/>
            <p:cNvPicPr/>
            <p:nvPr/>
          </p:nvPicPr>
          <p:blipFill>
            <a:blip r:embed="rId2"/>
            <a:stretch/>
          </p:blipFill>
          <p:spPr>
            <a:xfrm>
              <a:off x="2771640" y="3933720"/>
              <a:ext cx="107964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3" descr="дом"/>
            <p:cNvPicPr/>
            <p:nvPr/>
          </p:nvPicPr>
          <p:blipFill>
            <a:blip r:embed="rId3"/>
            <a:stretch/>
          </p:blipFill>
          <p:spPr>
            <a:xfrm>
              <a:off x="1332000" y="4653000"/>
              <a:ext cx="242568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4" descr="j0309719"/>
            <p:cNvPicPr/>
            <p:nvPr/>
          </p:nvPicPr>
          <p:blipFill>
            <a:blip r:embed="rId4"/>
            <a:stretch/>
          </p:blipFill>
          <p:spPr>
            <a:xfrm>
              <a:off x="2089080" y="5589720"/>
              <a:ext cx="466920" cy="54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5" descr="j0309720"/>
            <p:cNvPicPr/>
            <p:nvPr/>
          </p:nvPicPr>
          <p:blipFill>
            <a:blip r:embed="rId5"/>
            <a:stretch/>
          </p:blipFill>
          <p:spPr>
            <a:xfrm>
              <a:off x="2700360" y="5589720"/>
              <a:ext cx="40176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24"/>
          <p:cNvGrpSpPr/>
          <p:nvPr/>
        </p:nvGrpSpPr>
        <p:grpSpPr>
          <a:xfrm>
            <a:off x="5003640" y="3592440"/>
            <a:ext cx="3780000" cy="2789280"/>
            <a:chOff x="5003640" y="3592440"/>
            <a:chExt cx="3780000" cy="2789280"/>
          </a:xfrm>
        </p:grpSpPr>
        <p:grpSp>
          <p:nvGrpSpPr>
            <p:cNvPr id="155" name="Group 16"/>
            <p:cNvGrpSpPr/>
            <p:nvPr/>
          </p:nvGrpSpPr>
          <p:grpSpPr>
            <a:xfrm>
              <a:off x="5003640" y="3819960"/>
              <a:ext cx="1704960" cy="2561760"/>
              <a:chOff x="5003640" y="3819960"/>
              <a:chExt cx="1704960" cy="2561760"/>
            </a:xfrm>
          </p:grpSpPr>
          <p:pic>
            <p:nvPicPr>
              <p:cNvPr id="156" name="Picture 17" descr="дом"/>
              <p:cNvPicPr/>
              <p:nvPr/>
            </p:nvPicPr>
            <p:blipFill>
              <a:blip r:embed="rId6"/>
              <a:stretch/>
            </p:blipFill>
            <p:spPr>
              <a:xfrm>
                <a:off x="5003640" y="4654440"/>
                <a:ext cx="1704960" cy="17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18" descr="j0309719"/>
              <p:cNvPicPr/>
              <p:nvPr/>
            </p:nvPicPr>
            <p:blipFill>
              <a:blip r:embed="rId7"/>
              <a:stretch/>
            </p:blipFill>
            <p:spPr>
              <a:xfrm>
                <a:off x="5689440" y="5551560"/>
                <a:ext cx="466920" cy="54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19" descr="Тополь муж"/>
              <p:cNvPicPr/>
              <p:nvPr/>
            </p:nvPicPr>
            <p:blipFill>
              <a:blip r:embed="rId8"/>
              <a:stretch/>
            </p:blipFill>
            <p:spPr>
              <a:xfrm rot="20764800">
                <a:off x="5292360" y="3933720"/>
                <a:ext cx="1079640" cy="1079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" name="Group 20"/>
            <p:cNvGrpSpPr/>
            <p:nvPr/>
          </p:nvGrpSpPr>
          <p:grpSpPr>
            <a:xfrm>
              <a:off x="7078680" y="3592440"/>
              <a:ext cx="1704960" cy="2789280"/>
              <a:chOff x="7078680" y="3592440"/>
              <a:chExt cx="1704960" cy="2789280"/>
            </a:xfrm>
          </p:grpSpPr>
          <p:pic>
            <p:nvPicPr>
              <p:cNvPr id="160" name="Picture 21" descr="дом"/>
              <p:cNvPicPr/>
              <p:nvPr/>
            </p:nvPicPr>
            <p:blipFill>
              <a:blip r:embed="rId9"/>
              <a:stretch/>
            </p:blipFill>
            <p:spPr>
              <a:xfrm>
                <a:off x="7078680" y="4654440"/>
                <a:ext cx="1704960" cy="17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22" descr="j0309720"/>
              <p:cNvPicPr/>
              <p:nvPr/>
            </p:nvPicPr>
            <p:blipFill>
              <a:blip r:embed="rId10"/>
              <a:stretch/>
            </p:blipFill>
            <p:spPr>
              <a:xfrm>
                <a:off x="7699320" y="5589720"/>
                <a:ext cx="40176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23" descr="Тополь жен"/>
              <p:cNvPicPr/>
              <p:nvPr/>
            </p:nvPicPr>
            <p:blipFill>
              <a:blip r:embed="rId11"/>
              <a:stretch/>
            </p:blipFill>
            <p:spPr>
              <a:xfrm rot="966600">
                <a:off x="7524720" y="3716280"/>
                <a:ext cx="1079640" cy="1312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1"/>
          <p:cNvSpPr/>
          <p:nvPr/>
        </p:nvSpPr>
        <p:spPr>
          <a:xfrm>
            <a:off x="285840" y="214200"/>
            <a:ext cx="5072040" cy="6643800"/>
          </a:xfrm>
          <a:custGeom>
            <a:avLst/>
            <a:gdLst>
              <a:gd name="textAreaLeft" fmla="*/ 247320 w 5072040"/>
              <a:gd name="textAreaRight" fmla="*/ 4824720 w 5072040"/>
              <a:gd name="textAreaTop" fmla="*/ 247320 h 6643800"/>
              <a:gd name="textAreaBottom" fmla="*/ 6396480 h 6643800"/>
            </a:gdLst>
            <a:ahLst/>
            <a:rect l="textAreaLeft" t="textAreaTop" r="textAreaRight" b="textAreaBottom"/>
            <a:pathLst>
              <a:path w="21600" h="28293">
                <a:moveTo>
                  <a:pt x="3600" y="0"/>
                </a:moveTo>
                <a:arcTo wR="3600" hR="3600" stAng="16200000" swAng="-5400000"/>
                <a:lnTo>
                  <a:pt x="0" y="24693"/>
                </a:lnTo>
                <a:arcTo wR="3600" hR="3600" stAng="10800000" swAng="-5400000"/>
                <a:lnTo>
                  <a:pt x="18000" y="282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fe6c7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 – чашеч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 – лепес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 – тычи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 – пест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– простой околоцве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правильный цве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 - правильный цве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естичные (женские) цве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тычиночные (мужские)    цве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оеполые цв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) – сросшиеся части цве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фры – количество частей  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2"/>
          <p:cNvSpPr/>
          <p:nvPr/>
        </p:nvSpPr>
        <p:spPr>
          <a:xfrm>
            <a:off x="5643720" y="357120"/>
            <a:ext cx="3143160" cy="1428840"/>
          </a:xfrm>
          <a:prstGeom prst="roundRect">
            <a:avLst>
              <a:gd name="adj" fmla="val 16667"/>
            </a:avLst>
          </a:prstGeom>
          <a:solidFill>
            <a:srgbClr val="e6d9a8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Форму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цвет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Группа 115"/>
          <p:cNvGrpSpPr/>
          <p:nvPr/>
        </p:nvGrpSpPr>
        <p:grpSpPr>
          <a:xfrm>
            <a:off x="5715000" y="1857240"/>
            <a:ext cx="3071880" cy="4214880"/>
            <a:chOff x="5715000" y="1857240"/>
            <a:chExt cx="3071880" cy="4214880"/>
          </a:xfrm>
        </p:grpSpPr>
        <p:grpSp>
          <p:nvGrpSpPr>
            <p:cNvPr id="166" name="Группа 113"/>
            <p:cNvGrpSpPr/>
            <p:nvPr/>
          </p:nvGrpSpPr>
          <p:grpSpPr>
            <a:xfrm>
              <a:off x="5715000" y="4572000"/>
              <a:ext cx="3071880" cy="1500120"/>
              <a:chOff x="5715000" y="4572000"/>
              <a:chExt cx="3071880" cy="1500120"/>
            </a:xfrm>
          </p:grpSpPr>
          <p:sp>
            <p:nvSpPr>
              <p:cNvPr id="167" name="Скругленный прямоугольник 6"/>
              <p:cNvSpPr/>
              <p:nvPr/>
            </p:nvSpPr>
            <p:spPr>
              <a:xfrm>
                <a:off x="5715000" y="4572000"/>
                <a:ext cx="307188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efe6c7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Цветок вишн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*       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Ч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 Л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 Т   П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99"/>
              <p:cNvGrpSpPr/>
              <p:nvPr/>
            </p:nvGrpSpPr>
            <p:grpSpPr>
              <a:xfrm>
                <a:off x="6215040" y="5357520"/>
                <a:ext cx="500400" cy="571320"/>
                <a:chOff x="6215040" y="5357520"/>
                <a:chExt cx="500400" cy="571320"/>
              </a:xfrm>
            </p:grpSpPr>
            <p:grpSp>
              <p:nvGrpSpPr>
                <p:cNvPr id="169" name="Group 100"/>
                <p:cNvGrpSpPr/>
                <p:nvPr/>
              </p:nvGrpSpPr>
              <p:grpSpPr>
                <a:xfrm>
                  <a:off x="6215040" y="5520240"/>
                  <a:ext cx="432360" cy="408600"/>
                  <a:chOff x="6215040" y="5520240"/>
                  <a:chExt cx="432360" cy="408600"/>
                </a:xfrm>
              </p:grpSpPr>
              <p:cxnSp>
                <p:nvCxnSpPr>
                  <p:cNvPr id="170" name="AutoShape 101"/>
                  <p:cNvCxnSpPr/>
                  <p:nvPr/>
                </p:nvCxnSpPr>
                <p:spPr>
                  <a:xfrm>
                    <a:off x="6430680" y="5668560"/>
                    <a:ext cx="1800" cy="2606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171" name="Oval 102"/>
                  <p:cNvSpPr/>
                  <p:nvPr/>
                </p:nvSpPr>
                <p:spPr>
                  <a:xfrm>
                    <a:off x="6215040" y="5520240"/>
                    <a:ext cx="432000" cy="200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72" name="AutoShape 103"/>
                  <p:cNvCxnSpPr/>
                  <p:nvPr/>
                </p:nvCxnSpPr>
                <p:spPr>
                  <a:xfrm>
                    <a:off x="6215040" y="5857200"/>
                    <a:ext cx="43272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cxnSp>
              <p:nvCxnSpPr>
                <p:cNvPr id="173" name="AutoShape 104"/>
                <p:cNvCxnSpPr/>
                <p:nvPr/>
              </p:nvCxnSpPr>
              <p:spPr>
                <a:xfrm flipV="1">
                  <a:off x="6465240" y="5357520"/>
                  <a:ext cx="250560" cy="1627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74" name="Прямоугольник 8"/>
              <p:cNvSpPr/>
              <p:nvPr/>
            </p:nvSpPr>
            <p:spPr>
              <a:xfrm rot="5400000">
                <a:off x="7751160" y="5465160"/>
                <a:ext cx="357120" cy="71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5" name="Picture 105" descr=""/>
            <p:cNvPicPr/>
            <p:nvPr/>
          </p:nvPicPr>
          <p:blipFill>
            <a:blip r:embed="rId1"/>
            <a:stretch/>
          </p:blipFill>
          <p:spPr>
            <a:xfrm>
              <a:off x="6000480" y="1857240"/>
              <a:ext cx="2428920" cy="248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Oval 96"/>
          <p:cNvSpPr/>
          <p:nvPr/>
        </p:nvSpPr>
        <p:spPr>
          <a:xfrm>
            <a:off x="857160" y="4314960"/>
            <a:ext cx="308160" cy="209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16"/>
          <p:cNvSpPr/>
          <p:nvPr/>
        </p:nvSpPr>
        <p:spPr>
          <a:xfrm>
            <a:off x="1011240" y="4524480"/>
            <a:ext cx="31680" cy="344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21"/>
          <p:cNvSpPr/>
          <p:nvPr/>
        </p:nvSpPr>
        <p:spPr>
          <a:xfrm>
            <a:off x="900000" y="4724280"/>
            <a:ext cx="21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Прямая со стрелкой 23"/>
          <p:cNvCxnSpPr/>
          <p:nvPr/>
        </p:nvCxnSpPr>
        <p:spPr>
          <a:xfrm flipV="1">
            <a:off x="1116000" y="4220280"/>
            <a:ext cx="21672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80" name="Picture 2" descr="C:\Users\User\Desktop\Безымянный.png"/>
          <p:cNvPicPr/>
          <p:nvPr/>
        </p:nvPicPr>
        <p:blipFill>
          <a:blip r:embed="rId2"/>
          <a:stretch/>
        </p:blipFill>
        <p:spPr>
          <a:xfrm>
            <a:off x="395280" y="3284640"/>
            <a:ext cx="720720" cy="504720"/>
          </a:xfrm>
          <a:prstGeom prst="rect">
            <a:avLst/>
          </a:prstGeom>
          <a:ln w="0">
            <a:noFill/>
          </a:ln>
        </p:spPr>
      </p:pic>
      <p:cxnSp>
        <p:nvCxnSpPr>
          <p:cNvPr id="181" name="Прямая со стрелкой 26"/>
          <p:cNvCxnSpPr/>
          <p:nvPr/>
        </p:nvCxnSpPr>
        <p:spPr>
          <a:xfrm flipV="1">
            <a:off x="539280" y="2349000"/>
            <a:ext cx="36108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Равнобедренный треугольник 2"/>
          <p:cNvSpPr/>
          <p:nvPr/>
        </p:nvSpPr>
        <p:spPr>
          <a:xfrm rot="16200000">
            <a:off x="6286320" y="2143080"/>
            <a:ext cx="2857680" cy="2857320"/>
          </a:xfrm>
          <a:prstGeom prst="triangle">
            <a:avLst>
              <a:gd name="adj" fmla="val 50750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с двумя вырезанными соседними углами 3"/>
          <p:cNvSpPr/>
          <p:nvPr/>
        </p:nvSpPr>
        <p:spPr>
          <a:xfrm flipV="1" rot="5400000">
            <a:off x="642960" y="2424600"/>
            <a:ext cx="1143000" cy="2428920"/>
          </a:xfrm>
          <a:prstGeom prst="pie">
            <a:avLst/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цв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4"/>
          <p:cNvSpPr/>
          <p:nvPr/>
        </p:nvSpPr>
        <p:spPr>
          <a:xfrm>
            <a:off x="2428920" y="3571920"/>
            <a:ext cx="52862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араллелограмм 7"/>
          <p:cNvSpPr/>
          <p:nvPr/>
        </p:nvSpPr>
        <p:spPr>
          <a:xfrm rot="612600">
            <a:off x="2932200" y="1236240"/>
            <a:ext cx="1011240" cy="206208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колоцве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Блок-схема: данные 8"/>
          <p:cNvSpPr/>
          <p:nvPr/>
        </p:nvSpPr>
        <p:spPr>
          <a:xfrm rot="724200">
            <a:off x="4269960" y="1344600"/>
            <a:ext cx="938160" cy="203040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Блок-схема: данные 9"/>
          <p:cNvSpPr/>
          <p:nvPr/>
        </p:nvSpPr>
        <p:spPr>
          <a:xfrm rot="702000">
            <a:off x="5773320" y="1487160"/>
            <a:ext cx="946080" cy="200664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ыч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11"/>
          <p:cNvSpPr/>
          <p:nvPr/>
        </p:nvSpPr>
        <p:spPr>
          <a:xfrm flipV="1">
            <a:off x="2428920" y="836280"/>
            <a:ext cx="774720" cy="2803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13"/>
          <p:cNvSpPr/>
          <p:nvPr/>
        </p:nvSpPr>
        <p:spPr>
          <a:xfrm flipV="1">
            <a:off x="3708360" y="907560"/>
            <a:ext cx="647640" cy="2592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15"/>
          <p:cNvSpPr/>
          <p:nvPr/>
        </p:nvSpPr>
        <p:spPr>
          <a:xfrm flipV="1">
            <a:off x="5148360" y="1052640"/>
            <a:ext cx="647640" cy="25207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Блок-схема: данные 17"/>
          <p:cNvSpPr/>
          <p:nvPr/>
        </p:nvSpPr>
        <p:spPr>
          <a:xfrm rot="20412000">
            <a:off x="2978280" y="3754080"/>
            <a:ext cx="1118880" cy="268920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щита, Привлечение  насеко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араллелограмм 19"/>
          <p:cNvSpPr/>
          <p:nvPr/>
        </p:nvSpPr>
        <p:spPr>
          <a:xfrm rot="20207400">
            <a:off x="4436640" y="3683160"/>
            <a:ext cx="1136880" cy="283500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ование плодов и сем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араллелограмм 20"/>
          <p:cNvSpPr/>
          <p:nvPr/>
        </p:nvSpPr>
        <p:spPr>
          <a:xfrm rot="20306400">
            <a:off x="5681520" y="3695760"/>
            <a:ext cx="1192320" cy="274140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ование пыльцы со сперм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22"/>
          <p:cNvSpPr/>
          <p:nvPr/>
        </p:nvSpPr>
        <p:spPr>
          <a:xfrm>
            <a:off x="2428920" y="3639960"/>
            <a:ext cx="774720" cy="28846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24"/>
          <p:cNvSpPr/>
          <p:nvPr/>
        </p:nvSpPr>
        <p:spPr>
          <a:xfrm>
            <a:off x="3708360" y="3573360"/>
            <a:ext cx="934920" cy="28800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26"/>
          <p:cNvSpPr/>
          <p:nvPr/>
        </p:nvSpPr>
        <p:spPr>
          <a:xfrm>
            <a:off x="5148360" y="3573360"/>
            <a:ext cx="863640" cy="2735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7"/>
          <p:cNvSpPr/>
          <p:nvPr/>
        </p:nvSpPr>
        <p:spPr>
          <a:xfrm>
            <a:off x="826920" y="404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8"/>
          <p:cNvSpPr/>
          <p:nvPr/>
        </p:nvSpPr>
        <p:spPr>
          <a:xfrm>
            <a:off x="716436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у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8"/>
          <p:cNvSpPr/>
          <p:nvPr/>
        </p:nvSpPr>
        <p:spPr>
          <a:xfrm>
            <a:off x="3132000" y="26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Схема «Ры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1403280" y="1268280"/>
            <a:ext cx="640872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Цветок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)яркий венчик  в)пестик и тычи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)околоцветник  г)столбик и ры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Главные части цвет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)лепестки и чашелис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)пестик и тыч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Часто яркоокраш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)чашелистики   в)лепестки венч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)тычинки          г)пе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Раздельнополые цветки, у котор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)есть тычинки и пе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)есть лепестки и чашел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) есть только тыч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) есть только пести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2124000" y="549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Arial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1692360" y="5732640"/>
            <a:ext cx="5183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твет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-В; 2-Б; 3-В; 4-В,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2050920" y="69228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5.Что такое цветок? Назовите основные его части и их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571680" y="1052640"/>
            <a:ext cx="79135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684360" y="509760"/>
            <a:ext cx="7920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рудов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.к., проектор, презентации, учебники, модели цветков: вишни, картофеля, гороха, цветущие комнатные растения, таблица “Строение цветка”, термины по теме, гербарный материал, нарисованные части цветка, тестовые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 урок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обучен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еседа, проблемно-поисковый, объяснительно-иллюстративный, исследователь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 урока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рок усвоения новых знаний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о-методическая литература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МК  линии В.В.Пасеч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214200" y="857160"/>
            <a:ext cx="8643960" cy="5715000"/>
          </a:xfrm>
          <a:prstGeom prst="rect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Цветок – орган семенного размно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Цветок состоит их цветоложа, околоцветника, пестика и тычинок. Околоцветник бывает простым и двой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Лепестки цветка образуют венчик, а чашелистики – чашеч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Цветки бывают однополые (содержат и пестики и тычинки) и раздельнополые (содержат только тычинки или только пести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Растения на которых развиваются и тычиночные и пестичные цветки, называется однодом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Растения на которых цветут только пестичные или только тычиночные цветы, называется двудомн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3" descr="_Fragaria_vesca_L_.jpg"/>
          <p:cNvPicPr/>
          <p:nvPr/>
        </p:nvPicPr>
        <p:blipFill>
          <a:blip r:embed="rId1"/>
          <a:srcRect l="51573" t="3326" r="-1225" b="49056"/>
          <a:stretch/>
        </p:blipFill>
        <p:spPr>
          <a:xfrm>
            <a:off x="285840" y="928800"/>
            <a:ext cx="64296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Овал 3"/>
          <p:cNvSpPr/>
          <p:nvPr/>
        </p:nvSpPr>
        <p:spPr>
          <a:xfrm>
            <a:off x="357120" y="1643040"/>
            <a:ext cx="357120" cy="428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3" descr="_Fragaria_vesca_L_.jpg"/>
          <p:cNvPicPr/>
          <p:nvPr/>
        </p:nvPicPr>
        <p:blipFill>
          <a:blip r:embed="rId2"/>
          <a:srcRect l="51573" t="3326" r="-1225" b="49056"/>
          <a:stretch/>
        </p:blipFill>
        <p:spPr>
          <a:xfrm>
            <a:off x="250920" y="162864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3" descr="_Fragaria_vesca_L_.jpg"/>
          <p:cNvPicPr/>
          <p:nvPr/>
        </p:nvPicPr>
        <p:blipFill>
          <a:blip r:embed="rId3"/>
          <a:srcRect l="51573" t="3326" r="-1225" b="49056"/>
          <a:stretch/>
        </p:blipFill>
        <p:spPr>
          <a:xfrm>
            <a:off x="324000" y="234936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3" descr="_Fragaria_vesca_L_.jpg"/>
          <p:cNvPicPr/>
          <p:nvPr/>
        </p:nvPicPr>
        <p:blipFill>
          <a:blip r:embed="rId4"/>
          <a:srcRect l="51573" t="3326" r="-1225" b="49056"/>
          <a:stretch/>
        </p:blipFill>
        <p:spPr>
          <a:xfrm>
            <a:off x="324000" y="3213000"/>
            <a:ext cx="642960" cy="5716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3" descr="_Fragaria_vesca_L_.jpg"/>
          <p:cNvPicPr/>
          <p:nvPr/>
        </p:nvPicPr>
        <p:blipFill>
          <a:blip r:embed="rId5"/>
          <a:srcRect l="51573" t="3326" r="-1225" b="49056"/>
          <a:stretch/>
        </p:blipFill>
        <p:spPr>
          <a:xfrm>
            <a:off x="395280" y="4365720"/>
            <a:ext cx="642960" cy="57132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3" descr="_Fragaria_vesca_L_.jpg"/>
          <p:cNvPicPr/>
          <p:nvPr/>
        </p:nvPicPr>
        <p:blipFill>
          <a:blip r:embed="rId6"/>
          <a:srcRect l="51573" t="3326" r="-1225" b="49056"/>
          <a:stretch/>
        </p:blipFill>
        <p:spPr>
          <a:xfrm>
            <a:off x="468360" y="5229360"/>
            <a:ext cx="642960" cy="5713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9"/>
          <p:cNvSpPr/>
          <p:nvPr/>
        </p:nvSpPr>
        <p:spPr>
          <a:xfrm>
            <a:off x="1403280" y="18900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Arial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1619280" y="1384560"/>
            <a:ext cx="60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53735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953735"/>
                </a:solidFill>
                <a:uFillTx/>
                <a:latin typeface="Arial"/>
                <a:ea typeface="Times New Roman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чите параграф 11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учите терм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готовьте модель цветка (обоеполого или однополог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1835280" y="321840"/>
            <a:ext cx="6049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Arial"/>
                <a:ea typeface="Times New Roman"/>
              </a:rPr>
              <a:t>Рефлек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игли ли вы поставленной цели урока? В какой степ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узнали нового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вас удиви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900000" y="260280"/>
            <a:ext cx="748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ие черты сходства просматриваются между типичным побегом и видоизмененными побег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ое строение имеет клубень картофел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то доказывает, что луковица-побе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ие растения имеют видоизмененные побеги-корневищ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 человек использует видоизмененные побег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Рисунок8"/>
          <p:cNvPicPr/>
          <p:nvPr/>
        </p:nvPicPr>
        <p:blipFill>
          <a:blip r:embed="rId1"/>
          <a:stretch/>
        </p:blipFill>
        <p:spPr>
          <a:xfrm>
            <a:off x="395280" y="3357720"/>
            <a:ext cx="2808360" cy="287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луковица3"/>
          <p:cNvPicPr/>
          <p:nvPr/>
        </p:nvPicPr>
        <p:blipFill>
          <a:blip r:embed="rId2"/>
          <a:stretch/>
        </p:blipFill>
        <p:spPr>
          <a:xfrm>
            <a:off x="6084720" y="3284640"/>
            <a:ext cx="2590920" cy="304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Picture 2" descr="C:\Users\User\Desktop\p73.jpg"/>
          <p:cNvPicPr/>
          <p:nvPr/>
        </p:nvPicPr>
        <p:blipFill>
          <a:blip r:embed="rId3"/>
          <a:stretch/>
        </p:blipFill>
        <p:spPr>
          <a:xfrm>
            <a:off x="3276720" y="3284640"/>
            <a:ext cx="2755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468360" y="333360"/>
            <a:ext cx="7848720" cy="80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3. Те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1.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лубень картофеля представляет соб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)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)видоизмененны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)видоизмененный подземный побе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2.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олючка барбариса -приспособление раст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)к уменьшению испарения влаг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)к сохранению от поедания живот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)к тому и друг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3.Донце луковицы –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)укороченный стеб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)видоизмененный 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)видоизмененны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4.Колючки у кактусов –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)видоизмененные побе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)видоизмененные лист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)особые вырост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клеток кожицы стеб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5.Луковица лука представляет соб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)стеб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)видоизмененный подземный побе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)видоизмененный кор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6.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орневище – это видоизмененны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)боков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)ли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)побе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5292720" y="2349360"/>
            <a:ext cx="122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тве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 –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 –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 –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4 –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5 –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6 -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6516720" y="2060640"/>
            <a:ext cx="215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Критерии 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5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» - все ответы вер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4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» -5 - 4 правильных от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3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» - 3 правильных от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» - 2 правильных от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Овал 1"/>
          <p:cNvSpPr/>
          <p:nvPr/>
        </p:nvSpPr>
        <p:spPr>
          <a:xfrm>
            <a:off x="3174840" y="3284640"/>
            <a:ext cx="2428920" cy="20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Задач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"/>
          <p:cNvSpPr/>
          <p:nvPr/>
        </p:nvSpPr>
        <p:spPr>
          <a:xfrm rot="3374400">
            <a:off x="4587480" y="5314680"/>
            <a:ext cx="2146320" cy="1358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Виды цве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"/>
          <p:cNvSpPr/>
          <p:nvPr/>
        </p:nvSpPr>
        <p:spPr>
          <a:xfrm rot="21303600">
            <a:off x="5552640" y="3509640"/>
            <a:ext cx="2478240" cy="1157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ц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4"/>
          <p:cNvSpPr/>
          <p:nvPr/>
        </p:nvSpPr>
        <p:spPr>
          <a:xfrm flipH="1" rot="2160000">
            <a:off x="2552040" y="4974840"/>
            <a:ext cx="1328760" cy="206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цв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5"/>
          <p:cNvSpPr/>
          <p:nvPr/>
        </p:nvSpPr>
        <p:spPr>
          <a:xfrm flipH="1" rot="743400">
            <a:off x="809280" y="3174840"/>
            <a:ext cx="2500200" cy="12272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цве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6"/>
          <p:cNvSpPr/>
          <p:nvPr/>
        </p:nvSpPr>
        <p:spPr>
          <a:xfrm rot="5400000">
            <a:off x="3453120" y="1734480"/>
            <a:ext cx="1871640" cy="1228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ц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2286000" y="333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Тема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Цветок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олните сх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2786040" y="1071720"/>
            <a:ext cx="3500640" cy="928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ы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76640"/>
            <a:ext cx="361008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гетатив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932360" y="2349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5508720" y="2286000"/>
            <a:ext cx="2950920" cy="7142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8"/>
          <p:cNvSpPr/>
          <p:nvPr/>
        </p:nvSpPr>
        <p:spPr>
          <a:xfrm>
            <a:off x="571680" y="3643200"/>
            <a:ext cx="1285560" cy="5716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714760" y="3643200"/>
            <a:ext cx="1357200" cy="5716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143680" y="3714840"/>
            <a:ext cx="1000080" cy="428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6572160" y="3714840"/>
            <a:ext cx="1000080" cy="428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8001000" y="3714840"/>
            <a:ext cx="928800" cy="428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1071720" y="5143680"/>
            <a:ext cx="1357200" cy="571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4"/>
          <p:cNvSpPr/>
          <p:nvPr/>
        </p:nvSpPr>
        <p:spPr>
          <a:xfrm>
            <a:off x="2714760" y="5143680"/>
            <a:ext cx="1214280" cy="571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5"/>
          <p:cNvSpPr/>
          <p:nvPr/>
        </p:nvSpPr>
        <p:spPr>
          <a:xfrm>
            <a:off x="4286160" y="5143680"/>
            <a:ext cx="1214640" cy="571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7"/>
          <p:cNvCxnSpPr>
            <a:stCxn id="66" idx="3"/>
            <a:endCxn id="69" idx="0"/>
          </p:cNvCxnSpPr>
          <p:nvPr/>
        </p:nvCxnSpPr>
        <p:spPr>
          <a:xfrm>
            <a:off x="6286680" y="1536480"/>
            <a:ext cx="699120" cy="74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9"/>
          <p:cNvCxnSpPr>
            <a:stCxn id="66" idx="1"/>
          </p:cNvCxnSpPr>
          <p:nvPr/>
        </p:nvCxnSpPr>
        <p:spPr>
          <a:xfrm flipH="1">
            <a:off x="2123280" y="1536480"/>
            <a:ext cx="662760" cy="74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21"/>
          <p:cNvCxnSpPr>
            <a:stCxn id="67" idx="2"/>
            <a:endCxn id="70" idx="0"/>
          </p:cNvCxnSpPr>
          <p:nvPr/>
        </p:nvCxnSpPr>
        <p:spPr>
          <a:xfrm flipH="1">
            <a:off x="1213920" y="3068640"/>
            <a:ext cx="1048320" cy="57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23"/>
          <p:cNvCxnSpPr>
            <a:stCxn id="67" idx="2"/>
            <a:endCxn id="71" idx="0"/>
          </p:cNvCxnSpPr>
          <p:nvPr/>
        </p:nvCxnSpPr>
        <p:spPr>
          <a:xfrm>
            <a:off x="2262240" y="3068640"/>
            <a:ext cx="1132560" cy="57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25"/>
          <p:cNvCxnSpPr>
            <a:stCxn id="69" idx="2"/>
            <a:endCxn id="72" idx="0"/>
          </p:cNvCxnSpPr>
          <p:nvPr/>
        </p:nvCxnSpPr>
        <p:spPr>
          <a:xfrm flipH="1">
            <a:off x="5643360" y="2999880"/>
            <a:ext cx="134208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Прямая со стрелкой 27"/>
          <p:cNvCxnSpPr>
            <a:stCxn id="69" idx="2"/>
            <a:endCxn id="73" idx="0"/>
          </p:cNvCxnSpPr>
          <p:nvPr/>
        </p:nvCxnSpPr>
        <p:spPr>
          <a:xfrm>
            <a:off x="6985080" y="2999880"/>
            <a:ext cx="87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Прямая со стрелкой 29"/>
          <p:cNvCxnSpPr>
            <a:stCxn id="69" idx="2"/>
            <a:endCxn id="74" idx="0"/>
          </p:cNvCxnSpPr>
          <p:nvPr/>
        </p:nvCxnSpPr>
        <p:spPr>
          <a:xfrm>
            <a:off x="6985080" y="2999880"/>
            <a:ext cx="148176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31"/>
          <p:cNvCxnSpPr>
            <a:stCxn id="71" idx="2"/>
            <a:endCxn id="75" idx="0"/>
          </p:cNvCxnSpPr>
          <p:nvPr/>
        </p:nvCxnSpPr>
        <p:spPr>
          <a:xfrm flipH="1">
            <a:off x="1750680" y="4214880"/>
            <a:ext cx="164376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5"/>
          <p:cNvCxnSpPr>
            <a:stCxn id="71" idx="2"/>
            <a:endCxn id="76" idx="0"/>
          </p:cNvCxnSpPr>
          <p:nvPr/>
        </p:nvCxnSpPr>
        <p:spPr>
          <a:xfrm flipH="1">
            <a:off x="3322440" y="4214880"/>
            <a:ext cx="7200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7"/>
          <p:cNvCxnSpPr>
            <a:stCxn id="71" idx="2"/>
            <a:endCxn id="77" idx="0"/>
          </p:cNvCxnSpPr>
          <p:nvPr/>
        </p:nvCxnSpPr>
        <p:spPr>
          <a:xfrm>
            <a:off x="3393720" y="4214880"/>
            <a:ext cx="150084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гадка.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На высоком холме стоит вишневый замок. Крепостная стена замка двухрядная. В первом ряду вокруг замка расположены пять зеленых зубцов, а во втором – пять больших белых стен. В центре замка стоит столб, а вокруг качаются на тонких ножках пушистые подушечки.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это за замок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971720" y="2357280"/>
            <a:ext cx="52005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"/>
          <p:cNvPicPr/>
          <p:nvPr/>
        </p:nvPicPr>
        <p:blipFill>
          <a:blip r:embed="rId1"/>
          <a:stretch/>
        </p:blipFill>
        <p:spPr>
          <a:xfrm>
            <a:off x="3714840" y="272880"/>
            <a:ext cx="4832280" cy="5853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17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исуйте строение цветка и подпишите его ч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684360" y="6714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агад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900000" y="19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ашечка есть - не для вод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1403280" y="30686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ть венок – не для дев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195640" y="436572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Околоцветн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05:47:41Z</dcterms:created>
  <dc:creator>User</dc:creator>
  <dc:description/>
  <dc:language>en-US</dc:language>
  <cp:lastModifiedBy>Пользователь Windows</cp:lastModifiedBy>
  <dcterms:modified xsi:type="dcterms:W3CDTF">2018-06-19T19:54:12Z</dcterms:modified>
  <cp:revision>61</cp:revision>
  <dc:subject/>
  <dc:title>Урок по теме: «Строение цветка. Соцветия».</dc:title>
</cp:coreProperties>
</file>