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6.png" ContentType="image/png"/>
  <Override PartName="/ppt/media/image20.png" ContentType="image/png"/>
  <Override PartName="/ppt/media/image7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A1BD7-9847-4D8C-9826-8EBB46EEB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6710-E9CA-44A8-B3DF-1B18E639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643D-2A8F-4047-BE90-AFCD3C607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B155-A51C-4D5C-BF8B-5243D2896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B3FB-7474-4B00-8080-20C305CB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6CBE-E461-4ACD-8B42-8674F5BE4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56B0-5A2B-4B67-9668-38FB1479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F9E-4662-4C88-B37A-175ADAC0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7F2-DD4D-45DF-B72A-B802A8DA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FE5-17D8-4EBE-B47C-4FD9CD58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95D-3411-40D4-81CC-1762C8199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9D5B-DA08-4809-9B64-76D9FD3D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4771-E851-4305-AD4A-21CD214DEB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Возникновение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исьменности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19640" y="4581000"/>
            <a:ext cx="32004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езентация педагога доп. Образования  ГБОУ № 296 СОШ, ОДО Коваленко Т.Б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22064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память о великом подвиге Кирилла и Мефодия 24 мая во всем мире празднуется День славянской письмен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Picture 4" descr="ПРАЗДСЛАВПИСЬМ"/>
          <p:cNvPicPr/>
          <p:nvPr/>
        </p:nvPicPr>
        <p:blipFill>
          <a:blip r:embed="rId1"/>
          <a:stretch/>
        </p:blipFill>
        <p:spPr>
          <a:xfrm>
            <a:off x="2987640" y="333360"/>
            <a:ext cx="285768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5445000"/>
            <a:ext cx="822960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РИЛЛИЦ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4" descr="кирил"/>
          <p:cNvPicPr/>
          <p:nvPr/>
        </p:nvPicPr>
        <p:blipFill>
          <a:blip r:embed="rId1"/>
          <a:stretch/>
        </p:blipFill>
        <p:spPr>
          <a:xfrm>
            <a:off x="1258920" y="404640"/>
            <a:ext cx="68421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472392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ревнерусские рукописи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X-XIV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веков написаны знаками уставного алфавита. Буквы писались прямо на одинаковом расстоянии и промежутка между словами не бы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" name="Picture 4" descr="устав"/>
          <p:cNvPicPr/>
          <p:nvPr/>
        </p:nvPicPr>
        <p:blipFill>
          <a:blip r:embed="rId1"/>
          <a:stretch/>
        </p:blipFill>
        <p:spPr>
          <a:xfrm>
            <a:off x="250920" y="260280"/>
            <a:ext cx="4465440" cy="41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380px-OstromirGospel"/>
          <p:cNvPicPr/>
          <p:nvPr/>
        </p:nvPicPr>
        <p:blipFill>
          <a:blip r:embed="rId2"/>
          <a:stretch/>
        </p:blipFill>
        <p:spPr>
          <a:xfrm>
            <a:off x="5219640" y="260280"/>
            <a:ext cx="36194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 середины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I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толетия получил распространение полуустав, который был менее красив. Зато позволял быстро писать. Текст уже делился на сло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полуустав"/>
          <p:cNvPicPr/>
          <p:nvPr/>
        </p:nvPicPr>
        <p:blipFill>
          <a:blip r:embed="rId1"/>
          <a:stretch/>
        </p:blipFill>
        <p:spPr>
          <a:xfrm>
            <a:off x="468360" y="260280"/>
            <a:ext cx="3887640" cy="431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полуустав2"/>
          <p:cNvPicPr/>
          <p:nvPr/>
        </p:nvPicPr>
        <p:blipFill>
          <a:blip r:embed="rId2"/>
          <a:stretch/>
        </p:blipFill>
        <p:spPr>
          <a:xfrm>
            <a:off x="5292720" y="189000"/>
            <a:ext cx="348624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39640" y="4076280"/>
            <a:ext cx="822960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XV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еке полуустав уступает место скорописи. Это письмо отличается связным написанием соседних букв и размашистостью письма. С этого времени появляются признаки индивидуального почер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Picture 6" descr="скоропись4"/>
          <p:cNvPicPr/>
          <p:nvPr/>
        </p:nvPicPr>
        <p:blipFill>
          <a:blip r:embed="rId1"/>
          <a:stretch/>
        </p:blipFill>
        <p:spPr>
          <a:xfrm>
            <a:off x="324000" y="189000"/>
            <a:ext cx="3887640" cy="3816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скоропись2"/>
          <p:cNvPicPr/>
          <p:nvPr/>
        </p:nvPicPr>
        <p:blipFill>
          <a:blip r:embed="rId2"/>
          <a:stretch/>
        </p:blipFill>
        <p:spPr>
          <a:xfrm>
            <a:off x="4716360" y="476280"/>
            <a:ext cx="417672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8360" y="4723920"/>
            <a:ext cx="8229600" cy="16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и Петре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были внесены изменения в начертания некоторых букв, а 11 букв были исключены из алфави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Picture 5" descr="петров алфавит"/>
          <p:cNvPicPr/>
          <p:nvPr/>
        </p:nvPicPr>
        <p:blipFill>
          <a:blip r:embed="rId1"/>
          <a:stretch/>
        </p:blipFill>
        <p:spPr>
          <a:xfrm>
            <a:off x="1332000" y="189000"/>
            <a:ext cx="6335640" cy="42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18 году была проведена новая реформа алфавита, и кириллица потеряла еще 4 буквы: ять, и (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), ижицу, фиту. А мы в результате этого несколько утратили богатство красок славянской письменности, подаренной нам братьями святыми Кириллом и Мефодием – просветителями славя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6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380880"/>
          <a:ext cx="4978440" cy="6370920"/>
        </p:xfrm>
        <a:graphic>
          <a:graphicData uri="http://schemas.openxmlformats.org/drawingml/2006/table">
            <a:tbl>
              <a:tblPr/>
              <a:tblGrid>
                <a:gridCol w="1587600"/>
                <a:gridCol w="1695240"/>
                <a:gridCol w="1695600"/>
              </a:tblGrid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 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 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 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Д д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Е 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Ё 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Ж ж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 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 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Й 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 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 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 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 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 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 п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 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 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 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 ф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 х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Ц ц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 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Ш ш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 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Ъ 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Ы 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Ь 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solidFill>
                      <a:srgbClr val="add8e6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 э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Ю 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Я 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10000"/>
                      </a:solidFill>
                    </a:lnL>
                    <a:lnR w="720">
                      <a:solidFill>
                        <a:srgbClr val="010000"/>
                      </a:solidFill>
                    </a:lnR>
                    <a:lnT w="720">
                      <a:solidFill>
                        <a:srgbClr val="010000"/>
                      </a:solidFill>
                    </a:lnT>
                    <a:lnB w="720">
                      <a:solidFill>
                        <a:srgbClr val="01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220"/>
          <p:cNvSpPr/>
          <p:nvPr/>
        </p:nvSpPr>
        <p:spPr>
          <a:xfrm>
            <a:off x="5867280" y="3357720"/>
            <a:ext cx="2808360" cy="27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Буквы кириллицы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в современном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русском алфави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А мы тоже стали часто использовать </a:t>
            </a:r>
            <a:br>
              <a:rPr sz="3600"/>
            </a:b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артинное письмо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9" name="Picture 4" descr="пиктогр2"/>
          <p:cNvPicPr/>
          <p:nvPr/>
        </p:nvPicPr>
        <p:blipFill>
          <a:blip r:embed="rId1"/>
          <a:stretch/>
        </p:blipFill>
        <p:spPr>
          <a:xfrm>
            <a:off x="1258920" y="1773360"/>
            <a:ext cx="66978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920" y="2491920"/>
            <a:ext cx="8229600" cy="32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Tahoma"/>
              </a:rPr>
              <a:t>Молодцы!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начение письма велико. В языке, как в зеркале, отражён весь мир, вся наша жизнь. Возможности письма не ограничены ни временем, ни расстоянием. Но искусством письма люди владели не всегда. Это искусство развивалось долго, на протяжении многих тысячелетий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40428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начала появилось картинное письмо ПИКТОГРАФИЯ: когда какое – нибудь событие изображалось в виде рисун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" name="Picture 4" descr="пиктогр3"/>
          <p:cNvPicPr/>
          <p:nvPr/>
        </p:nvPicPr>
        <p:blipFill>
          <a:blip r:embed="rId1"/>
          <a:stretch/>
        </p:blipFill>
        <p:spPr>
          <a:xfrm>
            <a:off x="1258920" y="2205000"/>
            <a:ext cx="2857320" cy="4210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пиктогр"/>
          <p:cNvPicPr/>
          <p:nvPr/>
        </p:nvPicPr>
        <p:blipFill>
          <a:blip r:embed="rId2"/>
          <a:stretch/>
        </p:blipFill>
        <p:spPr>
          <a:xfrm>
            <a:off x="5219640" y="2205000"/>
            <a:ext cx="3095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атем стали изображать уже не событие, а отдельные предметы, сначала соблюдая сходство с изображ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8" name="Picture 4" descr="иерог"/>
          <p:cNvPicPr/>
          <p:nvPr/>
        </p:nvPicPr>
        <p:blipFill>
          <a:blip r:embed="rId1"/>
          <a:stretch/>
        </p:blipFill>
        <p:spPr>
          <a:xfrm>
            <a:off x="2124000" y="2637000"/>
            <a:ext cx="4969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 затем в виде условных знаков ИЕРОГЛИФОВ ( ИДЕОГРАФИЯ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Picture 5" descr="иерогл"/>
          <p:cNvPicPr/>
          <p:nvPr/>
        </p:nvPicPr>
        <p:blipFill>
          <a:blip r:embed="rId1"/>
          <a:stretch/>
        </p:blipFill>
        <p:spPr>
          <a:xfrm>
            <a:off x="684360" y="1557360"/>
            <a:ext cx="2857320" cy="43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иерогл2"/>
          <p:cNvPicPr/>
          <p:nvPr/>
        </p:nvPicPr>
        <p:blipFill>
          <a:blip r:embed="rId2"/>
          <a:stretch/>
        </p:blipFill>
        <p:spPr>
          <a:xfrm>
            <a:off x="4140360" y="1557360"/>
            <a:ext cx="42480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4436640"/>
            <a:ext cx="82296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, наконец, научились изображать не предметы, а передавать знаками их названия (звуковое письмо).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Финикийский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алфавит стал основой всех европейских алфавит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алфавитфин"/>
          <p:cNvPicPr/>
          <p:nvPr/>
        </p:nvPicPr>
        <p:blipFill>
          <a:blip r:embed="rId1"/>
          <a:stretch/>
        </p:blipFill>
        <p:spPr>
          <a:xfrm>
            <a:off x="1187280" y="620640"/>
            <a:ext cx="676944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486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лавянское письмо было создано в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X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еке путем использования букв греческого алфави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greek_alphabet"/>
          <p:cNvPicPr/>
          <p:nvPr/>
        </p:nvPicPr>
        <p:blipFill>
          <a:blip r:embed="rId1"/>
          <a:stretch/>
        </p:blipFill>
        <p:spPr>
          <a:xfrm>
            <a:off x="900000" y="404640"/>
            <a:ext cx="763272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Византии, в городе Солунь (теперь это город Салоники в Греции), жили два брата – Кирилл и Мефодий. Были они очень мудрые и образованные. Этих братьев греческий царь Михаил послал к славянам в ответ на просьбу славянского князя Ростислава: тот просил прислать учителей, которые смогли бы рассказать славянам о святых книгах, неизвестных им книжных словах и смысле и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" name="Picture 4" descr="византи я"/>
          <p:cNvPicPr/>
          <p:nvPr/>
        </p:nvPicPr>
        <p:blipFill>
          <a:blip r:embed="rId1"/>
          <a:stretch/>
        </p:blipFill>
        <p:spPr>
          <a:xfrm>
            <a:off x="2771640" y="189000"/>
            <a:ext cx="330516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95280" y="494136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 вот братья приехали к славянам ,чтобы создать славянскую азбуку, которая впоследствии стала называться КИРИЛЛИЦ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 в честь одного из братьев- Кирилла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250px-Kyrill&amp;Method"/>
          <p:cNvPicPr/>
          <p:nvPr/>
        </p:nvPicPr>
        <p:blipFill>
          <a:blip r:embed="rId1"/>
          <a:stretch/>
        </p:blipFill>
        <p:spPr>
          <a:xfrm>
            <a:off x="2484360" y="189000"/>
            <a:ext cx="4032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1:14:00Z</dcterms:created>
  <dc:creator>Лена</dc:creator>
  <dc:description/>
  <dc:language>en-US</dc:language>
  <cp:lastModifiedBy>Tatiana Kovalenko</cp:lastModifiedBy>
  <dcterms:modified xsi:type="dcterms:W3CDTF">2018-04-20T03:02:17Z</dcterms:modified>
  <cp:revision>9</cp:revision>
  <dc:subject/>
  <dc:title>Возникновение письменности </dc:title>
</cp:coreProperties>
</file>