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AE7E-953D-499B-981C-39CA864FD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4A1-83A2-473E-9E09-6C19F99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94D-82C5-408B-A378-4D253C2B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73C-8704-4335-9A95-B27981577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E99-301E-4594-9473-A06C3828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D34C-7407-4C72-B872-85AAAA2F3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AE0B-8A8F-4A0A-958D-3210DC32E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1E97-9C86-473C-BF93-2D86CD2D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1C52-6A3A-4143-B2B2-F8D28663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E43E-A7F7-4446-8C45-B2CC3707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B18E-6217-48C4-9DF7-BD21C561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DB50-E60A-4242-BB6C-56FA434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CE91-8B09-4DC3-918B-BCD1055A35D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зникновение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енности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640" y="458100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педагога доп. Образования  ГБОУ № 296 СОШ, ОДО Коваленко Т.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амять о великом подвиге Кирилла и Мефодия 24 мая во всем мире празднуется День славянской письм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ПРАЗДСЛАВПИСЬМ"/>
          <p:cNvPicPr/>
          <p:nvPr/>
        </p:nvPicPr>
        <p:blipFill>
          <a:blip r:embed="rId1"/>
          <a:stretch/>
        </p:blipFill>
        <p:spPr>
          <a:xfrm>
            <a:off x="2987640" y="333360"/>
            <a:ext cx="28576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кирил"/>
          <p:cNvPicPr/>
          <p:nvPr/>
        </p:nvPicPr>
        <p:blipFill>
          <a:blip r:embed="rId1"/>
          <a:stretch/>
        </p:blipFill>
        <p:spPr>
          <a:xfrm>
            <a:off x="1258920" y="404640"/>
            <a:ext cx="684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евнерусские рукопис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X-XI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ов написаны знаками уставного алфавита. Буквы писались прямо на одинаковом расстоянии и промежутка между словами не бы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устав"/>
          <p:cNvPicPr/>
          <p:nvPr/>
        </p:nvPicPr>
        <p:blipFill>
          <a:blip r:embed="rId1"/>
          <a:stretch/>
        </p:blipFill>
        <p:spPr>
          <a:xfrm>
            <a:off x="250920" y="260280"/>
            <a:ext cx="446544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380px-OstromirGospel"/>
          <p:cNvPicPr/>
          <p:nvPr/>
        </p:nvPicPr>
        <p:blipFill>
          <a:blip r:embed="rId2"/>
          <a:stretch/>
        </p:blipFill>
        <p:spPr>
          <a:xfrm>
            <a:off x="5219640" y="260280"/>
            <a:ext cx="361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середин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етия получил распространение полуустав, который был менее красив. Зато позволял быстро писать. Текст уже делился на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полуустав"/>
          <p:cNvPicPr/>
          <p:nvPr/>
        </p:nvPicPr>
        <p:blipFill>
          <a:blip r:embed="rId1"/>
          <a:stretch/>
        </p:blipFill>
        <p:spPr>
          <a:xfrm>
            <a:off x="468360" y="260280"/>
            <a:ext cx="3887640" cy="43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полуустав2"/>
          <p:cNvPicPr/>
          <p:nvPr/>
        </p:nvPicPr>
        <p:blipFill>
          <a:blip r:embed="rId2"/>
          <a:stretch/>
        </p:blipFill>
        <p:spPr>
          <a:xfrm>
            <a:off x="5292720" y="189000"/>
            <a:ext cx="34862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е полуустав уступает место скорописи. Это письмо отличается связным написанием соседних букв и размашистостью письма. С этого времени появляются признаки индивидуального почер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скоропись4"/>
          <p:cNvPicPr/>
          <p:nvPr/>
        </p:nvPicPr>
        <p:blipFill>
          <a:blip r:embed="rId1"/>
          <a:stretch/>
        </p:blipFill>
        <p:spPr>
          <a:xfrm>
            <a:off x="324000" y="189000"/>
            <a:ext cx="3887640" cy="38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скоропись2"/>
          <p:cNvPicPr/>
          <p:nvPr/>
        </p:nvPicPr>
        <p:blipFill>
          <a:blip r:embed="rId2"/>
          <a:stretch/>
        </p:blipFill>
        <p:spPr>
          <a:xfrm>
            <a:off x="4716360" y="476280"/>
            <a:ext cx="417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тр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ыли внесены изменения в начертания некоторых букв, а 11 букв были исключены из алфав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петров алфавит"/>
          <p:cNvPicPr/>
          <p:nvPr/>
        </p:nvPicPr>
        <p:blipFill>
          <a:blip r:embed="rId1"/>
          <a:stretch/>
        </p:blipFill>
        <p:spPr>
          <a:xfrm>
            <a:off x="1332000" y="189000"/>
            <a:ext cx="63356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18 году была проведена новая реформа алфавита, и кириллица потеряла еще 4 буквы: ять, 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ижицу, фиту. А мы в результате этого несколько утратили богатство красок славянской письменности, подаренной нам братьями святыми Кириллом и Мефодием – просветителями славя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380880"/>
          <a:ext cx="4978440" cy="6370920"/>
        </p:xfrm>
        <a:graphic>
          <a:graphicData uri="http://schemas.openxmlformats.org/drawingml/2006/table">
            <a:tbl>
              <a:tblPr/>
              <a:tblGrid>
                <a:gridCol w="1587600"/>
                <a:gridCol w="1695240"/>
                <a:gridCol w="1695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 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 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 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 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 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 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 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 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 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 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 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 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 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 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 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 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Ъ 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 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 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 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 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20"/>
          <p:cNvSpPr/>
          <p:nvPr/>
        </p:nvSpPr>
        <p:spPr>
          <a:xfrm>
            <a:off x="5867280" y="3357720"/>
            <a:ext cx="2808360" cy="27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уквы кирилл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современн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усском алфави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 мы тоже стали часто использовать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артинное письмо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пиктогр2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491920"/>
            <a:ext cx="82296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письма велико. В языке, как в зеркале, отражён весь мир, вся наша жизнь. Возможности письма не ограничены ни временем, ни расстоянием. Но искусством письма люди владели не всегда. Это искусство развивалось долго, на протяжении многих тысячелети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чала появилось картинное письмо ПИКТОГРАФИЯ: когда какое – нибудь событие изображалось в виде рису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пиктогр3"/>
          <p:cNvPicPr/>
          <p:nvPr/>
        </p:nvPicPr>
        <p:blipFill>
          <a:blip r:embed="rId1"/>
          <a:stretch/>
        </p:blipFill>
        <p:spPr>
          <a:xfrm>
            <a:off x="1258920" y="2205000"/>
            <a:ext cx="2857320" cy="421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иктогр"/>
          <p:cNvPicPr/>
          <p:nvPr/>
        </p:nvPicPr>
        <p:blipFill>
          <a:blip r:embed="rId2"/>
          <a:stretch/>
        </p:blipFill>
        <p:spPr>
          <a:xfrm>
            <a:off x="5219640" y="220500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ем стали изображать уже не событие, а отдельные предметы, сначала соблюдая сходство с изображ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иерог"/>
          <p:cNvPicPr/>
          <p:nvPr/>
        </p:nvPicPr>
        <p:blipFill>
          <a:blip r:embed="rId1"/>
          <a:stretch/>
        </p:blipFill>
        <p:spPr>
          <a:xfrm>
            <a:off x="2124000" y="2637000"/>
            <a:ext cx="4969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затем в виде условных знаков ИЕРОГЛИФОВ ( ИДЕОГРАФ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5" descr="иерогл"/>
          <p:cNvPicPr/>
          <p:nvPr/>
        </p:nvPicPr>
        <p:blipFill>
          <a:blip r:embed="rId1"/>
          <a:stretch/>
        </p:blipFill>
        <p:spPr>
          <a:xfrm>
            <a:off x="684360" y="1557360"/>
            <a:ext cx="2857320" cy="43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иерогл2"/>
          <p:cNvPicPr/>
          <p:nvPr/>
        </p:nvPicPr>
        <p:blipFill>
          <a:blip r:embed="rId2"/>
          <a:stretch/>
        </p:blipFill>
        <p:spPr>
          <a:xfrm>
            <a:off x="4140360" y="1557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, наконец, научились изображать не предметы, а передавать знаками их названия (звуковое письмо)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икийский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фавит стал основой всех европейских алфави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алфавитфин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вянское письмо было создано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X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е путем использования букв греческого алфав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greek_alphabet"/>
          <p:cNvPicPr/>
          <p:nvPr/>
        </p:nvPicPr>
        <p:blipFill>
          <a:blip r:embed="rId1"/>
          <a:stretch/>
        </p:blipFill>
        <p:spPr>
          <a:xfrm>
            <a:off x="900000" y="40464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изантии, в городе Солунь (теперь это город Салоники в Греции), жили два брата – Кирилл и Мефодий. Были они очень мудрые и образованные. Этих братьев греческий царь Михаил послал к славянам в ответ на просьбу славянского князя Ростислава: тот просил прислать учителей, которые смогли бы рассказать славянам о святых книгах, неизвестных им книжных словах и смысл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византи я"/>
          <p:cNvPicPr/>
          <p:nvPr/>
        </p:nvPicPr>
        <p:blipFill>
          <a:blip r:embed="rId1"/>
          <a:stretch/>
        </p:blipFill>
        <p:spPr>
          <a:xfrm>
            <a:off x="2771640" y="189000"/>
            <a:ext cx="3305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94136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от братья приехали к славянам ,чтобы создать славянскую азбуку, которая впоследствии стала называться КИРИЛ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в честь одного из братьев- Кирилл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250px-Kyrill&amp;Method"/>
          <p:cNvPicPr/>
          <p:nvPr/>
        </p:nvPicPr>
        <p:blipFill>
          <a:blip r:embed="rId1"/>
          <a:stretch/>
        </p:blipFill>
        <p:spPr>
          <a:xfrm>
            <a:off x="2484360" y="189000"/>
            <a:ext cx="403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14:00Z</dcterms:created>
  <dc:creator>Лена</dc:creator>
  <dc:description/>
  <dc:language>en-US</dc:language>
  <cp:lastModifiedBy>Tatiana Kovalenko</cp:lastModifiedBy>
  <dcterms:modified xsi:type="dcterms:W3CDTF">2018-04-20T03:02:17Z</dcterms:modified>
  <cp:revision>9</cp:revision>
  <dc:subject/>
  <dc:title>Возникновение письменности </dc:title>
</cp:coreProperties>
</file>