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AE91-285C-4409-AF37-2F8154227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7AAC-8331-46E8-8BF4-1E315E5A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F7C9-D7D6-490C-A4F7-AEB961558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F172-68FF-4869-BA0E-162227755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986E-E1D3-4AF5-B8C1-389F101B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5A5F-9158-4A6A-AE34-EE399647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E0AB-2773-4FAF-AABF-819E75FA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0288-8B61-43A3-BFFD-AA4F7496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A7F5-FC30-4AA8-B901-65DF57D2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724B-8F55-4719-8075-AC56B9FF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ABFA-22D3-4B71-984F-7BFE0587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F5F8-CB62-4E80-8964-F437FB55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8C9B-A20B-41FA-8B10-A4990B82D22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истема уроков по теме «Вводные слов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8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водные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Потренируемся</a:t>
            </a: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5013360"/>
            <a:ext cx="8229600" cy="10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328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 сообщению синоптиков, на следующей неделе будет похолод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4727520"/>
            <a:ext cx="8229600" cy="12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Источник сообщ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328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 говорят ученые, нас ожидает глобальное потепл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4294080"/>
            <a:ext cx="8229600" cy="17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Источник сообщ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езд отправляется через час, следовательно, нам нужно выходить из дом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465120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рядок и связь мыс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 счастью, Печорин был погружен в задумчивост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4727520"/>
            <a:ext cx="8229600" cy="12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чув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349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ы собрались здесь, во-первых, для того, чтобы решить вопрос о сроках работ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465120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рядок и связь мыс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371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н застрелиться, слава богу, попробовать не захоте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465120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чув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349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ечно, вы не раз видали уездной барышни альбо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4581360"/>
            <a:ext cx="8229600" cy="14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тепень уверенност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35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, одним словом, легко отделалис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4727520"/>
            <a:ext cx="8229600" cy="12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формление мыс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водные слова и знаки препинания при них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тот вопрос, </a:t>
            </a: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казалось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, затруднил гост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цо его </a:t>
            </a: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казалось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спокойны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342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так, теперь можно сделать вывод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465120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рядок и связь мыс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водные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водные слова при произнесении выделяются интонацией (паузами и сравнительно быстрым произнесением), а на письме запяты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Кажется, я уже опозда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Морской воздух, безусловно, очень полезен для здоровь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2200" spc="-1" strike="noStrike">
                <a:solidFill>
                  <a:srgbClr val="000000"/>
                </a:solidFill>
                <a:latin typeface="Comic Sans MS"/>
              </a:rPr>
              <a:t>Записать данные вводные слова в такой последовательности: 1) показывающие отношение говорящего к высказываемой мысли; 2)источник высказываемой мысли; 3) связь высказанной мысли с предыдущей; 4) порядок высказываемых мысле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205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преданию, к огорчению, напротив, вообще говоря, по моему мнению, таким образом, разумеется, правда, во-первых, во-вторых, пожалуй, бесспорно, итак, однако,  прежде всего, по-видимому, по моим наблюдениям,  по взглядам такого-то, с одной стороны, с другой стороны, по сообщениям печати, по сведениям, одним словом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вадцать четвёртое апрел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Классная раб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 ур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Вводные слова и знаки    препинания при ни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характеризуйте значения выделенных с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ы должны иметь армию, вооружённую по последнему слову современной техн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Verdana"/>
              </a:rPr>
              <a:t>Разумеетс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мы должны иметь армию, вооружённую по последнему слову современной техн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Verdana"/>
              </a:rPr>
              <a:t>Вероятно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мы должны иметь армию, вооружённую по последнему слову современной техн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Verdana"/>
              </a:rPr>
              <a:t>По-моему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мы должны иметь армию, вооружённую по последнему слову современной техн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де может находиться вводное слов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2642760"/>
            <a:ext cx="82296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ждый му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жч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а должен пройти вое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нн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ю подгото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хемы предлож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ждый му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жч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а должен пройти вое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нн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ю подгото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Group 4"/>
          <p:cNvGrpSpPr/>
          <p:nvPr/>
        </p:nvGrpSpPr>
        <p:grpSpPr>
          <a:xfrm>
            <a:off x="7164360" y="0"/>
            <a:ext cx="1979280" cy="6858000"/>
            <a:chOff x="7164360" y="0"/>
            <a:chExt cx="1979280" cy="6858000"/>
          </a:xfrm>
        </p:grpSpPr>
        <p:sp>
          <p:nvSpPr>
            <p:cNvPr id="96" name="Rectangle 5"/>
            <p:cNvSpPr/>
            <p:nvPr/>
          </p:nvSpPr>
          <p:spPr>
            <a:xfrm>
              <a:off x="7164360" y="0"/>
              <a:ext cx="1979280" cy="6858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7"/>
            <p:cNvSpPr/>
            <p:nvPr/>
          </p:nvSpPr>
          <p:spPr>
            <a:xfrm>
              <a:off x="7164360" y="0"/>
              <a:ext cx="0" cy="6858000"/>
            </a:xfrm>
            <a:prstGeom prst="line">
              <a:avLst/>
            </a:prstGeom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AutoShape 9"/>
          <p:cNvSpPr/>
          <p:nvPr/>
        </p:nvSpPr>
        <p:spPr>
          <a:xfrm>
            <a:off x="1547640" y="3141720"/>
            <a:ext cx="433440" cy="934920"/>
          </a:xfrm>
          <a:custGeom>
            <a:avLst/>
            <a:gdLst>
              <a:gd name="textAreaLeft" fmla="*/ 127440 w 433440"/>
              <a:gd name="textAreaRight" fmla="*/ 433800 w 43344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0"/>
                  <a:pt x="0" y="0"/>
                </a:cubicBezTo>
                <a:lnTo>
                  <a:pt x="0" y="21600"/>
                </a:lnTo>
                <a:cubicBezTo>
                  <a:pt x="0" y="216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0"/>
          <p:cNvSpPr/>
          <p:nvPr/>
        </p:nvSpPr>
        <p:spPr>
          <a:xfrm rot="10800000">
            <a:off x="5581440" y="3141360"/>
            <a:ext cx="433080" cy="934920"/>
          </a:xfrm>
          <a:custGeom>
            <a:avLst/>
            <a:gdLst>
              <a:gd name="textAreaLeft" fmla="*/ 127080 w 433080"/>
              <a:gd name="textAreaRight" fmla="*/ 433440 w 43308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0"/>
                  <a:pt x="0" y="0"/>
                </a:cubicBezTo>
                <a:lnTo>
                  <a:pt x="0" y="21600"/>
                </a:lnTo>
                <a:cubicBezTo>
                  <a:pt x="0" y="216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1"/>
          <p:cNvSpPr/>
          <p:nvPr/>
        </p:nvSpPr>
        <p:spPr>
          <a:xfrm>
            <a:off x="1835280" y="3068640"/>
            <a:ext cx="1584360" cy="1008000"/>
          </a:xfrm>
          <a:prstGeom prst="ellipse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504d"/>
                </a:solidFill>
                <a:latin typeface="Verdana"/>
              </a:rPr>
              <a:t>Ввод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504d"/>
                </a:solidFill>
                <a:latin typeface="Verdana"/>
              </a:rPr>
              <a:t>сло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3348000" y="3573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Verdana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4427640" y="34290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Verdan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1547640" y="4581360"/>
            <a:ext cx="4467240" cy="1157760"/>
            <a:chOff x="1547640" y="4581360"/>
            <a:chExt cx="4467240" cy="1157760"/>
          </a:xfrm>
        </p:grpSpPr>
        <p:sp>
          <p:nvSpPr>
            <p:cNvPr id="104" name="AutoShape 17"/>
            <p:cNvSpPr/>
            <p:nvPr/>
          </p:nvSpPr>
          <p:spPr>
            <a:xfrm>
              <a:off x="1547640" y="4654440"/>
              <a:ext cx="433440" cy="934920"/>
            </a:xfrm>
            <a:custGeom>
              <a:avLst/>
              <a:gdLst>
                <a:gd name="textAreaLeft" fmla="*/ 127440 w 433440"/>
                <a:gd name="textAreaRight" fmla="*/ 433800 w 433440"/>
                <a:gd name="textAreaTop" fmla="*/ 0 h 934920"/>
                <a:gd name="textAreaBottom" fmla="*/ 935280 h 93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0"/>
                    <a:pt x="0" y="0"/>
                  </a:cubicBezTo>
                  <a:lnTo>
                    <a:pt x="0" y="21600"/>
                  </a:lnTo>
                  <a:cubicBezTo>
                    <a:pt x="0" y="216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18"/>
            <p:cNvSpPr/>
            <p:nvPr/>
          </p:nvSpPr>
          <p:spPr>
            <a:xfrm rot="10800000">
              <a:off x="5581440" y="4654080"/>
              <a:ext cx="433440" cy="934920"/>
            </a:xfrm>
            <a:custGeom>
              <a:avLst/>
              <a:gdLst>
                <a:gd name="textAreaLeft" fmla="*/ 127440 w 433440"/>
                <a:gd name="textAreaRight" fmla="*/ 433800 w 433440"/>
                <a:gd name="textAreaTop" fmla="*/ 0 h 934920"/>
                <a:gd name="textAreaBottom" fmla="*/ 935280 h 93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0"/>
                    <a:pt x="0" y="0"/>
                  </a:cubicBezTo>
                  <a:lnTo>
                    <a:pt x="0" y="21600"/>
                  </a:lnTo>
                  <a:cubicBezTo>
                    <a:pt x="0" y="216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9"/>
            <p:cNvSpPr/>
            <p:nvPr/>
          </p:nvSpPr>
          <p:spPr>
            <a:xfrm>
              <a:off x="3132000" y="4581360"/>
              <a:ext cx="1584360" cy="1008000"/>
            </a:xfrm>
            <a:prstGeom prst="ellipse">
              <a:avLst/>
            </a:prstGeom>
            <a:noFill/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20"/>
            <p:cNvSpPr/>
            <p:nvPr/>
          </p:nvSpPr>
          <p:spPr>
            <a:xfrm>
              <a:off x="2989080" y="508608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0504d"/>
                  </a:solidFill>
                  <a:latin typeface="Verdana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1"/>
            <p:cNvSpPr/>
            <p:nvPr/>
          </p:nvSpPr>
          <p:spPr>
            <a:xfrm>
              <a:off x="4573440" y="515772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0504d"/>
                  </a:solidFill>
                  <a:latin typeface="Verdana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22"/>
            <p:cNvSpPr/>
            <p:nvPr/>
          </p:nvSpPr>
          <p:spPr>
            <a:xfrm>
              <a:off x="1908000" y="508608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0504d"/>
                  </a:solidFill>
                  <a:latin typeface="Verdana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23"/>
            <p:cNvSpPr/>
            <p:nvPr/>
          </p:nvSpPr>
          <p:spPr>
            <a:xfrm>
              <a:off x="5148000" y="501300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0504d"/>
                  </a:solidFill>
                  <a:latin typeface="Verdana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24"/>
          <p:cNvSpPr/>
          <p:nvPr/>
        </p:nvSpPr>
        <p:spPr>
          <a:xfrm>
            <a:off x="7236000" y="2060640"/>
            <a:ext cx="190800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выделяются на письме вводные слов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вляются ли вводные слова членами предлож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5"/>
          <p:cNvSpPr/>
          <p:nvPr/>
        </p:nvSpPr>
        <p:spPr>
          <a:xfrm>
            <a:off x="3348000" y="4797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Arial"/>
              </a:rPr>
              <a:t>Ввод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Arial"/>
              </a:rPr>
              <a:t>с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ая группа вводных слов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Группа 12"/>
          <p:cNvGrpSpPr/>
          <p:nvPr/>
        </p:nvGrpSpPr>
        <p:grpSpPr>
          <a:xfrm>
            <a:off x="428760" y="1857240"/>
            <a:ext cx="7929360" cy="3894120"/>
            <a:chOff x="428760" y="1857240"/>
            <a:chExt cx="7929360" cy="3894120"/>
          </a:xfrm>
        </p:grpSpPr>
        <p:sp>
          <p:nvSpPr>
            <p:cNvPr id="116" name="AutoShape 7"/>
            <p:cNvSpPr/>
            <p:nvPr/>
          </p:nvSpPr>
          <p:spPr>
            <a:xfrm>
              <a:off x="428760" y="1857240"/>
              <a:ext cx="3230280" cy="3714840"/>
            </a:xfrm>
            <a:custGeom>
              <a:avLst/>
              <a:gdLst>
                <a:gd name="textAreaLeft" fmla="*/ 0 w 3230280"/>
                <a:gd name="textAreaRight" fmla="*/ 3230640 w 3230280"/>
                <a:gd name="textAreaTop" fmla="*/ 0 h 3714840"/>
                <a:gd name="textAreaBottom" fmla="*/ 3715200 h 371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4f81bd"/>
                </a:gs>
                <a:gs pos="100000">
                  <a:srgbClr val="375a84"/>
                </a:gs>
              </a:gsLst>
              <a:lin ang="2700000"/>
            </a:gradFill>
            <a:ln w="0">
              <a:noFill/>
            </a:ln>
            <a:effectLst>
              <a:outerShdw dist="52300" dir="4563564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8"/>
            <p:cNvSpPr/>
            <p:nvPr/>
          </p:nvSpPr>
          <p:spPr>
            <a:xfrm>
              <a:off x="500040" y="2271240"/>
              <a:ext cx="278604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ривлечение    внима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ыражение вежливост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0"/>
            <p:cNvSpPr/>
            <p:nvPr/>
          </p:nvSpPr>
          <p:spPr>
            <a:xfrm>
              <a:off x="6110640" y="1999800"/>
              <a:ext cx="224748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Сделайте  милость, помнишь (ли), помните (ли), помилуйте, послушайте, согласитесь, заметьте себе, позвольт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2"/>
            <p:cNvSpPr/>
            <p:nvPr/>
          </p:nvSpPr>
          <p:spPr>
            <a:xfrm>
              <a:off x="3565080" y="1999800"/>
              <a:ext cx="224748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идишь (ли), видите (ли), понимаешь (ли), понимаете (ли), пойми, поймите, вообразите себе; извините, простите, пожалуйст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Прямоугольник 13"/>
          <p:cNvSpPr/>
          <p:nvPr/>
        </p:nvSpPr>
        <p:spPr>
          <a:xfrm>
            <a:off x="571680" y="357120"/>
            <a:ext cx="81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щение к собеседник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"/>
          <p:cNvSpPr/>
          <p:nvPr/>
        </p:nvSpPr>
        <p:spPr>
          <a:xfrm>
            <a:off x="500040" y="5591520"/>
            <a:ext cx="8643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чаешь, знаете, если будешь все время жить взапер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олкуйте мне, пожалуйста, что за чудеса так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 ур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Вводные слова и знаки препинания при них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лова, которые требуют особого подх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C:\Documents and Settings\Кабинет №2\Рабочий стол\1.png"/>
          <p:cNvPicPr/>
          <p:nvPr/>
        </p:nvPicPr>
        <p:blipFill>
          <a:blip r:embed="rId1"/>
          <a:stretch/>
        </p:blipFill>
        <p:spPr>
          <a:xfrm>
            <a:off x="428760" y="214200"/>
            <a:ext cx="8286480" cy="6429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того, чтобы узнать вводное это слово или нет, стоит выбросить его из предложения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, может быть, студент. (Можно выбросить - значит вводное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 может быть студентом. (Нельзя выбросить из предложения - не вводно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C:\Documents and Settings\Кабинет №2\Рабочий стол\2.png"/>
          <p:cNvPicPr/>
          <p:nvPr/>
        </p:nvPicPr>
        <p:blipFill>
          <a:blip r:embed="rId1"/>
          <a:stretch/>
        </p:blipFill>
        <p:spPr>
          <a:xfrm>
            <a:off x="571680" y="0"/>
            <a:ext cx="8215200" cy="688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ДНАК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ово 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однако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является вводным, если не находится в начале предложения и не является синонимом «н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ако она не придёт. (в начале предложения - не вводно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ка, однако, у вас нет всех полномочий. («однако» не является синонимом «но» — вводно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1" descr="C:\Documents and Settings\Кабинет №2\Рабочий стол\3.png"/>
          <p:cNvPicPr/>
          <p:nvPr/>
        </p:nvPicPr>
        <p:blipFill>
          <a:blip r:embed="rId1"/>
          <a:stretch/>
        </p:blipFill>
        <p:spPr>
          <a:xfrm>
            <a:off x="500040" y="0"/>
            <a:ext cx="8143920" cy="6829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КОНЕ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ово 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наконец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не является вводным, если его можно заменить на «в итоге». Но слово «наконец» является вводным, если употребляется при перечисле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конец всё закончилось(Можно заменить на «в итоге» - не вводно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ы изучали физику, русский язык, химию и, наконец, литературу. (Употребляется в перечислении - вводно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ТА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ово 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итак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является вводным, если пишется слит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р: Итак, она звалась Татьян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так всегда. (указ.местоимени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ова, которые вводными никогда не являютс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то, как будто, между тем, словно, якобы, как раз, притом, всё-таки, почти, примерно, вдруг, даже , как бы, вдобав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ренируемся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водные слова и знаки препинания при них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водные слова- это специальные слова или сочетания слов, при помощи которых говорящий выражает своё отношение к тому, что он сообщает.    Вводные слова не являются членами предложения  и имеют разные знач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12720" y="115560"/>
            <a:ext cx="815328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вводные слова, выразите различное отношение к  сообщению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12720" y="1571400"/>
            <a:ext cx="75312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:  Завтра будет хорошая пог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:  Эта повесть нам понравилас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:  Экскурсия будет интересн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:  Дорога была ровн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:  Корабль причалил к приста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:  Сегодня возвращается мой бра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 flipH="1">
            <a:off x="7380000" y="3284640"/>
            <a:ext cx="1763640" cy="3537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ьте небольшой текст, используя следующие предложения и сло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12720" y="2349000"/>
            <a:ext cx="815328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79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чера, вернувшись из школы домой, я, во – первых,… .Во – вторых,… .В – третьих,…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79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– четвёртых,… .Наконец,… .И только после этого…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9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 flipH="1">
            <a:off x="7524720" y="3473280"/>
            <a:ext cx="1619280" cy="3195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Comic Sans MS"/>
              </a:rPr>
              <a:t>Найдите  вводные слова, определите их значение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 счастью папы и мамы нет дома. Значит можно ни у кого не отпрашиваться. Я иду к Любочке соседке живущей по соседству. Мне по правде сказать интересно бывать у неё. Во-первых у неё много книг которые очень интересны. Во-вторых Люба любит рассказывать о своих путешествиях. Она к удивлению уже побывала в Италии и в Африке. В общем у Любочки очень интересно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водные слова и предлож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овите группы вводных слов по их значен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выделяются вводные слова на письм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овите несколько вводных слов, которые употребляются в разговорной речи, в книжной ре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Вводные слова</a:t>
            </a: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560" y="1773000"/>
            <a:ext cx="87138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ьмите вводные слова.       Я слушаю с открытым рт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 них кружится голова,        И радуюсь всему подряд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и мешают суть сберечь      Меня, как всех, не раз, не дв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замедляют нашу речь,        Спасали вводные слов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всё ж удобны потому,         И чаще прочих среди н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выдают легко другим,     Слова «во-первых»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мы относимся к тому,                          «во-вторых»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 чём смущаясь говорим.      Они, начав издалек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не скажут: «К счастью…»   Давали повод не спеш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потом                                Собраться с мыслями, пока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усть что угодно говорят,     Не знаю, где была душ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.Кушне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водные слова и предлож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водные предложения при произнесении выделяются интонацией (паузами и сравнительно быстрым произнесением), а на письме запяты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водные предложения, выражающие дополнительные замечания или пояснения, выделяются скобками или, реже, тир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водные слова и предло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водные слова и предлож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водные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713800" cy="525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Найдите в тексте вводные слова и предложения, определите их знач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74400" y="1700280"/>
            <a:ext cx="876924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мнению младшего брата, Пушкин, будучи мальчиком, иногда проводил бессонные ночи в кабинете отца, «пожирая» все книги, попадающие ему под ру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ладая необыкновенной памятью,  Пушкин, к удивлению многих, в одиннадцать лет великолепно знал французскую литературу: Мольера, Бомарше и других. Как вспоминают многие лицеисты, он поражал всех своей начитанностью. Даже уезжая в путешествия, он непременно брал с собой книги и относился к ним бережн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Замените вводные слова вводными предложения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жар в лесу, по словам очевидцев, страшное зрелищ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жар в лесу, как говорят очевидцы, страшное зрелищ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ждь, казалось, никогда не утихн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ждь, как мне кажется, никогда не утихн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ревнование, безусловно, состоитс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ревнование, я уверен, состои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этим разговором, по-моему, медлить нельз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этим разговором, я думаю, медлить нельз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2500" spc="-1" strike="noStrike">
                <a:solidFill>
                  <a:srgbClr val="000000"/>
                </a:solidFill>
                <a:latin typeface="Comic Sans MS"/>
              </a:rPr>
              <a:t>Найдите вводные слова. Правильно расставьте знаки препинания</a:t>
            </a:r>
            <a:r>
              <a:rPr b="1" lang="ru-RU" sz="25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8000" y="1267920"/>
            <a:ext cx="8280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е трудное для меня – работа со словом. Чем я руковожусь предпочитая одно слово другому? (Во)первых слово должно с наибольшей точностью определять мысль. (Во)вторых оно должно быть музыкально-выразительно. (В)третьих  должно иметь размер требуемый ритмической конструкцией фразы. (К.Федин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 ур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Вводные слова и предложения и знаки    препинания при ни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(продолжение темы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Вставьте вместо точек вводные слова, необходимые по смыслу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95280" y="1557360"/>
            <a:ext cx="84247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ециальным лазером можно ….. Создать пучок невидимых инфракрасных лучей. Они ….. способны пронизывать многие непрозрачные тела. ….. такие инфракрасные лазеры станут основой совершенных микроскопов, позволяющих заглядывать внутрь тел и предметов, ныне недоступных нашему взгляду. ….. спутники  тормозятся атмосферой Земли и постепенно снижаются, а потом сгорают от трения. ….. некоторых исследователей спутники можно «подпирать» лучами лазер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справок: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о мнению, действительно, безусловно, может быть, как известн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Выпишите в один столбик предложения, в которых выделенные слова являются членами предложения, а в другой – предложения, в которых они являются вводными словами. Расставьте знаки препин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5280" y="2276640"/>
            <a:ext cx="8352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ше предложение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кажется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не (не)приемлемым. Мы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кажется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ногого (не) предусмотрели. Окно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должно бы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открыто всю ночь. Окно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должно бы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забыли закрыть на ночь. Ты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может бы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хочешь поехать на экскурсию? Ваше предложение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может бы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ринято на определённых условиях.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Откровенно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сказа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я вижу этого человека (в)первые. Я прошу тебя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откровенно сказа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воё мн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Списать предложения. К выделенным словам подберите синонимы и запишите их в скобк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: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ерёжа, конечно, не подведёт своих товарищей (безусловно, без сомнения, разумеется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втра по-видимому будет хорошая погода. Ты много занимаешься. Значит экзамены будут сданы хорошо. К сожалению помощь пришла слишком поздно. Я увлекаюсь боксом, а Володя напротив всё свободное время проводит в библиотеке. Быть может мы ещё встретимся. Скорее всего я поступлю в институ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Вставьте в текст вводные слова и предложения. Расставьте знаки препин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 слышали о «воздушных ямах», в которые самолёт проваливается, словно в бездну. Он не падает потому, что летит быстро и успевает (во)время выскочить из ям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атмосфере нет и не может быть ям. Даже в воде, которая не менее  подвижна, (не)бывает их. Воздушные ямы – вымысел. Почему(же) самолёт проваливается? В атмосфере множество тёплых и холодных струй. Если самолёт попадает в тёплую струю, он поднимается (в)верх. Попадая в холодную, нисходящую, струю, он проваливается, словно в ям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Слова для справок: как вы знаете, следовательно, как вы понимаете, говорят, конечно, все это знают, разумеет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водные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водные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водные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водные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18:40:23Z</dcterms:created>
  <dc:creator>User</dc:creator>
  <dc:description/>
  <dc:language>en-US</dc:language>
  <cp:lastModifiedBy>Кабинет №2</cp:lastModifiedBy>
  <dcterms:modified xsi:type="dcterms:W3CDTF">2018-06-20T05:50:13Z</dcterms:modified>
  <cp:revision>48</cp:revision>
  <dc:subject/>
  <dc:title>Вводные слова и предложения</dc:title>
</cp:coreProperties>
</file>