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0.gif" ContentType="image/gif"/>
  <Override PartName="/ppt/media/image9.gif" ContentType="image/gif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7D91-4DFF-400A-BA9D-3EC0B4E2FE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DD4E-DB9E-4768-B619-374FA3F816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1B27-68F2-4FE1-86D3-1B7F3A383A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E5B4-AFBC-489B-A920-0C52E4DCBC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BE90-1FDA-4FDB-9E24-BEBED3D753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8E53-C075-470F-A8F2-8546D5B6C1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DA8D-73FD-40DC-A7C5-9AD478EED5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7AB9-0FA3-4A14-80A1-E712DA1BD2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9817-3859-47B0-8576-965E10513E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7E3A-8FE3-45B0-BC3B-73EB59D26A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04C6-B034-4BE3-AB83-EC5027B764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B699-6D93-46A6-85CA-617FD139E5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0CFC-A9FC-473C-8403-4F80B23104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4D14-8054-4C7E-8F16-59ED141693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84FE-6557-41AB-AF52-E19CF3AA93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843C-BD6D-4F63-877E-12EC7E4B8E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200" spc="-1" strike="noStrike">
              <a:solidFill>
                <a:srgbClr val="99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C190-3ECE-4893-8005-E25ECD036A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464B-24DD-439D-BF48-754F5A64B2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9F23-04F2-493A-AD21-DC9E25CD47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2421-CB42-467E-A87F-662C683B97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9DC8-D6F2-44AB-A9CF-02D7AE1ED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F2A7-4EFD-4012-B68E-27EF4A00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94AD-0913-4280-B22A-2ED71948B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0078-DBDE-4301-82B9-32DC9AA83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8AB7-0FD1-4F0A-90E6-53DC3510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C695-91F8-4F26-BB24-C6B2D349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26D8-2D58-4848-AC14-C0E975F9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9480-90B4-4397-9472-E4C2D62E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263D-CB99-4C32-8188-A8316C1E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62CC-0735-4191-9048-9EBC6714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770A-9B3A-4938-B39D-1CBDEE09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4C39-2B2D-4DF7-8650-5F8ADF07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70AD-8574-48FE-A9EE-F24C5E9664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Arial"/>
              </a:rPr>
              <a:t>СКОРО В ШКОЛУ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2050920" y="2781360"/>
            <a:ext cx="518508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  </a:t>
            </a:r>
            <a:br>
              <a:rPr sz="3200"/>
            </a:b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Для родителей будущих первокласс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Форма уче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57240" y="1946160"/>
            <a:ext cx="761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Пиджак, юбка или брюки синего цвета. Блузка  или рубашка (белая, бежевая или голуба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7"/>
          <p:cNvSpPr txBox="1"/>
          <p:nvPr/>
        </p:nvSpPr>
        <p:spPr>
          <a:xfrm>
            <a:off x="7885080" y="1341360"/>
            <a:ext cx="75564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690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!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0000"/>
                </a:solidFill>
                <a:latin typeface="Arial"/>
              </a:rPr>
              <a:t>Физкультурная форм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822960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26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64d"/>
                </a:solidFill>
                <a:latin typeface="Arial"/>
              </a:rPr>
              <a:t>спортивный костюм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26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64d"/>
                </a:solidFill>
                <a:latin typeface="Arial"/>
              </a:rPr>
              <a:t>спортивная обувь</a:t>
            </a:r>
            <a:r>
              <a:rPr b="0" lang="ru-RU" sz="4800" spc="-1" strike="noStrike">
                <a:solidFill>
                  <a:srgbClr val="00264d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5867280" y="1844640"/>
            <a:ext cx="302580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99"/>
                </a:solidFill>
                <a:latin typeface="Comic Sans MS"/>
              </a:rPr>
              <a:t>Ответы </a:t>
            </a:r>
            <a:br>
              <a:rPr sz="4400"/>
            </a:br>
            <a:r>
              <a:rPr b="1" lang="ru-RU" sz="4400" spc="-1" strike="noStrike">
                <a:solidFill>
                  <a:srgbClr val="990099"/>
                </a:solidFill>
                <a:latin typeface="Comic Sans MS"/>
              </a:rPr>
              <a:t>для родителей </a:t>
            </a:r>
            <a:br>
              <a:rPr sz="4400"/>
            </a:br>
            <a:r>
              <a:rPr b="1" lang="ru-RU" sz="4400" spc="-1" strike="noStrike">
                <a:solidFill>
                  <a:srgbClr val="990099"/>
                </a:solidFill>
                <a:latin typeface="Comic Sans MS"/>
              </a:rPr>
              <a:t>на часто задаваемые 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sf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00cc"/>
                </a:solidFill>
                <a:latin typeface="Arial"/>
              </a:rPr>
              <a:t>Как правильно организовать дома рабочее место первоклассни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Купите первоклассни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исьменный стол. Тог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ебенок сможет сам разлож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 ящики стола учеб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надлежности и научи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ддерживать порядок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абочем мес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                               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Лучше, если освещение буд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                            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слева. Занавески нуж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                            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отодвинуть в сторону - основ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                            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свет должен попадать чере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                            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верхнюю треть ок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Картинка 757 из 1228"/>
          <p:cNvPicPr/>
          <p:nvPr/>
        </p:nvPicPr>
        <p:blipFill>
          <a:blip r:embed="rId1"/>
          <a:stretch/>
        </p:blipFill>
        <p:spPr>
          <a:xfrm>
            <a:off x="539640" y="4294080"/>
            <a:ext cx="2376720" cy="2376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Картинка 544 из 1214"/>
          <p:cNvPicPr/>
          <p:nvPr/>
        </p:nvPicPr>
        <p:blipFill>
          <a:blip r:embed="rId2"/>
          <a:stretch/>
        </p:blipFill>
        <p:spPr>
          <a:xfrm>
            <a:off x="5819760" y="1628640"/>
            <a:ext cx="220176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468360" y="260280"/>
            <a:ext cx="835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        </a:t>
            </a:r>
            <a:r>
              <a:rPr b="0" i="1" lang="ru-RU" sz="3600" spc="-1" strike="noStrike">
                <a:solidFill>
                  <a:srgbClr val="cc00cc"/>
                </a:solidFill>
                <a:latin typeface="Arial"/>
              </a:rPr>
              <a:t>Обязательно ли ребенок </a:t>
            </a:r>
            <a:br>
              <a:rPr sz="3600"/>
            </a:br>
            <a:r>
              <a:rPr b="0" i="1" lang="ru-RU" sz="3600" spc="-1" strike="noStrike">
                <a:solidFill>
                  <a:srgbClr val="cc00cc"/>
                </a:solidFill>
                <a:latin typeface="Arial"/>
              </a:rPr>
              <a:t>    должен уметь читать и писа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00cc"/>
                </a:solidFill>
                <a:latin typeface="Arial"/>
              </a:rPr>
              <a:t>                       </a:t>
            </a:r>
            <a:r>
              <a:rPr b="0" i="1" lang="ru-RU" sz="3600" spc="-1" strike="noStrike">
                <a:solidFill>
                  <a:srgbClr val="cc00cc"/>
                </a:solidFill>
                <a:latin typeface="Arial"/>
              </a:rPr>
              <a:t>к 1 класс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179280" y="1989000"/>
            <a:ext cx="864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Не обяза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Умение складывать из слогов слова еще не является умением читать. Многие дети с трудом осваивают эту сложную мыслительную операцию - не стоит их подгонять! Навык чтения и письма должен формироваться по специальным методикам (складываются представления о речи, звуках и буквах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Основными умениями при чтении являются понимание прочитанного текста, анализ описанной ситуац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ответы на вопросы после чт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SCHOOLG"/>
          <p:cNvPicPr/>
          <p:nvPr/>
        </p:nvPicPr>
        <p:blipFill>
          <a:blip r:embed="rId1"/>
          <a:stretch/>
        </p:blipFill>
        <p:spPr>
          <a:xfrm>
            <a:off x="7596360" y="5013360"/>
            <a:ext cx="1336680" cy="162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395280" y="3860640"/>
            <a:ext cx="1800360" cy="2435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6948360" y="3645000"/>
            <a:ext cx="1932120" cy="27813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6"/>
          <p:cNvSpPr/>
          <p:nvPr/>
        </p:nvSpPr>
        <p:spPr>
          <a:xfrm>
            <a:off x="1835280" y="3184560"/>
            <a:ext cx="526716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66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На переменах допускаются подвижные и настольные игры. Главное, чтобы во время игры соблюдались правила безопасности и школьники случайно не поранили друг дру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684360" y="1413000"/>
            <a:ext cx="777708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тдыхают.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чем отдых должен быть активным, ведь после урока, который предполагает пребывание ученика в однообразной рабочей позе, ребенку необходима разряд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9" descr="peremenka"/>
          <p:cNvPicPr/>
          <p:nvPr/>
        </p:nvPicPr>
        <p:blipFill>
          <a:blip r:embed="rId3"/>
          <a:stretch/>
        </p:blipFill>
        <p:spPr>
          <a:xfrm>
            <a:off x="6659640" y="189000"/>
            <a:ext cx="2155680" cy="15364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617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cc"/>
                </a:solidFill>
                <a:latin typeface="Arial"/>
              </a:rPr>
              <a:t>Что делают дети на перемена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AG00319_"/>
          <p:cNvPicPr/>
          <p:nvPr/>
        </p:nvPicPr>
        <p:blipFill>
          <a:blip r:embed="rId4"/>
          <a:stretch/>
        </p:blipFill>
        <p:spPr>
          <a:xfrm>
            <a:off x="395280" y="836640"/>
            <a:ext cx="1619280" cy="117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cc"/>
                </a:solidFill>
                <a:latin typeface="Arial"/>
              </a:rPr>
              <a:t>Почему учителя не ставят оценки </a:t>
            </a:r>
            <a:br>
              <a:rPr sz="3600"/>
            </a:br>
            <a:r>
              <a:rPr b="0" lang="ru-RU" sz="3600" spc="-1" strike="noStrike">
                <a:solidFill>
                  <a:srgbClr val="cc00cc"/>
                </a:solidFill>
                <a:latin typeface="Arial"/>
              </a:rPr>
              <a:t>в 1 класс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1191269140_c4121"/>
          <p:cNvPicPr/>
          <p:nvPr/>
        </p:nvPicPr>
        <p:blipFill>
          <a:blip r:embed="rId1"/>
          <a:stretch/>
        </p:blipFill>
        <p:spPr>
          <a:xfrm>
            <a:off x="6940440" y="2924280"/>
            <a:ext cx="2203560" cy="39337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250920" y="1484280"/>
            <a:ext cx="7057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В 1 классе обучение действительно </a:t>
            </a:r>
            <a:r>
              <a:rPr b="0" i="1" lang="ru-RU" sz="2400" spc="-1" strike="noStrike">
                <a:solidFill>
                  <a:srgbClr val="660066"/>
                </a:solidFill>
                <a:latin typeface="Arial"/>
              </a:rPr>
              <a:t>безоценочное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. Это оправдано тем, что ребенок находится в самом начале учебного пути. К концу первого года обучения уже можно судить о той или иной степени успешности младшего школьн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В 1 классе </a:t>
            </a:r>
            <a:r>
              <a:rPr b="0" lang="ru-RU" sz="2400" spc="-1" strike="noStrike" u="sng">
                <a:solidFill>
                  <a:srgbClr val="660066"/>
                </a:solidFill>
                <a:uFillTx/>
                <a:latin typeface="Arial"/>
              </a:rPr>
              <a:t>основной упор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делается на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приобретение навыков учебного труда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. В работе учителя с учеником присутствует </a:t>
            </a:r>
            <a:r>
              <a:rPr b="1" lang="ru-RU" sz="2400" spc="-1" strike="noStrike" u="sng">
                <a:solidFill>
                  <a:srgbClr val="660066"/>
                </a:solidFill>
                <a:uFillTx/>
                <a:latin typeface="Arial"/>
              </a:rPr>
              <a:t>словесная 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оценка. Важно, чтобы она была позитив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cc"/>
                </a:solidFill>
                <a:latin typeface="Arial"/>
              </a:rPr>
              <a:t>Можно ли носить в школу мобильный телефон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2700360" y="1628640"/>
            <a:ext cx="611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 нашей школе </a:t>
            </a:r>
            <a:r>
              <a:rPr b="0" i="1" lang="ru-RU" sz="2400" spc="-1" strike="noStrike">
                <a:solidFill>
                  <a:srgbClr val="003399"/>
                </a:solidFill>
                <a:latin typeface="Arial"/>
              </a:rPr>
              <a:t>запрещено</a:t>
            </a:r>
            <a:r>
              <a:rPr b="0" lang="ru-RU" sz="2400" spc="-1" strike="noStrike" u="sng">
                <a:solidFill>
                  <a:srgbClr val="003399"/>
                </a:solidFill>
                <a:uFillTx/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пользование мобильным телефоном </a:t>
            </a:r>
            <a:r>
              <a:rPr b="0" i="1" lang="ru-RU" sz="2400" spc="-1" strike="noStrike">
                <a:solidFill>
                  <a:srgbClr val="003399"/>
                </a:solidFill>
                <a:latin typeface="Arial"/>
              </a:rPr>
              <a:t>на у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Мы не рекомендуем носить в школу мобильный телефон первоклассникам — велико искушение звонить маме по малейшему поводу или поиграть на уроке в электронную иг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роме того, дорогой телефон может возбудить нездоровый интерес одноклассников, его можно потерять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Картинка 75 из 15113"/>
          <p:cNvPicPr/>
          <p:nvPr/>
        </p:nvPicPr>
        <p:blipFill>
          <a:blip r:embed="rId1"/>
          <a:stretch/>
        </p:blipFill>
        <p:spPr>
          <a:xfrm>
            <a:off x="0" y="1341360"/>
            <a:ext cx="2303640" cy="2352600"/>
          </a:xfrm>
          <a:prstGeom prst="rect">
            <a:avLst/>
          </a:prstGeom>
          <a:ln w="9360">
            <a:solidFill>
              <a:srgbClr val="edfe12"/>
            </a:solidFill>
            <a:miter/>
          </a:ln>
        </p:spPr>
      </p:pic>
      <p:pic>
        <p:nvPicPr>
          <p:cNvPr id="97" name="Picture 12" descr="Картинка 132 из 15113"/>
          <p:cNvPicPr/>
          <p:nvPr/>
        </p:nvPicPr>
        <p:blipFill>
          <a:blip r:embed="rId2"/>
          <a:stretch/>
        </p:blipFill>
        <p:spPr>
          <a:xfrm>
            <a:off x="826920" y="3213000"/>
            <a:ext cx="1873440" cy="2227320"/>
          </a:xfrm>
          <a:prstGeom prst="rect">
            <a:avLst/>
          </a:prstGeom>
          <a:ln w="9360">
            <a:solidFill>
              <a:srgbClr val="edfe12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cc"/>
                </a:solidFill>
                <a:latin typeface="Arial"/>
              </a:rPr>
              <a:t>Информ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Согласно ст.901. ГК РФ образовательное учреждение не является профессиональным хранителем  и не несет ответственности за вещи находящиеся при  учениках во время занятий и на территории шко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10" descr="Рисунок2.jpg"/>
          <p:cNvPicPr/>
          <p:nvPr/>
        </p:nvPicPr>
        <p:blipFill>
          <a:blip r:embed="rId1"/>
          <a:stretch/>
        </p:blipFill>
        <p:spPr>
          <a:xfrm>
            <a:off x="7524720" y="620640"/>
            <a:ext cx="1292400" cy="1728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cc"/>
                </a:solidFill>
                <a:latin typeface="Arial"/>
              </a:rPr>
              <a:t>Можно ли носить в школу игрушки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000" y="2349000"/>
            <a:ext cx="8351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99"/>
                </a:solidFill>
                <a:latin typeface="Arial"/>
              </a:rPr>
              <a:t>Да, мож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99"/>
                </a:solidFill>
                <a:latin typeface="Arial"/>
              </a:rPr>
              <a:t>Игровая деятельность ещё значимая для ребёнка, любимая игрушка зачастую олицетворяет друга, с ней можно поиграть на перемене вместе с одноклассник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5" descr="J0236987.WMF"/>
          <p:cNvPicPr/>
          <p:nvPr/>
        </p:nvPicPr>
        <p:blipFill>
          <a:blip r:embed="rId2"/>
          <a:stretch/>
        </p:blipFill>
        <p:spPr>
          <a:xfrm>
            <a:off x="179280" y="765000"/>
            <a:ext cx="1963800" cy="15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550836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ВАШ РЕБЁНОК ИДЕТ 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В 1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08000" y="3284280"/>
            <a:ext cx="81360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omic Sans MS"/>
              </a:rPr>
              <a:t>Советы и рекоменд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9900"/>
                </a:solidFill>
                <a:latin typeface="Comic Sans MS"/>
              </a:rPr>
              <a:t>родителям будущих первоклассник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omic Sans MS"/>
              </a:rPr>
              <a:t>а так же ответы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omic Sans MS"/>
              </a:rPr>
              <a:t>часто задаваемые вопро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j0432587"/>
          <p:cNvPicPr/>
          <p:nvPr/>
        </p:nvPicPr>
        <p:blipFill>
          <a:blip r:embed="rId1"/>
          <a:stretch/>
        </p:blipFill>
        <p:spPr>
          <a:xfrm>
            <a:off x="179280" y="1890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3" descr="Картинка 293 из 1273"/>
          <p:cNvPicPr/>
          <p:nvPr/>
        </p:nvPicPr>
        <p:blipFill>
          <a:blip r:embed="rId2"/>
          <a:stretch/>
        </p:blipFill>
        <p:spPr>
          <a:xfrm>
            <a:off x="179280" y="2708280"/>
            <a:ext cx="2667240" cy="3809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4" descr="AG00319_"/>
          <p:cNvPicPr/>
          <p:nvPr/>
        </p:nvPicPr>
        <p:blipFill>
          <a:blip r:embed="rId3"/>
          <a:stretch/>
        </p:blipFill>
        <p:spPr>
          <a:xfrm>
            <a:off x="7020000" y="333360"/>
            <a:ext cx="1584360" cy="117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ФИЦИАЛЬНЫЙ САЙТ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НАШЕЙ ШКОЛ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Получить информацию о школе и познакомиться с уставными документами можно на сайте нашей школ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900000" y="2637000"/>
            <a:ext cx="7561440" cy="12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7" name="Picture 5" descr="Картинка 385 из 1243"/>
          <p:cNvPicPr/>
          <p:nvPr/>
        </p:nvPicPr>
        <p:blipFill>
          <a:blip r:embed="rId1"/>
          <a:stretch/>
        </p:blipFill>
        <p:spPr>
          <a:xfrm>
            <a:off x="1619280" y="549360"/>
            <a:ext cx="6046920" cy="1257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Картинка 385 из 1243"/>
          <p:cNvPicPr/>
          <p:nvPr/>
        </p:nvPicPr>
        <p:blipFill>
          <a:blip r:embed="rId2"/>
          <a:stretch/>
        </p:blipFill>
        <p:spPr>
          <a:xfrm rot="10800000">
            <a:off x="1618920" y="4941360"/>
            <a:ext cx="6046920" cy="1257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60093"/>
                </a:solidFill>
                <a:latin typeface="Arial"/>
              </a:rPr>
              <a:t>С какого возраста принимаются дети в 1 класс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826920" y="1557360"/>
            <a:ext cx="792180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99"/>
                </a:solidFill>
                <a:latin typeface="Arial"/>
              </a:rPr>
              <a:t>В первый класс принимаются  дети, достигшие к 1 сентября текущего года возраста не мене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6 лет 6 месяцев</a:t>
            </a:r>
            <a:r>
              <a:rPr b="0" i="1" lang="ru-RU" sz="3200" spc="-1" strike="noStrike">
                <a:solidFill>
                  <a:srgbClr val="990099"/>
                </a:solidFill>
                <a:latin typeface="Arial"/>
              </a:rPr>
              <a:t> при отсутствии противопоказаний по состоянию здоровья, но не позже достижения ими возраста 8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99"/>
                </a:solidFill>
                <a:latin typeface="Arial"/>
              </a:rPr>
              <a:t>(СанПиН 2.4.2.2821-10; п. 10.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Картинка 523 из 1204"/>
          <p:cNvPicPr/>
          <p:nvPr/>
        </p:nvPicPr>
        <p:blipFill>
          <a:blip r:embed="rId1"/>
          <a:stretch/>
        </p:blipFill>
        <p:spPr>
          <a:xfrm>
            <a:off x="6948360" y="5084640"/>
            <a:ext cx="180036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0093"/>
                </a:solidFill>
                <a:latin typeface="Arial"/>
              </a:rPr>
              <a:t>Существуют ли особенности в режиме дня первоклассник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-Пятидневная учебная неде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-Учебная недельная нагрузка  первоклассника не должна превышать  4 уроков в день и 1 день – не более 5 уро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-В сентябре- октябре в расписании первоклассников  3 традиционных урока, чтобы легче привыкнуть к новому виду деятельности - учеб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- В середине  урока проводятся 1-2 физкультурные  минут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Arial"/>
              </a:rPr>
              <a:t>Существуют ли особенности в режиме дня первокласснико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22050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В 1 полугодии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 уроки длятся </a:t>
            </a: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35 минут,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во втором  - 45 минут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Безотметочная система оценивания зна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Учебники выдаются бесплат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Домашние задания в 1 классе не задаются.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Домашних заданий в 1 классе нет. Однако, если вы хотите сформировать у своего ребенка качественные навыки письма, чтения, счета, то не отказывайтесь от тренировочных упражнений, которые может порекомендовать Ваш учитель.</a:t>
            </a:r>
            <a:r>
              <a:rPr b="1" i="1" lang="ru-RU" sz="4400" spc="-1" strike="noStrike">
                <a:solidFill>
                  <a:srgbClr val="00206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0099"/>
                </a:solidFill>
                <a:latin typeface="Arial"/>
              </a:rPr>
              <a:t>Учебные занятия в 1 класс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учение грамоте(письмо и чте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тературное чт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усский язы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темат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кружающий  ми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хн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изическая культу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Английский язык </a:t>
            </a:r>
            <a:r>
              <a:rPr b="0" i="1" lang="ru-RU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(со второго класс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ду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уль «Занимательная граммати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2 тетради в линейку, подписанные на внутренней части облож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уль «Занимательная математи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2 тетради в клетку, подписанные на внутренней части обложк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уль «Школа развития реч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2 тетради в клетку, подписанные на внутренней части обложк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Кружк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Логи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Фантаз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Хочу все знать»-2 группы (все учащиеся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аждый ученик выбирает кружо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03:40Z</dcterms:created>
  <dc:creator>Настя</dc:creator>
  <dc:description/>
  <dc:language>en-US</dc:language>
  <cp:lastModifiedBy>Home</cp:lastModifiedBy>
  <dcterms:modified xsi:type="dcterms:W3CDTF">2018-06-21T18:38:16Z</dcterms:modified>
  <cp:revision>71</cp:revision>
  <dc:subject/>
  <dc:title>Ваш ребёнок идет в школу</dc:title>
</cp:coreProperties>
</file>