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9.gif" ContentType="image/gif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wmf" ContentType="image/x-wmf"/>
  <Override PartName="/ppt/media/image18.jpeg" ContentType="image/jpe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52A5-80B0-4D37-AE37-0346DF79FC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DF5A-62CB-4A11-89F0-B957290EB1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63E8-86C5-49C5-967A-C3E283158F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2BDB-143C-46F3-822F-AB17A49F04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005F1-4F26-4F4D-B452-09FB6B46E7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B59F-2936-4808-846B-24CC0C02C9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38F9-91EE-49CE-8109-A5E10C1711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F7C9-1CCA-4D30-A663-BFF6217E3C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2D1E3-3781-46B5-AEE0-06AC5618F2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349D-9ED8-4D2B-ADA2-A4804FDC4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394D-CEBB-4681-939B-D8F64BB9F3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3543-3D3C-41BF-B6F1-0AB5D73C05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BD3F-1B35-4E0B-8512-F816B11E5C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D4AB5-CFD4-4311-A063-712CC083E3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0C77-4BEA-434C-9331-F967532F85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1762B-0F3C-4BBD-9594-CF0A8916E8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99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EE402-1828-4A6A-9716-A9781EC6D9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450DB-91CE-40B2-99F0-8E3533AFE2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5565-A66A-4402-A539-6BBC38B803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FF63F-0CF9-4F20-8681-E5D399D057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1782-3BF5-46E8-B141-C1F90E15D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84BA-B970-44C0-A087-67E70B53B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1CC-3B6C-45B0-B74F-BBAB0D10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7D4-9EEF-4F1E-9CB7-E152DA292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29F-4C73-4503-B567-F41B2201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C07-5C18-4F6E-BBAF-DD0ACDBA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298-4F30-40EA-9D16-2D8B459F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D21B-4FB5-4CF3-8F80-EBCD6165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00C3-A807-40E4-8952-2E8155A4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619F-A837-41FF-A9FF-55D55A3D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8E2F-90CD-4F3A-91CC-23A6C0AA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8086-7A7D-4B3B-B583-83052E9D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8A84B-FB30-4204-AFB9-5DF2913E9CE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00000"/>
                </a:solidFill>
                <a:latin typeface="Arial"/>
              </a:rPr>
              <a:t>СКОРО В ШКОЛ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2050920" y="2781360"/>
            <a:ext cx="518508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 </a:t>
            </a:r>
            <a:br>
              <a:rPr sz="3200"/>
            </a:b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Для родителей будущих первокласс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Форма ученик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57240" y="1946160"/>
            <a:ext cx="761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Пиджак, юбка или брюки синего цвета. Блузка  или рубашка (белая, бежевая или голуб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7885080" y="1341360"/>
            <a:ext cx="75564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690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!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0000"/>
                </a:solidFill>
                <a:latin typeface="Arial"/>
              </a:rPr>
              <a:t>Физкультурная фор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9280" y="1915920"/>
            <a:ext cx="822960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0026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64d"/>
                </a:solidFill>
                <a:latin typeface="Arial"/>
              </a:rPr>
              <a:t>спортивный костюм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26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264d"/>
                </a:solidFill>
                <a:latin typeface="Arial"/>
              </a:rPr>
              <a:t>спортивная обувь</a:t>
            </a:r>
            <a:r>
              <a:rPr b="0" lang="ru-RU" sz="4800" spc="-1" strike="noStrike">
                <a:solidFill>
                  <a:srgbClr val="00264d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302580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Ответы 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для родителей </a:t>
            </a:r>
            <a:br>
              <a:rPr sz="4400"/>
            </a:br>
            <a:r>
              <a:rPr b="1" lang="ru-RU" sz="4400" spc="-1" strike="noStrike">
                <a:solidFill>
                  <a:srgbClr val="990099"/>
                </a:solidFill>
                <a:latin typeface="Comic Sans MS"/>
              </a:rPr>
              <a:t>на часто задаваемые вопро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sf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Как правильно организовать дома рабочее место первоклассн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6633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Купите первоклассни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исьменный стол. Т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бенок сможет сам разлож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ящики стола учеб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адлежности и науч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ддерживать порядок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бочем мес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Лучше, если освещение буд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лева. Занавески нуж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тодвинуть в сторону - основ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свет должен попадать чере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                                 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верхнюю треть ок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Картинка 757 из 1228"/>
          <p:cNvPicPr/>
          <p:nvPr/>
        </p:nvPicPr>
        <p:blipFill>
          <a:blip r:embed="rId1"/>
          <a:stretch/>
        </p:blipFill>
        <p:spPr>
          <a:xfrm>
            <a:off x="539640" y="429408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Картинка 544 из 1214"/>
          <p:cNvPicPr/>
          <p:nvPr/>
        </p:nvPicPr>
        <p:blipFill>
          <a:blip r:embed="rId2"/>
          <a:stretch/>
        </p:blipFill>
        <p:spPr>
          <a:xfrm>
            <a:off x="5819760" y="1628640"/>
            <a:ext cx="2201760" cy="259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468360" y="260280"/>
            <a:ext cx="83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99"/>
                </a:solidFill>
                <a:latin typeface="Arial"/>
              </a:rPr>
              <a:t>        </a:t>
            </a: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Обязательно ли ребенок </a:t>
            </a:r>
            <a:br>
              <a:rPr sz="3600"/>
            </a:b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    должен уметь читать и писа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                       </a:t>
            </a:r>
            <a:r>
              <a:rPr b="0" i="1" lang="ru-RU" sz="3600" spc="-1" strike="noStrike">
                <a:solidFill>
                  <a:srgbClr val="cc00cc"/>
                </a:solidFill>
                <a:latin typeface="Arial"/>
              </a:rPr>
              <a:t>к 1 классу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179280" y="1989000"/>
            <a:ext cx="864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Не обязате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Умение складывать из слогов слова еще не является умением читать. Многие дети с трудом осваивают эту сложную мыслительную операцию - не стоит их подгонять! Навык чтения и письма должен формироваться по специальным методикам (складываются представления о речи, звуках и буквах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сновными умениями при чтении являются понимание прочитанного текста, анализ описанной ситуац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ответы на вопросы после чт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SCHOOLG"/>
          <p:cNvPicPr/>
          <p:nvPr/>
        </p:nvPicPr>
        <p:blipFill>
          <a:blip r:embed="rId1"/>
          <a:stretch/>
        </p:blipFill>
        <p:spPr>
          <a:xfrm>
            <a:off x="7596360" y="5013360"/>
            <a:ext cx="133668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395280" y="3860640"/>
            <a:ext cx="1800360" cy="2435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6948360" y="3645000"/>
            <a:ext cx="1932120" cy="278136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1835280" y="3184560"/>
            <a:ext cx="526716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66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На переменах допускаются подвижные и настольные игры. Главное, чтобы во время игры соблюдались правила безопасности и школьники случайно не поранили друг дру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684360" y="1413000"/>
            <a:ext cx="7777080" cy="18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тдыхают.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чем отдых должен быть активным, ведь после урока, который предполагает пребывание ученика в однообразной рабочей позе, ребенку необходима разряд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9" descr="peremenka"/>
          <p:cNvPicPr/>
          <p:nvPr/>
        </p:nvPicPr>
        <p:blipFill>
          <a:blip r:embed="rId3"/>
          <a:stretch/>
        </p:blipFill>
        <p:spPr>
          <a:xfrm>
            <a:off x="6659640" y="189000"/>
            <a:ext cx="2155680" cy="15364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6000" y="259920"/>
            <a:ext cx="6176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cc"/>
                </a:solidFill>
                <a:latin typeface="Arial"/>
              </a:rPr>
              <a:t>Что делают дети на перемена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AG00319_"/>
          <p:cNvPicPr/>
          <p:nvPr/>
        </p:nvPicPr>
        <p:blipFill>
          <a:blip r:embed="rId4"/>
          <a:stretch/>
        </p:blipFill>
        <p:spPr>
          <a:xfrm>
            <a:off x="395280" y="836640"/>
            <a:ext cx="1619280" cy="117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Почему учителя не ставят оценки </a:t>
            </a:r>
            <a:br>
              <a:rPr sz="3600"/>
            </a:b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в 1 класс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1191269140_c4121"/>
          <p:cNvPicPr/>
          <p:nvPr/>
        </p:nvPicPr>
        <p:blipFill>
          <a:blip r:embed="rId1"/>
          <a:stretch/>
        </p:blipFill>
        <p:spPr>
          <a:xfrm>
            <a:off x="6940440" y="2924280"/>
            <a:ext cx="2203560" cy="393372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50920" y="1484280"/>
            <a:ext cx="7057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 1 классе обучение действительно </a:t>
            </a:r>
            <a:r>
              <a:rPr b="0" i="1" lang="ru-RU" sz="2400" spc="-1" strike="noStrike">
                <a:solidFill>
                  <a:srgbClr val="660066"/>
                </a:solidFill>
                <a:latin typeface="Arial"/>
              </a:rPr>
              <a:t>безоценочное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. Это оправдано тем, что ребенок находится в самом начале учебного пути. К концу первого года обучения уже можно судить о той или иной степени успешности младшего школьн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В 1 классе </a:t>
            </a:r>
            <a:r>
              <a:rPr b="0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основной упор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делается на 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приобретение навыков учебного труда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. В работе учителя с учеником присутствует </a:t>
            </a: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</a:rPr>
              <a:t>словесная  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оценка. Важно, чтобы она была позитивн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70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00cc"/>
                </a:solidFill>
                <a:latin typeface="Arial"/>
              </a:rPr>
              <a:t>Можно ли носить в школу мобильный телефон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2700360" y="1628640"/>
            <a:ext cx="61196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В нашей школе 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запрещено</a:t>
            </a:r>
            <a:r>
              <a:rPr b="0" lang="ru-RU" sz="2400" spc="-1" strike="noStrike" u="sng">
                <a:solidFill>
                  <a:srgbClr val="003399"/>
                </a:solidFill>
                <a:uFillTx/>
                <a:latin typeface="Arial"/>
              </a:rPr>
              <a:t> </a:t>
            </a:r>
            <a:r>
              <a:rPr b="0" lang="ru-RU" sz="2400" spc="-1" strike="noStrike">
                <a:solidFill>
                  <a:srgbClr val="003399"/>
                </a:solidFill>
                <a:latin typeface="Arial"/>
              </a:rPr>
              <a:t>пользование мобильным телефоном </a:t>
            </a:r>
            <a:r>
              <a:rPr b="0" i="1" lang="ru-RU" sz="2400" spc="-1" strike="noStrike">
                <a:solidFill>
                  <a:srgbClr val="003399"/>
                </a:solidFill>
                <a:latin typeface="Arial"/>
              </a:rPr>
              <a:t>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8000"/>
                </a:solidFill>
                <a:latin typeface="Arial"/>
              </a:rPr>
              <a:t>Мы не рекомендуем носить в школу мобильный телефон первоклассникам — велико искушение звонить маме по малейшему поводу или поиграть на уроке в электронную игр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Кроме того, дорогой телефон может возбудить нездоровый интерес одноклассников, его можно потерять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" descr="Картинка 75 из 15113"/>
          <p:cNvPicPr/>
          <p:nvPr/>
        </p:nvPicPr>
        <p:blipFill>
          <a:blip r:embed="rId1"/>
          <a:stretch/>
        </p:blipFill>
        <p:spPr>
          <a:xfrm>
            <a:off x="0" y="1341360"/>
            <a:ext cx="2303640" cy="2352600"/>
          </a:xfrm>
          <a:prstGeom prst="rect">
            <a:avLst/>
          </a:prstGeom>
          <a:ln w="9360">
            <a:solidFill>
              <a:srgbClr val="edfe12"/>
            </a:solidFill>
            <a:miter/>
          </a:ln>
        </p:spPr>
      </p:pic>
      <p:pic>
        <p:nvPicPr>
          <p:cNvPr id="97" name="Picture 12" descr="Картинка 132 из 15113"/>
          <p:cNvPicPr/>
          <p:nvPr/>
        </p:nvPicPr>
        <p:blipFill>
          <a:blip r:embed="rId2"/>
          <a:stretch/>
        </p:blipFill>
        <p:spPr>
          <a:xfrm>
            <a:off x="826920" y="3213000"/>
            <a:ext cx="1873440" cy="2227320"/>
          </a:xfrm>
          <a:prstGeom prst="rect">
            <a:avLst/>
          </a:prstGeom>
          <a:ln w="9360">
            <a:solidFill>
              <a:srgbClr val="edfe12"/>
            </a:solidFill>
            <a:miter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cc"/>
                </a:solidFill>
                <a:latin typeface="Arial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Согласно ст.901. ГК РФ образовательное учреждение не является профессиональным хранителем  и не несет ответственности за вещи находящиеся при  учениках во время занятий и на территории школ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0" descr="Рисунок2.jpg"/>
          <p:cNvPicPr/>
          <p:nvPr/>
        </p:nvPicPr>
        <p:blipFill>
          <a:blip r:embed="rId1"/>
          <a:stretch/>
        </p:blipFill>
        <p:spPr>
          <a:xfrm>
            <a:off x="7524720" y="620640"/>
            <a:ext cx="1292400" cy="17287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00cc"/>
                </a:solidFill>
                <a:latin typeface="Arial"/>
              </a:rPr>
              <a:t>Можно ли носить в школу игрушки?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3516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Да, мож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99"/>
                </a:solidFill>
                <a:latin typeface="Arial"/>
              </a:rPr>
              <a:t>Игровая деятельность ещё значимая для ребёнка, любимая игрушка зачастую олицетворяет друга, с ней можно поиграть на перемене вместе с одноклассника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Рисунок 5" descr="J0236987.WMF"/>
          <p:cNvPicPr/>
          <p:nvPr/>
        </p:nvPicPr>
        <p:blipFill>
          <a:blip r:embed="rId2"/>
          <a:stretch/>
        </p:blipFill>
        <p:spPr>
          <a:xfrm>
            <a:off x="179280" y="765000"/>
            <a:ext cx="1963800" cy="150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34920" y="260280"/>
            <a:ext cx="550836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ВАШ РЕБЁНОК ИДЕТ </a:t>
            </a:r>
            <a:br>
              <a:rPr sz="4000"/>
            </a:b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В 1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08000" y="3284280"/>
            <a:ext cx="8136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Советы и рекоменда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родителям будущих первокласснико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а так же ответы 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часто задаваемые вопрос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j0432587"/>
          <p:cNvPicPr/>
          <p:nvPr/>
        </p:nvPicPr>
        <p:blipFill>
          <a:blip r:embed="rId1"/>
          <a:stretch/>
        </p:blipFill>
        <p:spPr>
          <a:xfrm>
            <a:off x="179280" y="1890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3" descr="Картинка 293 из 1273"/>
          <p:cNvPicPr/>
          <p:nvPr/>
        </p:nvPicPr>
        <p:blipFill>
          <a:blip r:embed="rId2"/>
          <a:stretch/>
        </p:blipFill>
        <p:spPr>
          <a:xfrm>
            <a:off x="179280" y="2708280"/>
            <a:ext cx="2667240" cy="3809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4" descr="AG00319_"/>
          <p:cNvPicPr/>
          <p:nvPr/>
        </p:nvPicPr>
        <p:blipFill>
          <a:blip r:embed="rId3"/>
          <a:stretch/>
        </p:blipFill>
        <p:spPr>
          <a:xfrm>
            <a:off x="7020000" y="333360"/>
            <a:ext cx="1584360" cy="117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ФИЦИАЛЬНЫЙ САЙТ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НАШЕЙ ШКОЛ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99cc00"/>
                </a:solidFill>
                <a:latin typeface="Arial"/>
              </a:rPr>
              <a:t>Получить информацию о школе и познакомиться с уставными документами можно на сайте нашей школ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2"/>
          <p:cNvSpPr txBox="1"/>
          <p:nvPr/>
        </p:nvSpPr>
        <p:spPr>
          <a:xfrm>
            <a:off x="900000" y="2637000"/>
            <a:ext cx="7561440" cy="127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Спасибо за внимание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7" name="Picture 5" descr="Картинка 385 из 1243"/>
          <p:cNvPicPr/>
          <p:nvPr/>
        </p:nvPicPr>
        <p:blipFill>
          <a:blip r:embed="rId1"/>
          <a:stretch/>
        </p:blipFill>
        <p:spPr>
          <a:xfrm>
            <a:off x="1619280" y="549360"/>
            <a:ext cx="6046920" cy="1257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Картинка 385 из 1243"/>
          <p:cNvPicPr/>
          <p:nvPr/>
        </p:nvPicPr>
        <p:blipFill>
          <a:blip r:embed="rId2"/>
          <a:stretch/>
        </p:blipFill>
        <p:spPr>
          <a:xfrm rot="10800000">
            <a:off x="1618920" y="4941360"/>
            <a:ext cx="6046920" cy="1257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d60093"/>
                </a:solidFill>
                <a:latin typeface="Arial"/>
              </a:rPr>
              <a:t>С какого возраста принимаются дети в 1 класс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826920" y="1557360"/>
            <a:ext cx="7921800" cy="47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В первый класс принимаются  дети, достигшие к 1 сентября текущего года возраста не ме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990099"/>
                </a:solidFill>
                <a:uFillTx/>
                <a:latin typeface="Arial"/>
              </a:rPr>
              <a:t>6 лет 6 месяцев</a:t>
            </a: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 при отсутствии противопоказаний по состоянию здоровья, но не позже достижения ими возраста 8 л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990099"/>
                </a:solidFill>
                <a:latin typeface="Arial"/>
              </a:rPr>
              <a:t>(СанПиН 2.4.2.2821-10; п. 10.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Картинка 523 из 1204"/>
          <p:cNvPicPr/>
          <p:nvPr/>
        </p:nvPicPr>
        <p:blipFill>
          <a:blip r:embed="rId1"/>
          <a:stretch/>
        </p:blipFill>
        <p:spPr>
          <a:xfrm>
            <a:off x="6948360" y="5084640"/>
            <a:ext cx="180036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Существуют ли особенности в режиме дня первоклассник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Пятидневная учебная недел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Учебная недельная нагрузка  первоклассника не должна превышать  4 уроков в день и 1 день – не более 5 урок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В сентябре- октябре в расписании первоклассников  3 традиционных урока, чтобы легче привыкнуть к новому виду деятельности - учеб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Arial"/>
              </a:rPr>
              <a:t>- В середине  урока проводятся 1-2 физкультурные  мину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d60093"/>
                </a:solidFill>
                <a:latin typeface="Arial"/>
              </a:rPr>
              <a:t>Существуют ли особенности в режиме дня первоклассников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22050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В 1 полугодии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уроки длятся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35 минут,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66"/>
                </a:solidFill>
                <a:latin typeface="Arial"/>
              </a:rPr>
              <a:t>во втором  - 45 минут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Безотметочная система оценивания знан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Учебники выдаются бесплатн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2060"/>
                </a:solidFill>
                <a:latin typeface="Arial"/>
              </a:rPr>
              <a:t>Домашние задания в 1 классе не задаются.</a:t>
            </a:r>
            <a:r>
              <a:rPr b="0" lang="ru-RU" sz="2400" spc="-1" strike="noStrike">
                <a:solidFill>
                  <a:srgbClr val="ff99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Домашних заданий в 1 классе нет. Однако, если вы хотите сформировать у своего ребенка качественные навыки письма, чтения, счета, то не отказывайтесь от тренировочных упражнений, которые может порекомендовать Ваш учитель.</a:t>
            </a:r>
            <a:r>
              <a:rPr b="1" i="1" lang="ru-RU" sz="4400" spc="-1" strike="noStrike">
                <a:solidFill>
                  <a:srgbClr val="002060"/>
                </a:solidFill>
                <a:latin typeface="Monotype Corsiv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990099"/>
                </a:solidFill>
                <a:latin typeface="Arial"/>
              </a:rPr>
              <a:t>Учебные занятия в 1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учение грамоте(письмо и чтени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итературное чт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й язы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ма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кружающий  м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хнолог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ая культур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Английский язык </a:t>
            </a: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Times New Roman"/>
                <a:ea typeface="Times New Roman"/>
              </a:rPr>
              <a:t>(со второго класс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ду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«Занимательная грамма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 тетради в линейку, подписанные на внутренней части облож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«Занимательная матема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 тетради в клетку, подписанные на внутренней части облож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 «Школа развития реч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2 тетради в клетку, подписанные на внутренней части облож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Кружк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Логи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Фантаз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«Хочу все знать»-2 группы (все учащиеся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Каждый ученик выбирает круж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3:03:40Z</dcterms:created>
  <dc:creator>Настя</dc:creator>
  <dc:description/>
  <dc:language>en-US</dc:language>
  <cp:lastModifiedBy>Home</cp:lastModifiedBy>
  <dcterms:modified xsi:type="dcterms:W3CDTF">2018-06-21T18:38:16Z</dcterms:modified>
  <cp:revision>71</cp:revision>
  <dc:subject/>
  <dc:title>Ваш ребёнок идет в школу</dc:title>
</cp:coreProperties>
</file>