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AAF8-CACB-4B7E-82AC-225034A5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501A1-5271-47D9-8DEC-4ED52B30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10690-5E2A-4B0C-BBB9-6C407169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7636FC-3E72-44E0-AE7C-242A8ECC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847C2-F98E-445F-93E2-6EBE1EE7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CD16FC-A56E-4668-992B-D140D36A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D54F69-6BE5-48A2-9AF9-4A45BDE1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48952-BB79-4266-96B8-A340AB28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C922B6-E4C7-482E-994F-F2AD9B72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CC63E4-6C32-4707-B867-62BF6A287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4AA6E-DE39-4287-9E70-30616AD0E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09637-A574-4270-9C4C-C5B071DE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8E83-B937-498C-AB53-11090D20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30C71-285D-41D1-90A4-28AECC39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E0C310-98FD-4D3E-BBF1-808D9DB5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49F92-11AF-458E-89AE-CEB83EFC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99317F-6214-4ECD-A0BB-A75591A0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12C54-5B4D-4713-A9DF-1471BA83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21B894-B968-406A-A167-DEC91B48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D4C0C-E9E7-496E-AEED-6B30C94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155D9-01BA-4795-B1EB-BD0EE9CF1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0D9D2-6A5C-4DA3-A9A5-3A44440E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7F0850-63E0-4CA3-AAC8-D50344503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0AE63-B878-400E-ACA3-3A80AA2D7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00E92-7DBC-4799-BD17-F03B2F530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65DEB-4F70-4BFB-957D-609810A2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6A040-0BE5-497F-9499-BA547607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9C1DC8-E141-48BB-B771-7265AD78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F55687-9F92-466A-A9B0-A42AFEE33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C6BF2-2FB3-4524-B977-55DC8920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4D556-A615-47A0-9A35-404B04DB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76E34-D97B-4579-A477-087C9557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406AA-1AB1-40E9-81FD-5FA45AB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BB8DA-31D2-4797-BA5D-640930D5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2DE8E-69C4-4635-B39D-BE13AE52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69EB9-DCE7-4872-A91F-85146D69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51C82-692B-4C42-9606-8F246AE5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81A1E-BCBC-4368-AB56-411861F8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2442-077B-4949-BAB7-A832F2F6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D1D7-79CB-4ADC-B54A-727B7A05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B60C-B0C4-419A-B241-B36114DF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4A25E-ADA3-482C-B7B7-3DBE1DE2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5068-E2B5-43F9-81E3-B41DD012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0CF4-B11E-4F20-9FE9-51E7DA67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F2324-17C8-46FA-99F7-D504755B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F03D-7F31-4D4B-A4EB-A50BA842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078F8-3B17-421A-8235-8A1D2ED6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EDD8-83CB-44AD-AA20-E7675308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E8886-12B7-4C34-A6F5-5C6FA626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8262-96AA-4317-8906-043D12528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3B50-EF3F-43EB-97F8-6746090AA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F1832-DBAB-495E-9767-3DCC2EE7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FD05D-E2E5-434C-A46E-92DF7C6F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FDC5E-FD51-446C-BA94-1C898FF2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9B091-1137-4FAE-8EC0-546546D27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3806B-F21A-400C-B997-06856E9D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C6B79-4149-4582-A050-6AFE7B6C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64084-1A21-48E8-8D60-2F3AC1E6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7554A8-54AA-4273-973A-60F78D46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85124-CB1C-4221-9542-B42281E0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F6135-F82F-4F98-A5FC-6936F9A5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6909-5E69-4F57-8903-E21211E52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A0AAB-A6D9-4386-91B1-E26B0365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31B3E-1816-4DD1-93E6-60BDB6B6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471F2-D495-4B4F-BD1A-736962D26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D38DD-9804-4830-8969-6BEAE348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43A34-AAB1-4358-BABB-27EEBE30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88A91-9D98-443F-87D1-12820F1E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13D4C-15BA-484C-B019-053D7E22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C88F9-7FAF-4BD4-9F9C-621F2B91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7A437-F0F3-4172-8A01-5033BE7A9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A87E-C4F2-4FFA-BF9A-4130BB5E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42F0E-4C0A-4F29-88A1-BCA5D3500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A90A-4892-49C5-B7D7-174C1137F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036EC-18FD-40C2-A3E6-B9918888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56CA9-3909-419A-A2E1-456007F41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8558A-4509-4C9A-B88E-052D7B54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23114-72E4-4E86-BC8D-42853EF8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BC91-93F2-4CE1-8A2A-7AF56496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4F917-6FEC-4024-B368-9753D813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735CE-C8EC-4A97-87EE-C633C0AD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0E5903-7380-4563-A428-C54451BB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8ED2A-2617-43EB-B1E6-20F05284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CD5BA-6267-4B65-B385-4DCDB5B9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8AE94-1CED-4351-A67C-3A4C0A95C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462DD-2CB8-4B8A-9360-48CD41AB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CB103-15F5-4FDB-8735-664759D8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0CD2F-9ABB-4C70-9E78-48A95C525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F281-03A3-4EC8-97BD-3773B15F2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7B218-1207-44BE-A98A-4F689562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2A1C9-ACB5-47D1-A1A7-452C3D1F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06A0D-4D33-4EF5-9317-5F42EE1A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7EF5F-2970-44EF-8C04-E694379B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A9440-7CE3-461A-A826-23539BDC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3DE7A-305D-4119-A9BC-06CD4BC6D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CD671-CFE5-406F-9CAA-37F44AC0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A33D9-BBF1-4830-8EE7-17B84B37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093AE-437B-4EAB-867C-F6E45CB42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D67B5-1847-4E95-895C-5B66DAC2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11F2-648C-42CE-851F-E7C10400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CA21F-2564-4410-858E-6DFB6274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F70C49-FE75-43EA-BF8B-EF9B2CCA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379A9-943B-42CD-829A-ECB60465A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A8B55-1E8B-4993-A9CD-F9EF891F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768FD-FA8C-4A92-9629-58FF319C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01B59-8788-463B-92B1-3C5356ED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25DF8-B821-4F69-B6E9-C821888E3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A8C3-45B1-4BED-82BD-0A740202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54419-3752-41B8-91C4-37C501BA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1376C-6572-49D4-B3F0-C4A9F56E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C2A85-1F20-4D21-96D0-34522F2D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9A649-6D22-41AB-8F0A-F07B7FF1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BB9E38-2A8B-4EDD-8BDA-4E5A3CCF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0F8FC-B300-47F5-82A2-D6C38E44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0CA2AD-6D91-4425-A2FC-C02839B8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0DF072-6A90-4B1C-AA38-228DBBF95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ABE8B-1023-45D6-A9F8-25120C5AB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3D5D3C8-D1FD-45CE-B285-104641D3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8DC9CE-7790-4B78-A551-C85DAB38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D585BC-0D94-4E7E-AD28-70242758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6F6D58-1E58-40CD-BAD6-268D1185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0CACC-5409-48FE-9209-FB385B3F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9ACC07-6F09-49E4-8BC2-51FA274B4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2CAA12-62AE-421D-9CDF-3B9667A6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10DBA5-48BC-428C-97F7-0B3DF260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7294B2-305E-4CC3-8FB9-8BD504CE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427A7D-298D-41A6-AAE9-0F293FD2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D88FF8-8647-4FF0-A799-7928C66DD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6D3AD6-39E2-4357-B0DF-90B0B2F7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9C03C0-3518-45E7-AD60-D3920EAD0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14F84-FFC4-488C-8B2A-CD0B4311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5A2B9E-65B3-4875-BDC5-26FA42C39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9FC63-E4A8-4F4B-B2DF-51326B7493E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14901-2A21-4BE6-80F2-E30DBE4CCFF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1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4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40E5-BBE0-442C-B187-B5698F4EA1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2EA6-8B64-4198-AF7C-524AC707F0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3"/>
                  <p:cNvSpPr/>
                  <p:nvPr/>
                </p:nvSpPr>
                <p:spPr>
                  <a:xfrm rot="16200000">
                    <a:off x="8757720" y="6408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4"/>
                  <p:cNvSpPr/>
                  <p:nvPr/>
                </p:nvSpPr>
                <p:spPr>
                  <a:xfrm rot="16200000">
                    <a:off x="8828640" y="514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5"/>
                  <p:cNvSpPr/>
                  <p:nvPr/>
                </p:nvSpPr>
                <p:spPr>
                  <a:xfrm rot="16200000">
                    <a:off x="8898120" y="1018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2D4E-E8D1-4160-95E1-25E9FFD3602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6ECA-42CF-45F8-BE0F-E0BF5EDB0A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0000-35C5-4349-B21F-AF190003098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D7BE-669E-4491-ACF6-9A099AB69D5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6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BF58-DA40-456C-ADAF-376AB36AA0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2D3E-E3F2-4EE3-86E3-14CDDD1DCAF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46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469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470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471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472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4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Freeform 13"/>
                  <p:cNvSpPr/>
                  <p:nvPr/>
                </p:nvSpPr>
                <p:spPr>
                  <a:xfrm rot="16200000">
                    <a:off x="8760600" y="637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14"/>
                  <p:cNvSpPr/>
                  <p:nvPr/>
                </p:nvSpPr>
                <p:spPr>
                  <a:xfrm rot="16200000">
                    <a:off x="8831520" y="511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15"/>
                  <p:cNvSpPr/>
                  <p:nvPr/>
                </p:nvSpPr>
                <p:spPr>
                  <a:xfrm rot="16200000">
                    <a:off x="8901000" y="1011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8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8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0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02CD-D682-4FE9-BECC-27DABF3D135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WordArt 5"/>
          <p:cNvSpPr txBox="1"/>
          <p:nvPr/>
        </p:nvSpPr>
        <p:spPr>
          <a:xfrm>
            <a:off x="1403280" y="3284640"/>
            <a:ext cx="62658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93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езнаком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1" name="WordArt 6"/>
          <p:cNvSpPr txBox="1"/>
          <p:nvPr/>
        </p:nvSpPr>
        <p:spPr>
          <a:xfrm>
            <a:off x="1258920" y="1341360"/>
            <a:ext cx="6769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ександр Бло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Прокопенко Т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9"/>
          <p:cNvSpPr/>
          <p:nvPr/>
        </p:nvSpPr>
        <p:spPr>
          <a:xfrm>
            <a:off x="357120" y="428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4"/>
          <p:cNvSpPr/>
          <p:nvPr/>
        </p:nvSpPr>
        <p:spPr>
          <a:xfrm>
            <a:off x="447840" y="78408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1692360" y="213372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вечерам над рестора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ячий воздух дик и гл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1763640" y="3716280"/>
            <a:ext cx="59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   в ч р м   н д   р с т р н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 р ч й   в з д х   д к  г л 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324000" y="1484280"/>
            <a:ext cx="842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И к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ждый вечер, в ч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с н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зн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ченны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Девичий ст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н шелк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ми схв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ченны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1403280" y="292428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И вею(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)т древними поверь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Ее 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пр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гие шел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И шляпа с тра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рными перьям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И в кольцах 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зкая р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" descr="ццц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484360" y="0"/>
            <a:ext cx="4438800" cy="685800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7"/>
          <p:cNvSpPr/>
          <p:nvPr/>
        </p:nvSpPr>
        <p:spPr>
          <a:xfrm>
            <a:off x="2484360" y="0"/>
            <a:ext cx="439272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ександр Блок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880 – 192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5" descr="ццц 001"/>
          <p:cNvPicPr/>
          <p:nvPr/>
        </p:nvPicPr>
        <p:blipFill>
          <a:blip r:embed="rId1"/>
          <a:stretch/>
        </p:blipFill>
        <p:spPr>
          <a:xfrm>
            <a:off x="2700360" y="1773360"/>
            <a:ext cx="3816360" cy="508464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7"/>
          <p:cNvSpPr/>
          <p:nvPr/>
        </p:nvSpPr>
        <p:spPr>
          <a:xfrm>
            <a:off x="2700360" y="1773360"/>
            <a:ext cx="3816360" cy="50846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95280" y="9921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мя Александра Блока – одно из самых магических и в то же время самых по – человечески притягательных имен в русской поэзии. Еще при жизни поэта оно стало легендой. Трудно назвать в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x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олетии другого поэта, который бы так смело сумел заглянуть в человеческую душу и в котором служение духу в такой мере сочеталось бы с врожденным чувством социальной справедлив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вый момент поэтического самосознания Блока, его начало как большого русского поэта, мы ведем от «Стихов о Прекрасной Дам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ед революцией у Блока вышел первый сборник стихов. Он с успехом заканчивал университет, впервые поселился с женой отдельно от мат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это время им написана знаменитая </a:t>
            </a: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«Незнакомк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0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5148360" y="2924280"/>
            <a:ext cx="3454200" cy="39337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" descr="Изображение 003"/>
          <p:cNvPicPr/>
          <p:nvPr/>
        </p:nvPicPr>
        <p:blipFill>
          <a:blip r:embed="rId2"/>
          <a:stretch/>
        </p:blipFill>
        <p:spPr>
          <a:xfrm>
            <a:off x="179280" y="0"/>
            <a:ext cx="3384720" cy="43322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995640" y="189000"/>
            <a:ext cx="4969080" cy="30877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7" descr="Изображение 007"/>
          <p:cNvPicPr/>
          <p:nvPr/>
        </p:nvPicPr>
        <p:blipFill>
          <a:blip r:embed="rId4"/>
          <a:stretch/>
        </p:blipFill>
        <p:spPr>
          <a:xfrm>
            <a:off x="611280" y="3575160"/>
            <a:ext cx="4392360" cy="32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хаил Александрович Врубел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856 – 19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5" descr="Изображение"/>
          <p:cNvPicPr/>
          <p:nvPr/>
        </p:nvPicPr>
        <p:blipFill>
          <a:blip r:embed="rId1"/>
          <a:stretch/>
        </p:blipFill>
        <p:spPr>
          <a:xfrm>
            <a:off x="2556000" y="1773360"/>
            <a:ext cx="4041720" cy="508464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7"/>
          <p:cNvSpPr/>
          <p:nvPr/>
        </p:nvSpPr>
        <p:spPr>
          <a:xfrm>
            <a:off x="2556000" y="1773360"/>
            <a:ext cx="4032000" cy="5084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900000" y="2997000"/>
            <a:ext cx="7561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ениальный русский художник рубежа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XIX – XX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еков Михаил Александрович Врубель – мастер универсальных возможностей. Прославившего свое имя практически во всех видах и жанрах изобразительного искусств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живописи, графике, декоративной скульптуре, театрально – декорационном искусстве. Он был известен как автор живописных полотен, декоративных панно, фресок, книжных иллюстрац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16" descr="Изображение"/>
          <p:cNvPicPr/>
          <p:nvPr/>
        </p:nvPicPr>
        <p:blipFill>
          <a:blip r:embed="rId1"/>
          <a:stretch/>
        </p:blipFill>
        <p:spPr>
          <a:xfrm>
            <a:off x="3635280" y="549360"/>
            <a:ext cx="1859040" cy="2421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09" name="Rectangle 17"/>
          <p:cNvSpPr/>
          <p:nvPr/>
        </p:nvSpPr>
        <p:spPr>
          <a:xfrm>
            <a:off x="3635280" y="549360"/>
            <a:ext cx="1873440" cy="244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33"/>
                </a:solidFill>
                <a:latin typeface="Arial"/>
              </a:rPr>
              <a:t>Предыстория «Незнакомки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В начале 1906 года Блок написал «Незнакомку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тихотворение родилось из скитаний по петербургским пригородам. Молодой литератор Евгений Иванов 9 мая 1906 года записал в своем дневнике рассказ о поездке с Блоком за город. Блок повез его в Озерки – дачный поселок возле станции Финляндской железной дорог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Взявшись быть гидом в этой литературной прогулке по пыльным улочкам дачного поселка, Блок и своему приятелю, и себе доказывал реальность собственных вымыслов. Разумеется, особую, чисто духовную – но все – таки несомненную достоверность описанного им фантастического события. Впоследствии Блок объяснил, где он видел въявь свою незнакомку – оказывается, на картинах Врубеля.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300"/>
                            </p:stCondLst>
                            <p:childTnLst>
                              <p:par>
                                <p:cTn id="173" nodeType="afterEffect" fill="hold" presetClass="entr" presetID="3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900"/>
                            </p:stCondLst>
                            <p:childTnLst>
                              <p:par>
                                <p:cTn id="181" nodeType="afterEffect" fill="hold" presetClass="entr" presetID="3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Передо мной возникло, наконец, то, что я (лично) называю «Незнакомко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расавица кукла, синий призрак, земное чудо… Незнакомка – это не вовсе дама в черном платье со страусовыми перьями на шляпе. Это – дьявольский сплав из многих миров, преимущественно синего и лилового. Если бы я обладал средствами Врубеля, я бы создал Демона, но всякий делает то, что ему назначено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4" descr="Изображение 007"/>
          <p:cNvPicPr/>
          <p:nvPr/>
        </p:nvPicPr>
        <p:blipFill>
          <a:blip r:embed="rId1"/>
          <a:stretch/>
        </p:blipFill>
        <p:spPr>
          <a:xfrm>
            <a:off x="2987640" y="4618080"/>
            <a:ext cx="4067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8fa9e"/>
            </a:gs>
            <a:gs pos="100000">
              <a:srgbClr val="f8b5a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78598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опять совершенно недвусмысленно утверждает, что стихи и картины Врубеля возникли на некоей общей почве. Речь идет о той духовной действительности, которая в его «Незнакомке» выражена словесно, а у Врубеля представлена наглядно – в цветовых «сплавах» его излюбленных синих и лиловых т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ь его внутренний обиход, его «миры» связаны не только со словом, но и с цветом, с определенными явлениями живо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7451640" y="5456160"/>
            <a:ext cx="16923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05:35:24Z</dcterms:created>
  <dc:creator>администратор 306</dc:creator>
  <dc:description/>
  <dc:language>en-US</dc:language>
  <cp:lastModifiedBy>Татьяна Николаевна</cp:lastModifiedBy>
  <dcterms:modified xsi:type="dcterms:W3CDTF">2018-06-21T06:36:26Z</dcterms:modified>
  <cp:revision>22</cp:revision>
  <dc:subject/>
  <dc:title>Слайд 1</dc:title>
</cp:coreProperties>
</file>