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1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7E8539-84B2-4B8C-9DE6-94EED114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15DED-AF66-4FBF-A129-92CA68C8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0A9D89-9606-4A97-B853-89F1AD46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810B7-1991-4FF4-AD94-CD75F8279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4D1CA-0265-4FBF-83F1-8BA96713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88677-0B9F-46E1-8918-EFC4011F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DB6CD-DE3A-43CA-BF95-691FE36A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77A9E8-D893-4DF6-A138-72BC4634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20AA5-0502-4C3D-96BD-A426982D2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6F25D8-B9DB-4602-8893-4CE311634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4F6A9C-09B3-4799-A2B6-4B43D739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108D9-A574-48F3-9C48-2E683EB51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0BA88-0F6B-4BB8-8577-B2135FA97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FE408A-DA25-45D0-84B1-BF11F9DC2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ECEF2-1CE9-4445-B44A-24EE412E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E7C962-0289-416A-8030-D577C3EAE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FDD03-18E7-4CBF-961D-9C12367C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443E8-5781-42B0-8A81-1CBC0A96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72A89A-33EA-49DC-8CAE-CB4CB85B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6A4798-59AE-42C5-A93E-9DBF317B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42A1B-3A1C-497F-A157-2F07A52A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6370F5-CC73-45CD-87D4-9368AD50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B5B2D6-3FFD-4C96-B467-17663B62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7867B-D17F-423A-BD84-F02BD0AE8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06864B-64D2-4CA5-A208-1B312516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1B3F1-0BF9-444B-A913-C246D9628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BD1E7-C79E-4326-AEF6-BEB65CE7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ABC7E-923F-42C1-B401-7B869B15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378A5-11D4-4115-B8CB-939831CBE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0972F-5005-4B62-AC9C-D575586B5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FD3AE-1B44-485C-A291-F59E391BC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9B669-DE39-4612-9911-96098834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34510-7CE1-437C-8505-F0EDC7EB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FC531C-8A64-4F7B-B0CA-AE250B98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A67E-0F4A-4E75-B884-E259E970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AE9D7A-7044-46A9-AC6C-4E99579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1F6EC-8B9A-4817-9AC2-5EA2F9EF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7130A-F07E-4F1F-BDB0-F52282CAE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604E8-9B2F-4274-835D-CE9D533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C05F6-BE75-48BF-9619-40155DA9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EBD66-CBD5-4F38-96ED-F9D084740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CDD04-1A1C-4AED-B555-D98A1066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88A03-0579-4993-B38A-339924E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00B17-FDAB-446E-B239-7CF30DF6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257BB-FD82-4E31-A670-127AE760E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874-E8BD-449A-94A5-2983C36A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FDD6-E235-4B7D-BBE2-D46523A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8ED4-B6DB-4827-8DFA-35A8EEB39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04E99-DAC7-4AFD-9669-FFF23DE59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9DC0-9A77-4F06-9520-FAE2FBA53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B99E5-5B93-4EDE-ABA8-A311BA936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75D52-01EA-47F3-BCCA-80EE828CF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39AEE-3EE2-417D-8472-210AE19B5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AD7D0-2AE6-4E68-8EF1-E9E872C6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6A589-B68F-42A5-ABB5-1E6599BF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EC35A-B1A6-433F-804B-F07C7A504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22A2C-976B-4722-AF2A-8199E0A3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BB26F-1147-48D7-874B-719F09C1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79411-00A7-4FD2-9D19-1AF33C527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4E702-F0A8-4CD1-B732-61898907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E8983-9C3C-49CB-B374-75F76E1A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38A3F9-F7D6-48E0-BA0C-16F73623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20BEDB-F1AB-4EB1-AF09-F80DC6C6D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0E07C-57DB-4F11-AC1D-61B0649EF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C0BF26-9F2F-4918-B4DA-6A86F7BA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FCEC4-CC25-4EC6-9E74-3C154FA0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5032C-332F-41B8-AB7A-7BD76DF2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A3A151-A417-4F4E-94F5-87E1C836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2064D-EF58-4E1D-A1AE-422EA319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8A09-6654-4544-82F4-AB1E12F9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3BD9B-0753-4A83-876B-8C3518C3A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B71DE-6B06-4C7D-8D63-3DDC4697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96B2D5-82DE-4E8C-937C-67DCCA29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897FE-F340-481A-AFFB-2C7D960B1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384EB-157E-4FE7-95CC-8B6AD773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3E77E-3A74-41FE-BDCF-ADC2E6583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D1E50-C6A3-4486-A941-EFA4CDB85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89024-5FE5-4F95-A04D-D8143376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64604-A705-484A-9F4E-74C9EDA7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EAE5F-DB75-4163-BCDC-676F711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DC16C-4252-4652-9614-8026BAF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C677D-13C6-4FD4-818D-93D0D3065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6F121-AE23-4D5F-80E6-78A33A36D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AB468-1A24-4CF4-94A8-E0DA2C59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2CE0-7A99-489F-A05E-3D87BE50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194BB-9167-47D4-ACD5-067C2519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DB7E36-D279-493C-A856-ADC1F2BD9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C9C68-B5AD-47BC-9E26-725ED9AA9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30703-47E5-48BF-85F4-636AB531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66AEC7-4D4B-4348-802C-A38ABAE4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1E2565-3459-4D73-85FB-A030A29E1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D3CBD-8F8D-4C92-8040-7C661D56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0075A-C247-4764-A039-566B2689F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C796D-85C9-4495-8F4F-23DED0D6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A4600-43E3-4AF4-8FD7-1A379F9B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D77CA-A57D-4A8D-A902-E80BC745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37446-7F8F-4D93-98F0-A0543929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91D02-4CEC-4B09-B0B5-4D7CFA24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BEE86-018B-478E-A7AE-733E1BF5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1442E-50AB-4F73-B44A-62B531B53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50EB00-60CF-4F3D-A0DA-A72F831F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85D56-8438-4FE2-8237-02FDCD8F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EB2872-E957-4BD7-A496-76033E07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A8918-42C4-490D-B2BD-6D6C630A4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F94A7C-E8EB-4F72-AFAE-E904DC159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FDD332-EE41-407B-9AE6-071730F45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7DE12-C655-4F54-B946-5EFEAEC9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99C9FF-1CCA-4DBD-9F77-A34B02A3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D273-9EED-499D-9BDA-9335AEBB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26D268-F662-46DF-B399-1F96396C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6DBE1-C46F-473A-A54C-3C8FF839A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A78CD-03EA-4724-AE31-D3768516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CE4C0-847D-494A-8CB2-85E5DBDB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CA2576-508F-4492-9A77-CE2C2AADC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6D039-CA03-466B-9A11-969D1361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376AB-E1D3-4D90-B1C4-3027B5D6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0A48D3-C064-402E-8718-C1F2625A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0C4E4EE-A19F-4414-A65F-7765694D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D86DAB-E25C-477E-A9A6-C0268EC45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BDC73-F045-4309-B21B-F8A46F5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0C9032C-86A8-4D94-A068-859A1F84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DE3A8-A635-40BB-B5DF-45E4991A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0F2128-193A-4BC2-BFAF-7EBDD70A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E5861B7-4ACD-4516-807B-E97949D0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E9E7701-69BE-4524-93ED-45C1FB8F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938517-C2F4-486F-9AF2-A50A5800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A53CDA-01A4-4703-B9BD-97EBF500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99B5FD-532E-48D9-AB5C-A909EDB2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DA1E83A-CE20-4AB3-A4C2-E4CCC176B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B367EE-E3AC-44B9-A4E0-02AF7C4BE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5AB63-DF94-4842-9555-42430073C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F64723-3AAF-4844-806E-C9F56460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2.wmf"/><Relationship Id="rId9" Type="http://schemas.openxmlformats.org/officeDocument/2006/relationships/image" Target="../media/image2.wmf"/><Relationship Id="rId10" Type="http://schemas.openxmlformats.org/officeDocument/2006/relationships/image" Target="../media/image2.wmf"/><Relationship Id="rId11" Type="http://schemas.openxmlformats.org/officeDocument/2006/relationships/image" Target="../media/image2.wmf"/><Relationship Id="rId12" Type="http://schemas.openxmlformats.org/officeDocument/2006/relationships/image" Target="../media/image2.wmf"/><Relationship Id="rId13" Type="http://schemas.openxmlformats.org/officeDocument/2006/relationships/image" Target="../media/image2.wmf"/><Relationship Id="rId14" Type="http://schemas.openxmlformats.org/officeDocument/2006/relationships/image" Target="../media/image2.wmf"/><Relationship Id="rId15" Type="http://schemas.openxmlformats.org/officeDocument/2006/relationships/image" Target="../media/image2.wmf"/><Relationship Id="rId16" Type="http://schemas.openxmlformats.org/officeDocument/2006/relationships/image" Target="../media/image2.wmf"/><Relationship Id="rId17" Type="http://schemas.openxmlformats.org/officeDocument/2006/relationships/image" Target="../media/image2.wmf"/><Relationship Id="rId18" Type="http://schemas.openxmlformats.org/officeDocument/2006/relationships/image" Target="../media/image2.wmf"/><Relationship Id="rId19" Type="http://schemas.openxmlformats.org/officeDocument/2006/relationships/image" Target="../media/image2.wmf"/><Relationship Id="rId20" Type="http://schemas.openxmlformats.org/officeDocument/2006/relationships/image" Target="../media/image2.wmf"/><Relationship Id="rId21" Type="http://schemas.openxmlformats.org/officeDocument/2006/relationships/image" Target="../media/image2.wmf"/><Relationship Id="rId22" Type="http://schemas.openxmlformats.org/officeDocument/2006/relationships/image" Target="../media/image2.wmf"/><Relationship Id="rId23" Type="http://schemas.openxmlformats.org/officeDocument/2006/relationships/image" Target="../media/image2.wmf"/><Relationship Id="rId24" Type="http://schemas.openxmlformats.org/officeDocument/2006/relationships/image" Target="../media/image2.wmf"/><Relationship Id="rId25" Type="http://schemas.openxmlformats.org/officeDocument/2006/relationships/image" Target="../media/image2.wmf"/><Relationship Id="rId26" Type="http://schemas.openxmlformats.org/officeDocument/2006/relationships/image" Target="../media/image2.wmf"/><Relationship Id="rId27" Type="http://schemas.openxmlformats.org/officeDocument/2006/relationships/image" Target="../media/image2.wmf"/><Relationship Id="rId28" Type="http://schemas.openxmlformats.org/officeDocument/2006/relationships/image" Target="../media/image2.wmf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4.png"/><Relationship Id="rId32" Type="http://schemas.openxmlformats.org/officeDocument/2006/relationships/image" Target="../media/image5.png"/><Relationship Id="rId33" Type="http://schemas.openxmlformats.org/officeDocument/2006/relationships/image" Target="../media/image6.png"/><Relationship Id="rId34" Type="http://schemas.openxmlformats.org/officeDocument/2006/relationships/slideLayout" Target="../slideLayouts/slideLayout97.xml"/><Relationship Id="rId35" Type="http://schemas.openxmlformats.org/officeDocument/2006/relationships/slideLayout" Target="../slideLayouts/slideLayout98.xml"/><Relationship Id="rId36" Type="http://schemas.openxmlformats.org/officeDocument/2006/relationships/slideLayout" Target="../slideLayouts/slideLayout99.xml"/><Relationship Id="rId37" Type="http://schemas.openxmlformats.org/officeDocument/2006/relationships/slideLayout" Target="../slideLayouts/slideLayout100.xml"/><Relationship Id="rId38" Type="http://schemas.openxmlformats.org/officeDocument/2006/relationships/slideLayout" Target="../slideLayouts/slideLayout101.xml"/><Relationship Id="rId39" Type="http://schemas.openxmlformats.org/officeDocument/2006/relationships/slideLayout" Target="../slideLayouts/slideLayout102.xml"/><Relationship Id="rId40" Type="http://schemas.openxmlformats.org/officeDocument/2006/relationships/slideLayout" Target="../slideLayouts/slideLayout103.xml"/><Relationship Id="rId41" Type="http://schemas.openxmlformats.org/officeDocument/2006/relationships/slideLayout" Target="../slideLayouts/slideLayout104.xml"/><Relationship Id="rId42" Type="http://schemas.openxmlformats.org/officeDocument/2006/relationships/slideLayout" Target="../slideLayouts/slideLayout105.xml"/><Relationship Id="rId43" Type="http://schemas.openxmlformats.org/officeDocument/2006/relationships/slideLayout" Target="../slideLayouts/slideLayout106.xml"/><Relationship Id="rId44" Type="http://schemas.openxmlformats.org/officeDocument/2006/relationships/slideLayout" Target="../slideLayouts/slideLayout107.xml"/><Relationship Id="rId4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6CDB-F16C-4F1C-8271-4EF628577E1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6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B689-748C-4AB8-9874-5812683F2C2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61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4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64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9B79-FF9D-4F6C-A3B4-81356BCF11C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30D5-9285-44D8-8465-2A35075017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9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3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4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5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6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>
                        <a:gd name="textAreaLeft" fmla="*/ 0 w 201960"/>
                        <a:gd name="textAreaRight" fmla="*/ 202320 w 20196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3"/>
                  <p:cNvSpPr/>
                  <p:nvPr/>
                </p:nvSpPr>
                <p:spPr>
                  <a:xfrm rot="16200000">
                    <a:off x="8757720" y="6408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4"/>
                  <p:cNvSpPr/>
                  <p:nvPr/>
                </p:nvSpPr>
                <p:spPr>
                  <a:xfrm rot="16200000">
                    <a:off x="8828640" y="5148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5"/>
                  <p:cNvSpPr/>
                  <p:nvPr/>
                </p:nvSpPr>
                <p:spPr>
                  <a:xfrm rot="16200000">
                    <a:off x="8898120" y="10188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4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2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3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0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41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2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7CE2-61EA-4D12-9B89-E1733C39EE4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4965B-2C5E-4994-A89A-99A4C4B472B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236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F17-AD0D-427F-9725-A4D285F053A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85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5195880"/>
                <a:gd name="textAreaBottom" fmla="*/ 5196240 h 519588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>
                <a:gd name="textAreaLeft" fmla="*/ 0 w 8904240"/>
                <a:gd name="textAreaRight" fmla="*/ 8904600 w 8904240"/>
                <a:gd name="textAreaTop" fmla="*/ 0 h 5148360"/>
                <a:gd name="textAreaBottom" fmla="*/ 5148720 h 514836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>
                <a:gd name="textAreaLeft" fmla="*/ 0 w 6410160"/>
                <a:gd name="textAreaRight" fmla="*/ 6410520 w 641016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>
                <a:gd name="textAreaLeft" fmla="*/ 0 w 2730600"/>
                <a:gd name="textAreaRight" fmla="*/ 2730600 w 27306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>
                <a:gd name="textAreaLeft" fmla="*/ 0 w 7594560"/>
                <a:gd name="textAreaRight" fmla="*/ 7594920 w 759456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>
                <a:gd name="textAreaLeft" fmla="*/ 0 w 1546200"/>
                <a:gd name="textAreaRight" fmla="*/ 1546560 w 154620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>
                <a:gd name="textAreaLeft" fmla="*/ 0 w 3395520"/>
                <a:gd name="textAreaRight" fmla="*/ 3395880 w 339552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>
                <a:gd name="textAreaLeft" fmla="*/ 0 w 5745240"/>
                <a:gd name="textAreaRight" fmla="*/ 5745600 w 5745240"/>
                <a:gd name="textAreaTop" fmla="*/ 0 h 552600"/>
                <a:gd name="textAreaBottom" fmla="*/ 552960 h 55260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38120"/>
                <a:gd name="textAreaBottom" fmla="*/ 438480 h 43812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>
                <a:gd name="textAreaLeft" fmla="*/ 0 w 2228760"/>
                <a:gd name="textAreaRight" fmla="*/ 2228760 w 222876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>
                <a:gd name="textAreaLeft" fmla="*/ 0 w 1155600"/>
                <a:gd name="textAreaRight" fmla="*/ 1155960 w 1155600"/>
                <a:gd name="textAreaTop" fmla="*/ 0 h 505080"/>
                <a:gd name="textAreaBottom" fmla="*/ 505440 h 50508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>
                <a:gd name="textAreaLeft" fmla="*/ 0 w 7985160"/>
                <a:gd name="textAreaRight" fmla="*/ 7985520 w 7985160"/>
                <a:gd name="textAreaTop" fmla="*/ 0 h 3471840"/>
                <a:gd name="textAreaBottom" fmla="*/ 3472200 h 347184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>
                <a:gd name="textAreaLeft" fmla="*/ 0 w 5014800"/>
                <a:gd name="textAreaRight" fmla="*/ 5015160 w 5014800"/>
                <a:gd name="textAreaTop" fmla="*/ 0 h 4325760"/>
                <a:gd name="textAreaBottom" fmla="*/ 4326120 h 432576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>
                <a:gd name="textAreaLeft" fmla="*/ 0 w 512640"/>
                <a:gd name="textAreaRight" fmla="*/ 513000 w 512640"/>
                <a:gd name="textAreaTop" fmla="*/ 0 h 474840"/>
                <a:gd name="textAreaBottom" fmla="*/ 475200 h 47484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532080"/>
                <a:gd name="textAreaBottom" fmla="*/ 532440 h 53208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>
                <a:gd name="textAreaLeft" fmla="*/ 0 w 4951440"/>
                <a:gd name="textAreaRight" fmla="*/ 4951800 w 4951440"/>
                <a:gd name="textAreaTop" fmla="*/ 0 h 4251240"/>
                <a:gd name="textAreaBottom" fmla="*/ 4251600 h 425124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>
                <a:gd name="textAreaLeft" fmla="*/ 0 w 3990960"/>
                <a:gd name="textAreaRight" fmla="*/ 3991320 w 3990960"/>
                <a:gd name="textAreaTop" fmla="*/ 0 h 4022640"/>
                <a:gd name="textAreaBottom" fmla="*/ 4023000 h 402264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>
                <a:gd name="textAreaLeft" fmla="*/ 0 w 3489480"/>
                <a:gd name="textAreaRight" fmla="*/ 3489840 w 3489480"/>
                <a:gd name="textAreaTop" fmla="*/ 0 h 3936960"/>
                <a:gd name="textAreaBottom" fmla="*/ 3936960 h 393696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9360"/>
                <a:gd name="textAreaBottom" fmla="*/ 819720 h 81936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1654200"/>
                <a:gd name="textAreaBottom" fmla="*/ 1654560 h 165420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>
                <a:gd name="textAreaLeft" fmla="*/ 0 w 541440"/>
                <a:gd name="textAreaRight" fmla="*/ 541440 w 541440"/>
                <a:gd name="textAreaTop" fmla="*/ 0 h 1263600"/>
                <a:gd name="textAreaBottom" fmla="*/ 1263960 h 126360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959200"/>
                <a:gd name="textAreaBottom" fmla="*/ 2959560 h 295920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2122560"/>
                <a:gd name="textAreaBottom" fmla="*/ 2122920 h 212256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>
                <a:gd name="textAreaLeft" fmla="*/ 0 w 9131400"/>
                <a:gd name="textAreaRight" fmla="*/ 9131760 w 913140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>
                <a:gd name="textAreaLeft" fmla="*/ 0 w 7075800"/>
                <a:gd name="textAreaRight" fmla="*/ 7076160 w 7075800"/>
                <a:gd name="textAreaTop" fmla="*/ 0 h 5043600"/>
                <a:gd name="textAreaBottom" fmla="*/ 5043960 h 504360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>
                <a:gd name="textAreaLeft" fmla="*/ 0 w 3862440"/>
                <a:gd name="textAreaRight" fmla="*/ 3862800 w 3862440"/>
                <a:gd name="textAreaTop" fmla="*/ 0 h 4149720"/>
                <a:gd name="textAreaBottom" fmla="*/ 4150080 h 414972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>
                <a:gd name="textAreaLeft" fmla="*/ 0 w 2864160"/>
                <a:gd name="textAreaRight" fmla="*/ 2864520 w 2864160"/>
                <a:gd name="textAreaTop" fmla="*/ 0 h 3911760"/>
                <a:gd name="textAreaBottom" fmla="*/ 3912120 h 391176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>
                <a:gd name="textAreaLeft" fmla="*/ 0 w 1960560"/>
                <a:gd name="textAreaRight" fmla="*/ 1960920 w 1960560"/>
                <a:gd name="textAreaTop" fmla="*/ 0 h 3292560"/>
                <a:gd name="textAreaBottom" fmla="*/ 3292920 h 329256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>
                <a:gd name="textAreaLeft" fmla="*/ 0 w 1683000"/>
                <a:gd name="textAreaRight" fmla="*/ 1683360 w 1683000"/>
                <a:gd name="textAreaTop" fmla="*/ 0 h 3073320"/>
                <a:gd name="textAreaBottom" fmla="*/ 3073680 h 307332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>
                <a:gd name="textAreaLeft" fmla="*/ 0 w 1227240"/>
                <a:gd name="textAreaRight" fmla="*/ 1227600 w 1227240"/>
                <a:gd name="textAreaTop" fmla="*/ 0 h 2360520"/>
                <a:gd name="textAreaBottom" fmla="*/ 2360880 h 236052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1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22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>
                  <a:gd name="textAreaLeft" fmla="*/ 0 w 5826240"/>
                  <a:gd name="textAreaRight" fmla="*/ 5826600 w 5826240"/>
                  <a:gd name="textAreaTop" fmla="*/ 0 h 2084400"/>
                  <a:gd name="textAreaBottom" fmla="*/ 2084760 h 208440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>
                  <a:gd name="textAreaLeft" fmla="*/ 0 w 3352680"/>
                  <a:gd name="textAreaRight" fmla="*/ 3353040 w 3352680"/>
                  <a:gd name="textAreaTop" fmla="*/ 0 h 1103400"/>
                  <a:gd name="textAreaBottom" fmla="*/ 1103400 h 110340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BA93C-D08C-4A0F-869F-AE9C8AD389F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6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367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0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4800-DC3A-4A87-ADE6-2849F29D8CF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0BF9-4D29-4304-BAB8-42A9B766AAA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4" name="Group 2"/>
          <p:cNvGrpSpPr/>
          <p:nvPr/>
        </p:nvGrpSpPr>
        <p:grpSpPr>
          <a:xfrm>
            <a:off x="0" y="-360"/>
            <a:ext cx="9159840" cy="6870960"/>
            <a:chOff x="0" y="-360"/>
            <a:chExt cx="9159840" cy="6870960"/>
          </a:xfrm>
        </p:grpSpPr>
        <p:sp>
          <p:nvSpPr>
            <p:cNvPr id="465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6"/>
            <p:cNvGrpSpPr/>
            <p:nvPr/>
          </p:nvGrpSpPr>
          <p:grpSpPr>
            <a:xfrm>
              <a:off x="7848720" y="-360"/>
              <a:ext cx="1295280" cy="6310800"/>
              <a:chOff x="7848720" y="-360"/>
              <a:chExt cx="1295280" cy="6310800"/>
            </a:xfrm>
          </p:grpSpPr>
          <p:grpSp>
            <p:nvGrpSpPr>
              <p:cNvPr id="469" name="Group 7"/>
              <p:cNvGrpSpPr/>
              <p:nvPr/>
            </p:nvGrpSpPr>
            <p:grpSpPr>
              <a:xfrm>
                <a:off x="8381880" y="-360"/>
                <a:ext cx="762120" cy="2271960"/>
                <a:chOff x="8381880" y="-360"/>
                <a:chExt cx="762120" cy="2271960"/>
              </a:xfrm>
            </p:grpSpPr>
            <p:grpSp>
              <p:nvGrpSpPr>
                <p:cNvPr id="470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471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472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custGeom>
                      <a:avLst/>
                      <a:gdLst>
                        <a:gd name="textAreaLeft" fmla="*/ 0 w 201600"/>
                        <a:gd name="textAreaRight" fmla="*/ 201960 w 20160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custGeom>
                      <a:avLst/>
                      <a:gdLst>
                        <a:gd name="textAreaLeft" fmla="*/ 0 w 141120"/>
                        <a:gd name="textAreaRight" fmla="*/ 141480 w 141120"/>
                        <a:gd name="textAreaTop" fmla="*/ 0 h 225360"/>
                        <a:gd name="textAreaBottom" fmla="*/ 225720 h 22536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4" name="Oval 12"/>
                  <p:cNvSpPr/>
                  <p:nvPr/>
                </p:nvSpPr>
                <p:spPr>
                  <a:xfrm rot="16200000">
                    <a:off x="882684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Freeform 13"/>
                  <p:cNvSpPr/>
                  <p:nvPr/>
                </p:nvSpPr>
                <p:spPr>
                  <a:xfrm rot="16200000">
                    <a:off x="8760600" y="63720"/>
                    <a:ext cx="42840" cy="57240"/>
                  </a:xfrm>
                  <a:custGeom>
                    <a:avLst/>
                    <a:gdLst>
                      <a:gd name="textAreaLeft" fmla="*/ 0 w 42840"/>
                      <a:gd name="textAreaRight" fmla="*/ 43200 w 4284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Freeform 14"/>
                  <p:cNvSpPr/>
                  <p:nvPr/>
                </p:nvSpPr>
                <p:spPr>
                  <a:xfrm rot="16200000">
                    <a:off x="8831520" y="51120"/>
                    <a:ext cx="64800" cy="37800"/>
                  </a:xfrm>
                  <a:custGeom>
                    <a:avLst/>
                    <a:gdLst>
                      <a:gd name="textAreaLeft" fmla="*/ 0 w 64800"/>
                      <a:gd name="textAreaRight" fmla="*/ 65160 w 64800"/>
                      <a:gd name="textAreaTop" fmla="*/ 0 h 37800"/>
                      <a:gd name="textAreaBottom" fmla="*/ 38160 h 3780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7" name="Freeform 15"/>
                  <p:cNvSpPr/>
                  <p:nvPr/>
                </p:nvSpPr>
                <p:spPr>
                  <a:xfrm rot="16200000">
                    <a:off x="8901000" y="101160"/>
                    <a:ext cx="23760" cy="61920"/>
                  </a:xfrm>
                  <a:custGeom>
                    <a:avLst/>
                    <a:gdLst>
                      <a:gd name="textAreaLeft" fmla="*/ 0 w 23760"/>
                      <a:gd name="textAreaRight" fmla="*/ 24120 w 23760"/>
                      <a:gd name="textAreaTop" fmla="*/ 0 h 61920"/>
                      <a:gd name="textAreaBottom" fmla="*/ 62280 h 6192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Freeform 16"/>
                  <p:cNvSpPr/>
                  <p:nvPr/>
                </p:nvSpPr>
                <p:spPr>
                  <a:xfrm rot="16200000">
                    <a:off x="8826840" y="191160"/>
                    <a:ext cx="63360" cy="26640"/>
                  </a:xfrm>
                  <a:custGeom>
                    <a:avLst/>
                    <a:gdLst>
                      <a:gd name="textAreaLeft" fmla="*/ 0 w 63360"/>
                      <a:gd name="textAreaRight" fmla="*/ 63720 w 63360"/>
                      <a:gd name="textAreaTop" fmla="*/ 0 h 26640"/>
                      <a:gd name="textAreaBottom" fmla="*/ 27000 h 2664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Freeform 17"/>
                  <p:cNvSpPr/>
                  <p:nvPr/>
                </p:nvSpPr>
                <p:spPr>
                  <a:xfrm rot="16200000">
                    <a:off x="8775360" y="166320"/>
                    <a:ext cx="37800" cy="41040"/>
                  </a:xfrm>
                  <a:custGeom>
                    <a:avLst/>
                    <a:gdLst>
                      <a:gd name="textAreaLeft" fmla="*/ 0 w 37800"/>
                      <a:gd name="textAreaRight" fmla="*/ 38160 w 37800"/>
                      <a:gd name="textAreaTop" fmla="*/ 0 h 41040"/>
                      <a:gd name="textAreaBottom" fmla="*/ 41400 h 4104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480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1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2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3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4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5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6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87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488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489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0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1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2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3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4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5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6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7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8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99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0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1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2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3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4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5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6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07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508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25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6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27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859D-795D-4B7B-B993-1010DA0F5C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4"/>
    <p:sldLayoutId id="2147483754" r:id="rId35"/>
    <p:sldLayoutId id="2147483755" r:id="rId36"/>
    <p:sldLayoutId id="2147483756" r:id="rId37"/>
    <p:sldLayoutId id="2147483757" r:id="rId38"/>
    <p:sldLayoutId id="2147483758" r:id="rId39"/>
    <p:sldLayoutId id="2147483759" r:id="rId40"/>
    <p:sldLayoutId id="2147483760" r:id="rId41"/>
    <p:sldLayoutId id="2147483761" r:id="rId42"/>
    <p:sldLayoutId id="2147483762" r:id="rId43"/>
    <p:sldLayoutId id="2147483763" r:id="rId44"/>
    <p:sldLayoutId id="2147483764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WordArt 5"/>
          <p:cNvSpPr txBox="1"/>
          <p:nvPr/>
        </p:nvSpPr>
        <p:spPr>
          <a:xfrm>
            <a:off x="1403280" y="3284640"/>
            <a:ext cx="6265800" cy="153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393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Незнакомка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1" name="WordArt 6"/>
          <p:cNvSpPr txBox="1"/>
          <p:nvPr/>
        </p:nvSpPr>
        <p:spPr>
          <a:xfrm>
            <a:off x="1258920" y="1341360"/>
            <a:ext cx="67690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ександр Бло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итель: Прокопенко Т.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9"/>
          <p:cNvSpPr/>
          <p:nvPr/>
        </p:nvSpPr>
        <p:spPr>
          <a:xfrm>
            <a:off x="357120" y="428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4"/>
          <p:cNvSpPr/>
          <p:nvPr/>
        </p:nvSpPr>
        <p:spPr>
          <a:xfrm>
            <a:off x="447840" y="784080"/>
            <a:ext cx="815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1692360" y="2133720"/>
            <a:ext cx="64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 вечерам над ресторан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рячий воздух дик и гл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1763640" y="3716280"/>
            <a:ext cx="590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   в ч р м   н д   р с т р н 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 р ч й   в з д х   д к  г л 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102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9933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 Box 4"/>
          <p:cNvSpPr/>
          <p:nvPr/>
        </p:nvSpPr>
        <p:spPr>
          <a:xfrm>
            <a:off x="324000" y="1484280"/>
            <a:ext cx="8427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к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ждый вечер, в ч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с н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зн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ченны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Девичий ст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н шелк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ми схв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ченный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03280" y="292428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вею(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)т древними поверья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Ее 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пр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гие шелк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шляпа с тра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рными перьям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И в кольцах 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зкая р</a:t>
            </a:r>
            <a:r>
              <a:rPr b="0" lang="ru-RU" sz="3200" spc="-1" strike="noStrike">
                <a:solidFill>
                  <a:srgbClr val="faf40a"/>
                </a:solidFill>
                <a:latin typeface="Arial"/>
              </a:rPr>
              <a:t>У</a:t>
            </a:r>
            <a:r>
              <a:rPr b="0" lang="ru-RU" sz="3200" spc="-1" strike="noStrike">
                <a:solidFill>
                  <a:srgbClr val="411001"/>
                </a:solidFill>
                <a:latin typeface="Arial"/>
              </a:rPr>
              <a:t>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ff"/>
            </a:gs>
            <a:gs pos="100000">
              <a:srgbClr val="80808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Picture 4" descr="ццц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48436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723" name="Rectangle 7"/>
          <p:cNvSpPr/>
          <p:nvPr/>
        </p:nvSpPr>
        <p:spPr>
          <a:xfrm>
            <a:off x="2484360" y="0"/>
            <a:ext cx="4392720" cy="685800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99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лександр Блок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80 – 192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5" name="Picture 5" descr="ццц 001"/>
          <p:cNvPicPr/>
          <p:nvPr/>
        </p:nvPicPr>
        <p:blipFill>
          <a:blip r:embed="rId1"/>
          <a:stretch/>
        </p:blipFill>
        <p:spPr>
          <a:xfrm>
            <a:off x="2700360" y="1773360"/>
            <a:ext cx="3816360" cy="5084640"/>
          </a:xfrm>
          <a:prstGeom prst="rect">
            <a:avLst/>
          </a:prstGeom>
          <a:ln w="0">
            <a:noFill/>
          </a:ln>
        </p:spPr>
      </p:pic>
      <p:sp>
        <p:nvSpPr>
          <p:cNvPr id="696" name="Rectangle 7"/>
          <p:cNvSpPr/>
          <p:nvPr/>
        </p:nvSpPr>
        <p:spPr>
          <a:xfrm>
            <a:off x="2700360" y="1773360"/>
            <a:ext cx="3816360" cy="5084640"/>
          </a:xfrm>
          <a:prstGeom prst="rect">
            <a:avLst/>
          </a:prstGeom>
          <a:noFill/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395280" y="992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мя Александра Блока – одно из самых магических и в то же время самых по – человечески притягательных имен в русской поэзии. Еще при жизни поэта оно стало легендой. Трудно назвать в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xx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толетии другого поэта, который бы так смело сумел заглянуть в человеческую душу и в котором служение духу в такой мере сочеталось бы с врожденным чувством социальной справедливост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вый момент поэтического самосознания Блока, его начало как большого русского поэта, мы ведем от «Стихов о Прекрасной Дам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еред революцией у Блока вышел первый сборник стихов. Он с успехом заканчивал университет, впервые поселился с женой отдельно от матер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 это время им написана знаменитая </a:t>
            </a:r>
            <a:r>
              <a:rPr b="1" i="1" lang="ru-RU" sz="2000" spc="-1" strike="noStrike">
                <a:solidFill>
                  <a:srgbClr val="ff0066"/>
                </a:solidFill>
                <a:latin typeface="Tahoma"/>
              </a:rPr>
              <a:t>«Незнакомк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0" name="Picture 4" descr="Изображение 002"/>
          <p:cNvPicPr/>
          <p:nvPr/>
        </p:nvPicPr>
        <p:blipFill>
          <a:blip r:embed="rId1"/>
          <a:stretch/>
        </p:blipFill>
        <p:spPr>
          <a:xfrm>
            <a:off x="5148360" y="2924280"/>
            <a:ext cx="3454200" cy="3933720"/>
          </a:xfrm>
          <a:prstGeom prst="rect">
            <a:avLst/>
          </a:prstGeom>
          <a:ln w="0">
            <a:noFill/>
          </a:ln>
        </p:spPr>
      </p:pic>
      <p:pic>
        <p:nvPicPr>
          <p:cNvPr id="701" name="Picture 5" descr="Изображение 003"/>
          <p:cNvPicPr/>
          <p:nvPr/>
        </p:nvPicPr>
        <p:blipFill>
          <a:blip r:embed="rId2"/>
          <a:stretch/>
        </p:blipFill>
        <p:spPr>
          <a:xfrm>
            <a:off x="179280" y="0"/>
            <a:ext cx="3384720" cy="4332240"/>
          </a:xfrm>
          <a:prstGeom prst="rect">
            <a:avLst/>
          </a:prstGeom>
          <a:ln w="0">
            <a:noFill/>
          </a:ln>
        </p:spPr>
      </p:pic>
      <p:pic>
        <p:nvPicPr>
          <p:cNvPr id="70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995640" y="189000"/>
            <a:ext cx="4969080" cy="308772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7" descr="Изображение 007"/>
          <p:cNvPicPr/>
          <p:nvPr/>
        </p:nvPicPr>
        <p:blipFill>
          <a:blip r:embed="rId4"/>
          <a:stretch/>
        </p:blipFill>
        <p:spPr>
          <a:xfrm>
            <a:off x="611280" y="3575160"/>
            <a:ext cx="4392360" cy="32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9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3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Михаил Александрович Врубел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(1856 – 191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Picture 5" descr="Изображение"/>
          <p:cNvPicPr/>
          <p:nvPr/>
        </p:nvPicPr>
        <p:blipFill>
          <a:blip r:embed="rId1"/>
          <a:stretch/>
        </p:blipFill>
        <p:spPr>
          <a:xfrm>
            <a:off x="2556000" y="1773360"/>
            <a:ext cx="4041720" cy="5084640"/>
          </a:xfrm>
          <a:prstGeom prst="rect">
            <a:avLst/>
          </a:prstGeom>
          <a:ln w="0">
            <a:noFill/>
          </a:ln>
        </p:spPr>
      </p:pic>
      <p:sp>
        <p:nvSpPr>
          <p:cNvPr id="706" name="Rectangle 7"/>
          <p:cNvSpPr/>
          <p:nvPr/>
        </p:nvSpPr>
        <p:spPr>
          <a:xfrm>
            <a:off x="2556000" y="1773360"/>
            <a:ext cx="4032000" cy="50846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/>
          </p:nvPr>
        </p:nvSpPr>
        <p:spPr>
          <a:xfrm>
            <a:off x="900000" y="2997000"/>
            <a:ext cx="75614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792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Гениальный русский художник рубежа 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XIX – XX 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веков Михаил Александрович Врубель – мастер универсальных возможностей. Прославившего свое имя практически во всех видах и жанрах изобразительного искусства</a:t>
            </a: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живописи, графике, декоративной скульптуре, театрально – декорационном искусстве. Он был известен как автор живописных полотен, декоративных панно, фресок, книжных иллюстраций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8" name="Picture 16" descr="Изображение"/>
          <p:cNvPicPr/>
          <p:nvPr/>
        </p:nvPicPr>
        <p:blipFill>
          <a:blip r:embed="rId1"/>
          <a:stretch/>
        </p:blipFill>
        <p:spPr>
          <a:xfrm>
            <a:off x="3635280" y="549360"/>
            <a:ext cx="1859040" cy="2421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09" name="Rectangle 17"/>
          <p:cNvSpPr/>
          <p:nvPr/>
        </p:nvSpPr>
        <p:spPr>
          <a:xfrm>
            <a:off x="3635280" y="549360"/>
            <a:ext cx="1873440" cy="2448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7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18880" y="227160"/>
            <a:ext cx="74768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9933"/>
                </a:solidFill>
                <a:latin typeface="Arial"/>
              </a:rPr>
              <a:t>Предыстория «Незнакомки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7345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 начале 1906 года Блок написал «Незнакомку»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Стихотворение родилось из скитаний по петербургским пригородам. Молодой литератор Евгений Иванов 9 мая 1906 года записал в своем дневнике рассказ о поездке с Блоком за город. Блок повез его в Озерки – дачный поселок возле станции Финляндской железной дороги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1311"/>
                </a:solidFill>
                <a:latin typeface="Arial"/>
              </a:rPr>
              <a:t>Взявшись быть гидом в этой литературной прогулке по пыльным улочкам дачного поселка, Блок и своему приятелю, и себе доказывал реальность собственных вымыслов. Разумеется, особую, чисто духовную – но все – таки несомненную достоверность описанного им фантастического события. Впоследствии Блок объяснил, где он видел въявь свою незнакомку – оказывается, на картинах Врубеля. </a:t>
            </a: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4300"/>
                            </p:stCondLst>
                            <p:childTnLst>
                              <p:par>
                                <p:cTn id="173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900"/>
                            </p:stCondLst>
                            <p:childTnLst>
                              <p:par>
                                <p:cTn id="181" nodeType="afterEffect" fill="hold" presetClass="entr" presetID="38">
                                  <p:stCondLst>
                                    <p:cond delay="50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100000">
              <a:srgbClr val="ff66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…Передо мной возникло, наконец, то, что я (лично) называю «Незнакомко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красавица кукла, синий призрак, земное чудо… Незнакомка – это не вовсе дама в черном платье со страусовыми перьями на шляпе. Это – дьявольский сплав из многих миров, преимущественно синего и лилового. Если бы я обладал средствами Врубеля, я бы создал Демона, но всякий делает то, что ему назначено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4" descr="Изображение 007"/>
          <p:cNvPicPr/>
          <p:nvPr/>
        </p:nvPicPr>
        <p:blipFill>
          <a:blip r:embed="rId1"/>
          <a:stretch/>
        </p:blipFill>
        <p:spPr>
          <a:xfrm>
            <a:off x="2987640" y="4618080"/>
            <a:ext cx="406728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8fa9e"/>
            </a:gs>
            <a:gs pos="100000">
              <a:srgbClr val="f8b5a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/>
          </p:nvPr>
        </p:nvSpPr>
        <p:spPr>
          <a:xfrm>
            <a:off x="539280" y="549000"/>
            <a:ext cx="78598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ок опять совершенно недвусмысленно утверждает, что стихи и картины Врубеля возникли на некоей общей почве. Речь идет о той духовной действительности, которая в его «Незнакомке» выражена словесно, а у Врубеля представлена наглядно – в цветовых «сплавах» его излюбленных синих и лиловых т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ь его внутренний обиход, его «миры» связаны не только со словом, но и с цветом, с определенными явлениями живопис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Picture 4" descr="Изображение 001"/>
          <p:cNvPicPr/>
          <p:nvPr/>
        </p:nvPicPr>
        <p:blipFill>
          <a:blip r:embed="rId1"/>
          <a:stretch/>
        </p:blipFill>
        <p:spPr>
          <a:xfrm>
            <a:off x="7451640" y="5456160"/>
            <a:ext cx="169236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7T05:35:24Z</dcterms:created>
  <dc:creator>администратор 306</dc:creator>
  <dc:description/>
  <dc:language>en-US</dc:language>
  <cp:lastModifiedBy>Татьяна Николаевна</cp:lastModifiedBy>
  <dcterms:modified xsi:type="dcterms:W3CDTF">2018-06-21T06:36:26Z</dcterms:modified>
  <cp:revision>22</cp:revision>
  <dc:subject/>
  <dc:title>Слайд 1</dc:title>
</cp:coreProperties>
</file>