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B89-AC3B-42BB-A376-B66A8D1C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F23-DFDA-4EF2-9269-87863125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01A-E547-4CC7-A9A3-299EC731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038-6B3C-4A8D-A3F3-2AEF6009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A7A-4899-4966-B1C5-84673E5F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BF0B-BA90-4FE8-9F22-B3752081F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48F-1B8A-4E7B-9BF1-AFFC90DD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4340-65A4-47DD-B629-7B3AA867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F9A2-B98F-4E38-A44B-95772A3C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E648-AE72-4316-9F11-0E0B57E0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97A-0DB0-4401-A93F-0C84767B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27C-0724-4EC5-A36D-B62C1B14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E519-8098-46FB-AC0B-F94642DA8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7680" y="181080"/>
            <a:ext cx="582264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92280" y="2133360"/>
            <a:ext cx="54734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4680" y="33480"/>
            <a:ext cx="6853320" cy="9144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836640" y="1476360"/>
            <a:ext cx="5329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смотреть с ребенком несколько игруше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пределить материал, из которого каждая из них сделана (деревянная, резиновая, пластмассовая, плюшевая, мехова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метить внешние признаки игрушки: форму (круглая, квадратная, овальная, прямоугольная), цвет, качество (мяг­кая, твердая, гладкая, шершавая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вести с ребенком беседу о бережном отношении к игрушка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гадать загадк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© Его бьют, а он не плачет, упадет — поскаче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© Пляшет крошка, а всего одна ножка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ставить описательный рассказ об игрушке по следующему плану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то эт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ов ее внешний вид (величина, цвет, форма)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з какого материала сделана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к с ней можно играть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дание 4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ыучить любое стихотворение про игруш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1089000" y="60336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79646"/>
                </a:solidFill>
                <a:latin typeface="Calibri"/>
              </a:rPr>
              <a:t>Домашнее задание.</a:t>
            </a:r>
            <a:br>
              <a:rPr sz="2800"/>
            </a:br>
            <a:r>
              <a:rPr b="1" i="1" lang="ru-RU" sz="2800" spc="-1" strike="noStrike">
                <a:solidFill>
                  <a:srgbClr val="f79646"/>
                </a:solidFill>
                <a:latin typeface="Calibri"/>
              </a:rPr>
              <a:t>Тема: «Игрушк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64640" y="1908000"/>
            <a:ext cx="5750280" cy="625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Рисунок 2" descr=""/>
          <p:cNvPicPr/>
          <p:nvPr/>
        </p:nvPicPr>
        <p:blipFill>
          <a:blip r:embed="rId1"/>
          <a:stretch/>
        </p:blipFill>
        <p:spPr>
          <a:xfrm>
            <a:off x="34920" y="-14400"/>
            <a:ext cx="6858000" cy="915840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777240" y="1128600"/>
            <a:ext cx="537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омашнее задание. Т</a:t>
            </a:r>
            <a:r>
              <a:rPr b="1" i="1" lang="ru-RU" sz="20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ема : «Мебель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606600" y="1617840"/>
            <a:ext cx="57751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с ребенком домашнюю мебель, предназна­ченную для спальни, столовой, кухн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ть мебель и ее отдельные части (крышка, ножка, ручка, подлокотник, спинка, дверца), внешние признаки (цвет, форму), материал, из которого она изготовлена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яснить ребенку назначение мебели, различных ее видов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гадать загадку и выучить по выбо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С ногами, а без рук, с сиденьем, а без живот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спинкой, а без голов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Под крышей четыре ножки, на крыше суп да ложк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названия всей известной мебе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0280" y="2133360"/>
            <a:ext cx="55450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7532640" cy="9124920"/>
          </a:xfrm>
          <a:prstGeom prst="rect">
            <a:avLst/>
          </a:prstGeom>
          <a:ln w="0">
            <a:noFill/>
          </a:ln>
        </p:spPr>
      </p:pic>
      <p:sp>
        <p:nvSpPr>
          <p:cNvPr id="89" name="TextBox 2"/>
          <p:cNvSpPr/>
          <p:nvPr/>
        </p:nvSpPr>
        <p:spPr>
          <a:xfrm>
            <a:off x="1413000" y="210960"/>
            <a:ext cx="430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омашнее задание. Тема </a:t>
            </a:r>
            <a:r>
              <a:rPr b="1" i="1" lang="ru-RU" sz="28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: «Посуд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436760" y="1778040"/>
            <a:ext cx="4321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 рассмотреть вместе с ребенком посуду — кухонную, чайную, столову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бъяснить ребенку значение сложных слов «картофелечистка», «овощерезка», «кофеварка», «соковыжи­малка», «мясорубка», «кофемол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известные ребёнку названия посу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91920" y="2133360"/>
            <a:ext cx="60498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Родителям рекомендуетс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казать ребенку о рыбах (морских, пресноводных, аквариумных)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ратить внимание на особенности проживания, питания, строения и дыхания рыб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ветить на вопросы: что у рыб вместо ног? Почему они могут дышать в вод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мотреть с ребенком иллюстрации рыб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очитать и обсудить с ребенком «Сказку о рыбаке и рыбке» А. С. Пушкина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ссказать об аквариумных рыбках, их названиях, способах ухода за ни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тгадать и объяснить загадки про рыб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г нет, а движется, перья есть, а не летает, глаза есть, а не мига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У родителей и детей вся одежда из монеток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лещут в речке чистой спинкой серебрист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идактическая игра «Подбери признак»: рыбка (какая?) — 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4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Подобрать родственные слова: рыба — рыбка, рыбак, рыболов, рыбны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Задание 5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Объяснить ребенку, кто такой рыболов и почему он так назван? (Ловит рыбу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3"/>
          <p:cNvSpPr/>
          <p:nvPr/>
        </p:nvSpPr>
        <p:spPr>
          <a:xfrm>
            <a:off x="903240" y="900000"/>
            <a:ext cx="562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Домашнее задание. Тема</a:t>
            </a:r>
            <a:r>
              <a:rPr b="1" lang="ru-RU" sz="2800" spc="-1" strike="noStrike">
                <a:solidFill>
                  <a:srgbClr val="77933c"/>
                </a:solidFill>
                <a:latin typeface="Times New Roman"/>
                <a:ea typeface="Times New Roman"/>
              </a:rPr>
              <a:t>: «Рыбы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4"/>
          <p:cNvSpPr/>
          <p:nvPr/>
        </p:nvSpPr>
        <p:spPr>
          <a:xfrm>
            <a:off x="1069920" y="1619280"/>
            <a:ext cx="5294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ссказать ребенку о рыбах (морских, пресноводных, аквариумных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ратить внимание на особенности проживания, питания, строения и дыхания рыб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ить на вопросы: что у рыб вместо ног? Почему они могут дышать в во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дактическая игра «Подбери признак»: рыбка (какая?) — 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Попросить ребёнка подобрать родственные слова: рыба — рыбка, рыбак, рыболов, рыбны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Написать с ребёнком слово РЫБОЛОВ, объяснить его знач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0070c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64640" y="2133360"/>
            <a:ext cx="57502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1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Родителям рекомендуется побеседовать с ребенком о том, кто такие насекомые;  рассмотреть картинки насекомых, определить их основные признак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2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Дидактическая игра «Закончи предложение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равей сидел   около ...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ожья коровка    ползла по ...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 спрятался     под ...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ха села на .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усеница сидела   на ...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3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Дидактическая игра «Подбери признак»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бочка (какая?) - ...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равей (какой?) - .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4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Один – много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равей – муравь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Бабочка – бабоч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Жук – жуки и д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 5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гра «Кого нет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равей – нет муравья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екоза – нет стрекозы и др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6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Отгадать загадку. Отгадку нарисоват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зывается дом муравьев? (Муравейник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7532640" cy="925992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50720" y="685800"/>
            <a:ext cx="59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омашнее задание. Тема</a:t>
            </a:r>
            <a:r>
              <a:rPr b="1" i="1" lang="ru-RU" sz="20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:  «Насекомые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814320" y="1450800"/>
            <a:ext cx="5256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ям рекомендуется побеседовать с ребенком о том, кто такие насекомые;  рассмотреть картинки насекомых, определить их основные призна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Дидактическая игра «Закончи предложение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равей сидел   около ..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жья коровка    ползла по ..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ук спрятался     под ..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ха села на 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усеница сидела   на ...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Дидактическая игра «Подбери признак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бочка (какая?) - ...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равей (какой?) - 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а «Один – много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равей – муравь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абочка – бабо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ук – жуки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Отгадать загадку. Отгадку написат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называется дом муравьев? (Муравейник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ff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20640" y="2133360"/>
            <a:ext cx="58946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-963720" y="0"/>
            <a:ext cx="8496360" cy="9144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657360" y="123840"/>
            <a:ext cx="4292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Домашнее задание. Тема</a:t>
            </a:r>
            <a:r>
              <a:rPr b="1" i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</a:t>
            </a:r>
            <a:br>
              <a:rPr sz="2400"/>
            </a:br>
            <a:r>
              <a:rPr b="1" i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«Перелетные птицы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1341360" y="2771640"/>
            <a:ext cx="4751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дителям рекоменду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ребенка с перелетными птицами (скворцом, ласточкой, журавлем, соловьем, стрижом, жаворонком, грачом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еть изображения этих птиц на иллюстрациях, обсудить их внешний вид и отличительные признак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ать, откуда птицы к нам прилетели; во время прогулок научить ребенка узнавать грача и скворца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 ребенка бережному отношению к живой природе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дактическая игра «Улетает — не улетает». (Взрослый называет птицу, а ребенок отвечает: улетает она на зиму или нет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52640" y="2133360"/>
            <a:ext cx="546264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-22320" y="2700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2349360" y="8269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372960" y="212760"/>
            <a:ext cx="43214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машнее задание. Тема: </a:t>
            </a:r>
            <a:br>
              <a:rPr sz="2800"/>
            </a:b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«Домашние животные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309600" y="1442880"/>
            <a:ext cx="43894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ь ребенку (по возможности живых) домашних жи­вотных — кошку, собаку, корову, лошадь, свинью, овц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ь о том, чем они питаются, какую пользу при­носят людям, почему они называются домашним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гадать загадки (выучить по выбору)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С хозяином дружит, дом сторожит, живет под крылечком, а  хвост колеч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Спереди — пятачок, сзади — крючок, посреди­не — спинка, а на  ней — щетинка.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Мягкие лапки, а в лапках царап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Я большой и я красивый,  я бегу — и вьется грива, Длинный шелковый хвосток и копытами — цок, цок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ить описательный рассказ о домашнем животном по план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эт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живе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в внешний вид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имеет повадк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питается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пользу приносит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у него детеныш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&amp;Kcy;&amp;acy;&amp;rcy;&amp;tcy;&amp;icy;&amp;ncy;&amp;kcy;&amp;acy; 178 &amp;icy;&amp;zcy; 129505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2360" y="-108360"/>
            <a:ext cx="6172200" cy="26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e46c0a"/>
                </a:solidFill>
                <a:latin typeface="Calibri"/>
              </a:rPr>
              <a:t>Домашнее задание.</a:t>
            </a:r>
            <a:br>
              <a:rPr sz="4000"/>
            </a:br>
            <a:r>
              <a:rPr b="1" i="1" lang="ru-RU" sz="3600" spc="-1" strike="noStrike">
                <a:solidFill>
                  <a:srgbClr val="e46c0a"/>
                </a:solidFill>
                <a:latin typeface="Calibri"/>
              </a:rPr>
              <a:t>Тема: «Зима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75920" y="1692000"/>
            <a:ext cx="5832360" cy="64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учить зимние месяц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одителям рекоменду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беседовать с ребенком о том, какое сейчас время года, при этом следует напомнить, какие изменения произошли  в  природе, что происходит с животными и растениями зи­мой, как звери в лесу переносят холод и голод, как ведут себя птицы зимо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тить внимание ребенка на характерные признаки зимы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3. Отгадать загадки и нарисовать ответ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© На дворе горой, а в избе водо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© Без рук, без ног, а рисовать уме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© Что вниз головой растет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&amp;Kcy;&amp;acy;&amp;rcy;&amp;tcy;&amp;icy;&amp;ncy;&amp;kcy;&amp;acy; 8 &amp;icy;&amp;zcy; 200533"/>
          <p:cNvPicPr/>
          <p:nvPr/>
        </p:nvPicPr>
        <p:blipFill>
          <a:blip r:embed="rId1"/>
          <a:stretch/>
        </p:blipFill>
        <p:spPr>
          <a:xfrm>
            <a:off x="0" y="0"/>
            <a:ext cx="6858000" cy="9144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71720" y="-25272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800" spc="-1" strike="noStrike">
                <a:solidFill>
                  <a:srgbClr val="fdeada"/>
                </a:solidFill>
                <a:latin typeface="Calibri"/>
              </a:rPr>
              <a:t>Домашнее задание.</a:t>
            </a:r>
            <a:br>
              <a:rPr sz="2800"/>
            </a:br>
            <a:r>
              <a:rPr b="1" lang="ru-RU" sz="2400" spc="-1" strike="noStrike">
                <a:solidFill>
                  <a:srgbClr val="fdeada"/>
                </a:solidFill>
                <a:latin typeface="Calibri"/>
              </a:rPr>
              <a:t>Тема: «Зимние забавы и развлечени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6280" y="1692000"/>
            <a:ext cx="56070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седов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ребенком о том, какие забавы и развлечения есть зимой у детворы: катание на санках, коньках, лыжах, сноубордах, лепка снеговиков, игра в снежки, строительство снежных крепостей, катание с горок и др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Отгадать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дки, отгадк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дну загадку по желанию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а нелепый челов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рался в двадцать первый век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ковкой нос, в руке метла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ится солнца и теп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ется речка - мы лежим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д на речке - мы бежи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берёзовых коня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негам несут меня 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и эти рыжи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овут их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684000"/>
            <a:ext cx="6858000" cy="12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49360" y="2133360"/>
            <a:ext cx="596592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 1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телям рекомендуется побеседовать с ребенком о профессиях:  рассказать, что профессия – это то дело, которым занимается взрослый человек и получает за это заработную плату;  познакомить ребенка с некоторыми профессиями членов своей семь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 2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ая игра «Кому это нужно?»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одитель задает ребенку вопрос, а ребенок отвечает, например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опрос: «Кому нужна пила?» Ответ: «Пила нужна плотнику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кастрюля, станок, мука, кисти, топор, ножницы, мел, белый халат, молоток, полицейская машина, пожарный шланг, автомобиль и т.д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 3.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идактическая игра «Узнай профессию по описанию»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ак называется человек который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расит стены? - маляр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т детей? – … Лечит людей?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роит дома? - … Вставляет стекла? - …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инит часы? -… Лечит животных? 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 4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исовать в тетради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ем ты хочешь стать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1" descr=""/>
          <p:cNvPicPr/>
          <p:nvPr/>
        </p:nvPicPr>
        <p:blipFill>
          <a:blip r:embed="rId1"/>
          <a:stretch/>
        </p:blipFill>
        <p:spPr>
          <a:xfrm>
            <a:off x="0" y="44280"/>
            <a:ext cx="6858000" cy="903636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0" y="-5724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. Тема: «Професси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484280" y="2548080"/>
            <a:ext cx="4465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дителям рекомендуется побеседовать с ребенком о профессиях: познакомить ребенка с некоторыми профессиями членов своей семь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дактическая игра «Кому это нужно?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одитель задает ребенку вопрос, а ребенок отвечает, на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опрос: «Кому нужна пила?» Ответ: «Пила нужна плотнику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кастрюля, станок, мука, кисти, топор, ножницы, мел, белый халат, молоток, полицейская машина, пожарный шланг, автомобиль и т.д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идактическая игра «Узнай профессию   по описанию». Как называется человек        который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асит стены? - маля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 детей? – … ..Лечит людей? - 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оит дома? - … Вставляет стекла? - …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инит часы? -… Лечит животных? -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рисовать кем ты хочешь стать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Calibri"/>
              </a:rPr>
              <a:t>Январь. </a:t>
            </a:r>
            <a:br>
              <a:rPr sz="3600"/>
            </a:br>
            <a:r>
              <a:rPr b="1" i="1" lang="ru-RU" sz="2800" spc="-1" strike="noStrike">
                <a:solidFill>
                  <a:srgbClr val="ff3399"/>
                </a:solidFill>
                <a:latin typeface="Calibri"/>
              </a:rPr>
              <a:t>Лексическая тема: «Дом, сем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821640" cy="9956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1916280" y="174600"/>
            <a:ext cx="38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Домашнее задание. Тема: «Моя семь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430280" y="1890720"/>
            <a:ext cx="396072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ворить с ребенком о семье (получить ответы на во­просы: С кем ты живешь? Сколько человек в твоей семье? Назови всех членов твоей семьи. Кто самый младший, кто самый старший в семье? Кто старше всех? Кто младше всех?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ожить ребенку назвать фамилию, имя и отчество каждого члена семьи, домашний адрес и профессию, место работы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картинку «Моя семья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Задание 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1" descr=""/>
          <p:cNvPicPr/>
          <p:nvPr/>
        </p:nvPicPr>
        <p:blipFill>
          <a:blip r:embed="rId1"/>
          <a:stretch/>
        </p:blipFill>
        <p:spPr>
          <a:xfrm>
            <a:off x="15840" y="0"/>
            <a:ext cx="6842160" cy="937584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560960" y="1128600"/>
            <a:ext cx="37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омашнее задание. Тема: </a:t>
            </a:r>
            <a:br>
              <a:rPr sz="2400"/>
            </a:br>
            <a:r>
              <a:rPr b="1" i="1" lang="ru-RU" sz="24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«Одежда, обувь»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125360" y="1890720"/>
            <a:ext cx="5200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ителям рекомендуется вспомнить с ребенком, какая у него есть одежда и обув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ай полный ответ на вопро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осенью тебе нужны резиновые сапоги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летом ты не носишь шубу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Почему зимой ты не ходишь гулять в босоножках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 Игра « Четвертый лишний»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Шлепанцы, пальто, плащ, юб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Кроссовки, панама, ботинки, туф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Сапоги, шорты, босоножки, тап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  Сандалии, шуба, кеды, вален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Отгадай загадки, нарисуй отгадки.  Выучи одну загад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нем ношу платок , монет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сестренки две конфетк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тик, гвоздь, один бана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зови его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ть, ребята, он у куртк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е он нужен на прогул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т дождя спасает он. Что же это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0"/>
            <a:ext cx="6172200" cy="18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2800" spc="-1" strike="noStrike">
              <a:solidFill>
                <a:srgbClr val="ff0066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764640" y="1835280"/>
            <a:ext cx="5750280" cy="63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920916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120240" y="179280"/>
            <a:ext cx="47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омашнее задание. Тема: «Транспорт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343080" y="1662120"/>
            <a:ext cx="6172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ребенком понаблюдать на улице за движением различного транспорт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 его с такими видами транспорта, как на­земный, воздушный, водный, подземный, железнодорожны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еседовать с ним о необходимости соблюдения правил дорожного движения, а также о профессии шофе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гадать загадку о транспорт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Летит птица-небылица, а внутри народ сидит, меж собою говорит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Бежит конь вороной, много тащит за соб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рисовать как можно больш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, распределить их по видам транспор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учить стихотвор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офер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итке машину гулять пове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итке домой я ее привед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ищу ей кузов, кабину, мотор —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у беречь должен каждый шофе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41.radikal.ru/i091/0903/8c/fcc8742ddabb.jpg"/>
          <p:cNvPicPr/>
          <p:nvPr/>
        </p:nvPicPr>
        <p:blipFill>
          <a:blip r:embed="rId1"/>
          <a:stretch/>
        </p:blipFill>
        <p:spPr>
          <a:xfrm>
            <a:off x="0" y="0"/>
            <a:ext cx="6858000" cy="91504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Домашнее задание. Т</a:t>
            </a:r>
            <a:r>
              <a:rPr b="1" lang="ru-RU" sz="2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ема: «Весн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728640" y="1692000"/>
            <a:ext cx="5400720" cy="647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ям рекомендуется поговорить с ребенком о том, какое время года наступило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ремя прогулок обратить внимание на изменения, происходящие весной в живой и неживой природ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учить с ребенком названия весенних месяце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блюдать вместе с ребенком за тем, как изменилась погода: стало теплее или холоднее, день стал длиннее или короч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Посчитай» – согласование существительных с числительны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ручей- два ручья – три ручья – четыре ручья – пять ручье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талина, подснежник, сосулька, лужа, грач и т.п.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Назови ласково» – образование существительных с уменьшительно-ласкательными суффиксами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алина - … проталин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жа - … лужи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чей - … ручеек  и т.д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« Какой,  какая, какое?»  - подбор прилагательных к существительны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весной какое? – Яркое, теплое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на какая? – Ранняя, долгожданная, теплая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чей, проталина, подснежник, лужа, небо, погода и др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4T09:21:30Z</dcterms:created>
  <dc:creator>дом</dc:creator>
  <dc:description/>
  <dc:language>en-US</dc:language>
  <cp:lastModifiedBy>ТС</cp:lastModifiedBy>
  <dcterms:modified xsi:type="dcterms:W3CDTF">2018-06-21T06:43:43Z</dcterms:modified>
  <cp:revision>144</cp:revision>
  <dc:subject/>
  <dc:title>Домашние  задания</dc:title>
</cp:coreProperties>
</file>