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65AB-C070-476A-AC1E-222718D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ED6-8651-4AD3-8971-9277C4B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B4C-F453-4318-9402-D2C156B1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081D-1C91-4880-BCB1-8749741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061-5BED-4856-A59F-89DD621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C345-1B5D-4EFA-B744-EBE8432D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46-7A7B-48FA-B4EC-070A30A7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173-8E5F-490E-9139-BF065C12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C85-2D6B-4F8D-8AE8-4C84DFAE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300-3FB4-460E-A031-31AD4D51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F46-1252-4B03-8FF5-B85D7F3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08B-95DD-45E1-8266-F711836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CC8E-0AB3-4FEA-9299-A72F7FFC0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680" y="181080"/>
            <a:ext cx="5822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92280" y="2133360"/>
            <a:ext cx="5473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4680" y="33480"/>
            <a:ext cx="685332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836640" y="1476360"/>
            <a:ext cx="5329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ть с ребенком несколько игруше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ить материал, из которого каждая из них сделана (деревянная, резиновая, пластмассовая, плюшевая, мехова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метить внешние признаки игрушки: форму (круглая, квадратная, овальная, прямоугольная), цвет, качество (мяг­кая, твердая, гладкая, шершава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с ребенком беседу о бережном отношении к игрушк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гадать загад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© Его бьют, а он не плачет, упадет — поскач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© Пляшет крошка, а всего одна ножк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ь описательный рассказ об игрушке по следующему план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в ее внешний вид (величина, цвет, форма)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 какого материала сделан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с ней можно игр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дание 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учить любое стихотворение про игруш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089000" y="60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9646"/>
                </a:solidFill>
                <a:latin typeface="Calibri"/>
              </a:rPr>
              <a:t>Домашнее задание.</a:t>
            </a:r>
            <a:br>
              <a:rPr sz="2800"/>
            </a:br>
            <a:r>
              <a:rPr b="1" i="1" lang="ru-RU" sz="2800" spc="-1" strike="noStrike">
                <a:solidFill>
                  <a:srgbClr val="f79646"/>
                </a:solidFill>
                <a:latin typeface="Calibri"/>
              </a:rPr>
              <a:t>Тема: «Игруш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4640" y="1908000"/>
            <a:ext cx="57502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34920" y="-14400"/>
            <a:ext cx="6858000" cy="9158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77240" y="112860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ема : «Мебель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06600" y="1617840"/>
            <a:ext cx="5775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 ребенком домашнюю мебель, предназна­ченную для спальни, столовой, кух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мебель и ее отдельные части (крышка, ножка, ручка, подлокотник, спинка, дверца), внешние признаки (цвет, форму), материал, из которого она изготовл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ребенку назначение мебели, различных ее ви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ть загадку и выучить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 ногами, а без рук, с сиденьем, а без живо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инкой, а без голо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Под крышей четыре ножки, на крыше суп да лож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названия всей известной меб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0280" y="2133360"/>
            <a:ext cx="55450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532640" cy="9124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413000" y="210960"/>
            <a:ext cx="43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омашнее задание. Тема </a:t>
            </a:r>
            <a:r>
              <a:rPr b="1" i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: «Посуд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436760" y="1778040"/>
            <a:ext cx="432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 рассмотреть вместе с ребенком посуду — кухонную, чайную, столову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ить ребенку значение сложных слов «картофелечистка», «овощерезка», «кофеварка», «соковыжи­малка», «мясорубка», «кофемол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известные ребёнку названия пос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91920" y="2133360"/>
            <a:ext cx="60498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одителям рекомендуе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ать ребенку о рыбах (морских, пресноводных, аквариумных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тить внимание на особенности проживания, питания, строения и дыхания рыб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ветить на вопросы: что у рыб вместо ног? Почему они могут дышать в вод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отреть с ребенком иллюстрации рыб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читать и обсудить с ребенком «Сказку о рыбаке и рыбке» А. С. Пушкин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ать об аквариумных рыбках, их названиях, способах ухода за ни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гадать и объяснить загадки про ры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г нет, а движется, перья есть, а не летает, глаза есть, а не мига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родителей и детей вся одежда из монет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ещут в речке чистой спинкой серебрист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идактическая игра «Подбери признак»: рыбка (какая?) — 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добрать родственные слова: рыба — рыбка, рыбак, рыболов, рыб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бъяснить ребенку, кто такой рыболов и почему он так назван? (Ловит рыбу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903240" y="900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: «Рыб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069920" y="1619280"/>
            <a:ext cx="529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сказать ребенку о рыбах (морских, пресноводных, аквариум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ратить внимание на особенности проживания, питания, строения и дыхания рыб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ить на вопросы: что у рыб вместо ног? Почему они могут дышать в в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Подбери признак»: рыбка (какая?) —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Попросить ребёнка подобрать родственные слова: рыба — рыбка, рыбак, рыболов, рыб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писать с ребёнком слово РЫБОЛОВ, объяснить его зна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4640" y="2133360"/>
            <a:ext cx="57502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одителям рекомендуется побеседовать с ребенком о том, кто такие насекомые;  рассмотреть картинки насекомых, определить их основные признак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идактическая игра «Закончи предложение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сидел   около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жья коровка    ползла по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 спрятался     под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ха села на 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усеница сидела   на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идактическая игра «Подбери признак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бочка (какая?) - ...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(какой?) - 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дин – много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– мурав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бочка – баб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 – жуки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Кого нет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– нет муравь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екоза – нет стрекозы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Отгадать загадку. Отгадку нарисова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зывается дом муравьев? (Муравейни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532640" cy="9259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50720" y="685800"/>
            <a:ext cx="59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 «Насекомые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14320" y="1450800"/>
            <a:ext cx="525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ям рекомендуется побеседовать с ребенком о том, кто такие насекомые;  рассмотреть картинки насекомых, определить их основные призна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идактическая игра «Закончи предложени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сидел   около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жья коровка    ползла по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к спрятался     под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ха села на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еница сидела   на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идактическая игра «Подбери признак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(какая?) - ..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(какой?) -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«Один – много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– мурав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– баб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к – жуки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тгадать загадку. Отгадку напис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дом муравьев? (Муравейн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0640" y="2133360"/>
            <a:ext cx="5894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-963720" y="0"/>
            <a:ext cx="8496360" cy="9144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657360" y="123840"/>
            <a:ext cx="429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i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i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ерелетные птиц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341360" y="2771640"/>
            <a:ext cx="475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енка с перелетными птицами (скворцом, ласточкой, журавлем, соловьем, стрижом, жаворонком, грачо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изображения этих птиц на иллюстрациях, обсудить их внешний вид и отличительные призна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, откуда птицы к нам прилетели; во время прогулок научить ребенка узнавать грача и скворц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бережному отношению к живой природ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еская игра «Улетает — не улетает». (Взрослый называет птицу, а ребенок отвечает: улетает она на зиму или нет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52640" y="2133360"/>
            <a:ext cx="5462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-22320" y="27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349360" y="826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72960" y="212760"/>
            <a:ext cx="4321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машнее задание. Тема: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омашние животны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9600" y="1442880"/>
            <a:ext cx="43894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ебенку (по возможности живых) домашних жи­вотных — кошку, собаку, корову, лошадь, свинью, овц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о том, чем они питаются, какую пользу при­носят людям, почему они называются домашни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гадать загадки (выучить по выбору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 хозяином дружит, дом сторожит, живет под крылечком, а  хвост колеч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переди — пятачок, сзади — крючок, посреди­не — спинка, а на  ней — щетинка.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Мягкие лапки, а в лапках цара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Я большой и я красивый,  я бегу — и вьется грива, Длинный шелковый хвосток и копытами — цок, ц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описательный рассказ о домашнем животном по план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ив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внешний ви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меет повад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питает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пользу приноси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 него детеныш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Kcy;&amp;acy;&amp;rcy;&amp;tcy;&amp;icy;&amp;ncy;&amp;kcy;&amp;acy; 178 &amp;icy;&amp;zcy; 129505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360" y="-108360"/>
            <a:ext cx="617220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Домашнее задание.</a:t>
            </a:r>
            <a:br>
              <a:rPr sz="4000"/>
            </a:br>
            <a:r>
              <a:rPr b="1" i="1" lang="ru-RU" sz="3600" spc="-1" strike="noStrike">
                <a:solidFill>
                  <a:srgbClr val="e46c0a"/>
                </a:solidFill>
                <a:latin typeface="Calibri"/>
              </a:rPr>
              <a:t>Тема: «Зим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5920" y="1692000"/>
            <a:ext cx="583236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учить зимние меся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еседовать с ребенком о том, какое сейчас время года, при этом следует напомнить, какие изменения произошли  в  природе, что происходит с животными и растениями зи­мой, как звери в лесу переносят холод и голод, как ведут себя птицы зим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тить внимание ребенка на характерные признаки зим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Отгадать загадки и нарисовать отве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На дворе горой, а в избе во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Без рук, без ног, а рисовать уме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Что вниз головой расте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Kcy;&amp;acy;&amp;rcy;&amp;tcy;&amp;icy;&amp;ncy;&amp;kcy;&amp;acy; 8 &amp;icy;&amp;zcy; 20053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71720" y="-2527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deada"/>
                </a:solidFill>
                <a:latin typeface="Calibri"/>
              </a:rPr>
              <a:t>Домашнее задание.</a:t>
            </a:r>
            <a:br>
              <a:rPr sz="2800"/>
            </a:br>
            <a:r>
              <a:rPr b="1" lang="ru-RU" sz="2400" spc="-1" strike="noStrike">
                <a:solidFill>
                  <a:srgbClr val="fdeada"/>
                </a:solidFill>
                <a:latin typeface="Calibri"/>
              </a:rPr>
              <a:t>Тема: «Зимние забавы и развлече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6280" y="1692000"/>
            <a:ext cx="56070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ов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бенком о том, какие забавы и развлечения есть зимой у детворы: катание на санках, коньках, лыжах, сноубордах, лепка снеговиков, игра в снежки, строительство снежных крепостей, катание с горок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гад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, отгадк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у загадку по желан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нелеп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рался в двадцать первый в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ой нос, в руке метл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ится солнца и теп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ется речка - мы лежим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 на речке - мы беж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берёзовых кон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негам несут меня 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и эти рыжи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овут их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84000"/>
            <a:ext cx="68580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9360" y="2133360"/>
            <a:ext cx="59659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ям рекомендуется побеседовать с ребенком о профессиях:  рассказать, что профессия – это то дело, которым занимается взрослый человек и получает за это заработную плату;  познакомить ребенка с некоторыми профессиями членов своей семь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ая игра «Кому это нужно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ь задает ребенку вопрос, а ребенок отвечает, например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: «Кому нужна пила?» Ответ: «Пила нужна плотнику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астрюля, станок, мука, кисти, топор, ножницы, мел, белый халат, молоток, полицейская машина, пожарный шланг, автомобиль и т.д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3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ая игра «Узнай профессию по описанию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зывается человек который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асит стены? - маля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 детей? – … Лечит людей?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оит дома? - … Вставляет стекла?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нит часы? -… Лечит животных?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исовать в тетрад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ем ты хочешь стать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44280"/>
            <a:ext cx="6858000" cy="9036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0" y="-57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. Тема: «Професс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484280" y="2548080"/>
            <a:ext cx="446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ям рекомендуется побеседовать с ребенком о профессиях: познакомить ребенка с некоторыми профессиями членов своей семь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Кому это нужно?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ь задает ребенку вопрос, а ребенок отвечает, 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прос: «Кому нужна пила?» Ответ: «Пила нужна плотнику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кастрюля, станок, мука, кисти, топор, ножницы, мел, белый халат, молоток, полицейская машина, пожарный шланг, автомобиль и т.д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Узнай профессию   по описанию». Как называется человек        которы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асит стены? - маля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 детей? – … ..Лечит людей? -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оит дома? - … Вставляет стекла? -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инит часы? -… Лечит животных?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рисовать кем ты хочешь стать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Январь. </a:t>
            </a:r>
            <a:br>
              <a:rPr sz="3600"/>
            </a:br>
            <a:r>
              <a:rPr b="1" i="1" lang="ru-RU" sz="2800" spc="-1" strike="noStrike">
                <a:solidFill>
                  <a:srgbClr val="ff3399"/>
                </a:solidFill>
                <a:latin typeface="Calibri"/>
              </a:rPr>
              <a:t>Лексическая тема: «Дом, сем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21640" cy="9956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916280" y="17460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Домашнее задание. Тема: «Моя сем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430280" y="1890720"/>
            <a:ext cx="396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с ребенком о семье (получить ответы на во­просы: С кем ты живешь? Сколько человек в твоей семье? Назови всех членов твоей семьи. Кто самый младший, кто самый старший в семье? Кто старше всех? Кто младше всех?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ребенку назвать фамилию, имя и отчество каждого члена семьи, домашний адрес и профессию, место работы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картинку «Моя сем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5840" y="0"/>
            <a:ext cx="6842160" cy="9375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560960" y="1128600"/>
            <a:ext cx="37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ема: </a:t>
            </a:r>
            <a:br>
              <a:rPr sz="2400"/>
            </a:b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«Одежда, обувь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25360" y="1890720"/>
            <a:ext cx="5200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ям рекомендуется вспомнить с ребенком, какая у него есть одежда и обув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й полный ответ на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осенью тебе нужны резиновые сапог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летом ты не носишь шуб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Почему зимой ты не ходишь гулять в босоножка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Игра « Четвертый лишний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Шлепанцы, пальто, плащ, юб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Кроссовки, панама, ботинки, туф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Сапоги, шорты, босоножки, та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Сандалии, шуба, кеды, вал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Отгадай загадки, нарисуй отгадки.  Выучи одну загад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ношу платок , мон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естренки две конф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тик, гвоздь, один бан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 ег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ь, ребята, он у кур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он нужен на прогу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ождя спасает он. Что же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4640" y="1835280"/>
            <a:ext cx="5750280" cy="63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209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0240" y="179280"/>
            <a:ext cx="47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машнее задание. Тема: «Транспорт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43080" y="1662120"/>
            <a:ext cx="6172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ребенком понаблюдать на улице за движением различного транспор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его с такими видами транспорта, как на­земный, воздушный, водный, подземный, железнодорож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овать с ним о необходимости соблюдения правил дорожного движения, а также о профессии шоф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гадать загадку о транспор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Летит птица-небылица, а внутри народ сидит, меж собою говор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Бежит конь вороной, много тащит за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рисовать как можно больш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, распределить их по видам транспор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учить стихотвор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офе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тке машину гулять пове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тке домой я ее приве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щу ей кузов, кабину, мотор 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у беречь должен каждый шоф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41.radikal.ru/i091/0903/8c/fcc8742ddab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50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ема: «Весн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8640" y="1692000"/>
            <a:ext cx="540072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 поговорить с ребенком о том, какое время года наступило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к обратить внимание на изменения, происходящие весной в живой и неживой приро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 ребенком названия весенних месяце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ть вместе с ребенком за тем, как изменилась погода: стало теплее или холоднее, день стал длиннее или короч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считай» – согласование существительных с числительны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учей- два ручья – три ручья – четыре ручья – пять ручь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алина, подснежник, сосулька, лужа, грач и т.п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Назови ласково» – образование существительных с уменьшительно-ласкательными суффиксам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а - … протали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жа - … луж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ей - … ручеек  и т.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 Какой,  какая, какое?»  - подбор прилагательных к существительн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есной какое? – Яркое, тепло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какая? – Ранняя, долгожданная, тепла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чей, проталина, подснежник, лужа, небо, погода и др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9:21:30Z</dcterms:created>
  <dc:creator>дом</dc:creator>
  <dc:description/>
  <dc:language>en-US</dc:language>
  <cp:lastModifiedBy>ТС</cp:lastModifiedBy>
  <dcterms:modified xsi:type="dcterms:W3CDTF">2018-06-21T06:43:43Z</dcterms:modified>
  <cp:revision>144</cp:revision>
  <dc:subject/>
  <dc:title>Домашние  задания</dc:title>
</cp:coreProperties>
</file>