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6CFF-C06A-4455-B787-8674194C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7124-57A1-41C3-B3D3-94A7F9E2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3D6E-92F6-4805-926E-C30EE469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9F6-7E51-4956-BF48-1EDAFA6A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F8B-2F6A-4F48-B67F-7A60B1E35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665F-7B4D-403E-A3CB-B131BD9A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09FA-7DEB-45F7-988C-6C15CE61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4DA1-DC52-4F18-9C91-A11368F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3290-379E-4EE8-B122-1941FE90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4F04-55AE-4861-8652-BAB15D65D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155F-2301-4BD5-9F71-F6DBB62A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F08-1CB0-41A9-A9AE-998915B6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1847-E8DC-4926-A379-04613820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3E78-923A-46CF-B354-D692A5C5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F0CF-B61C-43FF-96DE-7B4E4858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E27-033E-4A86-ADC8-682EDE8F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2591-8B76-45AD-ABCA-64BEB8BEB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1B9-898D-4C96-A073-F4AF308C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A7DE-19EF-4E4D-B0BB-FED2038E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EF3-9A16-4457-B3F8-F4D11EB1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84E9-8604-47DA-9D71-2C94B388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1DF-96EB-428A-82C9-04F090A8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69D1-91B4-4079-8ADD-9E1AB50E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EF5A-4F2C-428F-B6BA-531FF370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2958-1500-49DE-A5CF-1439C42D386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038D-B50C-42C2-88E5-FF9E7D6E3918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ЖАЗ – ИСКУССТВО ХХ ВЕКА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АБЛИ ИЗ ЕВРОП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5" descr="kolu"/>
          <p:cNvPicPr/>
          <p:nvPr/>
        </p:nvPicPr>
        <p:blipFill>
          <a:blip r:embed="rId1"/>
          <a:stretch/>
        </p:blipFill>
        <p:spPr>
          <a:xfrm>
            <a:off x="1855800" y="1647720"/>
            <a:ext cx="542592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Е КОЛОНИС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0_5af1a_2ba5845d_XL"/>
          <p:cNvPicPr/>
          <p:nvPr/>
        </p:nvPicPr>
        <p:blipFill>
          <a:blip r:embed="rId1"/>
          <a:stretch/>
        </p:blipFill>
        <p:spPr>
          <a:xfrm>
            <a:off x="1176480" y="1797120"/>
            <a:ext cx="6784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АБЛИ ИЗ АФР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7" descr="jamestown080_s"/>
          <p:cNvPicPr/>
          <p:nvPr/>
        </p:nvPicPr>
        <p:blipFill>
          <a:blip r:embed="rId1"/>
          <a:stretch/>
        </p:blipFill>
        <p:spPr>
          <a:xfrm>
            <a:off x="1515960" y="1598760"/>
            <a:ext cx="61056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ВОЛЬНИЧИЙ РЫ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_42554057_slavemarket_ap"/>
          <p:cNvPicPr/>
          <p:nvPr/>
        </p:nvPicPr>
        <p:blipFill>
          <a:blip r:embed="rId1"/>
          <a:stretch/>
        </p:blipFill>
        <p:spPr>
          <a:xfrm>
            <a:off x="2065320" y="2013120"/>
            <a:ext cx="53560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АРКИЕ  РИТМЫ АФР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6940677537_8e0571737d_b"/>
          <p:cNvPicPr/>
          <p:nvPr/>
        </p:nvPicPr>
        <p:blipFill>
          <a:blip r:embed="rId1"/>
          <a:stretch/>
        </p:blipFill>
        <p:spPr>
          <a:xfrm>
            <a:off x="455760" y="2446200"/>
            <a:ext cx="4032000" cy="280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african-dance_59197596"/>
          <p:cNvPicPr/>
          <p:nvPr/>
        </p:nvPicPr>
        <p:blipFill>
          <a:blip r:embed="rId2"/>
          <a:stretch/>
        </p:blipFill>
        <p:spPr>
          <a:xfrm>
            <a:off x="5219640" y="2276640"/>
            <a:ext cx="3030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РИЧУЭЛ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ричуэлс -  песни североамериканских негров религиозного содержания. Их пели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ром рабы с плантаций, подражая духовным гимнам белых переселенцев в Америку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ричуэлс оказали заметное влияние на развитие джазового искусств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were_you_there_enl"/>
          <p:cNvPicPr/>
          <p:nvPr/>
        </p:nvPicPr>
        <p:blipFill>
          <a:blip r:embed="rId1"/>
          <a:stretch/>
        </p:blipFill>
        <p:spPr>
          <a:xfrm>
            <a:off x="4649760" y="1905120"/>
            <a:ext cx="40323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ХЕЛИЯ ДЖЕКС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i"/>
          <p:cNvPicPr/>
          <p:nvPr/>
        </p:nvPicPr>
        <p:blipFill>
          <a:blip r:embed="rId1"/>
          <a:stretch/>
        </p:blipFill>
        <p:spPr>
          <a:xfrm>
            <a:off x="1547640" y="2060640"/>
            <a:ext cx="5470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Ю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Блюз- народная песня американских негров с грустным, печальным оттенком. Блюзы пелись в сопровождении банджо или гитары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4" descr="CedarsBlues"/>
          <p:cNvPicPr/>
          <p:nvPr/>
        </p:nvPicPr>
        <p:blipFill>
          <a:blip r:embed="rId1"/>
          <a:stretch/>
        </p:blipFill>
        <p:spPr>
          <a:xfrm>
            <a:off x="4998960" y="1598760"/>
            <a:ext cx="3332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УИ АРМСТРОН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LouisArmstrong"/>
          <p:cNvPicPr/>
          <p:nvPr/>
        </p:nvPicPr>
        <p:blipFill>
          <a:blip r:embed="rId1"/>
          <a:stretch/>
        </p:blipFill>
        <p:spPr>
          <a:xfrm>
            <a:off x="1012680" y="1598760"/>
            <a:ext cx="2914920" cy="449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trumpet-blast"/>
          <p:cNvPicPr/>
          <p:nvPr/>
        </p:nvPicPr>
        <p:blipFill>
          <a:blip r:embed="rId2"/>
          <a:stretch/>
        </p:blipFill>
        <p:spPr>
          <a:xfrm>
            <a:off x="5045040" y="1598760"/>
            <a:ext cx="32400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ГТАЙ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егтайм – «рваное врем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нцевальная  музыка , популярная в Америке перед появлением джа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6" descr="ragtime"/>
          <p:cNvPicPr/>
          <p:nvPr/>
        </p:nvPicPr>
        <p:blipFill>
          <a:blip r:embed="rId1"/>
          <a:stretch/>
        </p:blipFill>
        <p:spPr>
          <a:xfrm>
            <a:off x="4991040" y="1598760"/>
            <a:ext cx="3349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 четверти: «МУЗЫКА ЛЕГКАЯ И СЕРЬЕЗНАЯ» 8 клас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формирование целостного представления у школьников о джазовой музыке, в процессе свободного творческого развития ребёнка в рамках уро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АРАКТЕРНЫЕ ЧЕРТЫ ДЖ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Импровизация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Сложный ритм, акценты.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Свинг (качание)- причудливая манера джазовых музыкантов  «произносить» звуки как бы невпопад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ЮБИМЫЕ ИНСТРУМЕН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musicians(6)"/>
          <p:cNvPicPr/>
          <p:nvPr/>
        </p:nvPicPr>
        <p:blipFill>
          <a:blip r:embed="rId1"/>
          <a:stretch/>
        </p:blipFill>
        <p:spPr>
          <a:xfrm>
            <a:off x="1335240" y="1598760"/>
            <a:ext cx="64656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ЗДАЙ СИКВ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ервая строка.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 слово – понятие или тема (существительное) - ДЖА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торая строка. 2 слова – описание этого понятия (прилагательные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Третья строка. 3 слова – действия (глаголы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Четвертая строка. Фраза или предложение, показывающее отношение к теме (афоризм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ятая строка. 1 слово – синоним, который повторяет суть те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 актуализация знаний о джазе, формирование знаний о  возникновении,  характерных  особенностях джаз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развивать способность к анализу музыкального языка, вокально-хоровые навыки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оспитывать вдумчивого слушателя, прививать интерес к музыкальному искусству, эстетический вкус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бесед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слушание музык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вокально-хоровая  работ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решение проблемных ситуац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 выполнение творческих задан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 исследовательская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ОБ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Методы обуче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музыкального обобщени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эмоциональной драматург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сравнительного анал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опережения и возвращения назад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имулирование творческой деятельности через создание проблемной ситуац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ЛЬНЫЙ МАТЕРИ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звукозаписи джазовой музыки,   синтезатор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компьютер, проектор,  презентация, музыкальная энциклопед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 основе этой музыки лежит нечто такое, что можно почувствовать, но нельзя объяснить».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л.Кол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ЖАЗ –БАНД?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КТО ЭТО?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image"/>
          <p:cNvPicPr/>
          <p:nvPr/>
        </p:nvPicPr>
        <p:blipFill>
          <a:blip r:embed="rId1"/>
          <a:stretch/>
        </p:blipFill>
        <p:spPr>
          <a:xfrm>
            <a:off x="1692360" y="1598760"/>
            <a:ext cx="5753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3:50:55Z</dcterms:created>
  <dc:creator>Пользователь</dc:creator>
  <dc:description/>
  <dc:language>en-US</dc:language>
  <cp:lastModifiedBy>DNA7 X86</cp:lastModifiedBy>
  <dcterms:modified xsi:type="dcterms:W3CDTF">2016-05-18T12:43:24Z</dcterms:modified>
  <cp:revision>3</cp:revision>
  <dc:subject/>
  <dc:title>ДЖАЗ – ИСКУССТВО ХХ ВЕКА!</dc:title>
</cp:coreProperties>
</file>