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F0D-BBD0-43D9-B7FC-CEBDE299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F0EF-9157-4DBD-A701-1EC5C4BD5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0609-812C-4C10-B886-AE5E64A0E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70AD-9E86-4532-96F7-16666FBE0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4BDB-EA87-4E9C-BC76-320587EC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44A9-3F50-44B7-AB06-2DB982D86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2E08-9032-4B10-BE92-47B72584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81E35-8660-4764-99E4-C20A59A2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3119-DD35-4FC9-AEAD-6CB8E2CF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B571-7DA2-4445-8A8B-776B3624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93F33-3548-4706-8838-2DFEC47CC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5449-C2CA-4104-A31D-D2B169E1E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A47C2-252F-4AF4-BB84-5F1878F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6571-C622-4077-90E7-8563A94D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097A-DB94-419E-9E7C-496E6B1A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6216-2261-4B4A-B032-E23FB489A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83F9-82E5-4857-931D-A8891C60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329-9CCD-4197-884A-180024DC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8964-22C9-4304-AAE1-4BED10B81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68EC-CA42-4A57-859F-5C14AC2D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A7C-8542-421A-A3B6-22A078F2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5F60-D443-4792-BD99-0D99EF3F9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6059-37F3-442E-BE6F-F9C821C6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F32-1017-4C2D-9B2C-B462FF473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EF3A-D35B-4095-800B-96E0B3215E5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02F4-09E5-455F-B244-7070A5B72A0C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ДЖАЗ – ИСКУССТВО ХХ ВЕКА!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АБЛИ ИЗ ЕВРОПЫ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Picture 5" descr="kolu"/>
          <p:cNvPicPr/>
          <p:nvPr/>
        </p:nvPicPr>
        <p:blipFill>
          <a:blip r:embed="rId1"/>
          <a:stretch/>
        </p:blipFill>
        <p:spPr>
          <a:xfrm>
            <a:off x="1855800" y="1647720"/>
            <a:ext cx="5425920" cy="439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ЕРВЫЕ КОЛОНИС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4" name="Picture 5" descr="0_5af1a_2ba5845d_XL"/>
          <p:cNvPicPr/>
          <p:nvPr/>
        </p:nvPicPr>
        <p:blipFill>
          <a:blip r:embed="rId1"/>
          <a:stretch/>
        </p:blipFill>
        <p:spPr>
          <a:xfrm>
            <a:off x="1176480" y="1797120"/>
            <a:ext cx="6784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ОРАБЛИ ИЗ АФР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6" name="Picture 7" descr="jamestown080_s"/>
          <p:cNvPicPr/>
          <p:nvPr/>
        </p:nvPicPr>
        <p:blipFill>
          <a:blip r:embed="rId1"/>
          <a:stretch/>
        </p:blipFill>
        <p:spPr>
          <a:xfrm>
            <a:off x="1515960" y="1598760"/>
            <a:ext cx="61056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НЕВОЛЬНИЧИЙ РЫНОК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8" name="Picture 5" descr="_42554057_slavemarket_ap"/>
          <p:cNvPicPr/>
          <p:nvPr/>
        </p:nvPicPr>
        <p:blipFill>
          <a:blip r:embed="rId1"/>
          <a:stretch/>
        </p:blipFill>
        <p:spPr>
          <a:xfrm>
            <a:off x="2065320" y="2013120"/>
            <a:ext cx="535608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ЖАРКИЕ  РИТМЫ АФРИ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0" name="Picture 5" descr="6940677537_8e0571737d_b"/>
          <p:cNvPicPr/>
          <p:nvPr/>
        </p:nvPicPr>
        <p:blipFill>
          <a:blip r:embed="rId1"/>
          <a:stretch/>
        </p:blipFill>
        <p:spPr>
          <a:xfrm>
            <a:off x="455760" y="2446200"/>
            <a:ext cx="4032000" cy="2802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african-dance_59197596"/>
          <p:cNvPicPr/>
          <p:nvPr/>
        </p:nvPicPr>
        <p:blipFill>
          <a:blip r:embed="rId2"/>
          <a:stretch/>
        </p:blipFill>
        <p:spPr>
          <a:xfrm>
            <a:off x="5219640" y="2276640"/>
            <a:ext cx="30304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ПИРИЧУЭЛС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ричуэлс -  песни североамериканских негров религиозного содержания. Их пели 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хором рабы с плантаций, подражая духовным гимнам белых переселенцев в Америку.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eaeaea"/>
                </a:solidFill>
                <a:latin typeface="Arial"/>
              </a:rPr>
              <a:t>Спиричуэлс оказали заметное влияние на развитие джазового искусства</a:t>
            </a:r>
            <a:endParaRPr b="0" lang="en-US" sz="2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4" name="Picture 7" descr="were_you_there_enl"/>
          <p:cNvPicPr/>
          <p:nvPr/>
        </p:nvPicPr>
        <p:blipFill>
          <a:blip r:embed="rId1"/>
          <a:stretch/>
        </p:blipFill>
        <p:spPr>
          <a:xfrm>
            <a:off x="4649760" y="1905120"/>
            <a:ext cx="4032360" cy="38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ХЕЛИЯ ДЖЕКСО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46" name="Picture 6" descr="i"/>
          <p:cNvPicPr/>
          <p:nvPr/>
        </p:nvPicPr>
        <p:blipFill>
          <a:blip r:embed="rId1"/>
          <a:stretch/>
        </p:blipFill>
        <p:spPr>
          <a:xfrm>
            <a:off x="1547640" y="2060640"/>
            <a:ext cx="547056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ЛЮЗ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      </a:t>
            </a:r>
            <a:r>
              <a:rPr b="0" lang="ru-RU" sz="2600" spc="-1" strike="noStrike">
                <a:solidFill>
                  <a:srgbClr val="eaeaea"/>
                </a:solidFill>
                <a:latin typeface="Arial"/>
              </a:rPr>
              <a:t>Блюз- народная песня американских негров с грустным, печальным оттенком. Блюзы пелись в сопровождении банджо или гитары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9" name="Picture 4" descr="CedarsBlues"/>
          <p:cNvPicPr/>
          <p:nvPr/>
        </p:nvPicPr>
        <p:blipFill>
          <a:blip r:embed="rId1"/>
          <a:stretch/>
        </p:blipFill>
        <p:spPr>
          <a:xfrm>
            <a:off x="4998960" y="1598760"/>
            <a:ext cx="3332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ЛУИ АРМСТРОНГ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1" name="Picture 5" descr="LouisArmstrong"/>
          <p:cNvPicPr/>
          <p:nvPr/>
        </p:nvPicPr>
        <p:blipFill>
          <a:blip r:embed="rId1"/>
          <a:stretch/>
        </p:blipFill>
        <p:spPr>
          <a:xfrm>
            <a:off x="1012680" y="1598760"/>
            <a:ext cx="2914920" cy="44971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trumpet-blast"/>
          <p:cNvPicPr/>
          <p:nvPr/>
        </p:nvPicPr>
        <p:blipFill>
          <a:blip r:embed="rId2"/>
          <a:stretch/>
        </p:blipFill>
        <p:spPr>
          <a:xfrm>
            <a:off x="5045040" y="1598760"/>
            <a:ext cx="32400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РЕГТАЙ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20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Регтайм – «рваное время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анцевальная  музыка , популярная в Америке перед появлением джаз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5" name="Picture 6" descr="ragtime"/>
          <p:cNvPicPr/>
          <p:nvPr/>
        </p:nvPicPr>
        <p:blipFill>
          <a:blip r:embed="rId1"/>
          <a:stretch/>
        </p:blipFill>
        <p:spPr>
          <a:xfrm>
            <a:off x="4991040" y="1598760"/>
            <a:ext cx="33498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Тема четверти: «МУЗЫКА ЛЕГКАЯ И СЕРЬЕЗНАЯ» 8 класс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ЦЕЛЬ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формирование целостного представления у школьников о джазовой музыке, в процессе свободного творческого развития ребёнка в рамках урока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ХАРАКТЕРНЫЕ ЧЕРТЫ ДЖАЗ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Импровизация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Сложный ритм, акценты.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700" spc="-1" strike="noStrike">
                <a:solidFill>
                  <a:srgbClr val="eaeaea"/>
                </a:solidFill>
                <a:latin typeface="Arial"/>
              </a:rPr>
              <a:t>- Свинг (качание)- причудливая манера джазовых музыкантов  «произносить» звуки как бы невпопад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ЮБИМЫЕ ИНСТРУМЕНТ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Picture 5" descr="musicians(6)"/>
          <p:cNvPicPr/>
          <p:nvPr/>
        </p:nvPicPr>
        <p:blipFill>
          <a:blip r:embed="rId1"/>
          <a:stretch/>
        </p:blipFill>
        <p:spPr>
          <a:xfrm>
            <a:off x="1335240" y="1598760"/>
            <a:ext cx="646560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ОЗДАЙ СИКВЕЙН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ервая строка.</a:t>
            </a:r>
            <a:r>
              <a:rPr b="0" i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1 слово – понятие или тема (существительное) - ДЖАЗ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торая строка. 2 слова – описание этого понятия (прилагательные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Третья строка. 3 слова – действия (глаголы)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Четвертая строка. Фраза или предложение, показывающее отношение к теме (афоризм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Пятая строка. 1 слово – синоним, который повторяет суть темы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Ч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 актуализация знаний о джазе, формирование знаний о  возникновении,  характерных  особенностях джаза;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развивать способность к анализу музыкального языка, вокально-хоровые навыки.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- воспитывать вдумчивого слушателя, прививать интерес к музыкальному искусству, эстетический вкус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ВИДЫ ДЕЯТЕЛЬ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4449600" y="32439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50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бесед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слушание музыки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вокально-хоровая  работ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решение проблемных ситуац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 выполнение творческих задан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  исследовательская;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ТОДЫ ОБУЧ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Методы обучен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музыкального обобщения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эмоциональной драматург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сравнительного анализа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метод опережения и возвращения назад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стимулирование творческой деятельности через создание проблемной ситуации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УЗЫКАЛЬНЫЙ МАТЕРИА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        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ОБОРУДОВА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-звукозаписи джазовой музыки,   синтезатор</a:t>
            </a:r>
            <a:r>
              <a:rPr b="1" lang="ru-RU" sz="32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компьютер, проектор,  презентация, музыкальная энциклопедия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«</a:t>
            </a:r>
            <a:r>
              <a:rPr b="1" lang="ru-RU" sz="4800" spc="-1" strike="noStrike">
                <a:solidFill>
                  <a:srgbClr val="ccecff"/>
                </a:solidFill>
                <a:latin typeface="Arial"/>
              </a:rPr>
              <a:t>В основе этой музыки лежит нечто такое, что можно почувствовать, но нельзя объяснить».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Ул.Колер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ЖАЗ –БАНД?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                         КТО ЭТО???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0" name="Picture 6" descr="image"/>
          <p:cNvPicPr/>
          <p:nvPr/>
        </p:nvPicPr>
        <p:blipFill>
          <a:blip r:embed="rId1"/>
          <a:stretch/>
        </p:blipFill>
        <p:spPr>
          <a:xfrm>
            <a:off x="1692360" y="1598760"/>
            <a:ext cx="57531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1T13:50:55Z</dcterms:created>
  <dc:creator>Пользователь</dc:creator>
  <dc:description/>
  <dc:language>en-US</dc:language>
  <cp:lastModifiedBy>DNA7 X86</cp:lastModifiedBy>
  <dcterms:modified xsi:type="dcterms:W3CDTF">2016-05-18T12:43:24Z</dcterms:modified>
  <cp:revision>3</cp:revision>
  <dc:subject/>
  <dc:title>ДЖАЗ – ИСКУССТВО ХХ ВЕКА!</dc:title>
</cp:coreProperties>
</file>