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B877-513D-4F78-960B-7D74F3B4C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8214-64C6-4AF3-9542-EE42F63E9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BCD969D-95B7-4A5C-A9B2-66A24054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B793F3-E707-4512-BCDE-2EFD5D7C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1CEC050-D145-419A-908C-77965FD01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18A1B9-B6BD-4139-8D75-188CFA7E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2CDCABC-5BF3-45CA-8B65-EA3504283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080413-66B2-4DA5-932A-30D7ABFD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F8DEAAC-20D9-4A73-91C7-D3FB4C42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0A62BDB-8A32-4D2B-9087-6F3080A6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A63DFD-BB7D-437C-99AB-9B5893E9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4AE-1459-4578-8452-F8B70A7C8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85EB-77D2-43B7-8557-6EE131023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19396-5C65-44D2-AE84-041B1F6D1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D4A76-0361-4BD6-B208-E7FFFD72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497D1-DE2C-49A1-A21B-A21CE7886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0E3C50-4A96-4199-ADA7-37E8FBAA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322B9-B4D1-4E1B-8116-E829688B5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24931-EBBF-491C-B598-836BBEFC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A4AA45-A5D3-47A4-B814-DFF8EB5A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7E1E-35F2-448D-96DA-D9021DA18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56561-378C-41CC-91E8-5F26FE68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15D80-65BC-4FA1-9F04-113320FD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D433D9-0DA6-4788-B74F-3642130B9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56F568-1067-4D97-881D-FC69C4289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20243-BD56-42A1-B21B-3700ECB85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EF0F31-3F11-4336-8AA0-0E69707CD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173FE7-CC6F-46C7-B956-EBA414160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C83A8-9659-4348-AA1C-5B1D252A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84586-659A-477C-889A-AEAFD538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71663-2177-4DB9-AD8C-9CB94BF7B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22FE-EB55-44DA-91A2-7D3EDA57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D6ACB-7AA6-44C8-A2A9-FF825BBCC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5A4BB-48A4-436F-89BD-B1E5C58A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96512-6B69-4706-981C-FE2407A1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75028-5BA4-4C90-B900-AAC5892F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339A1-C4E7-444C-8107-10D61F97D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79020-B521-4300-BE42-C5DF066E9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D3C2A-2745-4D54-A41D-227EE236B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F4595C-58BC-4FB4-A459-5DD488635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0F8777-DE86-4227-B5FE-047DA24F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89181F-7408-4CC9-A9F9-5F8631DD8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BD0-6B6F-4B7C-BF58-48BA9F4F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5E6720-8624-4457-806E-2C849744F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B18ADD9-7257-4BD0-A49C-EF4F07321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1B27A7-34E7-4D34-A179-BF4EE3287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AF6052-13DB-465F-AA9B-E6CA1673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40CECE-9873-4DA8-A9E4-025D895A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71C5C3-677B-42D3-AF7B-7C6420BC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10B57-6985-4D51-8C43-3A6FA696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FAEC2-4C47-4209-BDD4-26E1C06C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9CBA42-E39A-4C20-871A-9A130CDA7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C1294-0494-40F1-AC1A-4690210C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4D88-68D8-4EE0-8D67-2447F7C65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83C8-6372-4CF1-9A2E-20BB865D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9F069-6843-4A6B-9EA2-DFB4115C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D9B763-201E-44D9-B0EE-F8D18981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B13FC-8785-470A-BC83-DC9DC1F6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72E8B-0BB5-46CC-A7E9-43CC1633C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D0AFC-8268-4A14-A087-DDADC37C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1E83D-C39E-487C-8FCE-6505F97E1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78C48A-FD95-4FC1-8360-3AAE2CDC3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C8E4FF-E1F7-4EF7-9399-92184062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F6233D-CE53-4EB9-8902-FD73DA26C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0589-B7E4-48B1-B45F-8D75D86C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350CB-670B-4307-A1BD-6B41EF1A5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4C66B-2E21-4421-9197-B13F65B8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84B9A-DFDA-494E-AC79-11984E5F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A4370-101D-4213-845C-50F413E2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1651D-4429-400D-B700-11C584A01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97A3C-1509-4DE3-802C-20EF6BE2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F90F9B-C851-4BA9-BD18-15DC398C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173E0-B32C-4347-8284-0D0EB307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16541-9A8F-4EB2-89D4-0DAA841F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4969F-151F-444F-83C0-4B586F37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507-003C-4AE3-A216-026E581ED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FC611-AAE5-4C39-B862-61DD78AF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5FB32-83C8-4754-A3A3-E6D2ECEEA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B66FE-6B49-4600-84D2-A45E7AD2C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D5F229-4182-4393-8F8A-3ED57C4DA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55A952-41D5-4D3F-91A0-EF0C97F8D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BEC62-8A8B-431F-927F-22168CC8D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F7F44-685F-4CEC-8469-FB0F3F70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A97BC-A936-41BC-8514-6E2DDEA6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E8FCF-FB1D-4237-A86C-61594582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C67485-72CF-4F36-BCE3-05813F77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960F-C41B-4676-A2C6-1EF40871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1B9D1-C3D3-4DC5-8482-F3729802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DC235-E29E-4886-8BDA-D82FEC80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04C08-3186-4ECC-AC4E-9E3CC235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EF22B-5CCA-44ED-9EE8-23A95CC5D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200458-857C-49B1-8264-C7372054B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51B213-D902-40B3-B99A-DF9DF0D9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2184B6-5791-47ED-A350-BDC11686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88EF65-6C65-4879-979D-E12C636C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F4A601E-0AEB-4E26-937A-B248DB2A0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E1FF20-75BA-4492-AAA9-3FFA2CDC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9FF6-C3C4-43FB-9CD8-DDD4A286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970F47-25BB-4563-96AF-0728B669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11BE9C9-AEFA-483C-9B46-E2DA0651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5BA321-524F-40D9-8BBA-308EB22A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523298-C0C0-4B91-A4AF-CBF3F994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B1B6F9E-C115-43F1-84FE-4729FC01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1471B3-2711-4266-8E60-AC05A710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61EF4A8-2B78-4E60-A40E-C8525318A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17FC86-E6A4-4791-870B-CD0640B3B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A87DCC-25DD-40D7-9125-6081DD7D4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65F30C-2215-48C1-80D4-6EB2F82C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9BA5-9656-4C1A-97F6-9C0FED69ACEC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с двумя скругленными противолежащими углами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Прямоугольник с двумя скругленными противолежащими углами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605C-A1A0-4589-AB16-292FFD4C4A6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7268A-2D98-4174-AABA-3313F2208E4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4230-767B-413D-8628-3CD20C6238B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710A-C9A2-47BE-8CA9-2E1B5B092D3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Прямоугольник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Прямоугольник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665C6-3529-407B-B8C4-FC97E16503E9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Прямоугольник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4F75F-84AC-41CA-8F3C-A8F0C17C703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5BCAD-72BF-401C-AE35-69D2D8ABBC15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1E5E-EE34-4831-933B-5627CBE8A98B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1"/>
          <a:stretch/>
        </p:blipFill>
        <p:spPr>
          <a:xfrm>
            <a:off x="2273400" y="1773360"/>
            <a:ext cx="4883040" cy="48099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571680" y="356760"/>
            <a:ext cx="828648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1600" spc="-1" strike="noStrike">
                <a:solidFill>
                  <a:srgbClr val="ffffff"/>
                </a:solidFill>
                <a:latin typeface="Cambria"/>
              </a:rPr>
              <a:t>Калининградская область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МАОУ СОШ №24 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1" lang="ru-RU" sz="19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Cambria"/>
              </a:rPr>
              <a:t>Проект</a:t>
            </a:r>
            <a:r>
              <a:rPr b="1" lang="ru-RU" sz="1600" spc="-1" strike="noStrike">
                <a:solidFill>
                  <a:srgbClr val="ffffff"/>
                </a:solidFill>
                <a:latin typeface="Cambria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1" lang="ru-RU" sz="2500" spc="-1" strike="noStrike">
                <a:solidFill>
                  <a:srgbClr val="ffffff"/>
                </a:solidFill>
                <a:latin typeface="Cambria"/>
              </a:rPr>
              <a:t>«Изучение физики при помощи домашнего животного»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Cambria"/>
              </a:rPr>
              <a:t>  </a:t>
            </a:r>
            <a:endParaRPr b="0" lang="en-US" sz="25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6" name="Picture 4" descr="C:\Users\Пользователь\Desktop\ФОТО\Jc_SF6aez0w.jpg"/>
          <p:cNvPicPr/>
          <p:nvPr/>
        </p:nvPicPr>
        <p:blipFill>
          <a:blip r:embed="rId2"/>
          <a:stretch/>
        </p:blipFill>
        <p:spPr>
          <a:xfrm>
            <a:off x="2571840" y="1857240"/>
            <a:ext cx="42148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500040" y="64260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Вывод: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291960" indent="-2919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За этот проект я понял, что физику можно изучать и со своим домашним питомцем. Может быть это где-то и сложно, но главное очень интересно.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7" name="Picture 3" descr="C:\Users\Пользователь\Pictures\Создать папку\QsJZpOHoFfk.jpg"/>
          <p:cNvPicPr/>
          <p:nvPr/>
        </p:nvPicPr>
        <p:blipFill>
          <a:blip r:embed="rId1"/>
          <a:stretch/>
        </p:blipFill>
        <p:spPr>
          <a:xfrm>
            <a:off x="928800" y="2928960"/>
            <a:ext cx="7786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643040" y="357120"/>
            <a:ext cx="7043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69bf70"/>
              </a:solidFill>
              <a:latin typeface="Cambr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071360" y="428400"/>
            <a:ext cx="7086600" cy="3143160"/>
          </a:xfrm>
          <a:prstGeom prst="rect">
            <a:avLst/>
          </a:prstGeom>
          <a:noFill/>
          <a:ln w="0">
            <a:noFill/>
          </a:ln>
        </p:spPr>
        <p:txBody>
          <a:bodyPr rIns="128160" anchor="t">
            <a:normAutofit fontScale="92000"/>
          </a:bodyPr>
          <a:p>
            <a:pPr marL="669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ff"/>
                </a:solidFill>
                <a:latin typeface="Cambria"/>
              </a:rPr>
              <a:t>СПАСИБО ЗА ВНИМАНИЕ</a:t>
            </a:r>
            <a:endParaRPr b="0" lang="en-US" sz="8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0" name="Picture 4" descr="C:\Users\Пользователь\Pictures\Создать папку\vxtEoH7WQos.jpg"/>
          <p:cNvPicPr/>
          <p:nvPr/>
        </p:nvPicPr>
        <p:blipFill>
          <a:blip r:embed="rId1"/>
          <a:stretch/>
        </p:blipFill>
        <p:spPr>
          <a:xfrm>
            <a:off x="2428920" y="3143160"/>
            <a:ext cx="42861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3"/>
          <p:cNvSpPr/>
          <p:nvPr/>
        </p:nvSpPr>
        <p:spPr>
          <a:xfrm>
            <a:off x="500040" y="285840"/>
            <a:ext cx="8072640" cy="29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этом учебном году я стал изучать такой предмет как Физика. Предмет хоть и сложны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 очень интересный. С помощью физики люди узнали, что такое гро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молния и дождь. Мы знаем, что физика основывается на теории и опытах. В том проекте я решил проверить несколько законов физики с помощью животных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8" name="Picture 4" descr="C:\Users\Пользователь\Pictures\Создать папку\RAvIZ7q42Rw.jpg"/>
          <p:cNvPicPr/>
          <p:nvPr/>
        </p:nvPicPr>
        <p:blipFill>
          <a:blip r:embed="rId1"/>
          <a:stretch/>
        </p:blipFill>
        <p:spPr>
          <a:xfrm>
            <a:off x="2214720" y="3214800"/>
            <a:ext cx="36432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1"/>
          <a:stretch/>
        </p:blipFill>
        <p:spPr>
          <a:xfrm>
            <a:off x="590400" y="438120"/>
            <a:ext cx="8467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Прямоугольник 2"/>
          <p:cNvSpPr/>
          <p:nvPr/>
        </p:nvSpPr>
        <p:spPr>
          <a:xfrm>
            <a:off x="857160" y="571680"/>
            <a:ext cx="7358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«Агрегатное состояние вещества»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ервое, что мы прошли на уроке Физики - это была тема: «Агрегатное состояние вещества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1" name="Picture 3" descr="C:\Users\Пользователь\Desktop\f22b8ee349.jpg"/>
          <p:cNvPicPr/>
          <p:nvPr/>
        </p:nvPicPr>
        <p:blipFill>
          <a:blip r:embed="rId1"/>
          <a:stretch/>
        </p:blipFill>
        <p:spPr>
          <a:xfrm>
            <a:off x="1285920" y="3071880"/>
            <a:ext cx="671508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4"/>
          <p:cNvSpPr/>
          <p:nvPr/>
        </p:nvSpPr>
        <p:spPr>
          <a:xfrm>
            <a:off x="642960" y="500040"/>
            <a:ext cx="85010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Скорость и единицы скорости»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ле агрегатного состояния вещества мы приступили к новой теме: «Скорость и единица скорости»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714240" y="2928960"/>
          <a:ext cx="7715520" cy="3429000"/>
        </p:xfrm>
        <a:graphic>
          <a:graphicData uri="http://schemas.openxmlformats.org/drawingml/2006/table">
            <a:tbl>
              <a:tblPr/>
              <a:tblGrid>
                <a:gridCol w="676440"/>
                <a:gridCol w="2152800"/>
                <a:gridCol w="1714320"/>
                <a:gridCol w="1649520"/>
                <a:gridCol w="1522440"/>
              </a:tblGrid>
              <a:tr h="16700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2000"/>
                      </a:b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опыт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Коман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сстоя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(координата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корость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Кушать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7,5 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,9 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8,3 м/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Гулять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 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,8 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9,8 м/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«Мыться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5 м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0,4 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-12,5 м/с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Rectangle 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Прямоугольник 2"/>
          <p:cNvSpPr/>
          <p:nvPr/>
        </p:nvSpPr>
        <p:spPr>
          <a:xfrm>
            <a:off x="0" y="2858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ер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удующей интересной темой по Физике была тема: «Инерция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3" descr="C:\Users\Пользователь\Pictures\Создать папку\FIS79B0DWHQ.jpg"/>
          <p:cNvPicPr/>
          <p:nvPr/>
        </p:nvPicPr>
        <p:blipFill>
          <a:blip r:embed="rId1"/>
          <a:stretch/>
        </p:blipFill>
        <p:spPr>
          <a:xfrm>
            <a:off x="928800" y="1928880"/>
            <a:ext cx="7429320" cy="46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1"/>
          <a:stretch/>
        </p:blipFill>
        <p:spPr>
          <a:xfrm>
            <a:off x="3419640" y="225360"/>
            <a:ext cx="3103560" cy="8604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7200" y="999720"/>
            <a:ext cx="822960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Одна из первых тем Физики которую изучают в 7 классе это «Масса». Тема не очень сложная и очень интересная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9" name="Picture 2" descr="C:\Users\Пользователь\Downloads\-ALdJahmrVI.jpg"/>
          <p:cNvPicPr/>
          <p:nvPr/>
        </p:nvPicPr>
        <p:blipFill>
          <a:blip r:embed="rId2"/>
          <a:stretch/>
        </p:blipFill>
        <p:spPr>
          <a:xfrm>
            <a:off x="1643040" y="2857680"/>
            <a:ext cx="55720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1"/>
          <a:stretch/>
        </p:blipFill>
        <p:spPr>
          <a:xfrm>
            <a:off x="2706840" y="291960"/>
            <a:ext cx="3315960" cy="8604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213920"/>
            <a:ext cx="8229600" cy="506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Cambria"/>
              </a:rPr>
              <a:t>Сразу после темы «Масса» мы стали проходить тему «Вес тела» так как эти две темы взаимосвязаны можду собой. У моей собаки вес тела 80Н.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2" name="Picture 3" descr="C:\Users\Пользователь\Pictures\Создать папку\Axjd6xaVMo8.jpg"/>
          <p:cNvPicPr/>
          <p:nvPr/>
        </p:nvPicPr>
        <p:blipFill>
          <a:blip r:embed="rId2"/>
          <a:stretch/>
        </p:blipFill>
        <p:spPr>
          <a:xfrm>
            <a:off x="1714680" y="3357720"/>
            <a:ext cx="571500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Прямоугольник 2"/>
          <p:cNvSpPr/>
          <p:nvPr/>
        </p:nvSpPr>
        <p:spPr>
          <a:xfrm>
            <a:off x="428760" y="357120"/>
            <a:ext cx="82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«Давле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у и одна из последни тем - это «Давление». Каспер может оказывать разное давление на повер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1000080" y="2214720"/>
          <a:ext cx="7215120" cy="4230360"/>
        </p:xfrm>
        <a:graphic>
          <a:graphicData uri="http://schemas.openxmlformats.org/drawingml/2006/table">
            <a:tbl>
              <a:tblPr/>
              <a:tblGrid>
                <a:gridCol w="2405160"/>
                <a:gridCol w="2405160"/>
                <a:gridCol w="24048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№ </a:t>
                      </a: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сположения тел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Располож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Давл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тоит на лап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 П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Лежи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10 П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Стоит на задних лапах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6 П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Rectangle 4"/>
          <p:cNvSpPr/>
          <p:nvPr/>
        </p:nvSpPr>
        <p:spPr>
          <a:xfrm>
            <a:off x="4481640" y="-137880"/>
            <a:ext cx="18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9T17:33:58Z</dcterms:created>
  <dc:creator>Пользователь</dc:creator>
  <dc:description/>
  <dc:language>en-US</dc:language>
  <cp:lastModifiedBy>User</cp:lastModifiedBy>
  <dcterms:modified xsi:type="dcterms:W3CDTF">2018-06-21T08:52:13Z</dcterms:modified>
  <cp:revision>91</cp:revision>
  <dc:subject/>
  <dc:title>Человек-разумное существо</dc:title>
</cp:coreProperties>
</file>