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05DA-62B3-497D-9C9A-0761434D1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00FA-0A57-4542-8143-8E83474F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53AD2F-1358-4BDD-BCE5-07F40193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B3CA9F-B66C-4A73-9F7F-82AEA867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A7E575-E489-4099-AF4E-72E072CC0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885DF3-19FC-4EB9-BBDD-A745BB56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606F8E-D295-4A04-B1CC-28E075DE3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E1C888-2F61-477D-A6EC-1881ABA5F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A863A6-3C50-4569-9294-5442DA8E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626A53-0FBE-4D7A-9A21-7C88F101E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35296E-7AAC-4382-AAA3-3E390584F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AFD4-61C9-42EA-97BB-A3E0979F5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367C-84E6-4799-A02A-0CF74318F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97D77-9D0C-482C-9D8E-53B1FF710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2AEF6A-38D5-4217-8E5E-1581EFFC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72461-3A04-423E-9E7E-1F59BAE0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354200-1E3E-4E84-A374-6CD4FACF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F5904-E196-49DB-B604-77563DE6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9885B7-4BBA-40EE-98F7-9F137354E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44285-F5F9-4AD4-A95A-48B7103E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3D45-344C-4B7C-AFB9-A702229C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60678-12BB-4D14-905D-DF94AF65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732B77-3848-426E-B19E-048A735A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D6088-631D-4F44-80F2-D6C3CFE7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ADE464-BCF8-4D6C-8B45-9905E2077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DF8A18-04B8-4409-A542-2436AF7D5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565DD-A0CD-4346-8CDF-C80293607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1A1D0-39AD-4FAC-A88D-0C12F636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C8C69-3D1F-46C7-9861-A72E4E02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8800C-F935-433C-87C1-3E4222CB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62AF3-4D91-4DB4-94CD-7D2DD0DF6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9616-BFE9-469B-85BC-4185998C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CFDA7-AD59-4B89-BBBC-6D1B4A4AD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E77C6-4355-421F-BD73-CE06E2D2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9254B-ECCF-4358-94E0-EC1C7CA6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99F2B-F54A-4F10-A2EF-7F0D36C4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5DFC6-4483-4499-B3DB-F38836DB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539D7-BDF4-4B19-94D1-A79D90715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9477E-285F-4FEC-8B71-13F273DCF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F03EB0-8061-4A80-B704-FCEBD8B72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790215-1A8C-4664-ACDE-262B43B5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FFD60B-3081-4960-8746-7B6CEDD62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0A9A-EFDF-49A6-A083-4E940F27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8C7409-A5D1-4F39-91A3-AFD47CA4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3ADE38-B4B8-47B6-AE65-6EF4DA3B5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ECF6D7-78D4-4B02-95E7-202AB1F8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2B7D95-D6BA-45EC-BE4D-2E5FCC1A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0FB298-0ABF-436C-A3E4-83D4BBD6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169511-0322-46E9-94D7-7A32356D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2EF85D-36B0-4B93-920B-C54B41A5E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A8DC08-414F-435E-9D50-EA50F52B7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57B7F7-3956-41D2-87ED-71F119085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F8E37-A903-4415-8B9D-7DABFFA12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AB94-94A2-41E5-9758-303F8A83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7D924-85C6-472A-8E38-A128E309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58944-8D1A-4CB1-812E-CDE7B717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7630D7-9144-467D-874D-EA97C2E3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0FBFC-CFC9-4521-93DC-2856ED685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9C286-703C-4418-86FC-02DC1F1C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7AB38-2E52-46B6-AD43-9578882D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0E93E-0DFF-43B8-A20C-1F0285AF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198CF-F0C7-4979-824D-7D00AB92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2F3CF-CC36-4788-AE6A-A04CD657D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54A10-7E97-4D8A-A5EB-E9096D6E5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CF64-82B1-451B-BE15-ABA441CBB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4EF12-4871-4F89-8115-B28B2BA7F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76D8D-BE07-4FDB-BA99-DCFC0DF2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06BB2-5469-451C-85E4-11B13D17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55F45-001F-4873-92A2-67899B45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8E766-C2E0-4C53-BCD6-DA09AE07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BA594-B8AE-461C-B099-8A6E50D9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13B61-BB78-4712-A090-0E22343D1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6B22B-9576-4B97-8994-04A117FC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2EC68-202D-4F94-8F06-C9CF4C26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B817D3-3663-4E17-9A27-59EE5844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01BE-A72C-4F7D-B20D-4D13C0DD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B16BD-B490-464D-8F05-B8AC3ED85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EFE10-23B7-4EA5-87A8-A57C220E0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F8E2C1-2CBB-4FB1-8E84-AD5B3F5B2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389A8-BEF8-4501-B4FE-6FDFA483D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70D03-66FA-4E8B-AF2E-E464FA43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E9DEC-A4BC-422C-85C4-BB6EDB28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E83F2-DAFA-4EEC-AF03-A07981DC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442F34-5875-4EF4-9F8D-35611826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C2FD7-DD25-4C3B-A135-B0683817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22D66-C447-4E59-9134-38B38914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5ED4-FF41-4B12-8F50-3E8D5673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BF48F-20D5-4879-B3CC-1D42DACC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B3E40-A703-492E-B9D6-6C70934D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30D905-6064-4AD6-9575-54369DEC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32502-602A-4724-B999-43A6E345A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8C299-D9D6-498B-902B-945B7BA33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5CEECA5-5E82-4C67-961F-A64902E30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B92A63-1D13-4FC7-BA28-F7EA13F82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CCB8DC-5F1B-4867-9D38-609CBB76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69E2C4-E89F-4218-A0FD-ED5D9986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AF4E47-E8B6-422C-9B49-4579FE48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8750-C400-4DCF-BD25-607C675C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A47F4B-EDA9-4C37-8C97-22DAC47C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5534D6D-D9BD-47F9-BC11-85CDBFC2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FE4E5D-710C-4EE1-BFA2-72577BD5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A5D17D-877D-4442-BB64-ACE7D82D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B90BC7-400E-49DD-93F3-152EC161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875434-5261-4D32-91CE-64D944A1A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7EBDC4-2DFE-46C8-BB96-B71F65914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63A042F-AD91-4C06-B1CF-67CA41262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87AAE8F-958D-4D46-8795-066F2067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B1503E-179D-423B-B755-937C61EE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41FB-EAD9-458C-B4D3-4619DCE011BF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B38E-8AB4-493B-8B44-A04F6C56B46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0DAB-4146-4BBF-A1E9-4A41739A8593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75DB-8FB1-4954-89C4-117DA0374B78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211D-AC61-452C-A2CD-93A72CF087C8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8D71-E42C-4B3D-B37A-DB738CB44761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C2A56-B513-4E8B-AB53-1F07BF8B71A9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87A5-87FF-4268-9F81-A987BB6036D8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82FE-D05F-471C-872C-BBFC933D84C1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2273400" y="1773360"/>
            <a:ext cx="4883040" cy="48099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571680" y="356760"/>
            <a:ext cx="828648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Cambria"/>
              </a:rPr>
              <a:t>Калининградская область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mbria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Cambria"/>
              </a:rPr>
              <a:t>МАОУ СОШ №24 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mbria"/>
              </a:rPr>
              <a:t>   </a:t>
            </a:r>
            <a:r>
              <a:rPr b="1" lang="ru-RU" sz="19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Cambria"/>
              </a:rPr>
              <a:t>Проект</a:t>
            </a:r>
            <a:r>
              <a:rPr b="1" lang="ru-RU" sz="1600" spc="-1" strike="noStrike">
                <a:solidFill>
                  <a:srgbClr val="ffffff"/>
                </a:solidFill>
                <a:latin typeface="Cambria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1" lang="ru-RU" sz="2500" spc="-1" strike="noStrike">
                <a:solidFill>
                  <a:srgbClr val="ffffff"/>
                </a:solidFill>
                <a:latin typeface="Cambria"/>
              </a:rPr>
              <a:t>«Изучение физики при помощи домашнего животного»</a:t>
            </a:r>
            <a:endParaRPr b="0" lang="en-US" sz="2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ambria"/>
              </a:rPr>
              <a:t>  </a:t>
            </a:r>
            <a:endParaRPr b="0" lang="en-US" sz="25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96" name="Picture 4" descr="C:\Users\Пользователь\Desktop\ФОТО\Jc_SF6aez0w.jpg"/>
          <p:cNvPicPr/>
          <p:nvPr/>
        </p:nvPicPr>
        <p:blipFill>
          <a:blip r:embed="rId2"/>
          <a:stretch/>
        </p:blipFill>
        <p:spPr>
          <a:xfrm>
            <a:off x="2571840" y="1857240"/>
            <a:ext cx="42148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500040" y="64260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Вывод: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За этот проект я понял, что физику можно изучать и со своим домашним питомцем. Может быть это где-то и сложно, но главное очень интересно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7" name="Picture 3" descr="C:\Users\Пользователь\Pictures\Создать папку\QsJZpOHoFfk.jpg"/>
          <p:cNvPicPr/>
          <p:nvPr/>
        </p:nvPicPr>
        <p:blipFill>
          <a:blip r:embed="rId1"/>
          <a:stretch/>
        </p:blipFill>
        <p:spPr>
          <a:xfrm>
            <a:off x="928800" y="2928960"/>
            <a:ext cx="77864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43040" y="357120"/>
            <a:ext cx="7043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69bf70"/>
              </a:solidFill>
              <a:latin typeface="Cambr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071360" y="428400"/>
            <a:ext cx="7086600" cy="3143160"/>
          </a:xfrm>
          <a:prstGeom prst="rect">
            <a:avLst/>
          </a:prstGeom>
          <a:noFill/>
          <a:ln w="0">
            <a:noFill/>
          </a:ln>
        </p:spPr>
        <p:txBody>
          <a:bodyPr rIns="128160" anchor="t">
            <a:normAutofit fontScale="92000"/>
          </a:bodyPr>
          <a:p>
            <a:pPr marL="669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Cambria"/>
              </a:rPr>
              <a:t>СПАСИБО ЗА ВНИМАНИЕ</a:t>
            </a:r>
            <a:endParaRPr b="0" lang="en-US" sz="8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0" name="Picture 4" descr="C:\Users\Пользователь\Pictures\Создать папку\vxtEoH7WQos.jpg"/>
          <p:cNvPicPr/>
          <p:nvPr/>
        </p:nvPicPr>
        <p:blipFill>
          <a:blip r:embed="rId1"/>
          <a:stretch/>
        </p:blipFill>
        <p:spPr>
          <a:xfrm>
            <a:off x="2428920" y="3143160"/>
            <a:ext cx="42861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Прямоугольник 3"/>
          <p:cNvSpPr/>
          <p:nvPr/>
        </p:nvSpPr>
        <p:spPr>
          <a:xfrm>
            <a:off x="500040" y="285840"/>
            <a:ext cx="807264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этом учебном году я стал изучать такой предмет как Физика. Предмет хоть и сложны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 очень интересный. С помощью физики люди узнали, что такое гро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молния и дождь. Мы знаем, что физика основывается на теории и опытах. В том проекте я решил проверить несколько законов физики с помощью животны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Picture 4" descr="C:\Users\Пользователь\Pictures\Создать папку\RAvIZ7q42Rw.jpg"/>
          <p:cNvPicPr/>
          <p:nvPr/>
        </p:nvPicPr>
        <p:blipFill>
          <a:blip r:embed="rId1"/>
          <a:stretch/>
        </p:blipFill>
        <p:spPr>
          <a:xfrm>
            <a:off x="2214720" y="3214800"/>
            <a:ext cx="3643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590400" y="438120"/>
            <a:ext cx="84679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рямоугольник 2"/>
          <p:cNvSpPr/>
          <p:nvPr/>
        </p:nvSpPr>
        <p:spPr>
          <a:xfrm>
            <a:off x="857160" y="571680"/>
            <a:ext cx="7358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Агрегатное состояние вещества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вое, что мы прошли на уроке Физики - это была тема: «Агрегатное состояние вещества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3" descr="C:\Users\Пользователь\Desktop\f22b8ee349.jpg"/>
          <p:cNvPicPr/>
          <p:nvPr/>
        </p:nvPicPr>
        <p:blipFill>
          <a:blip r:embed="rId1"/>
          <a:stretch/>
        </p:blipFill>
        <p:spPr>
          <a:xfrm>
            <a:off x="1285920" y="3071880"/>
            <a:ext cx="67150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4"/>
          <p:cNvSpPr/>
          <p:nvPr/>
        </p:nvSpPr>
        <p:spPr>
          <a:xfrm>
            <a:off x="642960" y="500040"/>
            <a:ext cx="8501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корость и единицы скорости»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ле агрегатного состояния вещества мы приступили к новой теме: «Скорость и единица скорости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714240" y="2928960"/>
          <a:ext cx="7715520" cy="3429000"/>
        </p:xfrm>
        <a:graphic>
          <a:graphicData uri="http://schemas.openxmlformats.org/drawingml/2006/table">
            <a:tbl>
              <a:tblPr/>
              <a:tblGrid>
                <a:gridCol w="676440"/>
                <a:gridCol w="2152800"/>
                <a:gridCol w="1714320"/>
                <a:gridCol w="1649520"/>
                <a:gridCol w="1522440"/>
              </a:tblGrid>
              <a:tr h="167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пы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оман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асстоя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(координат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кор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«Кушать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7,5 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0,9 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8,3 м/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«Гулять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6 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0,8 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9,8 м/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«Мыться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5 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0,4 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12,5 м/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4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оугольник 2"/>
          <p:cNvSpPr/>
          <p:nvPr/>
        </p:nvSpPr>
        <p:spPr>
          <a:xfrm>
            <a:off x="0" y="2858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ер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удующей интересной темой по Физике была тема: «Инерция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3" descr="C:\Users\Пользователь\Pictures\Создать папку\FIS79B0DWHQ.jpg"/>
          <p:cNvPicPr/>
          <p:nvPr/>
        </p:nvPicPr>
        <p:blipFill>
          <a:blip r:embed="rId1"/>
          <a:stretch/>
        </p:blipFill>
        <p:spPr>
          <a:xfrm>
            <a:off x="928800" y="1928880"/>
            <a:ext cx="74293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3419640" y="225360"/>
            <a:ext cx="3103560" cy="8604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99972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Одна из первых тем Физики которую изучают в 7 классе это «Масса». Тема не очень сложная и очень интересная.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9" name="Picture 2" descr="C:\Users\Пользователь\Downloads\-ALdJahmrVI.jpg"/>
          <p:cNvPicPr/>
          <p:nvPr/>
        </p:nvPicPr>
        <p:blipFill>
          <a:blip r:embed="rId2"/>
          <a:stretch/>
        </p:blipFill>
        <p:spPr>
          <a:xfrm>
            <a:off x="1643040" y="2857680"/>
            <a:ext cx="55720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2706840" y="291960"/>
            <a:ext cx="3315960" cy="8604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213920"/>
            <a:ext cx="8229600" cy="506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Сразу после темы «Масса» мы стали проходить тему «Вес тела» так как эти две темы взаимосвязаны можду собой. У моей собаки вес тела 80Н.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2" name="Picture 3" descr="C:\Users\Пользователь\Pictures\Создать папку\Axjd6xaVMo8.jpg"/>
          <p:cNvPicPr/>
          <p:nvPr/>
        </p:nvPicPr>
        <p:blipFill>
          <a:blip r:embed="rId2"/>
          <a:stretch/>
        </p:blipFill>
        <p:spPr>
          <a:xfrm>
            <a:off x="1714680" y="3357720"/>
            <a:ext cx="57150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рямоугольник 2"/>
          <p:cNvSpPr/>
          <p:nvPr/>
        </p:nvSpPr>
        <p:spPr>
          <a:xfrm>
            <a:off x="428760" y="357120"/>
            <a:ext cx="8215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Давлени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у и одна из последни тем - это «Давление». Каспер может оказывать разное давление на поверно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1000080" y="2214720"/>
          <a:ext cx="7215120" cy="4230360"/>
        </p:xfrm>
        <a:graphic>
          <a:graphicData uri="http://schemas.openxmlformats.org/drawingml/2006/table">
            <a:tbl>
              <a:tblPr/>
              <a:tblGrid>
                <a:gridCol w="2405160"/>
                <a:gridCol w="2405160"/>
                <a:gridCol w="2404800"/>
              </a:tblGrid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асположения тел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асполож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Давл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тоит на лапа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3 П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Лежи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0 П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тоит на задних лапа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6 П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5" name="Rectangle 4"/>
          <p:cNvSpPr/>
          <p:nvPr/>
        </p:nvSpPr>
        <p:spPr>
          <a:xfrm>
            <a:off x="4481640" y="-137880"/>
            <a:ext cx="18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9T17:33:58Z</dcterms:created>
  <dc:creator>Пользователь</dc:creator>
  <dc:description/>
  <dc:language>en-US</dc:language>
  <cp:lastModifiedBy>User</cp:lastModifiedBy>
  <dcterms:modified xsi:type="dcterms:W3CDTF">2018-06-21T08:52:13Z</dcterms:modified>
  <cp:revision>91</cp:revision>
  <dc:subject/>
  <dc:title>Человек-разумное существо</dc:title>
</cp:coreProperties>
</file>