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465-D392-4AE6-A12E-64410F4D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350-AAE3-4817-88AF-48DEE71E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EAC9-11A5-4A65-82F0-7FED928F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750-1E16-4BC1-BFCA-945AEB45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BF12-BC5E-458B-808D-CF3D818C1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A757-4BB2-4056-82EB-10AC9F43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AB7AC-CC04-49C9-8643-F3F19509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8C88-8354-4957-827B-E8B8B43B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1B74-1430-4158-A0B9-A5C3559E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551E-F3C9-4F7C-BE90-7423D527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7DD0-A8B7-46AD-8D55-25D41F3B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12A5-72F8-40C9-89DC-F61B846E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3C7A-E812-4718-9EF3-7A6687A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44E7-5737-4135-83AC-0B7D3FA5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9E47-92DD-467A-9094-69306104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B07F-F154-4CB8-8138-4AD677C65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AF11-2D07-454D-A451-943B4B747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C474-86DC-4F27-A398-D82FEEBC2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1B1DF-160D-428F-8EB0-0448AB68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0DEBE-ACC8-45F7-BF72-74BCFB31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20065-D731-49A0-9FB7-673D9C77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BCB7D-F4F6-4F20-BAC3-906F4A7E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C53-C60A-43D4-B8BB-8F4C9BE4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2B9B-5597-49B0-B042-B34B2CE1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D03E9-F392-4E0C-A1BA-C3256AF7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1C53-9625-4DC1-B221-6DDF4040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71C3B-6492-4935-B6F2-FD5E09F8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76C6F-B99B-4999-9D7B-8218E2B4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29AF-F5B3-4A7A-A2EC-938A1B669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AEB7C-860D-4B80-BCF5-E97D5A0B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14604-BC52-47AC-B82D-B65BFA5D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A714F-95B5-4E6A-9691-09529D9E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C51A-D5D1-4124-BAEA-6C1C8875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A5D-EBE1-4F35-8715-AE1AD620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D772D-7EBA-4B8C-8A45-7B6BFCF9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68FEA-9D78-475F-885D-E1B989403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3FB83-633D-493A-9A0A-53D2892B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1163D-D854-4477-BE67-71649878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44271-15F5-4E18-A0ED-96C22C4F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F8901-BA23-45A4-9E15-F092D9EE6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0D7B6-4720-4A96-BC2C-9F817F42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07C71-5117-417C-8C2B-E09ED356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F8E1F-6F25-42C3-93C0-E60EBBF2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1916C-7777-4D70-8BA5-B2A54660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FCAE-8D5A-4235-8EE3-C64C7BE8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E8241-D238-4BD0-86D5-5E0503BE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25235-DDA9-4F7F-895B-BBFEC842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8F62C-649D-46FC-92A0-21024DB3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6D582-3CEC-4846-A824-E525636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344B1-37D1-49A8-A5FC-85BB3E9A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BBE10-AEA3-4809-B294-7326D1F3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1F2AC-D23E-4AFF-8699-253FD9F3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7D17E-C33B-461C-AA5A-2637405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95694-DC8C-4BC2-B4BF-12795A19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66AA9-D987-4545-A75C-7E0F909F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D20-A3A1-42CC-86FB-3C19AE0F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B92E3-78A0-4AFA-AB0B-DC979DE49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9AB2-CDAE-46C7-B6B4-6CC0B215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6C4D-1006-467A-90C0-BB013D4F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5A4-21A5-447D-9EFC-86CB872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2560" y="2514600"/>
            <a:ext cx="66002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8"/>
          <p:cNvSpPr/>
          <p:nvPr/>
        </p:nvSpPr>
        <p:spPr>
          <a:xfrm>
            <a:off x="-31680" y="4321080"/>
            <a:ext cx="1395000" cy="781560"/>
          </a:xfrm>
          <a:custGeom>
            <a:avLst/>
            <a:gdLst>
              <a:gd name="textAreaLeft" fmla="*/ 0 w 1395000"/>
              <a:gd name="textAreaRight" fmla="*/ 1395360 w 1395000"/>
              <a:gd name="textAreaTop" fmla="*/ 0 h 781560"/>
              <a:gd name="textAreaBottom" fmla="*/ 781920 h 78156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423360" y="452952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710868-4177-49F6-82ED-95B3F8EB68B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83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3123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5715000" y="1600200"/>
            <a:ext cx="3123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4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26C0C4-25C3-43FF-9659-CCEF8D49957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52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407448-B121-422D-802D-826C77C7D6C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221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312372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body"/>
          </p:nvPr>
        </p:nvSpPr>
        <p:spPr>
          <a:xfrm>
            <a:off x="5715000" y="1600200"/>
            <a:ext cx="312372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2438280" y="3924360"/>
            <a:ext cx="64004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dt" idx="10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ftr" idx="11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 type="sldNum" idx="12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64DC07-4656-4D8B-A8AB-5EFC46ED111E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278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291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3123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body"/>
          </p:nvPr>
        </p:nvSpPr>
        <p:spPr>
          <a:xfrm>
            <a:off x="5715000" y="1600200"/>
            <a:ext cx="312372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5715000" y="3924360"/>
            <a:ext cx="312372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dt" idx="13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ftr" idx="14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 type="sldNum" idx="15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D95A7D-EFB4-4DA1-92D8-DCF92F42F74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42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История появления математики.</a:t>
            </a:r>
            <a:endParaRPr b="0" lang="ru-RU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5080" y="1886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Как люди научились записывать цифры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90760" y="620640"/>
            <a:ext cx="7497720" cy="608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Индейцы майя ухитрялись писать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любое число, используя только точку,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линию и кружочек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Наши современные цифры пришли к нам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из Индии через арабские страны, поэтому их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и называют арабскими. Происхождение каждой из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девяти арабских цифр хорошо видно, если их записать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в “угловатой” форме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т арабов к нам пришло и слово “цифра” от слова “сифр”. Цифрами называют все десять значков для записи чисел, которыми мы пользуемся: 0, 1, 2, 3, 4, 5, ……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временное слово “нуль” появилось гораздо позже, чем “цифра”. Оно происходит от латинского слово “нулла” – “никакая”. Изобретение нуля считается одним из важнейших математических открытий. При новом способе записи чисел значение каждой написанной цифры стало прямо зависеть от позиции, места в числе. При помощи десяти цифр можно записать любое, даже самое большое число, и сразу ясно, какая цифра что обозначает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76" name="Picture 2" descr="http://festival.1september.ru/articles/573140/img8.jpg"/>
          <p:cNvPicPr/>
          <p:nvPr/>
        </p:nvPicPr>
        <p:blipFill>
          <a:blip r:embed="rId1"/>
          <a:stretch/>
        </p:blipFill>
        <p:spPr>
          <a:xfrm>
            <a:off x="6917040" y="1576080"/>
            <a:ext cx="1844280" cy="1676160"/>
          </a:xfrm>
          <a:prstGeom prst="rect">
            <a:avLst/>
          </a:prstGeom>
          <a:ln w="9525">
            <a:noFill/>
          </a:ln>
        </p:spPr>
      </p:pic>
      <p:pic>
        <p:nvPicPr>
          <p:cNvPr id="377" name="Picture 3" descr="http://festival.1september.ru/articles/573140/img9.jpg"/>
          <p:cNvPicPr/>
          <p:nvPr/>
        </p:nvPicPr>
        <p:blipFill>
          <a:blip r:embed="rId2"/>
          <a:stretch/>
        </p:blipFill>
        <p:spPr>
          <a:xfrm>
            <a:off x="1945080" y="3252600"/>
            <a:ext cx="3828600" cy="761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62452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262626"/>
                </a:solidFill>
                <a:latin typeface="Century Gothic"/>
              </a:rPr>
              <a:t>Цифры разных народов.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14240" y="1916280"/>
            <a:ext cx="3857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Для запоминания чисел люди пользовались зарубками на деревьях и на палках и узлами на верёвках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80" name="Picture 12" descr="img285"/>
          <p:cNvPicPr/>
          <p:nvPr/>
        </p:nvPicPr>
        <p:blipFill>
          <a:blip r:embed="rId1"/>
          <a:stretch/>
        </p:blipFill>
        <p:spPr>
          <a:xfrm>
            <a:off x="4286160" y="1357200"/>
            <a:ext cx="3742920" cy="1655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img276"/>
          <p:cNvPicPr/>
          <p:nvPr/>
        </p:nvPicPr>
        <p:blipFill>
          <a:blip r:embed="rId2"/>
          <a:stretch/>
        </p:blipFill>
        <p:spPr>
          <a:xfrm>
            <a:off x="5357880" y="3143160"/>
            <a:ext cx="1928520" cy="3504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624520" cy="77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есятичная нумерация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237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течение многих столети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ходя  от народа к народу, старинные индийские цифры много раз изменялись, пока не приняли современную форму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Европейцы эти цифры           называют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рабски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3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79640" y="1166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Магия чисел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31640" y="548640"/>
            <a:ext cx="7578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Впервые мистическое отношение к числам возникло несколько тысяч лет назад, а в середине века широко распространилось по всей Европе. Была даже целая наука – нумерология, в которой каждое имя имело свое число, получаемое при переводе букв имени в цифры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У некоторых народов есть числа “плохие” и “хорошие”, например, число 7 – хорошее, а 13 – плохое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читается, что число 13 приносит несчастье.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Цифру 7 всегда связывали с понятием везения (удачи). Иногда эту цифру называют знаком ангела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емь считали магическим, священным числом. Это объяснялось еще и тем, что человек воспринимает окружающий мир (свет, запахи, вкус, звуки) через семь “отверстий” в голове (два глаза, два уха, две ноздри, рот). Цифру 7 связывали с небом, например 7 звезд в созвездии Большой Медведицы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Нередко, приписывая числу 7 таинственную силу, знахари вручали больному семь разных лекарств, настоянных на семи разных травах, и советовали пить семь дней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Это волшебное число 7 широко использовалось в сказках “Белоснежка и семь гномов”, “Волк и семеро козлят”, “Цветик-семицветик”; в мифах древнего мира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В речи употребляются пословицы и поговорки типа: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ь раз отмерь, один раз отрежь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еро одного не ждут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Лук – от семи недуг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ь бед – один ответ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ь пядей во лбу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ь пятниц на неделе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агия чисел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942560" y="1268640"/>
            <a:ext cx="6591600" cy="464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Еще многие числа имеют свое магическое значение: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6 и 12 – в столовых сервизах по 6 и 12 приборов, 12 месяцев в году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4 – четыре стороны света: север, запад, юг, восток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40 – «сороконожка», в пуде 40 фунтов, принято сорок дней вспоминать умершего человека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60 – 60 минут в часе, 60 секунд в минуте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10 – десять цифр, которыми мы записываем все числа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89" name="Picture 2" descr="j0236227"/>
          <p:cNvPicPr/>
          <p:nvPr/>
        </p:nvPicPr>
        <p:blipFill>
          <a:blip r:embed="rId1"/>
          <a:stretch/>
        </p:blipFill>
        <p:spPr>
          <a:xfrm>
            <a:off x="7740360" y="5445360"/>
            <a:ext cx="809280" cy="110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ыводы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91" name="Group 39"/>
          <p:cNvGraphicFramePr/>
          <p:nvPr/>
        </p:nvGraphicFramePr>
        <p:xfrm>
          <a:off x="1899720" y="1412640"/>
          <a:ext cx="6590880" cy="4575960"/>
        </p:xfrm>
        <a:graphic>
          <a:graphicData uri="http://schemas.openxmlformats.org/drawingml/2006/table">
            <a:tbl>
              <a:tblPr/>
              <a:tblGrid>
                <a:gridCol w="1677240"/>
                <a:gridCol w="4914000"/>
              </a:tblGrid>
              <a:tr h="642600">
                <a:tc>
                  <a:txBody>
                    <a:bodyPr lIns="93960" rIns="93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 тысяч лет наз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ельные племена стали применять названия некоторых чис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тысяч лет наз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евние пастухи стали делать из глины кружки по числу ове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шский математик Ян Видман ввёл знаки «+» и «-»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1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йский математик Вильям Оутред ввёл знак  «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3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 « :»  Джон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йский врач Роберт Рекорд ввёл знак  « = 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ыводы 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911960" y="112464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а возникли из практических нужд человек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а записывают с помощью десяти цифр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 уроках мы используем арабские цифры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а сыграли большую роль в развитии человечеств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6961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>
                <a:solidFill>
                  <a:srgbClr val="262626"/>
                </a:solidFill>
                <a:latin typeface="Century Gothic"/>
              </a:rPr>
              <a:t>    </a:t>
            </a:r>
            <a:r>
              <a:rPr b="0" i="1" lang="ru-RU" sz="3200" spc="-1" strike="noStrike">
                <a:solidFill>
                  <a:srgbClr val="262626"/>
                </a:solidFill>
                <a:latin typeface="Century Gothic"/>
              </a:rPr>
              <a:t>Арифметика каменного век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03640" y="1447920"/>
            <a:ext cx="378576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ервыми понятиями математики, с которыми столкнулись люди, были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«больше»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«столько же»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50" name="Picture 9" descr="2"/>
          <p:cNvPicPr/>
          <p:nvPr/>
        </p:nvPicPr>
        <p:blipFill>
          <a:blip r:embed="rId1"/>
          <a:stretch/>
        </p:blipFill>
        <p:spPr>
          <a:xfrm>
            <a:off x="5369400" y="1571760"/>
            <a:ext cx="3250800" cy="3809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228600"/>
            <a:ext cx="84103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600" spc="-1" strike="noStrike">
                <a:solidFill>
                  <a:srgbClr val="262626"/>
                </a:solidFill>
                <a:latin typeface="Century Gothic"/>
              </a:rPr>
              <a:t>ЦИФРЫ  КАМЕННОГО  ВЕ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051640" y="1447920"/>
            <a:ext cx="442368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ревние пастухи стали делать из глины кружки – по одному на каждую овцу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емледельцы с помощью глиняных фигурок вели учёт собранного урожая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53" name="Picture 7" descr="1"/>
          <p:cNvPicPr/>
          <p:nvPr/>
        </p:nvPicPr>
        <p:blipFill>
          <a:blip r:embed="rId1"/>
          <a:stretch/>
        </p:blipFill>
        <p:spPr>
          <a:xfrm>
            <a:off x="6622200" y="1447920"/>
            <a:ext cx="2214360" cy="4133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Числа начинают получать имена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47640" y="1268640"/>
            <a:ext cx="554436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0" lang="ru-RU" sz="2300" spc="-1" strike="noStrike">
                <a:solidFill>
                  <a:srgbClr val="404040"/>
                </a:solidFill>
                <a:latin typeface="Century Gothic"/>
              </a:rPr>
              <a:t>Перекладывать каждый раз глиняные фигурки было утомительно. Поэтому люди стали придумывать числам названия. Сначала получили названия только числа 1 и 2. а все, что шло после двух, называли «много». А когда придумали название для числа три, то его стали применять вместо слова «много». В некоторых сказках, поговорках, пословицах число три обозначает много. Русская пословица говорит: «Обещанного три года ждут», а в сказках героев отправляют «за тридевять земель, в тридесятое царство», они сражаются с трехглавым змеем.</a:t>
            </a:r>
            <a:endParaRPr b="0" lang="ru-RU" sz="23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56" name="Picture 2" descr="AG00164_"/>
          <p:cNvPicPr/>
          <p:nvPr/>
        </p:nvPicPr>
        <p:blipFill>
          <a:blip r:embed="rId1"/>
          <a:stretch/>
        </p:blipFill>
        <p:spPr>
          <a:xfrm rot="17609400">
            <a:off x="6403320" y="2763720"/>
            <a:ext cx="3519360" cy="1833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Живая счетная машина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47640" y="1124640"/>
            <a:ext cx="7776360" cy="573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ем больше зерна собирали люди со своих полей, чем многочисленнее становились их стада, тем большие числа становились им нужны. Тогда старые методы счета вытеснил новый – счет по пальцам. Пальцы оказались прекрасной вычислительной машиной. Так, например, желая обменять, сделанное им копье с каменным наконечником на пять шкурок для одежды, человек клал на землю свою руку и показывал, что против каждого пальца его руки нужно положить шкурку. Одна пятерня означала 5, две – 10. Когда рук не хватало, в ход шли и ноги. Две руки и одна нога – 15, две руки и две ноги – 20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ак люди начинали учиться считать, пользуясь тем, что дала им сама природа, – собственной пятерней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 того далекого времени, когда знать, что пальцев пять, значило то же, что уметь считать, пошло это выражение: «Знаю, как свои пять пальцев»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альцы были первыми изображениями чисел. Очень сложно было складывать и вычитать. Загибаешь пальцы – складываешь, разгибаешь – вычитаешь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267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54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i="1" lang="ru-RU" sz="5400" spc="-1" strike="noStrike">
                <a:solidFill>
                  <a:srgbClr val="262626"/>
                </a:solidFill>
                <a:latin typeface="Century Gothic"/>
              </a:rPr>
              <a:t>Счёт по пальцам.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Picture 7" descr="6"/>
          <p:cNvPicPr/>
          <p:nvPr/>
        </p:nvPicPr>
        <p:blipFill>
          <a:blip r:embed="rId1"/>
          <a:stretch/>
        </p:blipFill>
        <p:spPr>
          <a:xfrm>
            <a:off x="500040" y="1643040"/>
            <a:ext cx="3628800" cy="2714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img274"/>
          <p:cNvPicPr/>
          <p:nvPr/>
        </p:nvPicPr>
        <p:blipFill>
          <a:blip r:embed="rId2"/>
          <a:stretch/>
        </p:blipFill>
        <p:spPr>
          <a:xfrm>
            <a:off x="4551480" y="1643040"/>
            <a:ext cx="3507840" cy="2714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0040" y="4786200"/>
            <a:ext cx="7643520" cy="17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Научившись считать по пальцам до десяти, люди сделали следующий шаг вперёд и стали считать десятка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Как люди научились записывать цифры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91640" y="1196640"/>
            <a:ext cx="6842520" cy="47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 развитием скотоводства и земледелия люди все чаще начали сталкиваться с большими числами, запоминать которые стало трудно. Нужно было придумать, как их записать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 разных странах и в разные времена это делалось по-разному. Очень разные и порою даже забавные эти “цифры” у разных народов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Как люди научились записывать цифры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695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Древнем Египте числа первого десятка записывали соответствующим количеством палочек. Вместо цифры “3” – три палочки. А вот для десятков уже другой знак – вроде подковы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 древних греков, например, вместо цифр, были буквы. Буквами обозначались цифры и в древних русских книгах: “А” - это один, “Б” - два, “В” – три и т.д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67" name="Picture 2" descr="http://festival.1september.ru/articles/573140/img3.jpg"/>
          <p:cNvPicPr/>
          <p:nvPr/>
        </p:nvPicPr>
        <p:blipFill>
          <a:blip r:embed="rId1"/>
          <a:stretch/>
        </p:blipFill>
        <p:spPr>
          <a:xfrm>
            <a:off x="2411640" y="2631960"/>
            <a:ext cx="1773000" cy="1063440"/>
          </a:xfrm>
          <a:prstGeom prst="rect">
            <a:avLst/>
          </a:prstGeom>
          <a:ln w="9525">
            <a:noFill/>
          </a:ln>
        </p:spPr>
      </p:pic>
      <p:pic>
        <p:nvPicPr>
          <p:cNvPr id="368" name="Picture 3" descr="http://festival.1september.ru/articles/573140/img4.jpg"/>
          <p:cNvPicPr/>
          <p:nvPr/>
        </p:nvPicPr>
        <p:blipFill>
          <a:blip r:embed="rId2"/>
          <a:srcRect l="11922" t="5126" r="0" b="0"/>
          <a:stretch/>
        </p:blipFill>
        <p:spPr>
          <a:xfrm>
            <a:off x="5903280" y="2551680"/>
            <a:ext cx="1705320" cy="122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Как люди научились записывать цифры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90760" y="1124640"/>
            <a:ext cx="74977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У древних римлян были другие цифры. Мы и сейчас пользуемся иногда римскими цифрами. Их можно увидеть и на циферблате часов, и в книге, где обозначается номер главы. Если внимательно рассмотреть, римские цифры похожи на пальцы. Один – это один палец; два – два пальца; пять – это пятерня с отставленным большим пальцем; шесть – это пятерня да еще один палец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Так выглядели древние китайские цифры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71" name="Picture 2" descr="http://festival.1september.ru/articles/573140/img5.jpg"/>
          <p:cNvPicPr/>
          <p:nvPr/>
        </p:nvPicPr>
        <p:blipFill>
          <a:blip r:embed="rId1"/>
          <a:stretch/>
        </p:blipFill>
        <p:spPr>
          <a:xfrm>
            <a:off x="2915640" y="4365720"/>
            <a:ext cx="2484720" cy="93564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3" descr="http://festival.1september.ru/articles/573140/img6.jpg"/>
          <p:cNvPicPr/>
          <p:nvPr/>
        </p:nvPicPr>
        <p:blipFill>
          <a:blip r:embed="rId2"/>
          <a:stretch/>
        </p:blipFill>
        <p:spPr>
          <a:xfrm>
            <a:off x="6688080" y="4251240"/>
            <a:ext cx="972720" cy="1028520"/>
          </a:xfrm>
          <a:prstGeom prst="rect">
            <a:avLst/>
          </a:prstGeom>
          <a:ln w="9525">
            <a:noFill/>
          </a:ln>
        </p:spPr>
      </p:pic>
      <p:pic>
        <p:nvPicPr>
          <p:cNvPr id="373" name="Picture 4" descr="http://festival.1september.ru/articles/573140/img7.jpg"/>
          <p:cNvPicPr/>
          <p:nvPr/>
        </p:nvPicPr>
        <p:blipFill>
          <a:blip r:embed="rId3"/>
          <a:stretch/>
        </p:blipFill>
        <p:spPr>
          <a:xfrm>
            <a:off x="3312360" y="5658840"/>
            <a:ext cx="3333240" cy="866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60</TotalTime>
  <Application>LibreOffice/7.4.7.2$Linux_X86_64 LibreOffice_project/40$Build-2</Application>
  <AppVersion>15.0000</AppVersion>
  <Words>1101</Words>
  <Paragraphs>10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8:37:09Z</dcterms:created>
  <dc:creator>home</dc:creator>
  <dc:description/>
  <dc:language>en-US</dc:language>
  <cp:lastModifiedBy>Ученик</cp:lastModifiedBy>
  <dcterms:modified xsi:type="dcterms:W3CDTF">2015-07-18T09:50:54Z</dcterms:modified>
  <cp:revision>9</cp:revision>
  <dc:subject/>
  <dc:title>Как люди научились счита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