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339C-47DE-45CA-AE77-1AA12DFA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2F4E-05FC-450E-8F72-6F3155E72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1610-0478-4E5D-94A9-0E68117C4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4CF-F2F3-4A4B-9D1B-8162AA01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35B7F-D598-4051-9DD1-F3EA431B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C36B-A4A9-4EA6-8306-C82FFB26F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0F8A-C7D6-4B0E-9714-9824DA710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7B76-AB7C-482C-97B3-EBF6F21C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11839-2E16-4056-83D5-42DC7A8F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BBFA-0F6E-482A-A23E-FE3EA008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F84F-4AD0-4B75-B1F8-DEB6CD1A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2ED-63D8-46FB-8A20-3C79A159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4F33-E387-49B7-AC59-2439D15C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1C6A-C605-4EA1-9BD0-F710820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4E9F-1584-4DA2-B8E5-00A6BF63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1DA0C-BF53-4C45-B1AA-810E5856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2749F-D715-49A3-95CE-A55F0FB9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847D-7AC4-44A4-A29B-C744BEFE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401AC-EEC5-438B-AA9D-CD6FF4BC2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A8063-63AF-4A62-AF93-7B31E0C7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CA273-0157-426B-8007-352A56907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8A76B-6E7B-4BCE-A9EC-2AE0FE00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623-F39F-4DEC-9B18-B5AD8638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7F368-E0C9-4E07-9E4E-98D79C56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AAF9A-A6A5-4FD5-A3B6-38273A54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D088F-7659-4FF3-87FF-A1BD2C9F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0C04-F780-4B75-BF17-E8331C6D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99B69-6270-4A16-8932-1EE820A1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94F1-485B-427B-BD93-9DF59BF83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30C5-049C-4FA6-B503-5906861A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0983A-5EBA-4A5A-B699-08A70B3B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68164-CB39-4CE4-9F0B-6C7460D3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F5D72-754E-42C0-B24C-FC9CD6926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96C5-F2A8-4C30-8720-BF6010A75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33B377-90C4-484A-A951-549D04E6D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E3EE-C32E-470D-9D99-F66F37C8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A38E9-3934-4DBF-9AC2-2DD51770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4DCF4-31DC-4675-AAF4-14FD80B0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4B91-2D1A-4456-8492-02C8B9E5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9EF80-BB95-4658-8E57-F23B4E27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3FC3-0848-48EF-B04A-A31630AD0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95914-F91D-4FCF-96C2-0C959B80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14F7E-953B-4D3B-B064-F56EB35C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3549B-B79A-45F1-8361-3F402127B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2FA4-BCEC-448A-BE54-183B9F0F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3622DA-B4BF-424A-B87B-4F3AEB50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E09D6-D11C-4D95-BBEE-818C44B8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42B16E-E8DC-4830-B5DF-C6D87FA41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2DDD40-53A1-4F03-BEC5-8E732D5E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1BB286-88E5-44BB-9280-3B77C7CC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96183-7ABA-469A-8264-DC150DAB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D334D-FF97-41CA-A959-80EF006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F01C-DE08-46FC-A7A9-C0EB13AC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1D812-252D-497D-B4A0-63F3797B5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D4AAB-02B0-473F-AA6D-E6A8C7B2C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945080" y="624240"/>
            <a:ext cx="65887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B1A3-468A-44D5-9A62-0769061A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7132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400080" y="21337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94256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17132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400080" y="4106520"/>
            <a:ext cx="21222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E2258-CE74-4B0E-8914-08B67A78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FCFB-61CA-4907-8A2F-5D91260D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5320440" y="41065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388D-17AD-4E3B-BD75-18AA0C98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4256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20440" y="2133720"/>
            <a:ext cx="3216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942560" y="4106520"/>
            <a:ext cx="659160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5ED-23DC-4F5F-8E86-F4084B69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4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2560" y="2514600"/>
            <a:ext cx="66002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8"/>
          <p:cNvSpPr/>
          <p:nvPr/>
        </p:nvSpPr>
        <p:spPr>
          <a:xfrm>
            <a:off x="-31680" y="4321080"/>
            <a:ext cx="1395000" cy="781560"/>
          </a:xfrm>
          <a:custGeom>
            <a:avLst/>
            <a:gdLst>
              <a:gd name="textAreaLeft" fmla="*/ 0 w 1395000"/>
              <a:gd name="textAreaRight" fmla="*/ 1395360 w 1395000"/>
              <a:gd name="textAreaTop" fmla="*/ 0 h 781560"/>
              <a:gd name="textAreaBottom" fmla="*/ 781920 h 781560"/>
            </a:gdLst>
            <a:ahLst/>
            <a:rect l="textAreaLeft" t="textAreaTop" r="textAreaRight" b="textAreaBottom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423360" y="452952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50EA4C2-8743-488F-A184-4D4E67DAFF6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83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body"/>
          </p:nvPr>
        </p:nvSpPr>
        <p:spPr>
          <a:xfrm>
            <a:off x="571500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4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5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6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81EA34-0C0B-40C6-8390-BC00DD133F1B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139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152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560" y="213372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1"/>
          <p:cNvSpPr/>
          <p:nvPr/>
        </p:nvSpPr>
        <p:spPr>
          <a:xfrm flipV="1">
            <a:off x="0" y="711000"/>
            <a:ext cx="1357920" cy="507600"/>
          </a:xfrm>
          <a:custGeom>
            <a:avLst/>
            <a:gdLst>
              <a:gd name="textAreaLeft" fmla="*/ 0 w 1357920"/>
              <a:gd name="textAreaRight" fmla="*/ 1358280 w 1357920"/>
              <a:gd name="textAreaTop" fmla="*/ 360 h 507600"/>
              <a:gd name="textAreaBottom" fmla="*/ 508320 h 507600"/>
            </a:gdLst>
            <a:ahLst/>
            <a:rect l="textAreaLeft" t="textAreaTop" r="textAreaRight" b="textAreaBottom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9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2AFFF6-D556-45B1-84F4-52B2BCC656C9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208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221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body"/>
          </p:nvPr>
        </p:nvSpPr>
        <p:spPr>
          <a:xfrm>
            <a:off x="5715000" y="160020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2438280" y="3924360"/>
            <a:ext cx="640044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dt" idx="10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ftr" idx="11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 type="sldNum" idx="12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20062C-311B-41C0-ADB2-D67283117D8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Group 35"/>
          <p:cNvGrpSpPr/>
          <p:nvPr/>
        </p:nvGrpSpPr>
        <p:grpSpPr>
          <a:xfrm>
            <a:off x="0" y="228600"/>
            <a:ext cx="1980720" cy="6638400"/>
            <a:chOff x="0" y="228600"/>
            <a:chExt cx="1980720" cy="6638400"/>
          </a:xfrm>
        </p:grpSpPr>
        <p:sp>
          <p:nvSpPr>
            <p:cNvPr id="278" name="Freeform 11"/>
            <p:cNvSpPr/>
            <p:nvPr/>
          </p:nvSpPr>
          <p:spPr>
            <a:xfrm>
              <a:off x="0" y="2575080"/>
              <a:ext cx="69480" cy="62568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2"/>
            <p:cNvSpPr/>
            <p:nvPr/>
          </p:nvSpPr>
          <p:spPr>
            <a:xfrm>
              <a:off x="89280" y="3156480"/>
              <a:ext cx="448920" cy="2322000"/>
            </a:xfrm>
            <a:custGeom>
              <a:avLst/>
              <a:gdLst>
                <a:gd name="textAreaLeft" fmla="*/ 0 w 448920"/>
                <a:gd name="textAreaRight" fmla="*/ 449280 w 44892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3"/>
            <p:cNvSpPr/>
            <p:nvPr/>
          </p:nvSpPr>
          <p:spPr>
            <a:xfrm>
              <a:off x="560520" y="5447160"/>
              <a:ext cx="423000" cy="141984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4"/>
            <p:cNvSpPr/>
            <p:nvPr/>
          </p:nvSpPr>
          <p:spPr>
            <a:xfrm>
              <a:off x="666720" y="6503760"/>
              <a:ext cx="118800" cy="36324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5"/>
            <p:cNvSpPr/>
            <p:nvPr/>
          </p:nvSpPr>
          <p:spPr>
            <a:xfrm>
              <a:off x="69840" y="3201120"/>
              <a:ext cx="570600" cy="3328200"/>
            </a:xfrm>
            <a:custGeom>
              <a:avLst/>
              <a:gdLst>
                <a:gd name="textAreaLeft" fmla="*/ 0 w 570600"/>
                <a:gd name="textAreaRight" fmla="*/ 570960 w 57060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6"/>
            <p:cNvSpPr/>
            <p:nvPr/>
          </p:nvSpPr>
          <p:spPr>
            <a:xfrm>
              <a:off x="15480" y="228600"/>
              <a:ext cx="73440" cy="2927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7"/>
            <p:cNvSpPr/>
            <p:nvPr/>
          </p:nvSpPr>
          <p:spPr>
            <a:xfrm>
              <a:off x="54360" y="2944080"/>
              <a:ext cx="54000" cy="49356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8"/>
            <p:cNvSpPr/>
            <p:nvPr/>
          </p:nvSpPr>
          <p:spPr>
            <a:xfrm>
              <a:off x="534960" y="5478840"/>
              <a:ext cx="131760" cy="10245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9"/>
            <p:cNvSpPr/>
            <p:nvPr/>
          </p:nvSpPr>
          <p:spPr>
            <a:xfrm>
              <a:off x="538560" y="1398960"/>
              <a:ext cx="1442160" cy="4047840"/>
            </a:xfrm>
            <a:custGeom>
              <a:avLst/>
              <a:gdLst>
                <a:gd name="textAreaLeft" fmla="*/ 0 w 1442160"/>
                <a:gd name="textAreaRight" fmla="*/ 1442520 w 14421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0"/>
            <p:cNvSpPr/>
            <p:nvPr/>
          </p:nvSpPr>
          <p:spPr>
            <a:xfrm>
              <a:off x="640800" y="6530040"/>
              <a:ext cx="112320" cy="33696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1"/>
            <p:cNvSpPr/>
            <p:nvPr/>
          </p:nvSpPr>
          <p:spPr>
            <a:xfrm>
              <a:off x="534960" y="5359320"/>
              <a:ext cx="25560" cy="22140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2"/>
            <p:cNvSpPr/>
            <p:nvPr/>
          </p:nvSpPr>
          <p:spPr>
            <a:xfrm>
              <a:off x="590400" y="6244560"/>
              <a:ext cx="165240" cy="62208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Group 48"/>
          <p:cNvGrpSpPr/>
          <p:nvPr/>
        </p:nvGrpSpPr>
        <p:grpSpPr>
          <a:xfrm>
            <a:off x="20520" y="360"/>
            <a:ext cx="1951920" cy="6852600"/>
            <a:chOff x="20520" y="360"/>
            <a:chExt cx="1951920" cy="6852600"/>
          </a:xfrm>
        </p:grpSpPr>
        <p:sp>
          <p:nvSpPr>
            <p:cNvPr id="291" name="Freeform 27"/>
            <p:cNvSpPr/>
            <p:nvPr/>
          </p:nvSpPr>
          <p:spPr>
            <a:xfrm>
              <a:off x="20520" y="360"/>
              <a:ext cx="409320" cy="440064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8"/>
            <p:cNvSpPr/>
            <p:nvPr/>
          </p:nvSpPr>
          <p:spPr>
            <a:xfrm>
              <a:off x="453600" y="4316400"/>
              <a:ext cx="350280" cy="15804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29"/>
            <p:cNvSpPr/>
            <p:nvPr/>
          </p:nvSpPr>
          <p:spPr>
            <a:xfrm>
              <a:off x="831600" y="5862600"/>
              <a:ext cx="356760" cy="990360"/>
            </a:xfrm>
            <a:custGeom>
              <a:avLst/>
              <a:gdLst>
                <a:gd name="textAreaLeft" fmla="*/ 0 w 356760"/>
                <a:gd name="textAreaRight" fmla="*/ 357120 w 3567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0"/>
            <p:cNvSpPr/>
            <p:nvPr/>
          </p:nvSpPr>
          <p:spPr>
            <a:xfrm>
              <a:off x="429840" y="4364280"/>
              <a:ext cx="456840" cy="2235600"/>
            </a:xfrm>
            <a:custGeom>
              <a:avLst/>
              <a:gdLst>
                <a:gd name="textAreaLeft" fmla="*/ 0 w 456840"/>
                <a:gd name="textAreaRight" fmla="*/ 457200 w 45684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1"/>
            <p:cNvSpPr/>
            <p:nvPr/>
          </p:nvSpPr>
          <p:spPr>
            <a:xfrm>
              <a:off x="385560" y="1289160"/>
              <a:ext cx="144000" cy="302688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2"/>
            <p:cNvSpPr/>
            <p:nvPr/>
          </p:nvSpPr>
          <p:spPr>
            <a:xfrm>
              <a:off x="918720" y="6571440"/>
              <a:ext cx="110880" cy="28116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3"/>
            <p:cNvSpPr/>
            <p:nvPr/>
          </p:nvSpPr>
          <p:spPr>
            <a:xfrm>
              <a:off x="414000" y="4107600"/>
              <a:ext cx="68040" cy="51120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4"/>
            <p:cNvSpPr/>
            <p:nvPr/>
          </p:nvSpPr>
          <p:spPr>
            <a:xfrm>
              <a:off x="804600" y="3145680"/>
              <a:ext cx="1167840" cy="2716560"/>
            </a:xfrm>
            <a:custGeom>
              <a:avLst/>
              <a:gdLst>
                <a:gd name="textAreaLeft" fmla="*/ 0 w 1167840"/>
                <a:gd name="textAreaRight" fmla="*/ 1168200 w 116784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5"/>
            <p:cNvSpPr/>
            <p:nvPr/>
          </p:nvSpPr>
          <p:spPr>
            <a:xfrm>
              <a:off x="887040" y="6600240"/>
              <a:ext cx="99720" cy="25272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6"/>
            <p:cNvSpPr/>
            <p:nvPr/>
          </p:nvSpPr>
          <p:spPr>
            <a:xfrm>
              <a:off x="804600" y="5897160"/>
              <a:ext cx="113760" cy="673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37"/>
            <p:cNvSpPr/>
            <p:nvPr/>
          </p:nvSpPr>
          <p:spPr>
            <a:xfrm>
              <a:off x="804600" y="5772600"/>
              <a:ext cx="31320" cy="227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38"/>
            <p:cNvSpPr/>
            <p:nvPr/>
          </p:nvSpPr>
          <p:spPr>
            <a:xfrm>
              <a:off x="831600" y="6322680"/>
              <a:ext cx="174240" cy="53028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Rectangle 61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38280" y="228600"/>
            <a:ext cx="6400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body"/>
          </p:nvPr>
        </p:nvSpPr>
        <p:spPr>
          <a:xfrm>
            <a:off x="5715000" y="160020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5715000" y="3924360"/>
            <a:ext cx="312372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dt" idx="13"/>
          </p:nvPr>
        </p:nvSpPr>
        <p:spPr>
          <a:xfrm>
            <a:off x="7772400" y="6135120"/>
            <a:ext cx="766080" cy="36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ftr" idx="14"/>
          </p:nvPr>
        </p:nvSpPr>
        <p:spPr>
          <a:xfrm>
            <a:off x="1942560" y="6135840"/>
            <a:ext cx="57160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 type="sldNum" idx="15"/>
          </p:nvPr>
        </p:nvSpPr>
        <p:spPr>
          <a:xfrm>
            <a:off x="511200" y="787680"/>
            <a:ext cx="5846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ED4DFB8-31A4-48DA-B8E7-293984AF6EE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42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8000" spc="-1" strike="noStrike">
                <a:solidFill>
                  <a:srgbClr val="ff0000"/>
                </a:solidFill>
                <a:latin typeface="Monotype Corsiva"/>
              </a:rPr>
              <a:t>История появления математики.</a:t>
            </a:r>
            <a:endParaRPr b="0" lang="ru-RU" sz="8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5080" y="1886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490760" y="620640"/>
            <a:ext cx="7497720" cy="60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ндейцы майя ухитрялись писать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любое число, используя только точку,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линию и кружочек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аши современные цифры пришли к нам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з Индии через арабские страны, поэтому их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и называют арабскими. Происхождение каждой из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девяти арабских цифр хорошо видно, если их записать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в “угловатой” форме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От арабов к нам пришло и слово “цифра” от слова “сифр”. Цифрами называют все десять значков для записи чисел, которыми мы пользуемся: 0, 1, 2, 3, 4, 5, ……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-3232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овременное слово “нуль” появилось гораздо позже, чем “цифра”. Оно происходит от латинского слово “нулла” – “никакая”. Изобретение нуля считается одним из важнейших математических открытий. При новом способе записи чисел значение каждой написанной цифры стало прямо зависеть от позиции, места в числе. При помощи десяти цифр можно записать любое, даже самое большое число, и сразу ясно, какая цифра что обозначает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232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76" name="Picture 2" descr="http://festival.1september.ru/articles/573140/img8.jpg"/>
          <p:cNvPicPr/>
          <p:nvPr/>
        </p:nvPicPr>
        <p:blipFill>
          <a:blip r:embed="rId1"/>
          <a:stretch/>
        </p:blipFill>
        <p:spPr>
          <a:xfrm>
            <a:off x="6917040" y="1576080"/>
            <a:ext cx="1844280" cy="1676160"/>
          </a:xfrm>
          <a:prstGeom prst="rect">
            <a:avLst/>
          </a:prstGeom>
          <a:ln w="9525">
            <a:noFill/>
          </a:ln>
        </p:spPr>
      </p:pic>
      <p:pic>
        <p:nvPicPr>
          <p:cNvPr id="377" name="Picture 3" descr="http://festival.1september.ru/articles/573140/img9.jpg"/>
          <p:cNvPicPr/>
          <p:nvPr/>
        </p:nvPicPr>
        <p:blipFill>
          <a:blip r:embed="rId2"/>
          <a:stretch/>
        </p:blipFill>
        <p:spPr>
          <a:xfrm>
            <a:off x="1945080" y="3252600"/>
            <a:ext cx="3828600" cy="7617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624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4400" spc="-1" strike="noStrike">
                <a:solidFill>
                  <a:srgbClr val="262626"/>
                </a:solidFill>
                <a:latin typeface="Century Gothic"/>
              </a:rPr>
              <a:t>Цифры разных народов.</a:t>
            </a:r>
            <a:endParaRPr b="0" lang="ru-RU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14240" y="1916280"/>
            <a:ext cx="3857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Для запоминания чисел люди пользовались зарубками на деревьях и на палках и узлами на верёвках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80" name="Picture 12" descr="img285"/>
          <p:cNvPicPr/>
          <p:nvPr/>
        </p:nvPicPr>
        <p:blipFill>
          <a:blip r:embed="rId1"/>
          <a:stretch/>
        </p:blipFill>
        <p:spPr>
          <a:xfrm>
            <a:off x="4286160" y="1357200"/>
            <a:ext cx="3742920" cy="16552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3" descr="img276"/>
          <p:cNvPicPr/>
          <p:nvPr/>
        </p:nvPicPr>
        <p:blipFill>
          <a:blip r:embed="rId2"/>
          <a:stretch/>
        </p:blipFill>
        <p:spPr>
          <a:xfrm>
            <a:off x="5357880" y="3143160"/>
            <a:ext cx="1928520" cy="35049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14200" y="228600"/>
            <a:ext cx="8624520" cy="77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 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Десятичная нумерация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237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течение многих столетий,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ереходя  от народа к народу, старинные индийские цифры много раз изменялись, пока не приняли современную форму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Европейцы эти цифры           называют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27432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  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арабски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715000" y="1600200"/>
            <a:ext cx="312372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79640" y="1166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Магия чисел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331640" y="548640"/>
            <a:ext cx="7578720" cy="61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Впервые мистическое отношение к числам возникло несколько тысяч лет назад, а в середине века широко распространилось по всей Европе. Была даже целая наука – нумерология, в которой каждое имя имело свое число, получаемое при переводе букв имени в цифры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У некоторых народов есть числа “плохие” и “хорошие”, например, число 7 – хорошее, а 13 – плохое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читается, что число 13 приносит несчастье. 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Цифру 7 всегда связывали с понятием везения (удачи). Иногда эту цифру называют знаком ангел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Семь считали магическим, священным числом. Это объяснялось еще и тем, что человек воспринимает окружающий мир (свет, запахи, вкус, звуки) через семь “отверстий” в голове (два глаза, два уха, две ноздри, рот). Цифру 7 связывали с небом, например 7 звезд в созвездии Большой Медведицы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Нередко, приписывая числу 7 таинственную силу, знахари вручали больному семь разных лекарств, настоянных на семи разных травах, и советовали пить семь дней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Это волшебное число 7 широко использовалось в сказках “Белоснежка и семь гномов”, “Волк и семеро козлят”, “Цветик-семицветик”; в мифах древнего мира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В речи употребляются пословицы и поговорки типа: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раз отмерь, один раз отрежь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еро одного не ждут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Лук – от семи недуг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бед – один ответ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пядей во лбу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marL="345600" indent="-345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Century Gothic"/>
              </a:rPr>
              <a:t>- Семь пятниц на неделе.</a:t>
            </a:r>
            <a:endParaRPr b="0" lang="ru-RU" sz="19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Магия чисел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42560" y="1268640"/>
            <a:ext cx="6591600" cy="464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Еще многие числа имеют свое магическое значение: 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6 и 12 – в столовых сервизах по 6 и 12 приборов, 12 месяцев в году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4 – четыре стороны света: север, запад, юг, восток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40 – «сороконожка», в пуде 40 фунтов, принято сорок дней вспоминать умершего человека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60 – 60 минут в часе, 60 секунд в минуте;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10 – десять цифр, которыми мы записываем все числа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89" name="Picture 2" descr="j0236227"/>
          <p:cNvPicPr/>
          <p:nvPr/>
        </p:nvPicPr>
        <p:blipFill>
          <a:blip r:embed="rId1"/>
          <a:stretch/>
        </p:blipFill>
        <p:spPr>
          <a:xfrm>
            <a:off x="7740360" y="5445360"/>
            <a:ext cx="809280" cy="1104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ыводы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391" name="Group 39"/>
          <p:cNvGraphicFramePr/>
          <p:nvPr/>
        </p:nvGraphicFramePr>
        <p:xfrm>
          <a:off x="1899720" y="1412640"/>
          <a:ext cx="6590880" cy="4575960"/>
        </p:xfrm>
        <a:graphic>
          <a:graphicData uri="http://schemas.openxmlformats.org/drawingml/2006/table">
            <a:tbl>
              <a:tblPr/>
              <a:tblGrid>
                <a:gridCol w="1677240"/>
                <a:gridCol w="4914000"/>
              </a:tblGrid>
              <a:tr h="642600">
                <a:tc>
                  <a:txBody>
                    <a:bodyPr lIns="93960" rIns="93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быт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-25 тысяч лет наз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дельные племена стали применять названия некоторых чисе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тысяч лет наз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евние пастухи стали делать из глины кружки по числу овец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9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шский математик Ян Видман ввёл знаки «+» и «-»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1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математик Вильям Оутред ввёл знак  «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×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3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к  « :»  Джон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7 г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960" rIns="93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глийский врач Роберт Рекорд ввёл знак  « = 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960" marR="9396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ыводы 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911960" y="1124640"/>
            <a:ext cx="659160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 возникли из практических нужд человек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 записывают с помощью десяти цифр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На уроках мы используем арабские цифры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исла сыграли большую роль в развитии человечества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6961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200" spc="-1" strike="noStrike">
                <a:solidFill>
                  <a:srgbClr val="262626"/>
                </a:solidFill>
                <a:latin typeface="Century Gothic"/>
              </a:rPr>
              <a:t>    </a:t>
            </a:r>
            <a:r>
              <a:rPr b="0" i="1" lang="ru-RU" sz="3200" spc="-1" strike="noStrike">
                <a:solidFill>
                  <a:srgbClr val="262626"/>
                </a:solidFill>
                <a:latin typeface="Century Gothic"/>
              </a:rPr>
              <a:t>Арифметика каменного века</a:t>
            </a:r>
            <a:endParaRPr b="0" lang="ru-RU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03640" y="1447920"/>
            <a:ext cx="378576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ервыми понятиями математики, с которыми столкнулись люди, были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«больше» 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1800" spc="-1" strike="noStrike">
                <a:solidFill>
                  <a:srgbClr val="404040"/>
                </a:solidFill>
                <a:latin typeface="Century Gothic"/>
              </a:rPr>
              <a:t>«столько же»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  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0" name="Picture 9" descr="2"/>
          <p:cNvPicPr/>
          <p:nvPr/>
        </p:nvPicPr>
        <p:blipFill>
          <a:blip r:embed="rId1"/>
          <a:stretch/>
        </p:blipFill>
        <p:spPr>
          <a:xfrm>
            <a:off x="5369400" y="1571760"/>
            <a:ext cx="3250800" cy="3809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28760" y="228600"/>
            <a:ext cx="841032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i="1" lang="ru-RU" sz="3600" spc="-1" strike="noStrike">
                <a:solidFill>
                  <a:srgbClr val="262626"/>
                </a:solidFill>
                <a:latin typeface="Century Gothic"/>
              </a:rPr>
              <a:t>ЦИФРЫ  КАМЕННОГО  ВЕ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051640" y="1447920"/>
            <a:ext cx="4423680" cy="449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Древние пастухи стали делать из глины кружки – по одному на каждую овцу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Земледельцы с помощью глиняных фигурок вели учёт собранного урожа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3" name="Picture 7" descr="1"/>
          <p:cNvPicPr/>
          <p:nvPr/>
        </p:nvPicPr>
        <p:blipFill>
          <a:blip r:embed="rId1"/>
          <a:stretch/>
        </p:blipFill>
        <p:spPr>
          <a:xfrm>
            <a:off x="6622200" y="1447920"/>
            <a:ext cx="2214360" cy="41335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Числа начинают получать имен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547640" y="1268640"/>
            <a:ext cx="5544360" cy="50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22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300" spc="-1" strike="noStrike">
                <a:solidFill>
                  <a:srgbClr val="404040"/>
                </a:solidFill>
                <a:latin typeface="Century Gothic"/>
              </a:rPr>
              <a:t>      </a:t>
            </a:r>
            <a:r>
              <a:rPr b="0" lang="ru-RU" sz="2300" spc="-1" strike="noStrike">
                <a:solidFill>
                  <a:srgbClr val="404040"/>
                </a:solidFill>
                <a:latin typeface="Century Gothic"/>
              </a:rPr>
              <a:t>Перекладывать каждый раз глиняные фигурки было утомительно. Поэтому люди стали придумывать числам названия. Сначала получили названия только числа 1 и 2. а все, что шло после двух, называли «много». А когда придумали название для числа три, то его стали применять вместо слова «много». В некоторых сказках, поговорках, пословицах число три обозначает много. Русская пословица говорит: «Обещанного три года ждут», а в сказках героев отправляют «за тридевять земель, в тридесятое царство», они сражаются с трехглавым змеем.</a:t>
            </a:r>
            <a:endParaRPr b="0" lang="ru-RU" sz="2300" spc="-1" strike="noStrike">
              <a:solidFill>
                <a:srgbClr val="404040"/>
              </a:solidFill>
              <a:latin typeface="Century Gothic"/>
            </a:endParaRPr>
          </a:p>
          <a:p>
            <a:pPr marL="3225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56" name="Picture 2" descr="AG00164_"/>
          <p:cNvPicPr/>
          <p:nvPr/>
        </p:nvPicPr>
        <p:blipFill>
          <a:blip r:embed="rId1"/>
          <a:stretch/>
        </p:blipFill>
        <p:spPr>
          <a:xfrm rot="17609400">
            <a:off x="6403320" y="2763720"/>
            <a:ext cx="3519360" cy="18334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262626"/>
                </a:solidFill>
                <a:latin typeface="Century Gothic"/>
              </a:rPr>
              <a:t>Живая счетная машина</a:t>
            </a:r>
            <a:endParaRPr b="0" lang="ru-RU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47640" y="1124640"/>
            <a:ext cx="7776360" cy="573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Чем больше зерна собирали люди со своих полей, чем многочисленнее становились их стада, тем большие числа становились им нужны. Тогда старые методы счета вытеснил новый – счет по пальцам. Пальцы оказались прекрасной вычислительной машиной. Так, например, желая обменять, сделанное им копье с каменным наконечником на пять шкурок для одежды, человек клал на землю свою руку и показывал, что против каждого пальца его руки нужно положить шкурку. Одна пятерня означала 5, две – 10. Когда рук не хватало, в ход шли и ноги. Две руки и одна нога – 15, две руки и две ноги – 20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Так люди начинали учиться считать, пользуясь тем, что дала им сама природа, – собственной пятерней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С того далекого времени, когда знать, что пальцев пять, значило то же, что уметь считать, пошло это выражение: «Знаю, как свои пять пальцев»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Пальцы были первыми изображениями чисел. Очень сложно было складывать и вычитать. Загибаешь пальцы – складываешь, разгибаешь – вычитаешь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1320" y="228600"/>
            <a:ext cx="8267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i="1" lang="ru-RU" sz="5400" spc="-1" strike="noStrike">
                <a:solidFill>
                  <a:srgbClr val="262626"/>
                </a:solidFill>
                <a:latin typeface="Century Gothic"/>
              </a:rPr>
              <a:t> </a:t>
            </a:r>
            <a:r>
              <a:rPr b="0" i="1" lang="ru-RU" sz="5400" spc="-1" strike="noStrike">
                <a:solidFill>
                  <a:srgbClr val="262626"/>
                </a:solidFill>
                <a:latin typeface="Century Gothic"/>
              </a:rPr>
              <a:t>Счёт по пальцам.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Picture 7" descr="6"/>
          <p:cNvPicPr/>
          <p:nvPr/>
        </p:nvPicPr>
        <p:blipFill>
          <a:blip r:embed="rId1"/>
          <a:stretch/>
        </p:blipFill>
        <p:spPr>
          <a:xfrm>
            <a:off x="500040" y="1643040"/>
            <a:ext cx="3628800" cy="27144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8" descr="img274"/>
          <p:cNvPicPr/>
          <p:nvPr/>
        </p:nvPicPr>
        <p:blipFill>
          <a:blip r:embed="rId2"/>
          <a:stretch/>
        </p:blipFill>
        <p:spPr>
          <a:xfrm>
            <a:off x="4551480" y="1643040"/>
            <a:ext cx="3507840" cy="2714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0040" y="4786200"/>
            <a:ext cx="7643520" cy="17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1" lang="ru-RU" sz="1800" spc="-1" strike="noStrike">
                <a:solidFill>
                  <a:srgbClr val="404040"/>
                </a:solidFill>
                <a:latin typeface="Century Gothic"/>
              </a:rPr>
              <a:t>Научившись считать по пальцам до десяти, люди сделали следующий шаг вперёд и стали считать десятками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91640" y="1196640"/>
            <a:ext cx="6842520" cy="471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 развитием скотоводства и земледелия люди все чаще начали сталкиваться с большими числами, запоминать которые стало трудно. Нужно было придумать, как их записать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разных странах и в разные времена это делалось по-разному. Очень разные и порою даже забавные эти “цифры” у разных народов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695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В Древнем Египте числа первого десятка записывали соответствующим количеством палочек. Вместо цифры “3” – три палочки. А вот для десятков уже другой знак – вроде подковы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У древних греков, например, вместо цифр, были буквы. Буквами обозначались цифры и в древних русских книгах: “А” - это один, “Б” - два, “В” – три и т.д.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67" name="Picture 2" descr="http://festival.1september.ru/articles/573140/img3.jpg"/>
          <p:cNvPicPr/>
          <p:nvPr/>
        </p:nvPicPr>
        <p:blipFill>
          <a:blip r:embed="rId1"/>
          <a:stretch/>
        </p:blipFill>
        <p:spPr>
          <a:xfrm>
            <a:off x="2411640" y="2631960"/>
            <a:ext cx="1773000" cy="1063440"/>
          </a:xfrm>
          <a:prstGeom prst="rect">
            <a:avLst/>
          </a:prstGeom>
          <a:ln w="9525">
            <a:noFill/>
          </a:ln>
        </p:spPr>
      </p:pic>
      <p:pic>
        <p:nvPicPr>
          <p:cNvPr id="368" name="Picture 3" descr="http://festival.1september.ru/articles/573140/img4.jpg"/>
          <p:cNvPicPr/>
          <p:nvPr/>
        </p:nvPicPr>
        <p:blipFill>
          <a:blip r:embed="rId2"/>
          <a:srcRect l="11922" t="5126" r="0" b="0"/>
          <a:stretch/>
        </p:blipFill>
        <p:spPr>
          <a:xfrm>
            <a:off x="5903280" y="2551680"/>
            <a:ext cx="1705320" cy="122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5080" y="624240"/>
            <a:ext cx="658872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262626"/>
                </a:solidFill>
                <a:latin typeface="Century Gothic"/>
              </a:rPr>
              <a:t>Как люди научились записывать цифры</a:t>
            </a:r>
            <a:endParaRPr b="0" lang="ru-RU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90760" y="1124640"/>
            <a:ext cx="749772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У древних римлян были другие цифры. Мы и сейчас пользуемся иногда римскими цифрами. Их можно увидеть и на циферблате часов, и в книге, где обозначается номер главы. Если внимательно рассмотреть, римские цифры похожи на пальцы. Один – это один палец; два – два пальца; пять – это пятерня с отставленным большим пальцем; шесть – это пятерня да еще один палец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2200" spc="-1" strike="noStrike">
                <a:solidFill>
                  <a:srgbClr val="404040"/>
                </a:solidFill>
                <a:latin typeface="Century Gothic"/>
              </a:rPr>
              <a:t>Так выглядели древние китайские цифры.</a:t>
            </a:r>
            <a:endParaRPr b="0" lang="ru-RU" sz="2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371" name="Picture 2" descr="http://festival.1september.ru/articles/573140/img5.jpg"/>
          <p:cNvPicPr/>
          <p:nvPr/>
        </p:nvPicPr>
        <p:blipFill>
          <a:blip r:embed="rId1"/>
          <a:stretch/>
        </p:blipFill>
        <p:spPr>
          <a:xfrm>
            <a:off x="2915640" y="4365720"/>
            <a:ext cx="2484720" cy="935640"/>
          </a:xfrm>
          <a:prstGeom prst="rect">
            <a:avLst/>
          </a:prstGeom>
          <a:ln w="9525">
            <a:noFill/>
          </a:ln>
        </p:spPr>
      </p:pic>
      <p:pic>
        <p:nvPicPr>
          <p:cNvPr id="372" name="Picture 3" descr="http://festival.1september.ru/articles/573140/img6.jpg"/>
          <p:cNvPicPr/>
          <p:nvPr/>
        </p:nvPicPr>
        <p:blipFill>
          <a:blip r:embed="rId2"/>
          <a:stretch/>
        </p:blipFill>
        <p:spPr>
          <a:xfrm>
            <a:off x="6688080" y="4251240"/>
            <a:ext cx="972720" cy="1028520"/>
          </a:xfrm>
          <a:prstGeom prst="rect">
            <a:avLst/>
          </a:prstGeom>
          <a:ln w="9525">
            <a:noFill/>
          </a:ln>
        </p:spPr>
      </p:pic>
      <p:pic>
        <p:nvPicPr>
          <p:cNvPr id="373" name="Picture 4" descr="http://festival.1september.ru/articles/573140/img7.jpg"/>
          <p:cNvPicPr/>
          <p:nvPr/>
        </p:nvPicPr>
        <p:blipFill>
          <a:blip r:embed="rId3"/>
          <a:stretch/>
        </p:blipFill>
        <p:spPr>
          <a:xfrm>
            <a:off x="3312360" y="5658840"/>
            <a:ext cx="3333240" cy="866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60</TotalTime>
  <Application>LibreOffice/7.4.7.2$Linux_X86_64 LibreOffice_project/40$Build-2</Application>
  <AppVersion>15.0000</AppVersion>
  <Words>1101</Words>
  <Paragraphs>10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6T18:37:09Z</dcterms:created>
  <dc:creator>home</dc:creator>
  <dc:description/>
  <dc:language>en-US</dc:language>
  <cp:lastModifiedBy>Ученик</cp:lastModifiedBy>
  <dcterms:modified xsi:type="dcterms:W3CDTF">2015-07-18T09:50:54Z</dcterms:modified>
  <cp:revision>9</cp:revision>
  <dc:subject/>
  <dc:title>Как люди научились считат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6</vt:r8>
  </property>
</Properties>
</file>