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4913-2ACA-48E8-BE9E-2D4B012E7F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6213-BB50-4142-83A1-808F63EE65F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A809-7619-4C32-A5E2-13EA05C1662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747D-1DA0-4764-84F2-8E9634DE3F0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EEC9-7667-4717-BD3E-44FFA84DADD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9606-776D-4441-91B8-331EA3222E4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9C85-BE9A-4E3C-A3FE-13B1084EC51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9493-8DBC-40A0-924C-1CD563EA87A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6832-73E6-46F2-A1A1-F97C237B874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CE0D-B254-4C4E-A20D-B03889A503A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7C80-03AE-42A7-813F-8745B7ECFEC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01CA-6497-4EBA-BD1F-4D4A2EA56A3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8253-3DE7-42E9-A85B-0A1AC2DCDA1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63E1-C023-458E-AE08-35D42C643FD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7556-6232-4DFB-8B13-ABA10CD858B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F9AF-54AD-4A45-8BB0-E35DC18FB27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F32-3419-46B0-8850-42443B7F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F6C-1D05-42BA-9D95-A7FB2493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E23-3C49-4F4E-9989-4173A437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E44-44C7-4D1E-B422-566E20C4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B8B0-32CE-47E9-8F75-AF894B4A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079-2047-4DEF-9369-6537969E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E61-3D06-429F-941C-C447F441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18E-700A-4942-9920-5F57B44E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92A-4D46-4CDE-8183-DAF74F80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90E-2A8E-41D8-BE5A-ABC4AA87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B51-F621-42B5-BF8C-D0AAF377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886-D98B-4961-92A2-1455691A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D001-F40D-4CF0-BE41-AB718D862E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1382760"/>
            <a:ext cx="82328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  <a:ea typeface="Arial"/>
              </a:rPr>
              <a:t>Кодирование звуковой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1822320" y="2830680"/>
            <a:ext cx="55720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"/>
          <p:cNvSpPr/>
          <p:nvPr/>
        </p:nvSpPr>
        <p:spPr>
          <a:xfrm>
            <a:off x="1835280" y="5105520"/>
            <a:ext cx="5257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 Black"/>
                <a:ea typeface="Arial"/>
              </a:rPr>
              <a:t>Информатика и 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Arial Black"/>
                <a:ea typeface="Arial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mic Sans MS"/>
                <a:ea typeface="Arial"/>
              </a:rPr>
              <a:t>Способы представления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777960" y="2101680"/>
            <a:ext cx="2463840" cy="67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ов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5740560" y="2149560"/>
            <a:ext cx="2463480" cy="67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р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45960" y="2925720"/>
            <a:ext cx="350532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ческая величина принимае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бесконечно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ножество значений, причем они изменяю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епрерывн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5219640" y="2995560"/>
            <a:ext cx="350532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ческая величина принимае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нечно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ножество значений, причем они изменяю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качкообразн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Соединительная линия уступом 13"/>
          <p:cNvCxnSpPr/>
          <p:nvPr/>
        </p:nvCxnSpPr>
        <p:spPr>
          <a:xfrm rot="5400000">
            <a:off x="2690640" y="495720"/>
            <a:ext cx="659520" cy="2328120"/>
          </a:xfrm>
          <a:prstGeom prst="bentConnector3">
            <a:avLst>
              <a:gd name="adj1" fmla="val 49972"/>
            </a:avLst>
          </a:prstGeom>
          <a:ln w="38160">
            <a:solidFill>
              <a:srgbClr val="c0504d"/>
            </a:solidFill>
            <a:miter/>
          </a:ln>
        </p:spPr>
      </p:cxnSp>
      <p:cxnSp>
        <p:nvCxnSpPr>
          <p:cNvPr id="76" name="Соединительная линия уступом 14"/>
          <p:cNvCxnSpPr/>
          <p:nvPr/>
        </p:nvCxnSpPr>
        <p:spPr>
          <a:xfrm flipH="1" rot="16200000">
            <a:off x="5792760" y="495720"/>
            <a:ext cx="659520" cy="2328120"/>
          </a:xfrm>
          <a:prstGeom prst="bentConnector3">
            <a:avLst>
              <a:gd name="adj1" fmla="val 49972"/>
            </a:avLst>
          </a:prstGeom>
          <a:ln w="38160">
            <a:solidFill>
              <a:srgbClr val="c0504d"/>
            </a:solidFill>
            <a:miter/>
          </a:ln>
        </p:spPr>
      </p:cxn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19200" y="4738680"/>
            <a:ext cx="2781360" cy="1714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5364000" y="4710240"/>
            <a:ext cx="278316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Звуков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34920" y="1979640"/>
          <a:ext cx="6589800" cy="4403520"/>
        </p:xfrm>
        <a:graphic>
          <a:graphicData uri="http://schemas.openxmlformats.org/drawingml/2006/table">
            <a:tbl>
              <a:tblPr/>
              <a:tblGrid>
                <a:gridCol w="3992760"/>
                <a:gridCol w="2597040"/>
              </a:tblGrid>
              <a:tr h="1008000">
                <a:tc>
                  <a:txBody>
                    <a:bodyPr tIns="327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й зву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327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сть, измеренная в децибела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74800">
                <a:tc>
                  <a:txBody>
                    <a:bodyPr tIns="3276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предел чувствительности человеческого 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27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tIns="3276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рох листь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27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tIns="3276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27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tIns="3276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док автомоби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27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tIns="3276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 двиг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27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tIns="3276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вой поро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276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56"/>
          <p:cNvSpPr/>
          <p:nvPr/>
        </p:nvSpPr>
        <p:spPr>
          <a:xfrm>
            <a:off x="395280" y="1079640"/>
            <a:ext cx="8928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бы измерять громкость звука применяют специальную единицу "децибел" (дБ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Временная дискретизация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60360" y="1260360"/>
            <a:ext cx="450072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того, чтобы компьютер мог обрабатывать звук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епрерывный звуковой сигна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аналоговый) должен быть преобразован в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цифровую дискретную форм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с помощью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ременной дискрет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вуковая волна разбивается на отдельные маленькие временные участки, для каждого участка устанавливается определенная величина интенсивности зву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4716360" y="1295280"/>
            <a:ext cx="4319640" cy="478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Временная дискретизация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712800" y="1413000"/>
            <a:ext cx="774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ременная дискретизация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–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это разбиение непрерывной звуковой волны  на отдельные маленькие временные участки, причем для каждого участка устанавливается определенная величина амплиту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Группа 30"/>
          <p:cNvGrpSpPr/>
          <p:nvPr/>
        </p:nvGrpSpPr>
        <p:grpSpPr>
          <a:xfrm>
            <a:off x="1897200" y="3355920"/>
            <a:ext cx="5572080" cy="2752920"/>
            <a:chOff x="1897200" y="3355920"/>
            <a:chExt cx="5572080" cy="2752920"/>
          </a:xfrm>
        </p:grpSpPr>
        <p:graphicFrame>
          <p:nvGraphicFramePr>
            <p:cNvPr id="91" name="Object 1"/>
            <p:cNvGraphicFramePr/>
            <p:nvPr/>
          </p:nvGraphicFramePr>
          <p:xfrm>
            <a:off x="1897200" y="3426120"/>
            <a:ext cx="5572080" cy="268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" name="Object 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7200" y="3426120"/>
                      <a:ext cx="5572080" cy="268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Object 2"/>
            <p:cNvGraphicFramePr/>
            <p:nvPr/>
          </p:nvGraphicFramePr>
          <p:xfrm>
            <a:off x="1897200" y="3424680"/>
            <a:ext cx="5572080" cy="2682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97200" y="3424680"/>
                      <a:ext cx="5572080" cy="268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5" name="Group 345"/>
            <p:cNvGrpSpPr/>
            <p:nvPr/>
          </p:nvGrpSpPr>
          <p:grpSpPr>
            <a:xfrm>
              <a:off x="2039760" y="3769920"/>
              <a:ext cx="4786200" cy="1933200"/>
              <a:chOff x="2039760" y="3769920"/>
              <a:chExt cx="4786200" cy="1933200"/>
            </a:xfrm>
          </p:grpSpPr>
          <p:sp>
            <p:nvSpPr>
              <p:cNvPr id="96" name="Rectangle 337"/>
              <p:cNvSpPr/>
              <p:nvPr/>
            </p:nvSpPr>
            <p:spPr>
              <a:xfrm>
                <a:off x="2039760" y="5012640"/>
                <a:ext cx="434880" cy="690480"/>
              </a:xfrm>
              <a:prstGeom prst="rect">
                <a:avLst/>
              </a:pr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338"/>
              <p:cNvSpPr/>
              <p:nvPr/>
            </p:nvSpPr>
            <p:spPr>
              <a:xfrm>
                <a:off x="2474640" y="4391280"/>
                <a:ext cx="434880" cy="1311840"/>
              </a:xfrm>
              <a:prstGeom prst="rect">
                <a:avLst/>
              </a:pr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339"/>
              <p:cNvSpPr/>
              <p:nvPr/>
            </p:nvSpPr>
            <p:spPr>
              <a:xfrm>
                <a:off x="6391080" y="4391280"/>
                <a:ext cx="434880" cy="1311840"/>
              </a:xfrm>
              <a:prstGeom prst="rect">
                <a:avLst/>
              </a:pr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340"/>
              <p:cNvSpPr/>
              <p:nvPr/>
            </p:nvSpPr>
            <p:spPr>
              <a:xfrm>
                <a:off x="5085720" y="4736520"/>
                <a:ext cx="1305360" cy="966240"/>
              </a:xfrm>
              <a:prstGeom prst="rect">
                <a:avLst/>
              </a:pr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341"/>
              <p:cNvSpPr/>
              <p:nvPr/>
            </p:nvSpPr>
            <p:spPr>
              <a:xfrm>
                <a:off x="4650480" y="4391280"/>
                <a:ext cx="434880" cy="1311840"/>
              </a:xfrm>
              <a:prstGeom prst="rect">
                <a:avLst/>
              </a:pr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342"/>
              <p:cNvSpPr/>
              <p:nvPr/>
            </p:nvSpPr>
            <p:spPr>
              <a:xfrm>
                <a:off x="2909880" y="4115160"/>
                <a:ext cx="1740240" cy="1587600"/>
              </a:xfrm>
              <a:prstGeom prst="rect">
                <a:avLst/>
              </a:pr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343"/>
              <p:cNvSpPr/>
              <p:nvPr/>
            </p:nvSpPr>
            <p:spPr>
              <a:xfrm>
                <a:off x="3345120" y="3769920"/>
                <a:ext cx="870120" cy="345240"/>
              </a:xfrm>
              <a:prstGeom prst="rect">
                <a:avLst/>
              </a:prstGeom>
              <a:solidFill>
                <a:srgbClr val="ff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 Box 346"/>
            <p:cNvSpPr/>
            <p:nvPr/>
          </p:nvSpPr>
          <p:spPr>
            <a:xfrm>
              <a:off x="7038000" y="5289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347"/>
            <p:cNvSpPr/>
            <p:nvPr/>
          </p:nvSpPr>
          <p:spPr>
            <a:xfrm>
              <a:off x="2094840" y="3355920"/>
              <a:ext cx="52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49"/>
            <p:cNvSpPr/>
            <p:nvPr/>
          </p:nvSpPr>
          <p:spPr>
            <a:xfrm>
              <a:off x="2039760" y="5013000"/>
              <a:ext cx="428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50"/>
            <p:cNvSpPr/>
            <p:nvPr/>
          </p:nvSpPr>
          <p:spPr>
            <a:xfrm>
              <a:off x="3325680" y="3769920"/>
              <a:ext cx="857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51"/>
            <p:cNvSpPr/>
            <p:nvPr/>
          </p:nvSpPr>
          <p:spPr>
            <a:xfrm>
              <a:off x="2897280" y="4115160"/>
              <a:ext cx="428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52"/>
            <p:cNvSpPr/>
            <p:nvPr/>
          </p:nvSpPr>
          <p:spPr>
            <a:xfrm>
              <a:off x="2468520" y="4391280"/>
              <a:ext cx="428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53"/>
            <p:cNvSpPr/>
            <p:nvPr/>
          </p:nvSpPr>
          <p:spPr>
            <a:xfrm>
              <a:off x="4183200" y="4115160"/>
              <a:ext cx="428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54"/>
            <p:cNvSpPr/>
            <p:nvPr/>
          </p:nvSpPr>
          <p:spPr>
            <a:xfrm>
              <a:off x="4611960" y="4391280"/>
              <a:ext cx="428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55"/>
            <p:cNvSpPr/>
            <p:nvPr/>
          </p:nvSpPr>
          <p:spPr>
            <a:xfrm>
              <a:off x="5040360" y="4736520"/>
              <a:ext cx="1357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56"/>
            <p:cNvSpPr/>
            <p:nvPr/>
          </p:nvSpPr>
          <p:spPr>
            <a:xfrm>
              <a:off x="6397920" y="4391280"/>
              <a:ext cx="428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357"/>
            <p:cNvSpPr/>
            <p:nvPr/>
          </p:nvSpPr>
          <p:spPr>
            <a:xfrm>
              <a:off x="3325680" y="3769920"/>
              <a:ext cx="0" cy="344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58"/>
            <p:cNvSpPr/>
            <p:nvPr/>
          </p:nvSpPr>
          <p:spPr>
            <a:xfrm>
              <a:off x="2468520" y="4391280"/>
              <a:ext cx="0" cy="62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59"/>
            <p:cNvSpPr/>
            <p:nvPr/>
          </p:nvSpPr>
          <p:spPr>
            <a:xfrm>
              <a:off x="2897280" y="4115160"/>
              <a:ext cx="0" cy="276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60"/>
            <p:cNvSpPr/>
            <p:nvPr/>
          </p:nvSpPr>
          <p:spPr>
            <a:xfrm>
              <a:off x="4183200" y="3769920"/>
              <a:ext cx="0" cy="344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61"/>
            <p:cNvSpPr/>
            <p:nvPr/>
          </p:nvSpPr>
          <p:spPr>
            <a:xfrm>
              <a:off x="4611960" y="4115160"/>
              <a:ext cx="0" cy="276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62"/>
            <p:cNvSpPr/>
            <p:nvPr/>
          </p:nvSpPr>
          <p:spPr>
            <a:xfrm>
              <a:off x="5040360" y="4391280"/>
              <a:ext cx="0" cy="344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63"/>
            <p:cNvSpPr/>
            <p:nvPr/>
          </p:nvSpPr>
          <p:spPr>
            <a:xfrm>
              <a:off x="6397920" y="4391280"/>
              <a:ext cx="0" cy="344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Дискрет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68360" y="1295280"/>
            <a:ext cx="83008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оцифровки звука (из аналоговой формы в цифровую) используются специальные устройств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алого-цифровой преобразов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АЦП)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ифро-аналоговый преобразов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ЦАП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6360" y="3149640"/>
            <a:ext cx="7956360" cy="3159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3.03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539640" y="1074600"/>
            <a:ext cx="813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ЦП и ЦАП находятся в звуковой плате компьютера. Именно звуковая плата (аудиоадаптер) преобразует аналоговый сигнал в дискретную фонограмму и наоборот, «оцифрованный»  звук – в аналоговый (непрерывный) сигнал, который поступает на вход динам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60360" y="3044880"/>
            <a:ext cx="3448080" cy="2685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647640" y="3924360"/>
            <a:ext cx="1513080" cy="1152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Звуковая пл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4140360" y="2771640"/>
            <a:ext cx="474156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Частота дискрет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50720" y="2781360"/>
            <a:ext cx="81043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Частота дискретизации звук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- это количество измерений громкости звука в одну секун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39640" y="1352520"/>
            <a:ext cx="780732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Verdana"/>
                <a:ea typeface="Arial"/>
              </a:rPr>
              <a:t>Параметры оцифровки 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Частота дискретизации (Г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Глубина кодирования звука (би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"/>
          <p:cNvSpPr/>
          <p:nvPr/>
        </p:nvSpPr>
        <p:spPr>
          <a:xfrm>
            <a:off x="480960" y="4076640"/>
            <a:ext cx="250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 Гц = 1/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 кГц = 1000 /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902040" y="3716280"/>
            <a:ext cx="419112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Глубина кодирования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12720" y="1407960"/>
            <a:ext cx="810432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Глубина кодирования звук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- это количество информации, которое необходимо для кодирования дискретных уровней громкости цифрового зву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39640" y="3341520"/>
            <a:ext cx="7920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Если глубина кодирования звука со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авляет 16 битов, то количество уровней громкости звука р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N = 2</a:t>
            </a:r>
            <a:r>
              <a:rPr b="1" lang="en-US" sz="2600" spc="-1" strike="noStrike" baseline="33000">
                <a:solidFill>
                  <a:srgbClr val="000000"/>
                </a:solidFill>
                <a:latin typeface="Verdana"/>
                <a:ea typeface="Arial"/>
              </a:rPr>
              <a:t>i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= 2</a:t>
            </a:r>
            <a:r>
              <a:rPr b="1" lang="ru-RU" sz="2600" spc="-1" strike="noStrike" baseline="33000">
                <a:solidFill>
                  <a:srgbClr val="000000"/>
                </a:solidFill>
                <a:latin typeface="Verdana"/>
                <a:ea typeface="Arial"/>
              </a:rPr>
              <a:t>16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= 65 53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процессе кодирования каждому уровню громкости звука присваивается 16-битовый двоичный к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0000000000000000 — наименьший уровень зв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1111111111111111 — наибольший уровень зв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Формула дискрет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55480" y="1413000"/>
            <a:ext cx="82645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Verdana"/>
                <a:ea typeface="Arial"/>
              </a:rPr>
              <a:t>V = M * i *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M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частота дискретизации (в Гц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– глубина кодирования  (в би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– время звучания (в се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 – объем фай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963000" y="5668920"/>
            <a:ext cx="60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(режим стерео – умножить на 2, квадро – на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453960" y="1484280"/>
            <a:ext cx="81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вуковая плата производит двоичное кодирование аналогового звукового сигнала. Какое количество информации необходимо для кодирования каждого из 65 536 возможных уровней интенсивности сигна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1) 2 байта     2) 256 бит     3) 16 байт    4) 8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33300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кодирование текстовой информац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ая единица измерения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й форме может быть представлена графическая информац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ространственная дискретизац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зображения называются растровы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единицах измеряется растровые изображ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вязаны между собой количество цветов в палитре и глубина цве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. Цветное с палитрой из 256 цветов растровое изображение имеет размер 10х15 точек. Какой информационный объем имеет изображен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. Черно-белое растровое изображение имеет размер 20х15 точек. Какой информационный объем имеет изображен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2565360"/>
            <a:ext cx="85075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22,05*1000 = 22050 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 8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10 сек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 = M * i * 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22050*10*8 = 1764000 б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 220500 байт = 215,3 Кбай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если стереозвук – умножить н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39640" y="1149480"/>
            <a:ext cx="809964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вук воспроизводится 10 секунд при частоте 22,05 кГц и глубине звука 8 бит. Определить его размер (в байт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"/>
          <p:cNvSpPr/>
          <p:nvPr/>
        </p:nvSpPr>
        <p:spPr>
          <a:xfrm>
            <a:off x="539640" y="3933720"/>
            <a:ext cx="2952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"/>
          <p:cNvSpPr/>
          <p:nvPr/>
        </p:nvSpPr>
        <p:spPr>
          <a:xfrm>
            <a:off x="539640" y="1197000"/>
            <a:ext cx="814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бъем звукового файла 5,25 Мбайт, разрядность звуковой платы – 16. Какова длительность звучания этого файла (примерно), записанного с  частотой дискретизации 22,05 кГ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4444920" y="299736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 = M * i * 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1097640" y="4797360"/>
            <a:ext cx="67075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5,25 * 8 * 1024 *102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/ 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22,0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* 1000 * 16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= 125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836640" y="302112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V = 5,2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М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М = 22,05 к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 = 16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1"/>
          <p:cNvSpPr/>
          <p:nvPr/>
        </p:nvSpPr>
        <p:spPr>
          <a:xfrm>
            <a:off x="4413600" y="36385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 = V / (M * 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539640" y="1197000"/>
            <a:ext cx="814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ь размер (в Кбайтах) цифрового аудиофайла, время звучания которого составляет 10 секунд при частоте дискретизации 44,1 кГц и разрешении 8 бит. Файл сжатию не подвержен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e3500"/>
                </a:solidFill>
                <a:latin typeface="Comic Sans MS"/>
                <a:ea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"/>
          <p:cNvSpPr/>
          <p:nvPr/>
        </p:nvSpPr>
        <p:spPr>
          <a:xfrm>
            <a:off x="539640" y="1197000"/>
            <a:ext cx="81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ве минуты записи цифрового аудиофайла (стерео) занимают на диске 5,1 Мб. Частота дискретизации — 22050 Гц. Какова разрядность аудиоадаптер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дирование текстовой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92520" y="4052880"/>
          <a:ext cx="3159360" cy="1436760"/>
        </p:xfrm>
        <a:graphic>
          <a:graphicData uri="http://schemas.openxmlformats.org/drawingml/2006/table">
            <a:tbl>
              <a:tblPr/>
              <a:tblGrid>
                <a:gridCol w="527040"/>
                <a:gridCol w="525600"/>
                <a:gridCol w="527040"/>
                <a:gridCol w="527040"/>
                <a:gridCol w="525600"/>
                <a:gridCol w="527040"/>
              </a:tblGrid>
              <a:tr h="8938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</a:tr>
              <a:tr h="5428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4" name="Rectangle 2"/>
          <p:cNvSpPr/>
          <p:nvPr/>
        </p:nvSpPr>
        <p:spPr>
          <a:xfrm>
            <a:off x="409680" y="1792080"/>
            <a:ext cx="8364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Валя шиф­ру­ет рус­ские слова (последовательности букв), за­пи­сы­вая вме­сто каж­дой буквы её к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Некоторые це­поч­ки можно рас­шиф­ро­вать не одним способом. Например, 00010101 может озна­чать не толь­ко СКА, но и СНК. Даны три ко­до­вые цепоч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0111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010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011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йдите среди них ту, ко­то­рая имеет толь­ко одну расшифровку, и за­пи­ши­те в от­ве­те рас­шиф­ро­ван­ное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411280" y="4365720"/>
          <a:ext cx="3961080" cy="1439640"/>
        </p:xfrm>
        <a:graphic>
          <a:graphicData uri="http://schemas.openxmlformats.org/drawingml/2006/table">
            <a:tbl>
              <a:tblPr/>
              <a:tblGrid>
                <a:gridCol w="660600"/>
                <a:gridCol w="660240"/>
                <a:gridCol w="658800"/>
                <a:gridCol w="660600"/>
                <a:gridCol w="660240"/>
                <a:gridCol w="660600"/>
              </a:tblGrid>
              <a:tr h="7207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</a:tr>
              <a:tr h="7189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~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@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~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~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395280" y="389880"/>
            <a:ext cx="8424720" cy="35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ся и Петя и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 в шп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ов и к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 с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щ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ия со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ств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ым шифром. Фра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мент к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ой та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цы приведён ниж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сшифруйте сообщение, если известно, что буквы в нём не повтор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+ ~ 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~+@@~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апишите в 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е р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ши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ое со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88000" y="3500280"/>
          <a:ext cx="3168720" cy="320040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792360"/>
              </a:tblGrid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Й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 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Ю 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 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 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 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 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 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Ё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 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Щ 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 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Ъ 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Ы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04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Ь 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" name="Rectangle 1"/>
          <p:cNvSpPr/>
          <p:nvPr/>
        </p:nvSpPr>
        <p:spPr>
          <a:xfrm>
            <a:off x="324000" y="270000"/>
            <a:ext cx="814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аня ши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ет р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кие слова,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п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ая вм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то каж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дой буквы её номер в 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ф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те (без пробелов). 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м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а букв даны в таблиц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Некоторые ши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ки можно ра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ши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ать 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к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ми способами. Например, 311333 может оз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ча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А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, мож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— «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Э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, а мож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— «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ААВВ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. Даны 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е шифров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3135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2102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1331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20335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Только одна из них ра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ши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я е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тв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ным способом. Н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те её и расшифруйте. П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л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чи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ш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я слово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п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ш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те в 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тве от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36680" y="4797360"/>
          <a:ext cx="4608720" cy="1565280"/>
        </p:xfrm>
        <a:graphic>
          <a:graphicData uri="http://schemas.openxmlformats.org/drawingml/2006/table">
            <a:tbl>
              <a:tblPr/>
              <a:tblGrid>
                <a:gridCol w="922320"/>
                <a:gridCol w="920880"/>
                <a:gridCol w="922320"/>
                <a:gridCol w="920880"/>
                <a:gridCol w="922320"/>
              </a:tblGrid>
              <a:tr h="7826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</a:tr>
              <a:tr h="7826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•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•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•–•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•••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040" y="599760"/>
            <a:ext cx="8569440" cy="39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т р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е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а была п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 сл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щая ши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я радиограмма, 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я с и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ем 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б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и Морз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•– –•••–••– –••–••–•– –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ри 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е 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и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гр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мы было п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о р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б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ие на буквы, но известно, что в 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и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гр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ме и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сь т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о сл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щие буквы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сшифруйте радиограмму. 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ш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е в 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е р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ши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ую радиограм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979640" y="4437000"/>
          <a:ext cx="4824360" cy="1513080"/>
        </p:xfrm>
        <a:graphic>
          <a:graphicData uri="http://schemas.openxmlformats.org/drawingml/2006/table">
            <a:tbl>
              <a:tblPr/>
              <a:tblGrid>
                <a:gridCol w="804960"/>
                <a:gridCol w="803160"/>
                <a:gridCol w="804960"/>
                <a:gridCol w="803160"/>
                <a:gridCol w="804960"/>
                <a:gridCol w="803160"/>
              </a:tblGrid>
              <a:tr h="7574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</a:tr>
              <a:tr h="75564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^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^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^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414360"/>
            <a:ext cx="7451640" cy="360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ся и Петя и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 в шп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ов и к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 с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щ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ия со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ств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ым шифром. Фра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мент к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ой та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цы приведён ниж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сшифруйте сообщение, если известно, что буквы в нём не повторяютс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#++^##^#^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апишите в 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е р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ши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ое сообщ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484360" y="4508640"/>
          <a:ext cx="4464000" cy="1860480"/>
        </p:xfrm>
        <a:graphic>
          <a:graphicData uri="http://schemas.openxmlformats.org/drawingml/2006/table">
            <a:tbl>
              <a:tblPr/>
              <a:tblGrid>
                <a:gridCol w="892080"/>
                <a:gridCol w="893880"/>
                <a:gridCol w="892080"/>
                <a:gridCol w="893880"/>
                <a:gridCol w="892080"/>
              </a:tblGrid>
              <a:tr h="77760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edede"/>
                    </a:solidFill>
                  </a:tcPr>
                </a:tc>
              </a:tr>
              <a:tr h="108288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•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–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•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••–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52080"/>
            <a:ext cx="8353440" cy="39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т р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е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а была п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 сл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щая ши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я радиограмма, 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я с и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ем 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б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и Морз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–•– – – – –•••– – –•–•–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ри п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е 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и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гр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мы было п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о р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б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ие на буквы, но известно, что в 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и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гр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ме и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ись т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о сл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щие буквы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сшифруйте радиограмму. 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ш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е в 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те р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ши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­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ую радиограм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omic Sans MS"/>
                <a:ea typeface="Arial"/>
              </a:rPr>
              <a:t>Что такое зв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857160" y="1000080"/>
            <a:ext cx="7429680" cy="18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76360" y="1265400"/>
            <a:ext cx="828360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вук представляет собой распространяющуюся  в воздухе, воде или другой среде волну с непрерывно меняющей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плитуд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астот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ловек может воспринимать звуковые волны (колебания воздуха) с помощью слуха в форме звука различая при эт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ом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м больше амплитуда звуковой волны, тем громче звук, чем больше частота колебаний волны, тем выше тон зв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2556000" y="3959280"/>
            <a:ext cx="397332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5:04:13Z</dcterms:created>
  <dc:creator>Olga</dc:creator>
  <dc:description/>
  <dc:language>en-US</dc:language>
  <cp:lastModifiedBy>саида магомедова</cp:lastModifiedBy>
  <dcterms:modified xsi:type="dcterms:W3CDTF">2018-06-21T20:24:27Z</dcterms:modified>
  <cp:revision>42</cp:revision>
  <dc:subject/>
  <dc:title>Слайд 1</dc:title>
</cp:coreProperties>
</file>