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F19C-8B88-4E30-AC8E-6F6CD5A592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5795-B3A6-4D5D-9B72-73BD7DA3BE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B84D-437B-4B01-89DF-14E3434744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E454-DF1A-4058-A026-6F55111E97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5616-326A-4B03-9DF3-DC17F2C1C43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457A-ABC9-4011-9A41-45D3002D3A8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C4D-66CA-4FC0-B0F2-44455C3105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0AE7-1EB3-4385-A01A-6F42DFCC86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D602-ACAF-4FCF-8048-E667FCEBF81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AA61-B9B8-4D40-91C4-B0FC6BA106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93FA-0C9C-43FF-93FD-A063C0AC0A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B3A7-71FA-43EC-8CA8-B147ACE63A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2CB8-F464-4A1B-AC0C-2483C8F39B2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026F-433F-48D6-8859-864F49EA915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52BA-984D-4482-AE30-ED05CF69C6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698-E265-4427-A497-77CA225DA2C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85E-9BD1-4374-8587-E12488DA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852-391B-4BC6-A9CC-25757C3E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33E-A78B-406C-9A7D-D82007D1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E0D-D77D-4900-B4ED-D7597CD1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968-3DED-407C-8903-2DB9C8E2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55B-786C-4C68-8F67-64A7CF22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4EA-C16B-4AAD-9B6B-D5908BB7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563-50B7-4DB7-A2B0-4F1A4C16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602-0915-436F-8998-06ABB24C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40F-4AA2-417B-B31A-1B12020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8A9-7182-4385-B6E2-F67F35FB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938-D5E3-40DA-9EEC-2054F90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D8A2-5ED5-4C57-AD99-5A5A0BB50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1382760"/>
            <a:ext cx="8232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  <a:ea typeface="Arial"/>
              </a:rPr>
              <a:t>Кодирование звуков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822320" y="2830680"/>
            <a:ext cx="55720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"/>
          <p:cNvSpPr/>
          <p:nvPr/>
        </p:nvSpPr>
        <p:spPr>
          <a:xfrm>
            <a:off x="1835280" y="510552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 Black"/>
                <a:ea typeface="Arial"/>
              </a:rPr>
              <a:t>Информатика и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 Black"/>
                <a:ea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  <a:ea typeface="Arial"/>
              </a:rPr>
              <a:t>Способы представлен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777960" y="2101680"/>
            <a:ext cx="2463840" cy="67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о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5740560" y="2149560"/>
            <a:ext cx="2463480" cy="67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45960" y="2925720"/>
            <a:ext cx="35053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ческая величина принимае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бесконечно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ножество значений, причем они изменя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епрерывн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219640" y="2995560"/>
            <a:ext cx="35053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ческая величина принимае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ечно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ножество значений, причем они изменя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качкообразн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Соединительная линия уступом 13"/>
          <p:cNvCxnSpPr/>
          <p:nvPr/>
        </p:nvCxnSpPr>
        <p:spPr>
          <a:xfrm rot="5400000">
            <a:off x="2690640" y="495720"/>
            <a:ext cx="659520" cy="2328120"/>
          </a:xfrm>
          <a:prstGeom prst="bentConnector3">
            <a:avLst>
              <a:gd name="adj1" fmla="val 49972"/>
            </a:avLst>
          </a:prstGeom>
          <a:ln w="38160">
            <a:solidFill>
              <a:srgbClr val="c0504d"/>
            </a:solidFill>
            <a:miter/>
          </a:ln>
        </p:spPr>
      </p:cxnSp>
      <p:cxnSp>
        <p:nvCxnSpPr>
          <p:cNvPr id="76" name="Соединительная линия уступом 14"/>
          <p:cNvCxnSpPr/>
          <p:nvPr/>
        </p:nvCxnSpPr>
        <p:spPr>
          <a:xfrm flipH="1" rot="16200000">
            <a:off x="5792760" y="495720"/>
            <a:ext cx="659520" cy="2328120"/>
          </a:xfrm>
          <a:prstGeom prst="bentConnector3">
            <a:avLst>
              <a:gd name="adj1" fmla="val 49972"/>
            </a:avLst>
          </a:prstGeom>
          <a:ln w="38160">
            <a:solidFill>
              <a:srgbClr val="c0504d"/>
            </a:solidFill>
            <a:miter/>
          </a:ln>
        </p:spPr>
      </p:cxn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9200" y="4738680"/>
            <a:ext cx="2781360" cy="171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364000" y="4710240"/>
            <a:ext cx="278316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вуков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34920" y="1979640"/>
          <a:ext cx="6589800" cy="4403520"/>
        </p:xfrm>
        <a:graphic>
          <a:graphicData uri="http://schemas.openxmlformats.org/drawingml/2006/table">
            <a:tbl>
              <a:tblPr/>
              <a:tblGrid>
                <a:gridCol w="3992760"/>
                <a:gridCol w="2597040"/>
              </a:tblGrid>
              <a:tr h="1008000"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й зву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, измеренная в децибел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7480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56"/>
          <p:cNvSpPr/>
          <p:nvPr/>
        </p:nvSpPr>
        <p:spPr>
          <a:xfrm>
            <a:off x="395280" y="1079640"/>
            <a:ext cx="8928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измерять громкость звука применяют специальную единицу "децибел" (дБ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Временная дискретизац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60360" y="1260360"/>
            <a:ext cx="45007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компьютер мог обрабатывать звук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прерывный звуковой сигна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аналоговый) должен быть преобразован в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ифровую дискретную форм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ременной дискрет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вуковая волна разбивается на отдельные маленькие временные участки, для каждого участка устанавливается определенная величина интенсивности зв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716360" y="1295280"/>
            <a:ext cx="4319640" cy="478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Временная дискретизац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712800" y="1413000"/>
            <a:ext cx="774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ременная дискретизация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это разбиение непрерывной звуковой волны  на отдельные маленькие временные участки, причем для каждого участка устанавливается определенная величина амплиту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30"/>
          <p:cNvGrpSpPr/>
          <p:nvPr/>
        </p:nvGrpSpPr>
        <p:grpSpPr>
          <a:xfrm>
            <a:off x="1897200" y="3355920"/>
            <a:ext cx="5572080" cy="2752920"/>
            <a:chOff x="1897200" y="3355920"/>
            <a:chExt cx="5572080" cy="2752920"/>
          </a:xfrm>
        </p:grpSpPr>
        <p:graphicFrame>
          <p:nvGraphicFramePr>
            <p:cNvPr id="91" name="Object 1"/>
            <p:cNvGraphicFramePr/>
            <p:nvPr/>
          </p:nvGraphicFramePr>
          <p:xfrm>
            <a:off x="1897200" y="3426120"/>
            <a:ext cx="5572080" cy="268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Object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7200" y="3426120"/>
                      <a:ext cx="5572080" cy="268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Object 2"/>
            <p:cNvGraphicFramePr/>
            <p:nvPr/>
          </p:nvGraphicFramePr>
          <p:xfrm>
            <a:off x="1897200" y="3424680"/>
            <a:ext cx="5572080" cy="2682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97200" y="3424680"/>
                      <a:ext cx="5572080" cy="268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5" name="Group 345"/>
            <p:cNvGrpSpPr/>
            <p:nvPr/>
          </p:nvGrpSpPr>
          <p:grpSpPr>
            <a:xfrm>
              <a:off x="2039760" y="3769920"/>
              <a:ext cx="4786200" cy="1933200"/>
              <a:chOff x="2039760" y="3769920"/>
              <a:chExt cx="4786200" cy="1933200"/>
            </a:xfrm>
          </p:grpSpPr>
          <p:sp>
            <p:nvSpPr>
              <p:cNvPr id="96" name="Rectangle 337"/>
              <p:cNvSpPr/>
              <p:nvPr/>
            </p:nvSpPr>
            <p:spPr>
              <a:xfrm>
                <a:off x="2039760" y="5012640"/>
                <a:ext cx="434880" cy="69048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338"/>
              <p:cNvSpPr/>
              <p:nvPr/>
            </p:nvSpPr>
            <p:spPr>
              <a:xfrm>
                <a:off x="2474640" y="4391280"/>
                <a:ext cx="434880" cy="13118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9"/>
              <p:cNvSpPr/>
              <p:nvPr/>
            </p:nvSpPr>
            <p:spPr>
              <a:xfrm>
                <a:off x="6391080" y="4391280"/>
                <a:ext cx="434880" cy="13118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340"/>
              <p:cNvSpPr/>
              <p:nvPr/>
            </p:nvSpPr>
            <p:spPr>
              <a:xfrm>
                <a:off x="5085720" y="4736520"/>
                <a:ext cx="1305360" cy="9662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341"/>
              <p:cNvSpPr/>
              <p:nvPr/>
            </p:nvSpPr>
            <p:spPr>
              <a:xfrm>
                <a:off x="4650480" y="4391280"/>
                <a:ext cx="434880" cy="13118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42"/>
              <p:cNvSpPr/>
              <p:nvPr/>
            </p:nvSpPr>
            <p:spPr>
              <a:xfrm>
                <a:off x="2909880" y="4115160"/>
                <a:ext cx="1740240" cy="158760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43"/>
              <p:cNvSpPr/>
              <p:nvPr/>
            </p:nvSpPr>
            <p:spPr>
              <a:xfrm>
                <a:off x="3345120" y="3769920"/>
                <a:ext cx="870120" cy="3452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346"/>
            <p:cNvSpPr/>
            <p:nvPr/>
          </p:nvSpPr>
          <p:spPr>
            <a:xfrm>
              <a:off x="7038000" y="5289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47"/>
            <p:cNvSpPr/>
            <p:nvPr/>
          </p:nvSpPr>
          <p:spPr>
            <a:xfrm>
              <a:off x="2094840" y="3355920"/>
              <a:ext cx="5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9"/>
            <p:cNvSpPr/>
            <p:nvPr/>
          </p:nvSpPr>
          <p:spPr>
            <a:xfrm>
              <a:off x="2039760" y="501300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50"/>
            <p:cNvSpPr/>
            <p:nvPr/>
          </p:nvSpPr>
          <p:spPr>
            <a:xfrm>
              <a:off x="3325680" y="3769920"/>
              <a:ext cx="857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51"/>
            <p:cNvSpPr/>
            <p:nvPr/>
          </p:nvSpPr>
          <p:spPr>
            <a:xfrm>
              <a:off x="2897280" y="411516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52"/>
            <p:cNvSpPr/>
            <p:nvPr/>
          </p:nvSpPr>
          <p:spPr>
            <a:xfrm>
              <a:off x="2468520" y="439128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53"/>
            <p:cNvSpPr/>
            <p:nvPr/>
          </p:nvSpPr>
          <p:spPr>
            <a:xfrm>
              <a:off x="4183200" y="411516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54"/>
            <p:cNvSpPr/>
            <p:nvPr/>
          </p:nvSpPr>
          <p:spPr>
            <a:xfrm>
              <a:off x="4611960" y="439128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55"/>
            <p:cNvSpPr/>
            <p:nvPr/>
          </p:nvSpPr>
          <p:spPr>
            <a:xfrm>
              <a:off x="5040360" y="4736520"/>
              <a:ext cx="13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56"/>
            <p:cNvSpPr/>
            <p:nvPr/>
          </p:nvSpPr>
          <p:spPr>
            <a:xfrm>
              <a:off x="6397920" y="439128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57"/>
            <p:cNvSpPr/>
            <p:nvPr/>
          </p:nvSpPr>
          <p:spPr>
            <a:xfrm>
              <a:off x="3325680" y="3769920"/>
              <a:ext cx="0" cy="34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58"/>
            <p:cNvSpPr/>
            <p:nvPr/>
          </p:nvSpPr>
          <p:spPr>
            <a:xfrm>
              <a:off x="2468520" y="4391280"/>
              <a:ext cx="0" cy="62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59"/>
            <p:cNvSpPr/>
            <p:nvPr/>
          </p:nvSpPr>
          <p:spPr>
            <a:xfrm>
              <a:off x="2897280" y="4115160"/>
              <a:ext cx="0" cy="276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60"/>
            <p:cNvSpPr/>
            <p:nvPr/>
          </p:nvSpPr>
          <p:spPr>
            <a:xfrm>
              <a:off x="4183200" y="3769920"/>
              <a:ext cx="0" cy="34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1"/>
            <p:cNvSpPr/>
            <p:nvPr/>
          </p:nvSpPr>
          <p:spPr>
            <a:xfrm>
              <a:off x="4611960" y="4115160"/>
              <a:ext cx="0" cy="276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62"/>
            <p:cNvSpPr/>
            <p:nvPr/>
          </p:nvSpPr>
          <p:spPr>
            <a:xfrm>
              <a:off x="5040360" y="4391280"/>
              <a:ext cx="0" cy="34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3"/>
            <p:cNvSpPr/>
            <p:nvPr/>
          </p:nvSpPr>
          <p:spPr>
            <a:xfrm>
              <a:off x="6397920" y="4391280"/>
              <a:ext cx="0" cy="34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Дискрет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68360" y="1295280"/>
            <a:ext cx="83008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оцифровки звука (из аналоговой формы в цифровую) используются специальные устройств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ого-цифровой преобразов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АЦП)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ифро-аналоговый преобразов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ЦАП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6360" y="3149640"/>
            <a:ext cx="7956360" cy="3159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3.03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539640" y="1074600"/>
            <a:ext cx="81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ЦП и ЦАП находятся в звуковой плате компьютера. Именно звуковая плата (аудиоадаптер) преобразует аналоговый сигнал в дискретную фонограмму и наоборот, «оцифрованный»  звук – в аналоговый (непрерывный) сигнал, который поступает на вход динам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0360" y="3044880"/>
            <a:ext cx="3448080" cy="2685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647640" y="3924360"/>
            <a:ext cx="151308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вуковая пл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4140360" y="2771640"/>
            <a:ext cx="474156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Частота дискрет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0720" y="2781360"/>
            <a:ext cx="81043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Частота дискретизации зву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- это количество измерений громкости звука в одну секун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39640" y="1352520"/>
            <a:ext cx="78073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Verdana"/>
                <a:ea typeface="Arial"/>
              </a:rPr>
              <a:t>Параметры оцифровки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Частота дискретизации (Г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Глубина кодирования звука (би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480960" y="4076640"/>
            <a:ext cx="25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 Гц = 1/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 кГц = 1000 /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902040" y="3716280"/>
            <a:ext cx="419112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Глубина кодирован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12720" y="1407960"/>
            <a:ext cx="81043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Глубина кодирования зву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- это количество информации, которое необходимо для кодирования дискретных уровней громкости цифрового зв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39640" y="3341520"/>
            <a:ext cx="7920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сли глубина кодирования звука с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авляет 16 битов, то количество уровней громкости звука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N = 2</a:t>
            </a:r>
            <a:r>
              <a:rPr b="1" lang="en-US" sz="2600" spc="-1" strike="noStrike" baseline="33000">
                <a:solidFill>
                  <a:srgbClr val="000000"/>
                </a:solidFill>
                <a:latin typeface="Verdana"/>
                <a:ea typeface="Arial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2</a:t>
            </a:r>
            <a:r>
              <a:rPr b="1" lang="ru-RU" sz="2600" spc="-1" strike="noStrike" baseline="33000">
                <a:solidFill>
                  <a:srgbClr val="000000"/>
                </a:solidFill>
                <a:latin typeface="Verdana"/>
                <a:ea typeface="Arial"/>
              </a:rPr>
              <a:t>16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процессе кодирования каждому уровню громкости звука присваивается 16-битовый двоичный к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0000000000000000 — наименьший уровень зв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1111111111111111 — наибольший уровень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Формула дискрет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55480" y="1413000"/>
            <a:ext cx="82645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Verdana"/>
                <a:ea typeface="Arial"/>
              </a:rPr>
              <a:t>V = M * i *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M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частота дискретизации (в Г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– глубина кодирования  (в би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– время звучания (в с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– объем фай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963000" y="5668920"/>
            <a:ext cx="60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(режим стерео – умножить на 2, квадро – на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453960" y="148428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вуковая плата производит двоичное кодирование аналогового звукового сигнала. Какое количество информации необходимо для кодирования каждого из 65 536 возможных уровней интенсивности сигн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1) 2 байта     2) 256 бит     3) 16 байт    4) 8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одирование текстовой информ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ая единица измерения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 форме может быть представлена графическая информац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остранственная дискретизац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ображения называются растровы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растровые изображ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вязаны между собой количество цветов в палитре и глубина цве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. Цветное с палитрой из 256 цветов растровое изображение имеет размер 10х15 точек. Какой информационный объем имеет изобра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. Черно-белое растровое изображение имеет размер 20х15 точек. Какой информационный объем имеет изобра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2565360"/>
            <a:ext cx="85075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22,05*1000 = 2205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8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10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 = M * i * 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22050*10*8 = 1764000 б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220500 байт = 215,3 Кбай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если стереозвук – умножить н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39640" y="1149480"/>
            <a:ext cx="80996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вук воспроизводится 10 секунд при частоте 22,05 кГц и глубине звука 8 бит. Определить его размер (в байт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"/>
          <p:cNvSpPr/>
          <p:nvPr/>
        </p:nvSpPr>
        <p:spPr>
          <a:xfrm>
            <a:off x="539640" y="3933720"/>
            <a:ext cx="295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539640" y="1197000"/>
            <a:ext cx="814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бъем звукового файла 5,25 Мбайт, разрядность звуковой платы – 16. Какова длительность звучания этого файла (примерно), записанного с  частотой дискретизации 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4444920" y="29973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 = M * i * 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1097640" y="4797360"/>
            <a:ext cx="6707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,25 * 8 * 1024 *102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/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22,0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* 1000 * 16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= 125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836640" y="302112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V = 5,2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 = 22,05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 = 16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1"/>
          <p:cNvSpPr/>
          <p:nvPr/>
        </p:nvSpPr>
        <p:spPr>
          <a:xfrm>
            <a:off x="4413600" y="36385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 = V / (M * 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539640" y="1197000"/>
            <a:ext cx="814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размер (в Кбайтах) цифрового аудиофайла, время звучания которого составляет 10 секунд при частоте дискретизации 44,1 кГц и разрешении 8 бит. Файл сжатию не подверже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"/>
          <p:cNvSpPr/>
          <p:nvPr/>
        </p:nvSpPr>
        <p:spPr>
          <a:xfrm>
            <a:off x="539640" y="119700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е минуты записи цифрового аудиофайла (стерео) занимают на диске 5,1 Мб. Частота дискретизации — 22050 Гц. Какова разрядность аудиоадапте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дирование текстово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92520" y="4052880"/>
          <a:ext cx="3159360" cy="1436760"/>
        </p:xfrm>
        <a:graphic>
          <a:graphicData uri="http://schemas.openxmlformats.org/drawingml/2006/table">
            <a:tbl>
              <a:tblPr/>
              <a:tblGrid>
                <a:gridCol w="527040"/>
                <a:gridCol w="525600"/>
                <a:gridCol w="527040"/>
                <a:gridCol w="527040"/>
                <a:gridCol w="525600"/>
                <a:gridCol w="527040"/>
              </a:tblGrid>
              <a:tr h="8938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5428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Rectangle 2"/>
          <p:cNvSpPr/>
          <p:nvPr/>
        </p:nvSpPr>
        <p:spPr>
          <a:xfrm>
            <a:off x="409680" y="1792080"/>
            <a:ext cx="8364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Валя шиф­ру­ет рус­ские слова (последовательности букв), за­пи­сы­вая вме­сто каж­дой буквы её к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Некоторые це­поч­ки можно рас­шиф­ро­вать не одним способом. Например, 00010101 может озна­чать не толь­ко СКА, но и СНК. Даны три ко­до­вые цеп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011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010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011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йдите среди них ту, ко­то­рая имеет толь­ко одну расшифровку, и за­пи­ши­те в от­ве­те рас­шиф­ро­ван­но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411280" y="4365720"/>
          <a:ext cx="3961080" cy="14396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58800"/>
                <a:gridCol w="660600"/>
                <a:gridCol w="660240"/>
                <a:gridCol w="660600"/>
              </a:tblGrid>
              <a:tr h="7207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7189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@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~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395280" y="389880"/>
            <a:ext cx="8424720" cy="35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ся и Петя и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 в ш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в и 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 с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я со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тв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ым шифром. Фр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ент 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ой та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цы приведён ни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шифруйте сообщение, если известно, что буквы в нём не повтор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+ ~ 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~+@@~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пишите в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р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е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88000" y="3500280"/>
          <a:ext cx="3168720" cy="32004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792360"/>
              </a:tblGrid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 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 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Ё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 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Щ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Ъ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Ы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Ь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Rectangle 1"/>
          <p:cNvSpPr/>
          <p:nvPr/>
        </p:nvSpPr>
        <p:spPr>
          <a:xfrm>
            <a:off x="324000" y="270000"/>
            <a:ext cx="814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ня ши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ет 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кие слова,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я вм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то ка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дой буквы её номер в 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ф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е (без пробелов). 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м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а букв даны в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Некоторые ши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и можно р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ть 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к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ми способами. Например, 311333 может оз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, мо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 «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Э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, а мо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 «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АВВ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. Даны 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е шифров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3135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210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1331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20335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олько одна из них р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я е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тв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ным способом. Н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е её и расшифруйте. П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и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я слово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е в 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тве от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36680" y="4797360"/>
          <a:ext cx="4608720" cy="1565280"/>
        </p:xfrm>
        <a:graphic>
          <a:graphicData uri="http://schemas.openxmlformats.org/drawingml/2006/table">
            <a:tbl>
              <a:tblPr/>
              <a:tblGrid>
                <a:gridCol w="922320"/>
                <a:gridCol w="920880"/>
                <a:gridCol w="922320"/>
                <a:gridCol w="920880"/>
                <a:gridCol w="922320"/>
              </a:tblGrid>
              <a:tr h="7826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7826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•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–•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••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040" y="599760"/>
            <a:ext cx="8569440" cy="39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т р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а была 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с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ая 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я радиограмма, 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я с и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м 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б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и Морз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•– –•••–••– –••–••–•– –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ри 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е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гр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ы было 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 р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е на буквы, но известно, что в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гр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е и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сь т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 с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ие букв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шифруйте радиограмму. 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в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р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ую радиограм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79640" y="4437000"/>
          <a:ext cx="4824360" cy="1513080"/>
        </p:xfrm>
        <a:graphic>
          <a:graphicData uri="http://schemas.openxmlformats.org/drawingml/2006/table">
            <a:tbl>
              <a:tblPr/>
              <a:tblGrid>
                <a:gridCol w="804960"/>
                <a:gridCol w="803160"/>
                <a:gridCol w="804960"/>
                <a:gridCol w="803160"/>
                <a:gridCol w="804960"/>
                <a:gridCol w="803160"/>
              </a:tblGrid>
              <a:tr h="757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7556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^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^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^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414360"/>
            <a:ext cx="7451640" cy="360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ся и Петя и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 в ш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в и 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 с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я со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тв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ым шифром. Фр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ент 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ой та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цы приведён ниж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шифруйте сообщение, если известно, что буквы в нём не повторяю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#++^##^#^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пишите в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р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е сообщ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484360" y="4508640"/>
          <a:ext cx="4464000" cy="186048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  <a:gridCol w="892080"/>
                <a:gridCol w="893880"/>
                <a:gridCol w="892080"/>
              </a:tblGrid>
              <a:tr h="7776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10828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–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•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•–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52080"/>
            <a:ext cx="835344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т р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а была 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с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ая 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я радиограмма, 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я с и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м 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б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и Морз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–•– – – – –•••– – –•–•–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ри 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е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гр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ы было 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 р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е на буквы, но известно, что в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гр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е и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сь т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 с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ие букв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шифруйте радиограмму. 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в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р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ую радиограм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  <a:ea typeface="Arial"/>
              </a:rPr>
              <a:t>Что такое зв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76360" y="1265400"/>
            <a:ext cx="828360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вук представляет собой распространяющуюся  в воздухе, воде или другой среде волну с непрерывно меняющей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плитуд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асто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может воспринимать звуковые волны (колебания воздуха) с помощью слуха в форме звука различая при эт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ом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м больше амплитуда звуковой волны, тем громче звук, чем больше частота колебаний волны, тем выше тон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2556000" y="3959280"/>
            <a:ext cx="397332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04:13Z</dcterms:created>
  <dc:creator>Olga</dc:creator>
  <dc:description/>
  <dc:language>en-US</dc:language>
  <cp:lastModifiedBy>саида магомедова</cp:lastModifiedBy>
  <dcterms:modified xsi:type="dcterms:W3CDTF">2018-06-21T20:24:27Z</dcterms:modified>
  <cp:revision>42</cp:revision>
  <dc:subject/>
  <dc:title>Слайд 1</dc:title>
</cp:coreProperties>
</file>