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BFF6-D6D3-40B1-97B1-55E183A1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1B66-6BED-4077-A58E-AF4DB540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DDB9-2B07-41F4-B51A-3DB4694A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B6BF-954B-4330-9C3E-2AE99894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86E9-9C8F-4F2C-99DC-87263262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E14C-8A63-4EA0-B42D-BBF78C1A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1CD8-FD05-4B61-A743-2BF2BEE2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F31D-10F8-498B-8DCE-2D2D9F1D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0FF5-19F3-4DC5-BC0A-330BC389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4108-410A-4183-AFE0-7EF87141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82DB-F2B5-4AB9-AFA1-5A0B923B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8675-7DEB-47ED-8FCE-6045B0C8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5E93-4FDA-461D-9E4D-DFAED1B1E4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pozitano74.ru/assets/images/products/1181/image-z-(18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ВЕС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«По сказочным тропинка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http://hogsmeade.dhog.ru/images/catalog/d3680b580a95db6168780db412ac7b3e.jpg"/>
          <p:cNvPicPr/>
          <p:nvPr/>
        </p:nvPicPr>
        <p:blipFill>
          <a:blip r:embed="rId2"/>
          <a:stretch/>
        </p:blipFill>
        <p:spPr>
          <a:xfrm>
            <a:off x="5105520" y="3048120"/>
            <a:ext cx="137304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ttp://hogsmeade.dhog.ru/images/catalog/d3680b580a95db6168780db412ac7b3e.jpg"/>
          <p:cNvPicPr/>
          <p:nvPr/>
        </p:nvPicPr>
        <p:blipFill>
          <a:blip r:embed="rId3"/>
          <a:stretch/>
        </p:blipFill>
        <p:spPr>
          <a:xfrm>
            <a:off x="3962520" y="2133720"/>
            <a:ext cx="1373040" cy="609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http://hogsmeade.dhog.ru/images/catalog/d3680b580a95db6168780db412ac7b3e.jpg"/>
          <p:cNvPicPr/>
          <p:nvPr/>
        </p:nvPicPr>
        <p:blipFill>
          <a:blip r:embed="rId4"/>
          <a:stretch/>
        </p:blipFill>
        <p:spPr>
          <a:xfrm>
            <a:off x="2514600" y="3200400"/>
            <a:ext cx="137304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2742840"/>
            <a:ext cx="1600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усские народные ска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05320" y="4495320"/>
            <a:ext cx="2133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222268"/>
                </a:solidFill>
                <a:latin typeface="Arial"/>
              </a:rPr>
              <a:t>Домик С.Я.Марш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http://img1.liveinternet.ru/images/attach/c/5/86/638/86638767_Skazochnye_izbushki8.jpg"/>
          <p:cNvPicPr/>
          <p:nvPr/>
        </p:nvPicPr>
        <p:blipFill>
          <a:blip r:embed="rId5"/>
          <a:stretch/>
        </p:blipFill>
        <p:spPr>
          <a:xfrm>
            <a:off x="2057400" y="1600200"/>
            <a:ext cx="94608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http://m.arhcity.ru/data/124/lkhhj.jpg"/>
          <p:cNvPicPr/>
          <p:nvPr/>
        </p:nvPicPr>
        <p:blipFill>
          <a:blip r:embed="rId6"/>
          <a:stretch/>
        </p:blipFill>
        <p:spPr>
          <a:xfrm>
            <a:off x="4267080" y="3352680"/>
            <a:ext cx="992160" cy="1168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http://900igr.net/up/datas/148856/040.jpg"/>
          <p:cNvPicPr/>
          <p:nvPr/>
        </p:nvPicPr>
        <p:blipFill>
          <a:blip r:embed="rId7"/>
          <a:stretch/>
        </p:blipFill>
        <p:spPr>
          <a:xfrm>
            <a:off x="5867280" y="1371600"/>
            <a:ext cx="1467000" cy="110016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6"/>
          <p:cNvSpPr/>
          <p:nvPr/>
        </p:nvSpPr>
        <p:spPr>
          <a:xfrm>
            <a:off x="5715000" y="251460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Arial"/>
              </a:rPr>
              <a:t>В гости к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Arial"/>
              </a:rPr>
              <a:t>К. И. Чуковск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Скругленная соединительная линия 12"/>
          <p:cNvCxnSpPr/>
          <p:nvPr/>
        </p:nvCxnSpPr>
        <p:spPr>
          <a:xfrm>
            <a:off x="3047760" y="2514600"/>
            <a:ext cx="1448280" cy="129600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5" name="Скругленная соединительная линия 16"/>
          <p:cNvCxnSpPr/>
          <p:nvPr/>
        </p:nvCxnSpPr>
        <p:spPr>
          <a:xfrm rot="5400000">
            <a:off x="4609440" y="2705040"/>
            <a:ext cx="1905840" cy="457920"/>
          </a:xfrm>
          <a:prstGeom prst="curvedConnector5">
            <a:avLst>
              <a:gd name="adj1" fmla="val 49990"/>
              <a:gd name="adj2" fmla="val 49960"/>
              <a:gd name="adj3" fmla="val 49990"/>
            </a:avLst>
          </a:prstGeom>
          <a:ln w="38160">
            <a:solidFill>
              <a:srgbClr val="2d2d8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" name="Скругленная соединительная линия 23"/>
          <p:cNvCxnSpPr/>
          <p:nvPr/>
        </p:nvCxnSpPr>
        <p:spPr>
          <a:xfrm flipV="1">
            <a:off x="3047760" y="1675800"/>
            <a:ext cx="2819880" cy="610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bbe0e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7" name="Прямоугольник 29"/>
          <p:cNvSpPr/>
          <p:nvPr/>
        </p:nvSpPr>
        <p:spPr>
          <a:xfrm>
            <a:off x="2362320" y="114300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екретная маршрутная карт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Познакомимся?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s://www.bebinka.ru/sites/default/files/images_event/po_skazochnym_tropinkam_samara_bebinka.jpg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s://ds02.infourok.ru/uploads/ex/113c/0003a733-3d294497/img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http://mir-talanta.ru/upload/iblock/14f/16646654_165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КВЕСТ 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«По сказочным тропинкам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Алла</cp:lastModifiedBy>
  <dcterms:modified xsi:type="dcterms:W3CDTF">2018-01-28T18:03:02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