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AE36-1B05-4267-880B-315D91B24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157D-3641-4605-B812-AF38DB34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9806-79B8-4B94-A4ED-084625D05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B4E7-386D-4773-AD62-128C6FD3A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044C-43C1-4927-B547-61DC21A6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ADE0-076D-4DB4-8A87-40364F2C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AA8A-D402-4C78-9003-EB122285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4A23-6758-4416-A71F-AFE18FC6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0E12-3163-4804-84DE-5E667331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13B5-F56D-4340-BD9C-426F4335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C26B-A24E-4BEC-8F3B-D3DDE7BF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2951-B266-4A7B-8D19-F178E4BB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41B8-ADA8-4B34-AEEE-E957FCEF53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http://pozitano74.ru/assets/images/products/1181/image-z-(18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КВЕС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Arial"/>
              </a:rPr>
              <a:t>«По сказочным тропинкам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http://hogsmeade.dhog.ru/images/catalog/d3680b580a95db6168780db412ac7b3e.jpg"/>
          <p:cNvPicPr/>
          <p:nvPr/>
        </p:nvPicPr>
        <p:blipFill>
          <a:blip r:embed="rId2"/>
          <a:stretch/>
        </p:blipFill>
        <p:spPr>
          <a:xfrm>
            <a:off x="5105520" y="3048120"/>
            <a:ext cx="1373040" cy="60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http://hogsmeade.dhog.ru/images/catalog/d3680b580a95db6168780db412ac7b3e.jpg"/>
          <p:cNvPicPr/>
          <p:nvPr/>
        </p:nvPicPr>
        <p:blipFill>
          <a:blip r:embed="rId3"/>
          <a:stretch/>
        </p:blipFill>
        <p:spPr>
          <a:xfrm>
            <a:off x="3962520" y="2133720"/>
            <a:ext cx="1373040" cy="609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http://hogsmeade.dhog.ru/images/catalog/d3680b580a95db6168780db412ac7b3e.jpg"/>
          <p:cNvPicPr/>
          <p:nvPr/>
        </p:nvPicPr>
        <p:blipFill>
          <a:blip r:embed="rId4"/>
          <a:stretch/>
        </p:blipFill>
        <p:spPr>
          <a:xfrm>
            <a:off x="2514600" y="3200400"/>
            <a:ext cx="1373040" cy="6094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2742840"/>
            <a:ext cx="1600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Русские народные ска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05320" y="4495320"/>
            <a:ext cx="21333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222268"/>
                </a:solidFill>
                <a:latin typeface="Arial"/>
              </a:rPr>
              <a:t>Домик С.Я.Марша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http://img1.liveinternet.ru/images/attach/c/5/86/638/86638767_Skazochnye_izbushki8.jpg"/>
          <p:cNvPicPr/>
          <p:nvPr/>
        </p:nvPicPr>
        <p:blipFill>
          <a:blip r:embed="rId5"/>
          <a:stretch/>
        </p:blipFill>
        <p:spPr>
          <a:xfrm>
            <a:off x="2057400" y="1600200"/>
            <a:ext cx="94608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http://m.arhcity.ru/data/124/lkhhj.jpg"/>
          <p:cNvPicPr/>
          <p:nvPr/>
        </p:nvPicPr>
        <p:blipFill>
          <a:blip r:embed="rId6"/>
          <a:stretch/>
        </p:blipFill>
        <p:spPr>
          <a:xfrm>
            <a:off x="4267080" y="3352680"/>
            <a:ext cx="992160" cy="1168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http://900igr.net/up/datas/148856/040.jpg"/>
          <p:cNvPicPr/>
          <p:nvPr/>
        </p:nvPicPr>
        <p:blipFill>
          <a:blip r:embed="rId7"/>
          <a:stretch/>
        </p:blipFill>
        <p:spPr>
          <a:xfrm>
            <a:off x="5867280" y="1371600"/>
            <a:ext cx="1467000" cy="110016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6"/>
          <p:cNvSpPr/>
          <p:nvPr/>
        </p:nvSpPr>
        <p:spPr>
          <a:xfrm>
            <a:off x="5715000" y="251460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Arial"/>
              </a:rPr>
              <a:t>В гости к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Arial"/>
              </a:rPr>
              <a:t>К. И. Чуковск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Скругленная соединительная линия 12"/>
          <p:cNvCxnSpPr/>
          <p:nvPr/>
        </p:nvCxnSpPr>
        <p:spPr>
          <a:xfrm>
            <a:off x="3047760" y="2514600"/>
            <a:ext cx="1448280" cy="1296000"/>
          </a:xfrm>
          <a:prstGeom prst="curvedConnector5">
            <a:avLst>
              <a:gd name="adj1" fmla="val 50000"/>
              <a:gd name="adj2" fmla="val 49986"/>
              <a:gd name="adj3" fmla="val 50000"/>
            </a:avLst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55" name="Скругленная соединительная линия 16"/>
          <p:cNvCxnSpPr/>
          <p:nvPr/>
        </p:nvCxnSpPr>
        <p:spPr>
          <a:xfrm rot="5400000">
            <a:off x="4609440" y="2705040"/>
            <a:ext cx="1905840" cy="457920"/>
          </a:xfrm>
          <a:prstGeom prst="curvedConnector5">
            <a:avLst>
              <a:gd name="adj1" fmla="val 49990"/>
              <a:gd name="adj2" fmla="val 49960"/>
              <a:gd name="adj3" fmla="val 49990"/>
            </a:avLst>
          </a:prstGeom>
          <a:ln w="38160">
            <a:solidFill>
              <a:srgbClr val="2d2d8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6" name="Скругленная соединительная линия 23"/>
          <p:cNvCxnSpPr/>
          <p:nvPr/>
        </p:nvCxnSpPr>
        <p:spPr>
          <a:xfrm flipV="1">
            <a:off x="3047760" y="1675800"/>
            <a:ext cx="2819880" cy="6102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bbe0e3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7" name="Прямоугольник 29"/>
          <p:cNvSpPr/>
          <p:nvPr/>
        </p:nvSpPr>
        <p:spPr>
          <a:xfrm>
            <a:off x="2362320" y="114300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екретная маршрутная карт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Познакомимся?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s://www.bebinka.ru/sites/default/files/images_event/po_skazochnym_tropinkam_samara_bebinka.jpg"/>
          <p:cNvPicPr/>
          <p:nvPr/>
        </p:nvPicPr>
        <p:blipFill>
          <a:blip r:embed="rId2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https://ds02.infourok.ru/uploads/ex/113c/0003a733-3d294497/img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http://mir-talanta.ru/upload/iblock/14f/16646654_1658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КВЕСТ </a:t>
            </a: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«По сказочным тропинкам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46:57Z</dcterms:created>
  <dc:creator>User</dc:creator>
  <dc:description/>
  <dc:language>en-US</dc:language>
  <cp:lastModifiedBy>Алла</cp:lastModifiedBy>
  <dcterms:modified xsi:type="dcterms:W3CDTF">2018-01-28T18:03:02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