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A22-AB17-48D8-95A2-DE94FCD1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8CC-C732-44E3-A7D0-A68B136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A2F-F878-49ED-9A04-9A62CC43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07B-0104-4E9D-9064-8A79CFA3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DB8-85C4-4B34-8AFA-B14E2EE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ACF-E8A4-4B0B-BD40-AFE65F4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82C-BA9F-4D50-8153-E47FDC5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81A-1559-4D36-9487-267160E6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71F-3EAF-44BC-96DE-BCAF548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44C-0CE8-4E2D-8DDD-93D4FB3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50C-EDFC-4206-B4E9-930AD41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5BD-8FBB-4C92-B6E7-1EB5790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E5A-3307-46F8-924C-C03840C93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11360" y="160200"/>
            <a:ext cx="10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Arial Black"/>
              </a:rPr>
              <a:t>МОДУЛЬНОЕ ОРИГ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Arial Black"/>
              </a:rPr>
              <a:t>(</a:t>
            </a:r>
            <a:r>
              <a:rPr b="0" lang="en-US" sz="3600" spc="-1" strike="noStrike">
                <a:solidFill>
                  <a:srgbClr val="1f4e79"/>
                </a:solidFill>
                <a:latin typeface="Arial Black"/>
              </a:rPr>
              <a:t>3D </a:t>
            </a:r>
            <a:r>
              <a:rPr b="0" lang="ru-RU" sz="3600" spc="-1" strike="noStrike">
                <a:solidFill>
                  <a:srgbClr val="1f4e79"/>
                </a:solidFill>
                <a:latin typeface="Arial Black"/>
              </a:rPr>
              <a:t>ТЮЛЬПАН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2482920" y="1434960"/>
            <a:ext cx="651024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20600" y="1663560"/>
            <a:ext cx="390060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469800"/>
            <a:ext cx="42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уль складывается из прямоугольника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2"/>
          <a:stretch/>
        </p:blipFill>
        <p:spPr>
          <a:xfrm>
            <a:off x="4286160" y="3402000"/>
            <a:ext cx="3632400" cy="3049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4356000" y="2095560"/>
            <a:ext cx="334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ибаем прямоугольник попол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>
            <a:off x="8298000" y="1663560"/>
            <a:ext cx="3690720" cy="2333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8313840" y="193680"/>
            <a:ext cx="334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ибаем и разгибаем для выделения серед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3160" y="163368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356000" y="353844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8261280" y="163368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3080" y="469800"/>
            <a:ext cx="4000320" cy="41655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4181400" y="1670040"/>
            <a:ext cx="3867120" cy="49831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8143920" y="193680"/>
            <a:ext cx="4000320" cy="400680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358920" y="1214280"/>
            <a:ext cx="2635200" cy="1955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3446640" y="1179360"/>
            <a:ext cx="2720880" cy="1955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8600" y="254160"/>
            <a:ext cx="52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гибаем края к середи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3"/>
          <a:stretch/>
        </p:blipFill>
        <p:spPr>
          <a:xfrm>
            <a:off x="7070760" y="3429000"/>
            <a:ext cx="428292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611760" y="2193840"/>
            <a:ext cx="52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орачива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58920" y="117936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7234200" y="351144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96840" y="254160"/>
            <a:ext cx="6323040" cy="325728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6762600" y="1882800"/>
            <a:ext cx="4840560" cy="48639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228600" y="1317600"/>
            <a:ext cx="2516040" cy="2027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2898720" y="1324080"/>
            <a:ext cx="2540160" cy="20206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259560" y="54288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гибаем маленькие уголки как показано на рису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28600" y="129852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767560" y="3860640"/>
            <a:ext cx="2931840" cy="2337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4"/>
          <a:stretch/>
        </p:blipFill>
        <p:spPr>
          <a:xfrm>
            <a:off x="8904240" y="3860640"/>
            <a:ext cx="3084480" cy="2337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5797440" y="386064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5821560" y="2822400"/>
            <a:ext cx="59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ибаем уголки, перегибая их через большой треуголь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3080" y="469800"/>
            <a:ext cx="5486400" cy="31561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5676840" y="2365200"/>
            <a:ext cx="6400800" cy="413100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3451320" y="1258920"/>
            <a:ext cx="2590560" cy="1941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58760" y="4698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гибаем попл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2"/>
          <a:stretch/>
        </p:blipFill>
        <p:spPr>
          <a:xfrm>
            <a:off x="666720" y="1258920"/>
            <a:ext cx="2502000" cy="1941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666720" y="125892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3"/>
          <a:stretch/>
        </p:blipFill>
        <p:spPr>
          <a:xfrm>
            <a:off x="6838920" y="2830680"/>
            <a:ext cx="4514760" cy="2923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6329520" y="982800"/>
            <a:ext cx="5024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дуль готова. Она должна иметь два кармашка и два угол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503280" y="469800"/>
            <a:ext cx="5792760" cy="318780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6578640" y="768240"/>
            <a:ext cx="5056200" cy="530064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7T19:07:21Z</dcterms:created>
  <dc:creator>Зарзанд</dc:creator>
  <dc:description/>
  <dc:language>en-US</dc:language>
  <cp:lastModifiedBy>Зарзанд Мхитарян</cp:lastModifiedBy>
  <dcterms:modified xsi:type="dcterms:W3CDTF">2018-06-21T10:34:33Z</dcterms:modified>
  <cp:revision>19</cp:revision>
  <dc:subject/>
  <dc:title>Презентация PowerPoint</dc:title>
</cp:coreProperties>
</file>