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C15-5E04-4EAD-AD25-B1FD95618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4839-311B-4F9B-9FF9-213E3A4F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B625-087D-4AED-A649-E0B654491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A31-1328-42E5-87F1-4820B8B1E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9624-4D59-4472-B513-DF2BBA5D1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7627-B189-41A0-BAE9-25CA855E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28983-415E-476F-AB7C-251EC7F5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345C-7446-46F2-97F3-7C7DF510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088D-6EB0-434E-8D25-7E785549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BC21-2D90-46B9-AA57-C649D7E7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6D72-D04B-4098-BF76-C1453224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2490-2285-4F0C-8C5A-197EC51E7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DCF8-898E-451E-A380-B1B0D6C2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08CA-184D-4642-8125-E25AEA53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CEAF4-644D-4521-9133-564426A1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43FF-0545-43A0-87F1-073F1F4E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1FCD-EECD-44EE-BD95-CC05305C3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580F-3449-4EFB-89A6-E58E0908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21B3-CEDB-47BE-91CF-D43D5FA2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671-F705-4395-91C6-25E5E875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941E-240C-4C93-8335-F61AC912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260-DC41-4FD3-8530-526EEB6D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F530-1989-4060-8011-99A6414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3B8E-F4BB-4C3F-A615-6ED426C1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D5DF9A-FE08-45CE-82A4-00BD0B986ABD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CF2576-6B8A-40A0-9B86-4BA06DAB47FA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14160" y="1714680"/>
            <a:ext cx="705312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Математические парадоксы.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1360" y="270360"/>
            <a:ext cx="10515240" cy="58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4400" spc="-1" strike="noStrike" u="sng">
                <a:solidFill>
                  <a:srgbClr val="404040"/>
                </a:solidFill>
                <a:uFillTx/>
                <a:latin typeface="Century Gothic"/>
              </a:rPr>
              <a:t>Парадокс</a:t>
            </a:r>
            <a:r>
              <a:rPr b="0" lang="ru-RU" sz="4400" spc="-1" strike="noStrike">
                <a:solidFill>
                  <a:srgbClr val="404040"/>
                </a:solidFill>
                <a:latin typeface="Century Gothic"/>
              </a:rPr>
              <a:t> – странное умозаключение, расходящееся с общепринятым мнением, высказывание, а также мнение, противоречащее здравому смыслу, на самом деле справедливо.</a:t>
            </a:r>
            <a:endParaRPr b="0" lang="ru-RU" sz="4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4400" spc="-1" strike="noStrike">
                <a:solidFill>
                  <a:srgbClr val="404040"/>
                </a:solidFill>
                <a:latin typeface="Century Gothic"/>
              </a:rPr>
              <a:t> </a:t>
            </a:r>
            <a:r>
              <a:rPr b="0" lang="ru-RU" sz="4400" spc="-1" strike="noStrike" u="sng">
                <a:solidFill>
                  <a:srgbClr val="404040"/>
                </a:solidFill>
                <a:uFillTx/>
                <a:latin typeface="Century Gothic"/>
              </a:rPr>
              <a:t>Математический парадокс </a:t>
            </a:r>
            <a:r>
              <a:rPr b="0" lang="ru-RU" sz="4400" spc="-1" strike="noStrike">
                <a:solidFill>
                  <a:srgbClr val="404040"/>
                </a:solidFill>
                <a:latin typeface="Century Gothic"/>
              </a:rPr>
              <a:t>– высказывание, которое может быть доказано и как истинна, и как ложь. </a:t>
            </a:r>
            <a:endParaRPr b="0" lang="ru-RU" sz="4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476640"/>
            <a:ext cx="10515240" cy="57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1095840" y="347760"/>
            <a:ext cx="10893960" cy="55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entury Gothic"/>
              </a:rPr>
              <a:t>Логические парадок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Это парадоксы, которые затрагивают сферы логики и здравого смысл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Казалось бы, парадокс - и парадокс себе, и стоит ли сильно по его поводу пережив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Однако некая легенда гласит, что древнегреческий философ Кронос, не в силах разрешить его, от огорчения умер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45960" y="205920"/>
            <a:ext cx="10945440" cy="610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404040"/>
                </a:solidFill>
                <a:uFillTx/>
                <a:latin typeface="Century Gothic"/>
              </a:rPr>
              <a:t>«Парадокс кучи»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Имеется утверждение: разница между "кучей" и "не кучей" не в одном элементе.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Возьмем некоторую кучу, например, орехов. Теперь начнем брать из нее по ореху: 50 орехов - куча, 49 - куча, 48 - тоже куча и т.д.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Так дойдем до одного ореха, который тоже составит кучу. Вот тут-то и парадокс – сколько орехов бы мы не взяли, они все равно будут кучей.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Такое рассуждение нельзя применять, так как не определено само понятие «куча». 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67280" y="561600"/>
            <a:ext cx="8915040" cy="49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numCol="1" spcCol="0" lIns="0" rIns="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 u="sng">
                <a:solidFill>
                  <a:srgbClr val="444444"/>
                </a:solidFill>
                <a:uFillTx/>
                <a:latin typeface="Century Gothic"/>
              </a:rPr>
              <a:t>Математический парадокс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44444"/>
                </a:solidFill>
                <a:latin typeface="Century Gothic"/>
              </a:rPr>
              <a:t>Допустим, я у друга взял 100 рублей, пошёл в магазин и потерял их, встретил подругу и занял у неё 50 рублей, купил 2 шоколадки по 10 рублей, у меня осталось 30 рублей, я их отдал другу и остался должен ему 70 руб. и подруге 50 руб., итого 120 руб. Плюс у меня две шоколадки за 20 рублей.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44444"/>
                </a:solidFill>
                <a:latin typeface="Century Gothic"/>
              </a:rPr>
              <a:t>Итого 140 рублей!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ru-RU" sz="3200" spc="-1" strike="noStrike">
                <a:solidFill>
                  <a:srgbClr val="444444"/>
                </a:solidFill>
                <a:latin typeface="Century Gothic"/>
              </a:rPr>
              <a:t>Где остальные </a:t>
            </a:r>
            <a:r>
              <a:rPr b="0" lang="ru-RU" sz="3200" spc="-1" strike="noStrike">
                <a:solidFill>
                  <a:srgbClr val="444444"/>
                </a:solidFill>
                <a:latin typeface="Century Gothic"/>
              </a:rPr>
              <a:t>10 рублей?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628000" y="605160"/>
            <a:ext cx="8915040" cy="556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Century Gothic"/>
              </a:rPr>
              <a:t>Решение: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 подсчётах ошибка: сначала складываются суммы долга (70 + 50 рублей), а к ним </a:t>
            </a:r>
            <a:r>
              <a:rPr b="1" lang="ru-RU" sz="2800" spc="-1" strike="noStrike">
                <a:solidFill>
                  <a:srgbClr val="404040"/>
                </a:solidFill>
                <a:latin typeface="Century Gothic"/>
              </a:rPr>
              <a:t>ошибочно </a:t>
            </a:r>
            <a:br>
              <a:rPr sz="2800"/>
            </a:b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рибавляется стоимость шоколадок. Шоколадки не надо прибавлять к долгу, в этом нет смысла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Сумма долга после всех трат составляет 70 + 50 рублей, то есть, 120 рублей. "Потраченная" сумма также составляет 120 рублей: это 100 рублей, которые потеряли, плюс стоимость шоколадок - всего 120 рублей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marL="355680" indent="-3556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Теперь всё сходится: потраченная сумма равна сумме долга, который ещё надо вернуть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89120" y="321840"/>
            <a:ext cx="8915040" cy="55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Century Gothic"/>
              </a:rPr>
              <a:t>Парадокс "Мэр города"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Каждый мэр живет или в своем городе, или вне его. Был издан приказ о выделении одного специального города, где жили бы только мэры, не живущие в своем городе. Естественно, у этого города тоже есть мэр. Где должен жить мэр этого города?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Если он хочет жить в отведенном городе, то он не может это сделать, так как там живут только мэры, не живущие в своем городе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Если же он не хочет жить в отведенном городе, то, как и все мэры, не живущие в своих городах, он дол­жен жить в отведенном городе, что не допускается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Итак, он не может жить ни в своем городе, ни вне его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93080" y="225000"/>
            <a:ext cx="891144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Исчезновение клетки</a:t>
            </a:r>
            <a:br>
              <a:rPr sz="3600"/>
            </a:b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009160" y="901440"/>
            <a:ext cx="9942120" cy="569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Дан прямоугольный треугольник 13×5 клеток, составленный из 4 частей. После перестановки частей при визуальном сохранении изначальных пропорций появляется дополнительная, не занятая ни одной частью, клетка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Математически парадоксов и таинственного исчезновения площади тут нет. Визуально наблюдаемые треугольники, на самом деле таковымы не являются, гипотенузы в обоих псевдотреугольниках на самом деле являются ломаными линиями (в первом треугольнике она с изломом внутрь, а во втором — наружу). Если наложить треугольник друг на друга, то между их «гипотенузами» образуется параллелограмм, в котором и содержится «пропавшая» площадь.</a:t>
            </a:r>
            <a:br>
              <a:rPr sz="2000"/>
            </a:b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48" name="Рисунок 3" descr=""/>
          <p:cNvPicPr/>
          <p:nvPr/>
        </p:nvPicPr>
        <p:blipFill>
          <a:blip r:embed="rId1"/>
          <a:stretch/>
        </p:blipFill>
        <p:spPr>
          <a:xfrm>
            <a:off x="4288680" y="4410720"/>
            <a:ext cx="5782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073960" y="257400"/>
            <a:ext cx="9155880" cy="620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Century Gothic"/>
              </a:rPr>
              <a:t>Логический парадокс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Миссионер очутился у людоедов и попал к обеду. Они разрешают ему выбрать, в каком виде его съедят. Для этого он должен произнести какое-нибудь высказывание с условием, что, если это высказывание окажется истинным, то они его сварят, а если оно окажется ложным, то его зажарят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Умный миссионер сказал: «Вы зажарите меня». Если его действительно зажарят, окажется, что он высказал истину, и значит, его надо сварить. Если же его сварят, его высказывание будет ложным, и его следует как раз зажарить. Выхода у людоедов не оказалось: из «зажарить» вытекает «сварить», и наоборот.</a:t>
            </a:r>
            <a:r>
              <a:rPr b="0" i="1" lang="ru-RU" sz="2400" spc="-1" strike="noStrike">
                <a:solidFill>
                  <a:srgbClr val="40404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404040"/>
                </a:solidFill>
                <a:latin typeface="Century Gothic"/>
              </a:rPr>
              <a:t>Миссионера не съели, и все людоеды стали христианами.</a:t>
            </a:r>
            <a:endParaRPr b="0" lang="ru-RU" sz="24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73</TotalTime>
  <Application>LibreOffice/7.4.7.2$Linux_X86_64 LibreOffice_project/40$Build-2</Application>
  <AppVersion>15.0000</AppVersion>
  <Words>262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8:57:37Z</dcterms:created>
  <dc:creator>Ученик</dc:creator>
  <dc:description/>
  <dc:language>en-US</dc:language>
  <cp:lastModifiedBy>Ученик</cp:lastModifiedBy>
  <dcterms:modified xsi:type="dcterms:W3CDTF">2015-07-17T10:12:52Z</dcterms:modified>
  <cp:revision>6</cp:revision>
  <dc:subject/>
  <dc:title>Математические парадокс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9</vt:r8>
  </property>
</Properties>
</file>