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054A-822B-4EB3-BD1F-655C19C2A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3A63-75BB-4751-BA7D-72082275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0447-710A-43FA-A9A9-D53827BA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0340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6173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25891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560340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86173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97AD-6B9D-413A-B0D1-BE7CCC77F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3D49-9258-46ED-B743-ABE5ED2C9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A3C9-D762-456A-8290-EFB5962A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FCDB-EBAC-4F75-BEEC-84283F6B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B4DF-22B1-44F9-9824-5D9016073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A00A6-B000-4268-B253-F4C4C4B4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593080" y="624240"/>
            <a:ext cx="891144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2C51-FF49-40AF-AAC1-4F0AF9C4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F8C5-88BB-49F7-A5DB-D56CC685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CE2D-A07D-47CF-9DC0-94112535A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6548-E557-4749-B5C1-91FE0E6F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9438-E07F-49F3-827E-DD06D0CA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20D5-EF0D-4C9B-A3B7-D04CB6DA2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7B60-0079-4DB0-9F8A-6EC76FBAC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60340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6173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5891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560340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86173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DC1A-C50D-45B6-8A08-1C30DF66B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711A-B718-471D-9BB9-0902EFDC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EE13-241A-4CDB-8FD1-E46DFD3F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DCAB-C0E8-4565-8CC6-3680C950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93080" y="624240"/>
            <a:ext cx="891144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BB6C-06D6-4867-A5CF-F48C97F3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25FE-8E3A-47C6-89A0-B5D307A8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D416-F7C6-40F2-8627-024500AA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0255-35AD-4D6F-A06F-12D16826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400"/>
            <a:chOff x="0" y="228600"/>
            <a:chExt cx="2851200" cy="663840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5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200" cy="2322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7120" y="5447160"/>
              <a:ext cx="609120" cy="14198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3760"/>
              <a:ext cx="171000" cy="36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800" y="3201120"/>
              <a:ext cx="821520" cy="332820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5840" cy="29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7760" cy="49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89720" cy="10245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440" y="1398960"/>
              <a:ext cx="2075760" cy="404784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680" y="6530040"/>
              <a:ext cx="161640" cy="33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320"/>
              <a:ext cx="37080" cy="221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960" y="6244560"/>
              <a:ext cx="238320" cy="62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360" y="-720"/>
            <a:ext cx="2356200" cy="6853680"/>
            <a:chOff x="27360" y="-720"/>
            <a:chExt cx="2356200" cy="6853680"/>
          </a:xfrm>
        </p:grpSpPr>
        <p:sp>
          <p:nvSpPr>
            <p:cNvPr id="14" name="Freeform 27"/>
            <p:cNvSpPr/>
            <p:nvPr/>
          </p:nvSpPr>
          <p:spPr>
            <a:xfrm>
              <a:off x="27360" y="-720"/>
              <a:ext cx="493920" cy="44006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440" y="4316400"/>
              <a:ext cx="423000" cy="15804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600"/>
              <a:ext cx="430560" cy="99036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640" y="4364280"/>
              <a:ext cx="551520" cy="22356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8000" y="1289160"/>
              <a:ext cx="173880" cy="30268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440"/>
              <a:ext cx="133920" cy="2811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560" y="410760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5680"/>
              <a:ext cx="1409760" cy="27165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240"/>
              <a:ext cx="120240" cy="252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160"/>
              <a:ext cx="137520" cy="673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600"/>
              <a:ext cx="37800" cy="22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240" cy="530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89120" y="2514600"/>
            <a:ext cx="8915040" cy="226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dt" idx="1"/>
          </p:nvPr>
        </p:nvSpPr>
        <p:spPr>
          <a:xfrm>
            <a:off x="10361520" y="6130440"/>
            <a:ext cx="1145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ftr" idx="2"/>
          </p:nvPr>
        </p:nvSpPr>
        <p:spPr>
          <a:xfrm>
            <a:off x="2589120" y="6135840"/>
            <a:ext cx="7619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Freeform 6"/>
          <p:cNvSpPr/>
          <p:nvPr/>
        </p:nvSpPr>
        <p:spPr>
          <a:xfrm>
            <a:off x="0" y="4323960"/>
            <a:ext cx="1744200" cy="778320"/>
          </a:xfrm>
          <a:custGeom>
            <a:avLst/>
            <a:gdLst>
              <a:gd name="textAreaLeft" fmla="*/ 0 w 1744200"/>
              <a:gd name="textAreaRight" fmla="*/ 1744560 w 1744200"/>
              <a:gd name="textAreaTop" fmla="*/ 0 h 778320"/>
              <a:gd name="textAreaBottom" fmla="*/ 778680 h 77832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3"/>
          </p:nvPr>
        </p:nvSpPr>
        <p:spPr>
          <a:xfrm>
            <a:off x="531720" y="4529520"/>
            <a:ext cx="779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8C27EA-4D64-42E9-8FE3-54D2251A0331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2"/>
          <p:cNvGrpSpPr/>
          <p:nvPr/>
        </p:nvGrpSpPr>
        <p:grpSpPr>
          <a:xfrm>
            <a:off x="0" y="228600"/>
            <a:ext cx="2851200" cy="6638400"/>
            <a:chOff x="0" y="228600"/>
            <a:chExt cx="2851200" cy="6638400"/>
          </a:xfrm>
        </p:grpSpPr>
        <p:sp>
          <p:nvSpPr>
            <p:cNvPr id="70" name="Freeform 11"/>
            <p:cNvSpPr/>
            <p:nvPr/>
          </p:nvSpPr>
          <p:spPr>
            <a:xfrm>
              <a:off x="0" y="2575080"/>
              <a:ext cx="100440" cy="625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28520" y="3156480"/>
              <a:ext cx="646200" cy="2322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807120" y="5447160"/>
              <a:ext cx="609120" cy="14198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959760" y="6503760"/>
              <a:ext cx="171000" cy="36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00800" y="3201120"/>
              <a:ext cx="821520" cy="332820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6"/>
            <p:cNvSpPr/>
            <p:nvPr/>
          </p:nvSpPr>
          <p:spPr>
            <a:xfrm>
              <a:off x="22320" y="228600"/>
              <a:ext cx="105840" cy="29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78120" y="2944080"/>
              <a:ext cx="77760" cy="49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769680" y="5478840"/>
              <a:ext cx="189720" cy="10245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775440" y="1398960"/>
              <a:ext cx="2075760" cy="404784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922680" y="6530040"/>
              <a:ext cx="161640" cy="33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769680" y="5359320"/>
              <a:ext cx="37080" cy="221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2"/>
            <p:cNvSpPr/>
            <p:nvPr/>
          </p:nvSpPr>
          <p:spPr>
            <a:xfrm>
              <a:off x="849960" y="6244560"/>
              <a:ext cx="238320" cy="62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9"/>
          <p:cNvGrpSpPr/>
          <p:nvPr/>
        </p:nvGrpSpPr>
        <p:grpSpPr>
          <a:xfrm>
            <a:off x="27360" y="-720"/>
            <a:ext cx="2356200" cy="6853680"/>
            <a:chOff x="27360" y="-720"/>
            <a:chExt cx="2356200" cy="6853680"/>
          </a:xfrm>
        </p:grpSpPr>
        <p:sp>
          <p:nvSpPr>
            <p:cNvPr id="83" name="Freeform 27"/>
            <p:cNvSpPr/>
            <p:nvPr/>
          </p:nvSpPr>
          <p:spPr>
            <a:xfrm>
              <a:off x="27360" y="-720"/>
              <a:ext cx="493920" cy="44006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8"/>
            <p:cNvSpPr/>
            <p:nvPr/>
          </p:nvSpPr>
          <p:spPr>
            <a:xfrm>
              <a:off x="550440" y="4316400"/>
              <a:ext cx="423000" cy="15804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9"/>
            <p:cNvSpPr/>
            <p:nvPr/>
          </p:nvSpPr>
          <p:spPr>
            <a:xfrm>
              <a:off x="1006200" y="5862600"/>
              <a:ext cx="430560" cy="99036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0"/>
            <p:cNvSpPr/>
            <p:nvPr/>
          </p:nvSpPr>
          <p:spPr>
            <a:xfrm>
              <a:off x="521640" y="4364280"/>
              <a:ext cx="551520" cy="22356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1"/>
            <p:cNvSpPr/>
            <p:nvPr/>
          </p:nvSpPr>
          <p:spPr>
            <a:xfrm>
              <a:off x="468000" y="1289160"/>
              <a:ext cx="173880" cy="30268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2"/>
            <p:cNvSpPr/>
            <p:nvPr/>
          </p:nvSpPr>
          <p:spPr>
            <a:xfrm>
              <a:off x="1111680" y="6571440"/>
              <a:ext cx="133920" cy="2811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3"/>
            <p:cNvSpPr/>
            <p:nvPr/>
          </p:nvSpPr>
          <p:spPr>
            <a:xfrm>
              <a:off x="502560" y="410760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4"/>
            <p:cNvSpPr/>
            <p:nvPr/>
          </p:nvSpPr>
          <p:spPr>
            <a:xfrm>
              <a:off x="973800" y="3145680"/>
              <a:ext cx="1409760" cy="27165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5"/>
            <p:cNvSpPr/>
            <p:nvPr/>
          </p:nvSpPr>
          <p:spPr>
            <a:xfrm>
              <a:off x="1073520" y="6600240"/>
              <a:ext cx="120240" cy="252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6"/>
            <p:cNvSpPr/>
            <p:nvPr/>
          </p:nvSpPr>
          <p:spPr>
            <a:xfrm>
              <a:off x="973800" y="5897160"/>
              <a:ext cx="137520" cy="673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7"/>
            <p:cNvSpPr/>
            <p:nvPr/>
          </p:nvSpPr>
          <p:spPr>
            <a:xfrm>
              <a:off x="973800" y="5772600"/>
              <a:ext cx="37800" cy="22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8"/>
            <p:cNvSpPr/>
            <p:nvPr/>
          </p:nvSpPr>
          <p:spPr>
            <a:xfrm>
              <a:off x="1006200" y="6322680"/>
              <a:ext cx="210240" cy="530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6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440"/>
            <a:ext cx="1145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9120" y="6135840"/>
            <a:ext cx="7619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11"/>
          <p:cNvSpPr/>
          <p:nvPr/>
        </p:nvSpPr>
        <p:spPr>
          <a:xfrm flipV="1">
            <a:off x="-3960" y="713880"/>
            <a:ext cx="1588320" cy="506880"/>
          </a:xfrm>
          <a:custGeom>
            <a:avLst/>
            <a:gdLst>
              <a:gd name="textAreaLeft" fmla="*/ 0 w 1588320"/>
              <a:gd name="textAreaRight" fmla="*/ 1588680 w 1588320"/>
              <a:gd name="textAreaTop" fmla="*/ 360 h 506880"/>
              <a:gd name="textAreaBottom" fmla="*/ 507600 h 50688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531720" y="787680"/>
            <a:ext cx="779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58E6E6-C9D2-4F70-80D7-ABCBF9B87679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14160" y="1714680"/>
            <a:ext cx="705312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ff0000"/>
                </a:solidFill>
                <a:latin typeface="Century Gothic"/>
              </a:rPr>
              <a:t>Математические парадоксы.</a:t>
            </a:r>
            <a:endParaRPr b="0" lang="ru-RU" sz="5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1360" y="270360"/>
            <a:ext cx="10515240" cy="58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4400" spc="-1" strike="noStrike" u="sng">
                <a:solidFill>
                  <a:srgbClr val="404040"/>
                </a:solidFill>
                <a:uFillTx/>
                <a:latin typeface="Century Gothic"/>
              </a:rPr>
              <a:t>Парадокс</a:t>
            </a:r>
            <a:r>
              <a:rPr b="0" lang="ru-RU" sz="4400" spc="-1" strike="noStrike">
                <a:solidFill>
                  <a:srgbClr val="404040"/>
                </a:solidFill>
                <a:latin typeface="Century Gothic"/>
              </a:rPr>
              <a:t> – странное умозаключение, расходящееся с общепринятым мнением, высказывание, а также мнение, противоречащее здравому смыслу, на самом деле справедливо.</a:t>
            </a:r>
            <a:endParaRPr b="0" lang="ru-RU" sz="4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44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4400" spc="-1" strike="noStrike" u="sng">
                <a:solidFill>
                  <a:srgbClr val="404040"/>
                </a:solidFill>
                <a:uFillTx/>
                <a:latin typeface="Century Gothic"/>
              </a:rPr>
              <a:t>Математический парадокс </a:t>
            </a:r>
            <a:r>
              <a:rPr b="0" lang="ru-RU" sz="4400" spc="-1" strike="noStrike">
                <a:solidFill>
                  <a:srgbClr val="404040"/>
                </a:solidFill>
                <a:latin typeface="Century Gothic"/>
              </a:rPr>
              <a:t>– высказывание, которое может быть доказано и как истинна, и как ложь. </a:t>
            </a:r>
            <a:endParaRPr b="0" lang="ru-RU" sz="4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476640"/>
            <a:ext cx="10515240" cy="57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1095840" y="347760"/>
            <a:ext cx="10893960" cy="55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entury Gothic"/>
              </a:rPr>
              <a:t>Логические парадок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Это парадоксы, которые затрагивают сферы логики и здравого смысл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Казалось бы, парадокс - и парадокс себе, и стоит ли сильно по его поводу пережив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Однако некая легенда гласит, что древнегреческий философ Кронос, не в силах разрешить его, от огорчения умер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245960" y="205920"/>
            <a:ext cx="10945440" cy="610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200" spc="-1" strike="noStrike" u="sng">
                <a:solidFill>
                  <a:srgbClr val="404040"/>
                </a:solidFill>
                <a:uFillTx/>
                <a:latin typeface="Century Gothic"/>
              </a:rPr>
              <a:t>«Парадокс кучи»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404040"/>
                </a:solidFill>
                <a:latin typeface="Century Gothic"/>
              </a:rPr>
              <a:t>Имеется утверждение: разница между "кучей" и "не кучей" не в одном элементе.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entury Gothic"/>
              </a:rPr>
              <a:t>Возьмем некоторую кучу, например, орехов. Теперь начнем брать из нее по ореху: 50 орехов - куча, 49 - куча, 48 - тоже куча и т.д. 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404040"/>
                </a:solidFill>
                <a:latin typeface="Century Gothic"/>
              </a:rPr>
              <a:t>Так дойдем до одного ореха, который тоже составит кучу. Вот тут-то и парадокс – сколько орехов бы мы не взяли, они все равно будут кучей. 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404040"/>
                </a:solidFill>
                <a:latin typeface="Century Gothic"/>
              </a:rPr>
              <a:t>Такое рассуждение нельзя применять, так как не определено само понятие «куча». 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267280" y="561600"/>
            <a:ext cx="8915040" cy="49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numCol="1" spcCol="0" lIns="0" rIns="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 u="sng">
                <a:solidFill>
                  <a:srgbClr val="444444"/>
                </a:solidFill>
                <a:uFillTx/>
                <a:latin typeface="Century Gothic"/>
              </a:rPr>
              <a:t>Математический парадокс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444444"/>
                </a:solidFill>
                <a:latin typeface="Century Gothic"/>
              </a:rPr>
              <a:t>Допустим, я у друга взял 100 рублей, пошёл в магазин и потерял их, встретил подругу и занял у неё 50 рублей, купил 2 шоколадки по 10 рублей, у меня осталось 30 рублей, я их отдал другу и остался должен ему 70 руб. и подруге 50 руб., итого 120 руб. Плюс у меня две шоколадки за 20 рублей.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44444"/>
                </a:solidFill>
                <a:latin typeface="Century Gothic"/>
              </a:rPr>
              <a:t>Итого 140 рублей!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44444"/>
                </a:solidFill>
                <a:latin typeface="Century Gothic"/>
              </a:rPr>
              <a:t>Где остальные </a:t>
            </a:r>
            <a:r>
              <a:rPr b="0" lang="ru-RU" sz="3200" spc="-1" strike="noStrike">
                <a:solidFill>
                  <a:srgbClr val="444444"/>
                </a:solidFill>
                <a:latin typeface="Century Gothic"/>
              </a:rPr>
              <a:t>10 рублей?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628000" y="605160"/>
            <a:ext cx="8915040" cy="556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Century Gothic"/>
              </a:rPr>
              <a:t>Решение: 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55680" indent="-3556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В подсчётах ошибка: сначала складываются суммы долга (70 + 50 рублей), а к ним </a:t>
            </a: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ошибочно 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прибавляется стоимость шоколадок. Шоколадки не надо прибавлять к долгу, в этом нет смысла.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55680" indent="-3556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Сумма долга после всех трат составляет 70 + 50 рублей, то есть, 120 рублей. "Потраченная" сумма также составляет 120 рублей: это 100 рублей, которые потеряли, плюс стоимость шоколадок - всего 120 рублей.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55680" indent="-3556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Теперь всё сходится: потраченная сумма равна сумме долга, который ещё надо вернуть.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589120" y="321840"/>
            <a:ext cx="8915040" cy="55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Century Gothic"/>
              </a:rPr>
              <a:t>Парадокс "Мэр города"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Каждый мэр живет или в своем городе, или вне его. Был издан приказ о выделении одного специального города, где жили бы только мэры, не живущие в своем городе. Естественно, у этого города тоже есть мэр. Где должен жить мэр этого города?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Если он хочет жить в отведенном городе, то он не может это сделать, так как там живут только мэры, не живущие в своем городе.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Если же он не хочет жить в отведенном городе, то, как и все мэры, не живущие в своих городах, он дол­жен жить в отведенном городе, что не допускается.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Итак, он не может жить ни в своем городе, ни вне его.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93080" y="225000"/>
            <a:ext cx="891144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u="sng">
                <a:solidFill>
                  <a:srgbClr val="262626"/>
                </a:solidFill>
                <a:uFillTx/>
                <a:latin typeface="Century Gothic"/>
              </a:rPr>
              <a:t>Исчезновение клетки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09160" y="901440"/>
            <a:ext cx="9942120" cy="569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Дан прямоугольный треугольник 13×5 клеток, составленный из 4 частей. После перестановки частей при визуальном сохранении изначальных пропорций появляется дополнительная, не занятая ни одной частью, клетка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Математически парадоксов и таинственного исчезновения площади тут нет. Визуально наблюдаемые треугольники, на самом деле таковымы не являются, гипотенузы в обоих псевдотреугольниках на самом деле являются ломаными линиями (в первом треугольнике она с изломом внутрь, а во втором — наружу). Если наложить треугольник друг на друга, то между их «гипотенузами» образуется параллелограмм, в котором и содержится «пропавшая» площадь.</a:t>
            </a:r>
            <a:br>
              <a:rPr sz="2000"/>
            </a:b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48" name="Рисунок 3" descr=""/>
          <p:cNvPicPr/>
          <p:nvPr/>
        </p:nvPicPr>
        <p:blipFill>
          <a:blip r:embed="rId1"/>
          <a:stretch/>
        </p:blipFill>
        <p:spPr>
          <a:xfrm>
            <a:off x="4288680" y="4410720"/>
            <a:ext cx="578232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073960" y="257400"/>
            <a:ext cx="9155880" cy="62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Century Gothic"/>
              </a:rPr>
              <a:t>Логический парадокс.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Миссионер очутился у людоедов и попал к обеду. Они разрешают ему выбрать, в каком виде его съедят. Для этого он должен произнести какое-нибудь высказывание с условием, что, если это высказывание окажется истинным, то они его сварят, а если оно окажется ложным, то его зажарят.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Умный миссионер сказал: «Вы зажарите меня». Если его действительно зажарят, окажется, что он высказал истину, и значит, его надо сварить. Если же его сварят, его высказывание будет ложным, и его следует как раз зажарить. Выхода у людоедов не оказалось: из «зажарить» вытекает «сварить», и наоборот.</a:t>
            </a:r>
            <a:r>
              <a:rPr b="0" i="1" lang="ru-RU" sz="24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Миссионера не съели, и все людоеды стали христианами.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isp</Template>
  <TotalTime>73</TotalTime>
  <Application>LibreOffice/7.4.7.2$Linux_X86_64 LibreOffice_project/40$Build-2</Application>
  <AppVersion>15.0000</AppVersion>
  <Words>262</Words>
  <Paragraphs>3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7T08:57:37Z</dcterms:created>
  <dc:creator>Ученик</dc:creator>
  <dc:description/>
  <dc:language>en-US</dc:language>
  <cp:lastModifiedBy>Ученик</cp:lastModifiedBy>
  <dcterms:modified xsi:type="dcterms:W3CDTF">2015-07-17T10:12:52Z</dcterms:modified>
  <cp:revision>6</cp:revision>
  <dc:subject/>
  <dc:title>Математические парадоксы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9</vt:r8>
  </property>
</Properties>
</file>