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F012F8-90E2-47A4-96C0-FD222B40D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ще один интересный пример шифра простой замены был описан в рассказе А. Конан Дойла «Пляшущие человечки», где каждый символ изображает пляшущего человечка в определенной поз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же, например, в романе Ж. Верна «Путешествие к центру Земли» в руки профессора Лиденброка попадает пергамент с рукописью из знаков рунического письма. Каждый рунический знак был заменен на соответствующую букву немецкого языка, что облегчило восстановление открытого сооб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2A06E0-3647-453C-A8F5-7BD3AB8087F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+mj-lt"/>
              <a:buAutoNum type="arabicPeriod" startAt="3"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Древней Греции (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. до н.э.) был известен шифр, называемый «квадрат Полибия» (в нашем примере будет прямоугольник). Шифр Полибия является оригинальным шифром простой замены. Приведем пример этого шифра для русского языка. Буквы алфавита в 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оизвольном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порядке вписываются в прямоугольник 5х6 (заполнение квадрата и 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ключом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), например, так как показано на рисунке. Тогда каждой букве алфавита однозначно соответствует пара чисел – номер строки и номер столбца в этой таблице. Процедура шифрования текста представляла собой замену каждой буквы на пару чисел в соответствии с таблиц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7496F4-2CE3-4EA8-BE28-B627DA71512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щ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-I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 до н.э. греки применяли специальное шифрующее устройство. Оно состояло из двух палок одинаковой длины и толщины. Одну оставляли себе, другую отдавали отъезжающему. Эти палки называ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циталами (скиталами)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правителям нужно было сообщить какую-нибудь важную тайну, они вырезали длинную и узкую, вроде ремня, полоску папируса, наматывали ее на свою сциталу, не оставляя на ней никакого промежутка, так чтобы вся поверхность палки была охвачена этой полосой. Затем оставляя папирус на сцитале в том виде, как он есть, писали на нем все что нужно, а написав, снимали полосу и отправляли адресату без палки. А так как буквы на этой полоске разбросаны в беспорядке, то прочитать написанное адресат мог, только взяв свою сциталу и намотав на нее без пропусков полос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тим, что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 использовании шифра Сцитало первая буква открытого текста переходит в первую букву шифртекста, дальше из открытого текста выбирается через определенное и постоянное число букв вторая буква шифрсообщения и т. д., пока не достигается конец сообщения. Затем в качестве следующей буквы шифртекста выбирается вторая буква открытого текста и процедура продолжается, пока не будут переставлены все буквы со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B4A219-DBCD-4E9B-92A6-57CB69534DF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 н.э. Ю. Цезарь во время войны с галлами, переписываясь со своими друзьями в Риме, применял следующее шифрпреобразование: он заменял в тексте каждую букву А (первую в алфавите)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четвертую в алфав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букв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ую в алфав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ую в алфав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т.д. Таким образом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ижняя строка замены (см. таблицу) образовывалась циклическим сдвигом алфавита открытого текста на 3 буквы вле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A7E1D5-9C60-41A1-868D-3E0D59BC12D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1A44-0D6E-488C-8950-AC2EC3381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E6F3-41C2-48C7-96C2-0725B8D0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940-9696-4907-A603-68F828B42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1CAD-0641-45BE-936E-14411F8D3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E4B15-D6E9-49D0-BD82-257010101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A926-D663-4842-ADB8-685F1CC6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39F2-C606-4299-9C51-87109B38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D087-0227-4A7D-A2B1-3DA1FD20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5EF4-99C5-4560-A712-10480256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D126D-CD5E-4E77-A706-4AB25DBE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7573-7DFB-4998-8DD0-E49EF933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561B-6E9D-43AA-ADB5-8C99EDC2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21EA-97C0-4B15-B6AF-5ED43080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6669-476B-4A57-817A-279B6A4D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4E4FB-0E35-4261-8969-90EE720F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779E-F5A9-4618-A062-1BA15978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59975-0D4B-4A9E-9642-D164ABAD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387E6-577F-4286-8B7A-A5306C8E0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A47F2-668A-47E0-9DCD-AD875C56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D9EFE-2435-44B8-89E5-0B16521D5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2CA31-F622-4BAA-9ABC-A91A09DA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EF123-9E27-4A57-95F7-C322F3B3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510C-CF10-4276-82BD-FDB76F7D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6A339-381A-4A69-9AF2-EC39848A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34430-8EC8-4E43-A8AA-D25CE7A1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D4F78-9235-4893-BFCA-DAC4A972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902C2-0941-465F-8CBB-751BBA5D5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4CC35-1DA5-4405-AECB-8BDE8E60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4704E-03BA-4BC6-B856-3DD31087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5A652-0E5F-4C6C-B13D-AEAB215D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B17C-F36A-4CC4-910B-5EFBC16C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72FC-F5B3-4707-B45E-158BFBAB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4E1-3740-4B71-9F37-EE8357ED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85FA-E8F4-4A60-B1BD-428C4235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7851-A7E9-4BBB-9B58-2F741D2A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17D6-71EA-485E-A814-3F1E9D2A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95246D-E1E2-4510-AD08-F8C950A39D9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1C7815-A31A-4F7D-ADB3-73602F8F697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301680"/>
            <a:ext cx="10362960" cy="14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1036296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914400" y="6248520"/>
            <a:ext cx="253980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560" y="6248520"/>
            <a:ext cx="386028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8520"/>
            <a:ext cx="253980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67087B-872D-453A-BB10-F1613537929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30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Calibri Light"/>
              </a:rPr>
              <a:t>Математические 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 Light"/>
              </a:rPr>
              <a:t>шифры.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429480"/>
            <a:ext cx="10515240" cy="5747040"/>
          </a:xfrm>
          <a:prstGeom prst="rect">
            <a:avLst/>
          </a:prstGeom>
          <a:noFill/>
          <a:ln w="0">
            <a:noFill/>
          </a:ln>
        </p:spPr>
        <p:txBody>
          <a:bodyPr numCol="2" spcCol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        У       Н        А       Т        И       К             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         7       5         1       6        2       3  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        О       Н        С       Б        Н       Я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        Е        О        Я       О        Е       Т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        С        В       Е        Л        П       Н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        Т        И       Щ       Е        О       Ы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        А        Т       Е        Е        Н       М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 перестановк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НЯНН БОЯЕТ ЕООЕЕ ПНЯВЛ СЩОЫС ИЕТЕН МНТЕ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       И       К       Л       Н       Т       У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      2        3       4       5        6       7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       Н       Я       Н       Н       Б       О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       Е       Т        Е       О       О       Е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       П       Н       Я       В       Л       С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Щ     О        Ы      С       И       Е       Т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       Н       М      Н       Т       Е       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       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перестановк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ы шифров замен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 Конан Дойл «Пляшущие человечки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. Верн «Путешествие к центру Земли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3503880" y="2701080"/>
            <a:ext cx="6670800" cy="1087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2"/>
          <a:stretch/>
        </p:blipFill>
        <p:spPr>
          <a:xfrm>
            <a:off x="5486760" y="5157360"/>
            <a:ext cx="2082600" cy="8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47880" y="0"/>
            <a:ext cx="7772040" cy="14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емафорная азбу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Resize of семафор"/>
          <p:cNvPicPr/>
          <p:nvPr/>
        </p:nvPicPr>
        <p:blipFill>
          <a:blip r:embed="rId1"/>
          <a:stretch/>
        </p:blipFill>
        <p:spPr>
          <a:xfrm>
            <a:off x="2279520" y="1413000"/>
            <a:ext cx="3816000" cy="3111120"/>
          </a:xfrm>
          <a:prstGeom prst="rect">
            <a:avLst/>
          </a:prstGeom>
          <a:ln w="9525">
            <a:solidFill>
              <a:srgbClr val="0000ff"/>
            </a:solidFill>
            <a:miter/>
          </a:ln>
        </p:spPr>
      </p:pic>
      <p:pic>
        <p:nvPicPr>
          <p:cNvPr id="152" name="Picture 5" descr="азбука 001"/>
          <p:cNvPicPr/>
          <p:nvPr/>
        </p:nvPicPr>
        <p:blipFill>
          <a:blip r:embed="rId2"/>
          <a:stretch/>
        </p:blipFill>
        <p:spPr>
          <a:xfrm>
            <a:off x="7464600" y="1197000"/>
            <a:ext cx="2893680" cy="4114440"/>
          </a:xfrm>
          <a:prstGeom prst="rect">
            <a:avLst/>
          </a:prstGeom>
          <a:ln w="0">
            <a:solidFill>
              <a:srgbClr val="000080"/>
            </a:solidFill>
          </a:ln>
        </p:spPr>
      </p:pic>
      <p:sp>
        <p:nvSpPr>
          <p:cNvPr id="153" name="Rectangle 6"/>
          <p:cNvSpPr/>
          <p:nvPr/>
        </p:nvSpPr>
        <p:spPr>
          <a:xfrm>
            <a:off x="2135160" y="5229360"/>
            <a:ext cx="7772040" cy="14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44546a"/>
                </a:solidFill>
                <a:latin typeface="Arial Black"/>
              </a:rPr>
              <a:t>Пляшущие челове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ы шифров замен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84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ифр Полиб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80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, при шифровании слова «Греция» получим следующую криптограмму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80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2 12 35 54 34 33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4417560" y="1825560"/>
            <a:ext cx="3356640" cy="27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ы шифров перестанов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923200" y="155664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ифр сцитал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824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824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ючом данного шифра являлся диаметр палки (сциталы)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143520" y="2277000"/>
            <a:ext cx="7056360" cy="29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6960" y="426600"/>
            <a:ext cx="10515240" cy="559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дильник - 4, 23, 7, 12, 15, 32, 17, 12, 14 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(ключ - номер буквы +2)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фета - rjyatnf  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("клавиатурный" шифр)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газин - низгагам, игрушка - акшгруи, ботинок - контиоб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(попробуйте угадать ключ к этому шифру самостоятельно!)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700280" y="253440"/>
            <a:ext cx="9143640" cy="593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/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3" descr=""/>
          <p:cNvPicPr/>
          <p:nvPr/>
        </p:nvPicPr>
        <p:blipFill>
          <a:blip r:embed="rId1"/>
          <a:stretch/>
        </p:blipFill>
        <p:spPr>
          <a:xfrm>
            <a:off x="3272040" y="914400"/>
            <a:ext cx="5320800" cy="49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301680"/>
            <a:ext cx="10362960" cy="14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тный код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Group 92"/>
          <p:cNvGraphicFramePr/>
          <p:nvPr/>
        </p:nvGraphicFramePr>
        <p:xfrm>
          <a:off x="2209680" y="1982880"/>
          <a:ext cx="7772040" cy="4112640"/>
        </p:xfrm>
        <a:graphic>
          <a:graphicData uri="http://schemas.openxmlformats.org/drawingml/2006/table">
            <a:tbl>
              <a:tblPr/>
              <a:tblGrid>
                <a:gridCol w="706320"/>
                <a:gridCol w="706320"/>
                <a:gridCol w="706320"/>
                <a:gridCol w="704520"/>
                <a:gridCol w="707760"/>
                <a:gridCol w="707760"/>
                <a:gridCol w="707760"/>
                <a:gridCol w="704520"/>
                <a:gridCol w="706320"/>
                <a:gridCol w="706320"/>
                <a:gridCol w="706320"/>
              </a:tblGrid>
              <a:tr h="685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ы шифров замен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мотрим шифр простой замены, соответствующий таблице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м случае, например слово «ПОБЕДА» перейдет в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3 32 98 13 19 11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й шифр называется шифром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ифровой простой замен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531520" y="2599200"/>
            <a:ext cx="797004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396720"/>
            <a:ext cx="10515240" cy="57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ообщени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      СОВЕРШЕННО СЕКРЕТНО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ключ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                3143143143143143143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шифровк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      ФПЖИСЬИОССАХИЛФИУС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ы шифров замен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454400"/>
            <a:ext cx="10515240" cy="47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ифр Цезаря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лючается в замене букв открытого текста (верхней строки) на буквы (нижней строки) в соответствии с таблицей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824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824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, слов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ESAR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ифровалось бы как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824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DHVDU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741040" y="2526480"/>
            <a:ext cx="7515360" cy="100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Объект 3" descr=""/>
          <p:cNvPicPr/>
          <p:nvPr/>
        </p:nvPicPr>
        <p:blipFill>
          <a:blip r:embed="rId1"/>
          <a:stretch/>
        </p:blipFill>
        <p:spPr>
          <a:xfrm>
            <a:off x="2727360" y="1938960"/>
            <a:ext cx="7515720" cy="27093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 Light"/>
              </a:rPr>
              <a:t>Попробуйте расшифровать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73760" y="220320"/>
            <a:ext cx="11567520" cy="59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         О      Н       С        Б        Н       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         Е       О       Я        О       Е        Т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         С       В       Е        Л       П       Н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         Т       И       Щ       Е       О       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        А       Т        Е        Е       Н       М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ОНСБ НЯЕЕО ЯОЕТЯ СВЕЛП НСТИЩ ЕОЫНА ТЕЕНМ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 (7*5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  <Words>634</Words>
  <Paragraphs>1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30T08:28:12Z</dcterms:created>
  <dc:creator>Admin</dc:creator>
  <dc:description/>
  <dc:language>en-US</dc:language>
  <cp:lastModifiedBy>Admin</cp:lastModifiedBy>
  <dcterms:modified xsi:type="dcterms:W3CDTF">2015-06-30T09:35:03Z</dcterms:modified>
  <cp:revision>7</cp:revision>
  <dc:subject/>
  <dc:title>Математические  шифры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Широкоэкранный</vt:lpwstr>
  </property>
  <property fmtid="{D5CDD505-2E9C-101B-9397-08002B2CF9AE}" pid="4" name="Slides">
    <vt:r8>14</vt:r8>
  </property>
</Properties>
</file>