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gif" ContentType="image/gif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2D1A24-CF82-4CAC-88F5-A8E8834AB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один интересный пример шифра простой замены был описан в рассказе А. Конан Дойла «Пляшущие человечки», где каждый символ изображает пляшущего человечка в определенной поз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же, например, в романе Ж. Верна «Путешествие к центру Земли» в руки профессора Лиденброка попадает пергамент с рукописью из знаков рунического письма. Каждый рунический знак был заменен на соответствующую букву немецкого языка, что облегчило восстановление открытого сообщ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416B57-6E6F-4ADB-9957-7C5A8616879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 startAt="3"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Древней Греции (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II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. до н.э.) был известен шифр, называемый «квадрат Полибия» (в нашем примере будет прямоугольник). Шифр Полибия является оригинальным шифром простой замены. Приведем пример этого шифра для русского языка. Буквы алфавита в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оизвольном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 порядке вписываются в прямоугольник 5х6 (заполнение квадрата и является </a:t>
            </a:r>
            <a:r>
              <a:rPr b="0" i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ключом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например, так как показано на рисунке. Тогда каждой букве алфавита однозначно соответствует пара чисел – номер строки и номер столбца в этой таблице. Процедура шифрования текста представляла собой замену каждой буквы на пару чисел в соответствии с таблиц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0A1BDA-E8C8-4800-8BB7-4C261C5847E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ще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-IV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 до н.э. греки применяли специальное шифрующее устройство. Оно состояло из двух палок одинаковой длины и толщины. Одну оставляли себе, другую отдавали отъезжающему. Эти палки называл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циталами (скиталами)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правителям нужно было сообщить какую-нибудь важную тайну, они вырезали длинную и узкую, вроде ремня, полоску папируса, наматывали ее на свою сциталу, не оставляя на ней никакого промежутка, так чтобы вся поверхность палки была охвачена этой полосой. Затем оставляя папирус на сцитале в том виде, как он есть, писали на нем все что нужно, а написав, снимали полосу и отправляли адресату без палки. А так как буквы на этой полоске разбросаны в беспорядке, то прочитать написанное адресат мог, только взяв свою сциталу и намотав на нее без пропусков полос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метим, что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ри использовании шифра Сцитало первая буква открытого текста переходит в первую букву шифртекста, дальше из открытого текста выбирается через определенное и постоянное число букв вторая буква шифрсообщения и т. д., пока не достигается конец сообщения. Затем в качестве следующей буквы шифртекста выбирается вторая буква открытого текста и процедура продолжается, пока не будут переставлены все буквы со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FE770B-0B7C-4233-A0B0-D49CB54AF86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+mj-lt"/>
              <a:buAutoNum type="arabicPeriod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. н.э. Ю. Цезарь во время войны с галлами, переписываясь со своими друзьями в Риме, применял следующее шифрпреобразование: он заменял в тексте каждую букву А (первую в алфавите)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етвертую в алфа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букв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торую в алфа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ую в алфави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т.д. Таким образом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ижняя строка замены (см. таблицу) образовывалась циклическим сдвигом алфавита открытого текста на 3 буквы вле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B4F1FC-4145-4A53-AA54-E2644ACC1E5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1C57-322C-46EA-B237-86BEA44D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9C1C-C267-41C1-9B55-0160A96D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842-6C60-44C2-8FA1-0DF74C878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C8A-4AE5-4BF2-BA9B-29B7B2F8F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8D69-7467-4EDF-9FFD-CB7581E05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7CD8F-866C-469C-885B-D61577D4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F5A9-F12A-4AA9-979B-D01A3983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51F9-5B44-42BB-9FE4-49609F978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A634-6942-434E-AA49-76CA99F56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63D8-C240-40CA-83D4-869F4FA4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AFCE-9D6F-445F-BB58-3168AC4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9866-01D0-4875-AAE9-4A667A0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B55A-EACE-4E6E-A8AB-9D21ABB3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F450D-4CE8-4B59-94AF-35BA0368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E42A-0633-44C0-8DB0-22886789B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8B82-8EAD-4CE8-A565-E25616C0E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CFE0B-72B7-4938-A6EE-B359E7209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87A97-6D40-4321-85C0-97D33FA3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A205-0E2B-4DE5-ABD8-C7BD80BD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7AE6-DBE3-4C4A-B351-72DF0E05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F5F16-1A73-4257-9C9C-5D9897CA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A88405-6348-4045-B23C-B0F40D14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0B6A-4EEB-4A2A-B91E-EAE2F50C8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802B-3AA0-4C9E-B05D-3F21F396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4178C-F1E2-4E6D-BBA4-CC9E0A8B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16EB03-63F9-4095-9CBE-C2FE6F50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FD9A9-511A-4197-94BC-7837F427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7D929-6C71-45CB-8AD6-E4D7DD264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DEEC6-F72C-4353-BFCD-DB75147A9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5DBFE-FE91-422D-BDC5-CD6CEAF2C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D1DF-BCC4-4BBF-87EA-0CD6A5A7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356A-FB38-4891-8ECF-79BE7B18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784F-D7D3-487D-95A3-EBE9831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2CA-85EA-4DE2-B92A-11CE439F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D3B-F9F9-468C-8C3D-2F6F2D6C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BC8-4483-424D-9115-A832B532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2F8BD4-7D70-4BAC-8C6E-EED424C23FED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036BCB-134B-458E-8D0D-A34BA02BC4F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301680"/>
            <a:ext cx="1036296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981080"/>
            <a:ext cx="10362960" cy="41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914400" y="6248520"/>
            <a:ext cx="253980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560" y="6248520"/>
            <a:ext cx="386028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8520"/>
            <a:ext cx="2539800" cy="45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929E54-7DB8-4CC7-8DFC-35A9562D4D3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309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Математические </a:t>
            </a:r>
            <a:br>
              <a:rPr sz="6000"/>
            </a:br>
            <a:r>
              <a:rPr b="1" lang="ru-RU" sz="6000" spc="-1" strike="noStrike">
                <a:solidFill>
                  <a:srgbClr val="ff0000"/>
                </a:solidFill>
                <a:latin typeface="Calibri Light"/>
              </a:rPr>
              <a:t>шифры.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429480"/>
            <a:ext cx="10515240" cy="5747040"/>
          </a:xfrm>
          <a:prstGeom prst="rect">
            <a:avLst/>
          </a:prstGeom>
          <a:noFill/>
          <a:ln w="0">
            <a:noFill/>
          </a:ln>
        </p:spPr>
        <p:txBody>
          <a:bodyPr numCol="2" spcCol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        У       Н        А       Т        И       К           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         7       5         1       6        2       3   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        О       Н        С       Б        Н       Я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        Е        О        Я       О        Е       Т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        С        В       Е        Л        П       Н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        Т        И       Щ       Е        О       Ы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        А        Т       Е        Е        Н       М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 перестанов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НЯНН БОЯЕТ ЕООЕЕ ПНЯВЛ СЩОЫС ИЕТЕН МНТЕ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       И       К       Л       Н       Т       У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       2        3       4       5        6       7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       Н       Я       Н       Н       Б       О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       Е       Т        Е       О       О       Е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       П       Н       Я       В       Л       С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Щ     О        Ы      С       И       Е       Т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Е       Н       М      Н       Т       Е       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       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перестановки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. Конан Дойл «Пляшущие человечк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. Верн «Путешествие к центру Земли»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503880" y="2701080"/>
            <a:ext cx="6670800" cy="10879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2"/>
          <a:stretch/>
        </p:blipFill>
        <p:spPr>
          <a:xfrm>
            <a:off x="5486760" y="5157360"/>
            <a:ext cx="2082600" cy="8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47880" y="0"/>
            <a:ext cx="777204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Семафорная азбу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Resize of семафор"/>
          <p:cNvPicPr/>
          <p:nvPr/>
        </p:nvPicPr>
        <p:blipFill>
          <a:blip r:embed="rId1"/>
          <a:stretch/>
        </p:blipFill>
        <p:spPr>
          <a:xfrm>
            <a:off x="2279520" y="1413000"/>
            <a:ext cx="3816000" cy="3111120"/>
          </a:xfrm>
          <a:prstGeom prst="rect">
            <a:avLst/>
          </a:prstGeom>
          <a:ln w="9525">
            <a:solidFill>
              <a:srgbClr val="0000ff"/>
            </a:solidFill>
            <a:miter/>
          </a:ln>
        </p:spPr>
      </p:pic>
      <p:pic>
        <p:nvPicPr>
          <p:cNvPr id="152" name="Picture 5" descr="азбука 001"/>
          <p:cNvPicPr/>
          <p:nvPr/>
        </p:nvPicPr>
        <p:blipFill>
          <a:blip r:embed="rId2"/>
          <a:stretch/>
        </p:blipFill>
        <p:spPr>
          <a:xfrm>
            <a:off x="7464600" y="1197000"/>
            <a:ext cx="2893680" cy="4114440"/>
          </a:xfrm>
          <a:prstGeom prst="rect">
            <a:avLst/>
          </a:prstGeom>
          <a:ln w="0">
            <a:solidFill>
              <a:srgbClr val="000080"/>
            </a:solidFill>
          </a:ln>
        </p:spPr>
      </p:pic>
      <p:sp>
        <p:nvSpPr>
          <p:cNvPr id="153" name="Rectangle 6"/>
          <p:cNvSpPr/>
          <p:nvPr/>
        </p:nvSpPr>
        <p:spPr>
          <a:xfrm>
            <a:off x="2135160" y="5229360"/>
            <a:ext cx="7772040" cy="14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rgbClr val="44546a"/>
                </a:solidFill>
                <a:latin typeface="Arial Black"/>
              </a:rPr>
              <a:t>Пляшущие человеч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ифр Полиби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06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при шифровании слова «Греция» получим следующую криптограмму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0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52 12 35 54 34 33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417560" y="1825560"/>
            <a:ext cx="3356640" cy="27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перестанов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923200" y="155664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65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ифр сцитал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лючом данного шифра являлся диаметр палки (сциталы)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3143520" y="2277000"/>
            <a:ext cx="7056360" cy="29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06960" y="426600"/>
            <a:ext cx="10515240" cy="559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ильник - 4, 23, 7, 12, 15, 32, 17, 12, 14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ключ - номер буквы +2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фета - rjyatnf  </a:t>
            </a: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"клавиатурный" шифр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газин - низгагам, игрушка - акшгруи, ботинок - контиоб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(попробуйте угадать ключ к этому шифру самостоятельно!)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700280" y="253440"/>
            <a:ext cx="9143640" cy="593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/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Рисунок 3" descr=""/>
          <p:cNvPicPr/>
          <p:nvPr/>
        </p:nvPicPr>
        <p:blipFill>
          <a:blip r:embed="rId1"/>
          <a:stretch/>
        </p:blipFill>
        <p:spPr>
          <a:xfrm>
            <a:off x="3272040" y="914400"/>
            <a:ext cx="5320800" cy="494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301680"/>
            <a:ext cx="10362960" cy="146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тный код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4" name="Group 92"/>
          <p:cNvGraphicFramePr/>
          <p:nvPr/>
        </p:nvGraphicFramePr>
        <p:xfrm>
          <a:off x="2209680" y="1982880"/>
          <a:ext cx="7772040" cy="4112640"/>
        </p:xfrm>
        <a:graphic>
          <a:graphicData uri="http://schemas.openxmlformats.org/drawingml/2006/table">
            <a:tbl>
              <a:tblPr/>
              <a:tblGrid>
                <a:gridCol w="706320"/>
                <a:gridCol w="706320"/>
                <a:gridCol w="706320"/>
                <a:gridCol w="704520"/>
                <a:gridCol w="707760"/>
                <a:gridCol w="707760"/>
                <a:gridCol w="707760"/>
                <a:gridCol w="704520"/>
                <a:gridCol w="706320"/>
                <a:gridCol w="706320"/>
                <a:gridCol w="706320"/>
              </a:tblGrid>
              <a:tr h="685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61"/>
                        </a:spcBef>
                        <a:tabLst>
                          <a:tab algn="l" pos="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79"/>
                        </a:spcBef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rgbClr val="008000"/>
                          </a:solidFill>
                          <a:latin typeface="Arial Black"/>
                        </a:rPr>
                        <a:t>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wheel spokes="2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смотрим шифр простой замены, соответствующий таблиц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м случае, например слово «ПОБЕДА» перейдет в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73 32 98 13 19 11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й шифр называется шифро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цифровой простой замен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2531520" y="2599200"/>
            <a:ext cx="79700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396720"/>
            <a:ext cx="10515240" cy="578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сообщение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    СОВЕРШЕННО СЕКРЕТНО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ключ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              3143143143143143143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alibri"/>
              </a:rPr>
              <a:t>шифровк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      ФПЖИСЬИОССАХИЛФИУС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имеры шифров замен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1454400"/>
            <a:ext cx="10515240" cy="472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Шифр Цезаря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ключается в замене букв открытого текста (верхней строки) на буквы (нижней строки) в соответствии с таблицей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пример, сло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ESAR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шифровалось бы как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marL="82440"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HVDU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741040" y="2526480"/>
            <a:ext cx="7515360" cy="100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Объект 3" descr=""/>
          <p:cNvPicPr/>
          <p:nvPr/>
        </p:nvPicPr>
        <p:blipFill>
          <a:blip r:embed="rId1"/>
          <a:stretch/>
        </p:blipFill>
        <p:spPr>
          <a:xfrm>
            <a:off x="2727360" y="1938960"/>
            <a:ext cx="7515720" cy="27093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ff0000"/>
                </a:solidFill>
                <a:latin typeface="Calibri Light"/>
              </a:rPr>
              <a:t>Попробуйте расшифровать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73760" y="220320"/>
            <a:ext cx="11567520" cy="59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         О      Н       С        Б        Н       Я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         Е       О       Я        О       Е        Т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         С       В       Е        Л       П       Н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         Т       И       Щ       Е       О       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        А       Т        Е        Е       Н       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ОНСБ НЯЕЕО ЯОЕТЯ СВЕЛП НСТИЩ ЕОЫНА ТЕЕНМ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 (7*5)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  <Words>634</Words>
  <Paragraphs>15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30T08:28:12Z</dcterms:created>
  <dc:creator>Admin</dc:creator>
  <dc:description/>
  <dc:language>en-US</dc:language>
  <cp:lastModifiedBy>Admin</cp:lastModifiedBy>
  <dcterms:modified xsi:type="dcterms:W3CDTF">2015-06-30T09:35:03Z</dcterms:modified>
  <cp:revision>7</cp:revision>
  <dc:subject/>
  <dc:title>Математические  шифр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4</vt:r8>
  </property>
  <property fmtid="{D5CDD505-2E9C-101B-9397-08002B2CF9AE}" pid="3" name="PresentationFormat">
    <vt:lpwstr>Широкоэкранный</vt:lpwstr>
  </property>
  <property fmtid="{D5CDD505-2E9C-101B-9397-08002B2CF9AE}" pid="4" name="Slides">
    <vt:r8>14</vt:r8>
  </property>
</Properties>
</file>